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072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07600" cy="99072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1"/>
          <p:cNvSpPr>
            <a:spLocks noGrp="1"/>
          </p:cNvSpPr>
          <p:nvPr>
            <p:ph type="hdr"/>
          </p:nvPr>
        </p:nvSpPr>
        <p:spPr>
          <a:xfrm>
            <a:off x="0" y="0"/>
            <a:ext cx="2951280" cy="495360"/>
          </a:xfrm>
          <a:prstGeom prst="rect">
            <a:avLst/>
          </a:prstGeom>
          <a:noFill/>
          <a:ln w="0">
            <a:noFill/>
          </a:ln>
        </p:spPr>
        <p:txBody>
          <a:bodyPr lIns="92520" rIns="9252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dt" idx="4"/>
          </p:nvPr>
        </p:nvSpPr>
        <p:spPr>
          <a:xfrm>
            <a:off x="3854160" y="0"/>
            <a:ext cx="2950920" cy="495360"/>
          </a:xfrm>
          <a:prstGeom prst="rect">
            <a:avLst/>
          </a:prstGeom>
          <a:noFill/>
          <a:ln w="0">
            <a:noFill/>
          </a:ln>
        </p:spPr>
        <p:txBody>
          <a:bodyPr lIns="92520" rIns="9252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3"/>
          <p:cNvSpPr>
            <a:spLocks noGrp="1"/>
          </p:cNvSpPr>
          <p:nvPr>
            <p:ph type="sldImg"/>
          </p:nvPr>
        </p:nvSpPr>
        <p:spPr>
          <a:xfrm>
            <a:off x="926640" y="742680"/>
            <a:ext cx="49532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53" name="PlaceHolder 4"/>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0" y="9408960"/>
            <a:ext cx="2951280" cy="495360"/>
          </a:xfrm>
          <a:prstGeom prst="rect">
            <a:avLst/>
          </a:prstGeom>
          <a:noFill/>
          <a:ln w="0">
            <a:noFill/>
          </a:ln>
        </p:spPr>
        <p:txBody>
          <a:bodyPr lIns="92520" rIns="92520" tIns="46080" bIns="4608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6"/>
          <p:cNvSpPr>
            <a:spLocks noGrp="1"/>
          </p:cNvSpPr>
          <p:nvPr>
            <p:ph type="sldNum" idx="6"/>
          </p:nvPr>
        </p:nvSpPr>
        <p:spPr>
          <a:xfrm>
            <a:off x="3854160" y="9408960"/>
            <a:ext cx="2950920" cy="49536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l-GR"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9A88E20-2483-4E76-9A68-EA53999BE804}" type="slidenum">
              <a:rPr b="0" lang="el-G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A4C784-2CB2-45AE-AAE8-46808744E962}"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57" name="PlaceHolder 1"/>
          <p:cNvSpPr>
            <a:spLocks noGrp="1"/>
          </p:cNvSpPr>
          <p:nvPr>
            <p:ph type="sldImg"/>
          </p:nvPr>
        </p:nvSpPr>
        <p:spPr>
          <a:xfrm>
            <a:off x="927000" y="743040"/>
            <a:ext cx="4953240" cy="3714840"/>
          </a:xfrm>
          <a:prstGeom prst="rect">
            <a:avLst/>
          </a:prstGeom>
          <a:ln w="0">
            <a:noFill/>
          </a:ln>
        </p:spPr>
      </p:sp>
      <p:sp>
        <p:nvSpPr>
          <p:cNvPr id="158"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Arial"/>
              </a:rPr>
              <a:t>Κυρίες και κύριοι,</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Arial"/>
              </a:rPr>
              <a:t>Σύμφωνα με οδηγίες</a:t>
            </a:r>
            <a:r>
              <a:rPr b="0" i="1" lang="en-US" sz="1400" spc="-1" strike="noStrike">
                <a:solidFill>
                  <a:srgbClr val="000000"/>
                </a:solidFill>
                <a:latin typeface="Arial"/>
              </a:rPr>
              <a:t> </a:t>
            </a:r>
            <a:r>
              <a:rPr b="0" i="1" lang="el-GR" sz="1400" spc="-1" strike="noStrike">
                <a:solidFill>
                  <a:srgbClr val="000000"/>
                </a:solidFill>
                <a:latin typeface="Arial"/>
              </a:rPr>
              <a:t> της νέας Πολιτικής ηγεσίας,, τα προγράμματα του ΕΣΠΑ χρειάζονται προσαρμογή, προκειμένου να ανταποκριθούν με επάρκεια</a:t>
            </a:r>
            <a:r>
              <a:rPr b="0" i="1" lang="en-US" sz="1400" spc="-1" strike="noStrike">
                <a:solidFill>
                  <a:srgbClr val="000000"/>
                </a:solidFill>
                <a:latin typeface="Arial"/>
              </a:rPr>
              <a:t>,</a:t>
            </a:r>
            <a:r>
              <a:rPr b="0" i="1" lang="el-GR" sz="1400" spc="-1" strike="noStrike">
                <a:solidFill>
                  <a:srgbClr val="000000"/>
                </a:solidFill>
                <a:latin typeface="Arial"/>
              </a:rPr>
              <a:t> τόσο στα προβλήματα που δημιούργησε η πρόσφατη  κρίση στον παραγωγικό και κοινωνικό ιστό των Περιφερειών μας, όσο και στις νέες προκλήσεις που οι Περιφέρειες  αντιμετωπίζουν ήδη ή θα αντιμετωπίσουν με μεγαλύτερη ένταση στο μέλλον.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C82C2D-0001-401D-AF77-66EE7EEE105A}"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84" name="PlaceHolder 1"/>
          <p:cNvSpPr>
            <a:spLocks noGrp="1"/>
          </p:cNvSpPr>
          <p:nvPr>
            <p:ph type="sldImg"/>
          </p:nvPr>
        </p:nvSpPr>
        <p:spPr>
          <a:xfrm>
            <a:off x="927000" y="743040"/>
            <a:ext cx="4953240" cy="3714840"/>
          </a:xfrm>
          <a:prstGeom prst="rect">
            <a:avLst/>
          </a:prstGeom>
          <a:ln w="0">
            <a:noFill/>
          </a:ln>
        </p:spPr>
      </p:sp>
      <p:sp>
        <p:nvSpPr>
          <p:cNvPr id="185"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Ενώ παράλληλ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δ   Ενεργοποιούμε τις δράσεις που αναφέρονται στην έρευνα και στην ενέργ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ε.    Συνεργαζόμαστε με τα Υπουργεία για την ενίσχυση και ενεργοποίηση των δράσεων που αναφέρονται στην επιχειρηματικότητα και την ψηφιακή σύγκλιση κ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στ.   Ωριμάζουμε τις δράσεις των ολοκληρωμένων προγραμ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25E06E-11D7-4FF9-B1E9-A26DD5351D7F}"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87" name="PlaceHolder 1"/>
          <p:cNvSpPr>
            <a:spLocks noGrp="1"/>
          </p:cNvSpPr>
          <p:nvPr>
            <p:ph type="sldImg"/>
          </p:nvPr>
        </p:nvSpPr>
        <p:spPr>
          <a:xfrm>
            <a:off x="927000" y="743040"/>
            <a:ext cx="4953240" cy="3714840"/>
          </a:xfrm>
          <a:prstGeom prst="rect">
            <a:avLst/>
          </a:prstGeom>
          <a:ln w="0">
            <a:noFill/>
          </a:ln>
        </p:spPr>
      </p:sp>
      <p:sp>
        <p:nvSpPr>
          <p:cNvPr id="188"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Σε ότι αφορά τα χρηματοδοτικά στοιχεία των αξόνων αρχίζοντας από τον άξονα 3 ενισχύεται κατά 1.100.000€ η αναπτυξιακή ενότητα των μεταφορών όπου περιλαμβάνονται οι</a:t>
            </a:r>
            <a:r>
              <a:rPr b="0" i="1" lang="en-US" sz="1200" spc="-1" strike="noStrike">
                <a:solidFill>
                  <a:srgbClr val="000000"/>
                </a:solidFill>
                <a:latin typeface="Arial"/>
                <a:ea typeface="Arial"/>
              </a:rPr>
              <a:t>:</a:t>
            </a:r>
            <a:r>
              <a:rPr b="0" i="1" lang="el-GR" sz="1200" spc="-1" strike="noStrike">
                <a:solidFill>
                  <a:srgbClr val="000000"/>
                </a:solidFill>
                <a:latin typeface="Arial"/>
              </a:rPr>
              <a:t> Εθνικές οδοί (22),οιΠεριφερειακές/τοπικές οδοί (23),οιΠοδηλατόδρομοι (24), οι Αστικές μεταφορές (25), οι  Πολύτροπες μεταφορές(26) και οι Aερολιμένες.(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Το ποσό αυτό αφαιρείται από την αναπτυξιακή ενότητα της Ενέργειας στην οποία περιλαμβάνονται Ανανεώσιμες πηγές ενέργειας: βιομάζα, υδροηλεκτρική και γεωθερμική που θα υλοποιήσουμε πιλοτικά ως δημόσια έργ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99cc00"/>
                </a:solidFill>
                <a:latin typeface="Arial"/>
              </a:rPr>
              <a:t>ΣΗΜΕΙΩΝΟΥΜΕ ΟΤΙ ΚΑΘΕ ΑΝΑΓΚΗ ΑΛΛΑΓΗΣ ΜΕΤΑΞΥ ΤΩΝ ΑΝΑΠΤΥΞΙΑΚΩΝ ΕΝΟΤΗΤΩΝ Η ΚΑΙ ΤΩΝ ΚΩΔΙΚΩΝ ΘΑ ΕΙΝΑΙ ΔΥΝΑΤΗ ΜΕΤΑ ΤΗΝ ΤΡΟΠΟΠΟΙΗΣΗ ΤΟΥ Ν 3614/2007 ΚΑΙ ΤΗΝ ΣΥΝΟΛΙΚΗ ΕΚΧΩΡΗΣΗ ΤΩΝ ΠΟΡΩΝ ΑΠΟ ΤΟ ΥΠΟΥΡΓΕΙΟ ΠΡΟΣ ΤΗΝ ΠΕΡΙΦΕΡΕΙΑ ΜΕ ΠΡΟΓΡΑΜΜΑΤΙΚΗ ΣΥΜΒΑΣΗ  την ΕΠΙΧΕΙΡΗΣΙΑΚΗ ΣΥΜΦΩΝΙΑ ΥΛΟΠΟΙ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199654-28F8-4784-AEC2-49D7DEEB1FF8}"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90" name="PlaceHolder 1"/>
          <p:cNvSpPr>
            <a:spLocks noGrp="1"/>
          </p:cNvSpPr>
          <p:nvPr>
            <p:ph type="sldImg"/>
          </p:nvPr>
        </p:nvSpPr>
        <p:spPr>
          <a:xfrm>
            <a:off x="927000" y="743040"/>
            <a:ext cx="4953240" cy="3714840"/>
          </a:xfrm>
          <a:prstGeom prst="rect">
            <a:avLst/>
          </a:prstGeom>
          <a:ln w="0">
            <a:noFill/>
          </a:ln>
        </p:spPr>
      </p:sp>
      <p:sp>
        <p:nvSpPr>
          <p:cNvPr id="191"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Ε ΟΤΙ ΑΦΟΡΑ ΤΟΝ ΑΞΟΝΑ 6 ΚΑΙ ΑΦΟΥ ΛΑΒΑΜΕ ΥΠΟΨΗ ΟΛΕΣ ΤΙΣ ΚΑΤΕΥΘΥΝΣΕΙΣ ΠΟΥ ΠΡΟΑΝΑΦΕΡΑΜΕ ΚΑΙ ΚΥΡΙΩΣ ΤΗΝ ΑΝΑΓΚΗ ΕΝΑΡΞΗΣ ΥΛΟΠΟΙΗΣΗΣ ΝΕΩΝ ΕΡΓΩΝ ΓΙΑ ΤΗΝ ΤΟΝΩΣΗ ΤΗΣ ΤΟΠΙΚΗΣ ΟΙΚΟΝΟΜΙΑ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ΥΞΗΣΑΜΕ ΚΑΤΆ 31.700.000 ΤΙΣ ΔΡΑΣΕΙΣ ΠΕΡΙΒΑΛΛΟΝΤΟΣ ΣΤΙΣ ΟΠΟΙΕΣ ΠΕΡΙΛΑΜΒΑΝΟΝΤΑΙ</a:t>
            </a:r>
            <a:r>
              <a:rPr b="0" lang="en-US" sz="1000" spc="-1" strike="noStrike">
                <a:solidFill>
                  <a:srgbClr val="000000"/>
                </a:solidFill>
                <a:latin typeface="Arial"/>
                <a:ea typeface="Arial"/>
              </a:rPr>
              <a:t>:</a:t>
            </a:r>
            <a:r>
              <a:rPr b="0" lang="el-GR" sz="1000" spc="-1" strike="noStrike">
                <a:solidFill>
                  <a:srgbClr val="000000"/>
                </a:solidFill>
                <a:latin typeface="Arial"/>
              </a:rPr>
              <a:t> Διαχείριση οικιακών και βιομηχανικών αποβλήτων (44), Διαχείριση και διανομή ύδατος (πόσιμο νερό) (45), Επεξεργασία υδάτων (λύματα) (46), Αποκατάσταση βιομηχανικών χώρων και μολυσμένης γης (50), και  η Προώθηση βιοποικιλότητας και φυσικής προστασίας (51), ΔΡΑΣΕΙΣ ΓΙΑ ΤΙΣ ΟΠΟΙΕΣ  ΥΠΑΡΧΟΥΝ </a:t>
            </a:r>
            <a:r>
              <a:rPr b="1" lang="el-GR" sz="1000" spc="-1" strike="noStrike">
                <a:solidFill>
                  <a:srgbClr val="000000"/>
                </a:solidFill>
                <a:latin typeface="Arial"/>
              </a:rPr>
              <a:t>ΑΝΕΛΑΣΤΙΚΕΣ ΥΠΟΧΡΕΩΣΕΙΣ  ΠΟΥ ΑΝΑΦΕΡΟΝΤΑ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Arial"/>
              </a:rPr>
              <a:t>Ι. Διαχείριση Στερεών Αποβλήτων (ΔΣΑ)</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Arial"/>
              </a:rPr>
              <a:t>ΙΙ. Διαχείριση Αστικών Λυμάτων</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Arial"/>
              </a:rPr>
              <a:t>ΙΙΙ. </a:t>
            </a:r>
            <a:r>
              <a:rPr b="1" lang="en-US" sz="1000" spc="-1" strike="noStrike" u="sng">
                <a:solidFill>
                  <a:srgbClr val="000000"/>
                </a:solidFill>
                <a:uFillTx/>
                <a:latin typeface="Arial"/>
              </a:rPr>
              <a:t> </a:t>
            </a:r>
            <a:r>
              <a:rPr b="1" lang="el-GR" sz="1000" spc="-1" strike="noStrike" u="sng">
                <a:solidFill>
                  <a:srgbClr val="000000"/>
                </a:solidFill>
                <a:uFillTx/>
                <a:latin typeface="Arial"/>
              </a:rPr>
              <a:t>Θέματα προστατευόμενων περιοχών</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IV</a:t>
            </a:r>
            <a:r>
              <a:rPr b="1" lang="el-GR" sz="1000" spc="-1" strike="noStrike" u="sng">
                <a:solidFill>
                  <a:srgbClr val="000000"/>
                </a:solidFill>
                <a:uFillTx/>
                <a:latin typeface="Arial"/>
              </a:rPr>
              <a:t>. Διαχείριση υδατικών πόρων - εφαρμογή της Οδηγίας 60/2000.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ΣΕ ΠΟΛΛΕΣ ΑΠΌ ΤΙΣ ΠΑΡΑΠΑΝΩ ΔΡΑΣΕΙΣ ΥΠΑΡΧΟΥΝ ΗΔΗ ΩΡΙΜΑ ΑΙΤΗΜΑΤΑ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a:t>
            </a:r>
            <a:r>
              <a:rPr b="0" lang="el-GR" sz="1000" spc="-1" strike="noStrike">
                <a:solidFill>
                  <a:srgbClr val="000000"/>
                </a:solidFill>
                <a:latin typeface="Arial"/>
              </a:rPr>
              <a:t>ΟΙ ΠΕΡΙΚΟΠΕΣ ΠΟΥ ΚΑΤΑΝΑΓΚΗ ΕΓΙΝΑΝ ΣΤΙΣ ΑΛΛΕΣ ΑΝΑΠΤΥΞΙΑΚΕΣ ΕΝΟΤΗΤΕΣ ΟΦΕΙΛΟΝΤΑΙ  ΣΤΟ ΟΤΙ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 ΕΧΟΥΝ ΗΔΗ ΙΚΑΝΟΠΟΙΗΘΕΙ  ΣΕΙΡΑ ΑΙΤΗΜΑΤΩΝ ΤΟΥΣ ΣΤΟ ΠΡΟΣΦΑΤΟ ΠΑΡΕΛΘΟΝ </a:t>
            </a:r>
            <a:r>
              <a:rPr b="0" lang="en-US" sz="1000" spc="-1" strike="noStrike">
                <a:solidFill>
                  <a:srgbClr val="000000"/>
                </a:solidFill>
                <a:latin typeface="Arial"/>
                <a:ea typeface="Arial"/>
              </a:rPr>
              <a:t>{</a:t>
            </a:r>
            <a:r>
              <a:rPr b="0" lang="el-GR" sz="1000" spc="-1" strike="noStrike">
                <a:solidFill>
                  <a:srgbClr val="000000"/>
                </a:solidFill>
                <a:latin typeface="Arial"/>
              </a:rPr>
              <a:t> ΕΚΠΑΙΔΕΥΣΗ ΚΑΙ ΔΙΑ ΒΙΟΥ ΜΑΘΗΣΗ (75)-ΥΓΕΙΑΣ - ΚΟΙΝΩΝΙΚΗ ΜΕΡΙΜΝΑ (76, 77, 79)</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Β. ΣΕΙΡΑ ΑΙΤΗΜΑΤΩΝ ΘΑ ΙΚΑΝΟΠΟΙΗΘΟΥΝ ΑΠΟ ΤΟΜΕΑΚΑ –ΕΘΝΙΚΑ ΠΡΟΓΡΑΜΜΑΤΑ </a:t>
            </a:r>
            <a:r>
              <a:rPr b="0" lang="en-US" sz="1000" spc="-1" strike="noStrike">
                <a:solidFill>
                  <a:srgbClr val="000000"/>
                </a:solidFill>
                <a:latin typeface="Arial"/>
                <a:ea typeface="Arial"/>
              </a:rPr>
              <a:t>{</a:t>
            </a:r>
            <a:r>
              <a:rPr b="0" lang="el-GR" sz="1000" spc="-1" strike="noStrike">
                <a:solidFill>
                  <a:srgbClr val="000000"/>
                </a:solidFill>
                <a:latin typeface="Arial"/>
              </a:rPr>
              <a:t>ΑΝΑΠΤΥΞΗ ΑΝΘΡΩΠΙΝΟΥ ΔΥΝΑΜΙΚΟΥ (69)-ΤΟΥΡΙΣΜΟΣ (56, 57) </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99cc00"/>
                </a:solidFill>
                <a:latin typeface="Arial"/>
              </a:rPr>
              <a:t>ΚΑΙ ΕΔΩ ΙΣΧΥΕ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99cc00"/>
                </a:solidFill>
                <a:latin typeface="Arial"/>
              </a:rPr>
              <a:t>ΟΤΙ ΚΑΘΕ ΑΝΑΓΚΗ ΑΛΛΑΓΗΣ ΜΕΤΑΞΥ ΤΩΝ ΑΝΑΠΤΥΞΙΑΚΩΝ ΕΝΟΤΗΤΩΝ Η ΚΑΙ ΤΩΝ ΚΩΔΙΚΩΝ ΘΑ ΕΙΝΑΙ ΔΥΝΑΤΗ ΜΕΤΑ ΤΗΝ ΤΡΟΠΟΠΟΙΗΣΗ ΤΟΥ Ν 3614/2007 ΚΑΙ ΤΗΝ ΣΥΝΟΛΙΚΗ ΕΚΧΩΡΗΣΗ ΤΩΝ ΠΟΡΩΝ ΑΠΟ ΤΟ ΥΠΟΥΡΓΕΙΟ ΠΡΟΣ ΤΗΝ ΠΕΡΙΦΕΡΕΙΑ ΜΕ ΠΡΟΓΡΑΜΜΑΤΙΚΗ ΣΥΜΒΑΣΗ </a:t>
            </a:r>
            <a:r>
              <a:rPr b="1" lang="el-GR" sz="1000" spc="-1" strike="noStrike">
                <a:solidFill>
                  <a:srgbClr val="99cc00"/>
                </a:solidFill>
                <a:latin typeface="Arial"/>
              </a:rPr>
              <a:t>ΤΗΝ ΕΠΙΧΕΙΡΗΣΙΑΚΗ ΣΥΜΦΩΝΙΑ ΥΛΟΠΟΙΗΣΗ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0456DD-3D53-470C-8AD9-4E051EBF1EE7}"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93" name="PlaceHolder 1"/>
          <p:cNvSpPr>
            <a:spLocks noGrp="1"/>
          </p:cNvSpPr>
          <p:nvPr>
            <p:ph type="sldImg"/>
          </p:nvPr>
        </p:nvSpPr>
        <p:spPr>
          <a:xfrm>
            <a:off x="927000" y="743040"/>
            <a:ext cx="4953240" cy="3714840"/>
          </a:xfrm>
          <a:prstGeom prst="rect">
            <a:avLst/>
          </a:prstGeom>
          <a:ln w="0">
            <a:noFill/>
          </a:ln>
        </p:spPr>
      </p:sp>
      <p:sp>
        <p:nvSpPr>
          <p:cNvPr id="194"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ΤΟΝ ΑΞΟΝΑ  ΨΗΦΙΑΚΗ ΣΥΓΚΛΙΣΗ ΚΑΙ ΕΠΙΧΕΙΡΗΜΑΤΙΚΟΤΗΤΑ  ΑΦΗΝΟΥΜΕ ΩΣ ΕΧ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589446-7CDA-4F28-8BA6-8F6B0212645B}"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96" name="PlaceHolder 1"/>
          <p:cNvSpPr>
            <a:spLocks noGrp="1"/>
          </p:cNvSpPr>
          <p:nvPr>
            <p:ph type="sldImg"/>
          </p:nvPr>
        </p:nvSpPr>
        <p:spPr>
          <a:xfrm>
            <a:off x="927000" y="743040"/>
            <a:ext cx="4953240" cy="3714840"/>
          </a:xfrm>
          <a:prstGeom prst="rect">
            <a:avLst/>
          </a:prstGeom>
          <a:ln w="0">
            <a:noFill/>
          </a:ln>
        </p:spPr>
      </p:sp>
      <p:sp>
        <p:nvSpPr>
          <p:cNvPr id="197"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5685C2-5E47-4E09-81EC-1EA8A1974B81}"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99" name="PlaceHolder 1"/>
          <p:cNvSpPr>
            <a:spLocks noGrp="1"/>
          </p:cNvSpPr>
          <p:nvPr>
            <p:ph type="sldImg"/>
          </p:nvPr>
        </p:nvSpPr>
        <p:spPr>
          <a:xfrm>
            <a:off x="927000" y="743040"/>
            <a:ext cx="4953240" cy="3714840"/>
          </a:xfrm>
          <a:prstGeom prst="rect">
            <a:avLst/>
          </a:prstGeom>
          <a:ln w="0">
            <a:noFill/>
          </a:ln>
        </p:spPr>
      </p:sp>
      <p:sp>
        <p:nvSpPr>
          <p:cNvPr id="200"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Εδώ βλέπουμε τον συνολικό πίνακα όπου τα ποσά των αξόνων παραμένουν     τα ίδια  με τα ποσοστά να διαμορφώνονται </a:t>
            </a:r>
            <a:r>
              <a:rPr b="0" i="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σε 25,3  (από 24) για τον άξονα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48,8 (από 51,3) για τον    άξονα 6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23,6 (από 22,7) για τον άξονα 9 κ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 </a:t>
            </a:r>
            <a:r>
              <a:rPr b="0" i="1" lang="el-GR" sz="1200" spc="-1" strike="noStrike">
                <a:solidFill>
                  <a:srgbClr val="000000"/>
                </a:solidFill>
                <a:latin typeface="Arial"/>
              </a:rPr>
              <a:t>2,3 (από 2)για τον άξονα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Αυτό οφείλεται στο ότι περιορίσαμε το ποσό στην συγχρηματοδοτούμενη Δημόσια Δαπάνη(420 από 4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 </a:t>
            </a:r>
            <a:r>
              <a:rPr b="0" i="1" lang="el-GR" sz="1200" spc="-1" strike="noStrike">
                <a:solidFill>
                  <a:srgbClr val="000000"/>
                </a:solidFill>
                <a:latin typeface="Arial"/>
              </a:rPr>
              <a:t>Στη συνέχεια θεωρήσαμε σκόπιμο να σας δώσουμε κάποια στοιχεία για το ποιες είναι οι ενδεικτικές δράσεις για την Πράσινη Ανάπτυξη στα Ε.Π που αποτελούν στόχο των νέων πολιτι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8B6C81-1BA4-4F02-AE97-FE02B15076F6}"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202" name="PlaceHolder 1"/>
          <p:cNvSpPr>
            <a:spLocks noGrp="1"/>
          </p:cNvSpPr>
          <p:nvPr>
            <p:ph type="sldImg"/>
          </p:nvPr>
        </p:nvSpPr>
        <p:spPr>
          <a:xfrm>
            <a:off x="927000" y="743040"/>
            <a:ext cx="4953240" cy="3714840"/>
          </a:xfrm>
          <a:prstGeom prst="rect">
            <a:avLst/>
          </a:prstGeom>
          <a:ln w="0">
            <a:noFill/>
          </a:ln>
        </p:spPr>
      </p:sp>
      <p:sp>
        <p:nvSpPr>
          <p:cNvPr id="203"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1" i="1" lang="en-US" sz="1000" spc="-1" strike="noStrike">
                <a:solidFill>
                  <a:srgbClr val="000000"/>
                </a:solidFill>
                <a:latin typeface="Arial"/>
              </a:rPr>
              <a:t>Στο  νέο αναπτυξιακό πρότυπο  θα πρέπει να φροντίσουμε  να ενσωματωθούν παρεμβάσεις  όπως:</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Δράσεις ενίσχυσης της «πράσινης επιχειρηματικότητας» στην οποία η χώρα μας παρουσιάζει σχετική υστέρηση και μπορεί να δημιουργήσει πολλές και ποιοτικές θέσεις εργασίας. Δημιουργία νέων επιχειρηματικών δραστηριοτήτων σε τομείς ενέργειας, διαχείρισης των απορριμμάτων και των νερών και στον αγροδιατροφικό τομέα.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Ολοκληρωμένες παρεμβάσεις αστικής ανάπτυξης με έμφαση στην υλοποίηση έργων με χαρακτηριστικά παρέμβασης ολοκληρωμένου χαρακτήρα όπως αστικές υποδομές συμπεριλαμβανομένων των έργων ύδρευσης και αποχέτευσης και ενεργειακής διαχείρισης, κυκλοφοριακές ρυθμίσεις, δίκτυα πεζοδρόμων και ποδηλατοδρόμων, περιβαλλοντικές αναπλάσεις, αύξηση πρασίνου και κοινοχρήστων χώρων, έργα διαχείρισης στερεών και υγρών αποβλήτων, έργα επαναξιοποίησης εγκαταλειμμένων βιομηχανικών εκτάσεων  κ.λ.π.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Δράσεις εξοικονόμησης ενέργειας και ενεργειακής αποδοτικότητας σε όλους τους τομείς. Εξοικονόμηση σε δημόσια και ιδιωτικά κτίρια  με τη χρήση νέων τεχνολογιών όπως φωτοβολταικά. Προώθηση των ανανεώσιμων πηγών ενέργειας (αιολική ενέργεια, φωτοβολταϊκά, γεωθερμία, βιοκαύσιμα από γεωργικά απόβλητα κλπ)</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Ενίσχυση στις ΜΜΕ για την προώθηση σχεδίων βιώσιμης παραγωγής (εισαγωγή αποτελεσματικών συστημάτων περιβαλλοντικής διαχείρισης, υιοθέτηση και χρήση τεχνολογιών για την καταπολέμηση της ρύπανσης, ενσωμάτωση μη ρυπογόνων τεχνολογιών στις επιχειρήσεις)</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Ενίσχυση των μαζικών μέσων μεταφορών για καθαρές και φιλικές στο περιβάλλον μεταφορές με περιορισμό των εκπομπών.</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Βιώσιμη διαχείριση των αστικών υγρών και στερεών αποβλήτων με στόχο την πλήρη συμμόρφωση με την κοινοτική και εθνική νομοθεσία.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Έργα προστασίας υδατικών πόρων, έργα εξοικονόμησης νερού μέσω της ανακύκλωσης του χρησιμοποιημένου νερού,  παραγωγή νερού μέσω της αφαλάτωσης θαλάσσιου ή υφάλμυρου νερού με ενέργεια από ανανεώσιμες πηγές.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E4E037-0DEC-4B58-9CB1-17C78B43586B}"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205" name="PlaceHolder 1"/>
          <p:cNvSpPr>
            <a:spLocks noGrp="1"/>
          </p:cNvSpPr>
          <p:nvPr>
            <p:ph type="sldImg"/>
          </p:nvPr>
        </p:nvSpPr>
        <p:spPr>
          <a:xfrm>
            <a:off x="927000" y="743040"/>
            <a:ext cx="4953240" cy="3714840"/>
          </a:xfrm>
          <a:prstGeom prst="rect">
            <a:avLst/>
          </a:prstGeom>
          <a:ln w="0">
            <a:noFill/>
          </a:ln>
        </p:spPr>
      </p:sp>
      <p:sp>
        <p:nvSpPr>
          <p:cNvPr id="206" name="PlaceHolder 2"/>
          <p:cNvSpPr>
            <a:spLocks noGrp="1"/>
          </p:cNvSpPr>
          <p:nvPr>
            <p:ph type="body"/>
          </p:nvPr>
        </p:nvSpPr>
        <p:spPr>
          <a:xfrm>
            <a:off x="666720" y="4737240"/>
            <a:ext cx="5448240" cy="4457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31B5094-7716-4051-A3DE-446C8A9A5E81}"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60" name="PlaceHolder 1"/>
          <p:cNvSpPr>
            <a:spLocks noGrp="1"/>
          </p:cNvSpPr>
          <p:nvPr>
            <p:ph type="sldImg"/>
          </p:nvPr>
        </p:nvSpPr>
        <p:spPr>
          <a:xfrm>
            <a:off x="927000" y="743040"/>
            <a:ext cx="4953240" cy="3714840"/>
          </a:xfrm>
          <a:prstGeom prst="rect">
            <a:avLst/>
          </a:prstGeom>
          <a:ln w="0">
            <a:noFill/>
          </a:ln>
        </p:spPr>
      </p:sp>
      <p:sp>
        <p:nvSpPr>
          <p:cNvPr id="161"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Συνεπώς καλούμαστε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Με την κατάλληλη αναθεώρηση και αναπτυξιακά στοχευμένη εξειδίκευση του ΕΣΠΑ και των Επιχειρησιακών Προγραμμάτων του (Τομεακών και Περιφερειακών), να αλλάξουμε πορεία και να εφαρμόσουμε ένα ολοκληρωμένο και αξιόπιστο σχέδιο που θα στοχεύει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α) Βραχυπρόθεσμα στην αναθέρμανση της οικονομίας και την έξοδο από την κρίση, με παράλληλη επιτάχυνση στην υλοποίηση του ΕΣΠΑ προκειμένου να αποφευχθεί η απώλεια πόρων από την εφαρμογή του κανόνα αυτόματης αποδέσμευσης (ν+3) κ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β) Μεσοπρόθεσμα στην παραγωγική ανασυγκρότηση της οικονομίας, που θα δημιουργήσει νέες θέσεις εργασίας και θα βελτιώσει το βιοτικό επίπεδο του πολίτ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30A178A-833C-440D-BA4C-0CE1B5DB8F56}"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63" name="PlaceHolder 1"/>
          <p:cNvSpPr>
            <a:spLocks noGrp="1"/>
          </p:cNvSpPr>
          <p:nvPr>
            <p:ph type="sldImg"/>
          </p:nvPr>
        </p:nvSpPr>
        <p:spPr>
          <a:xfrm>
            <a:off x="1268280" y="743040"/>
            <a:ext cx="4270680" cy="3201840"/>
          </a:xfrm>
          <a:prstGeom prst="rect">
            <a:avLst/>
          </a:prstGeom>
          <a:ln w="0">
            <a:noFill/>
          </a:ln>
        </p:spPr>
      </p:sp>
      <p:sp>
        <p:nvSpPr>
          <p:cNvPr id="164" name="PlaceHolder 2"/>
          <p:cNvSpPr>
            <a:spLocks noGrp="1"/>
          </p:cNvSpPr>
          <p:nvPr>
            <p:ph type="body"/>
          </p:nvPr>
        </p:nvSpPr>
        <p:spPr>
          <a:xfrm>
            <a:off x="678960" y="4089240"/>
            <a:ext cx="5448600" cy="5073840"/>
          </a:xfrm>
          <a:prstGeom prst="rect">
            <a:avLst/>
          </a:prstGeom>
          <a:noFill/>
          <a:ln w="0">
            <a:noFill/>
          </a:ln>
        </p:spPr>
        <p:txBody>
          <a:bodyPr lIns="92520" rIns="9252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Για να πετύχουμε τους στόχους αυτούς , οφείλουμε να λάβουμε  υπόψη και τις παρακάτω βασικές παραδοχές , πολλές των οποίων είναι δύσκολες ή συγκρούονται με τις τοπικές ανάγκες ή ιδιαιτερότητε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Δεν υπάρχει περιθώριο επιβάρυνσης των Εθνικών πόρων πέρα από τα προβλεπόμενα κατά τον αρχικό προγραμματισμό ποσά κοινοτικής και εθνικής χρηματοδότησης. ΚΑΤΑΡΧΗΝ ΔΕΝ ΣΥΝΥΠΟΛΟΓΙΖΟΥΜΕ </a:t>
            </a:r>
            <a:r>
              <a:rPr b="0" i="1" lang="en-US" sz="1200" spc="-1" strike="noStrike">
                <a:solidFill>
                  <a:srgbClr val="000000"/>
                </a:solidFill>
                <a:latin typeface="Arial"/>
              </a:rPr>
              <a:t> </a:t>
            </a:r>
            <a:r>
              <a:rPr b="0" i="1" lang="el-GR" sz="1200" spc="-1" strike="noStrike">
                <a:solidFill>
                  <a:srgbClr val="000000"/>
                </a:solidFill>
                <a:latin typeface="Arial"/>
              </a:rPr>
              <a:t>ΣΤΟΝ ΠΡΟΓΡΑΜΜΑΤΙΣΜΟ ΜΑΣ ΤΗΝ ΛΟΙΠΗ ΕΘΝΙΚΗ ΣΥΜΜΕΤΟΧΗ ΠΟΥ ΓΙΑ ΤΗΝ ΗΠΕΙΡΟ ΑΝΗΡΧΕΤΟ ΣΕ 65 ΕΚ € ΚΑΙ ΤΟ ΔΙΑΘΕΣΙΜΟ ΓΙΑ ΤΗΝ ΚΑΤΑΝΟΜΗ ΠΟΣΟ ΠΕΡΙΟΡΙΖΕΤΑΙ ΣΤΑ 420ΕΚ € Οι μη επιλέξιμοι εθνικοί πόροι (λόγω απαλλοτριώσεων  και μελλοντικών εσόδων  από έργα που παράγουν έσοδα) θα καλύπτονται μόνο για συγκεκριμένα ποσά που θα προκύπτουν από τα εντασσόμενα έργα. Κατά την ίδια παραδοχή, έργα που έχουν ενταχθεί και χρηματοδοτηθεί  στο πλαίσιο του Γ’ ΚΠΣ και αποτελούν μέρος της υπερδέσμευσης του προϋπολογισμού που δεν θα χρησιμοποιηθεί για το κλείσιμο των προγραμμάτων της περιόδου 2000-2006 θα πρέπει υποχρεωτικά (δυστυχώς)–και εφόσον είναι επιλέξιμα από το ΕΣΠΑ- να συγχρηματοδοτηθούν από τα προγράμματα της περιόδου 2007-20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Θα πρέπει ο νέος σχεδιασμός  να διαπνέεται από αυστηρή ιεράρχηση προτεραιοτήτων. Χαρακτηριστικό παράδειγμα αποτελούν οι δεσμεύσεις της χώρας σε περιβαλλοντικές δράσεις (απορρίμματα, βιολογικοί καθαρισμοί κλπ) που πέραν της αναπτυξιακής τους διάστασης που ήδη αναφέρθηκε, η μη συμμόρφωση θα επιφέρει δυσβάστακτα για τον προϋπολογισμό πρόστιμ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Wingdings"/>
                <a:ea typeface="Wingdings"/>
              </a:rPr>
              <a:t></a:t>
            </a:r>
            <a:r>
              <a:rPr b="0" i="1" lang="el-GR" sz="1200" spc="-1" strike="noStrike">
                <a:solidFill>
                  <a:srgbClr val="000000"/>
                </a:solidFill>
                <a:latin typeface="Arial"/>
              </a:rPr>
              <a:t> </a:t>
            </a:r>
            <a:r>
              <a:rPr b="0" i="1" lang="el-GR" sz="1200" spc="-1" strike="noStrike">
                <a:solidFill>
                  <a:srgbClr val="000000"/>
                </a:solidFill>
                <a:latin typeface="Arial"/>
              </a:rPr>
              <a:t>Θα πρέπει να δοθεί έμφαση σε προγραμματικές επιλογές που αναμένεται να παράξουν πολλαπλά αναπτυξιακά αποτελέσματα. Περιθώρια για  επιλογή «εύκολων» επιλογών όπως περιφερειακή, τοπική οδοποιία, συντηρήσεις δρόμων κλπ δεν υπάρχουν. Το κριτήριο της ανταποδοτικότητας δηλαδή η καλύτερη σχέση μεταξύ πόρων και αναμενόμενων αποτελεσμάτων θα πρέπει να είναι στην κορυφή των αναπτυξιακών επιλογών.</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B97D2E-E5BF-41AC-8A1B-0134E783E8B1}"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66" name="PlaceHolder 1"/>
          <p:cNvSpPr>
            <a:spLocks noGrp="1"/>
          </p:cNvSpPr>
          <p:nvPr>
            <p:ph type="sldImg"/>
          </p:nvPr>
        </p:nvSpPr>
        <p:spPr>
          <a:xfrm>
            <a:off x="927000" y="743040"/>
            <a:ext cx="4953240" cy="3714840"/>
          </a:xfrm>
          <a:prstGeom prst="rect">
            <a:avLst/>
          </a:prstGeom>
          <a:ln w="0">
            <a:noFill/>
          </a:ln>
        </p:spPr>
      </p:sp>
      <p:sp>
        <p:nvSpPr>
          <p:cNvPr id="167"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Οι παρεμβάσεις θα πρέπει να έχουν κατά το δυνατόν ολοκληρωμένο χαρακτήρα ώστε να πολλαπλασιαστούν τα αναμενόμενα αποτελέσματα από αυτές. Ένα χαρακτηριστικό παράδειγμα είναι η επιδίωξη σχεδιασμού δράσεων που συνδυάζουν τουρισμό με πολιτισμό.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Η σκοπιμότητα επιλογής μιας παρέμβασης δεν θα πρέπει να επηρεάζεται από το ποιος θα είναι ο φορέας εκτέλεσης ενός έργου. Η λογική της αποφυγής συμπερίληψης έργων μεγάλων υποδομών, με ιδιαίτερη αναπτυξιακή σημασία για την Περιφέρεια, αλλά αρμοδιότητας κεντρικών υπουργείων (π.χ. οδικοί άξονες, κάθετοι άξονες, σιδηροδρομικά έργα κλπ) στο πρόγραμμά μας δεν θα πρέπει να επικρατήσε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Wingdings"/>
                <a:ea typeface="Wingdings"/>
              </a:rPr>
              <a:t></a:t>
            </a:r>
            <a:r>
              <a:rPr b="0" i="1" lang="en-US" sz="1200" spc="-1" strike="noStrike">
                <a:solidFill>
                  <a:srgbClr val="000000"/>
                </a:solidFill>
                <a:latin typeface="Arial"/>
              </a:rPr>
              <a:t> </a:t>
            </a:r>
            <a:r>
              <a:rPr b="0" i="1" lang="en-US" sz="1200" spc="-1" strike="noStrike">
                <a:solidFill>
                  <a:srgbClr val="000000"/>
                </a:solidFill>
                <a:latin typeface="Arial"/>
              </a:rPr>
              <a:t>Οι άξονες προτεραιότητας που αφορούν την επιχειρηματικότητα και την ψηφιακή σύγκλιση, θα πρέπει να ενισχυθούν. Τούτο διότι πέραν της αναπτυξιακής τους σημασίας για κάθε Περιφέρεια και της ανάγκης άμεσης ενίσχυσης της ρευστότητας στην πραγματική οικονομία, είναι γνωστό ότι έχουν προκηρυχθεί -και λόγω της διεθνούς οικονομικής κρίσης και της αυξημένης αναγκαιότητας στήριξης των ΜΜΕ- αυξημένοι προϋπολογισμοί για δράσεις ενίσχυσης της επιχειρηματικότητας που σε πολλές περιπτώσεις, σε συνδυασμό και με τις σχετικές ανειλημμένες υποχρεώσεις παρελθόντων ετών, ξεπερνούν σημαντικά τα αρχικώς προβλεφθέντα ποσά στις σχετικές θεματικές προτεραιότητες. (Εδώ  για να τα καταφέρουμε ελπίζω να ενισχυθούμε από το Τομεακό Πρόγραμμα.)</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26DB0D9-60A1-4DCF-B9F7-8C0098D219E4}"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69" name="PlaceHolder 1"/>
          <p:cNvSpPr>
            <a:spLocks noGrp="1"/>
          </p:cNvSpPr>
          <p:nvPr>
            <p:ph type="sldImg"/>
          </p:nvPr>
        </p:nvSpPr>
        <p:spPr>
          <a:xfrm>
            <a:off x="927000" y="743040"/>
            <a:ext cx="4953240" cy="3714840"/>
          </a:xfrm>
          <a:prstGeom prst="rect">
            <a:avLst/>
          </a:prstGeom>
          <a:ln w="0">
            <a:noFill/>
          </a:ln>
        </p:spPr>
      </p:sp>
      <p:sp>
        <p:nvSpPr>
          <p:cNvPr id="170"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Επιπλέο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Κατά τη διαμόρφωση της νέας πρότασης σχεδιασμού των ΠΕΠ, θα πρέπει να λαμβάνονται υπόψη τόσο οι κανονιστικές δεσμεύσεις της περιόδου 2007-2013 (π.χ. επιλεξιμότητες δράσεων), όσο και βασικά δεδομένα των εγκεκριμένων προγραμμάτων που προέκυψαν ως αποτέλεσμα της διαπραγμάτευσης με την Ε.Ε. κατά την υποβολή και έγκριση των προγραμμάτων. Και αυτό αποτελεί δέσμευση και παραμένει.</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Wingdings"/>
                <a:ea typeface="Wingdings"/>
              </a:rPr>
              <a:t></a:t>
            </a:r>
            <a:r>
              <a:rPr b="0" i="1" lang="en-US" sz="1200" spc="-1" strike="noStrike">
                <a:solidFill>
                  <a:srgbClr val="000000"/>
                </a:solidFill>
                <a:latin typeface="Arial"/>
              </a:rPr>
              <a:t> </a:t>
            </a:r>
            <a:r>
              <a:rPr b="0" i="1" lang="en-US" sz="1200" spc="-1" strike="noStrike">
                <a:solidFill>
                  <a:srgbClr val="000000"/>
                </a:solidFill>
                <a:latin typeface="Arial"/>
              </a:rPr>
              <a:t>Τέλος, η όλη λογική αναθεώρησης των προγραμμάτων θα πρέπει να λαμβάνει σοβαρά υπόψη την εφικτότητα και την ωριμότητα άμεσης  υλοποίησης του προγραμματισμού, με γνώμονα τη διασφάλιση αποφυγής απώλειας πόρων από την εφαρμογή του κανόνα αυτόματης αποδέσμευσης πόρων (ν+3, ν+2) και την τόνωση της τοπικής οικονομίας με την έναρξη υλοποίησης των νέων έργ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EF2C4D-6503-4FB9-A408-716FF5D34B93}"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72" name="PlaceHolder 1"/>
          <p:cNvSpPr>
            <a:spLocks noGrp="1"/>
          </p:cNvSpPr>
          <p:nvPr>
            <p:ph type="sldImg"/>
          </p:nvPr>
        </p:nvSpPr>
        <p:spPr>
          <a:xfrm>
            <a:off x="927000" y="743040"/>
            <a:ext cx="4953240" cy="3714840"/>
          </a:xfrm>
          <a:prstGeom prst="rect">
            <a:avLst/>
          </a:prstGeom>
          <a:ln w="0">
            <a:noFill/>
          </a:ln>
        </p:spPr>
      </p:sp>
      <p:sp>
        <p:nvSpPr>
          <p:cNvPr id="173"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Η Υπηρεσία μας στην προσπάθεια προσαρμογής του αναπτυξιακού μας σχεδιασμού  στα νέα δεδομένα ,αλλά και με πλήρη επίγνωση των τοπικών συνθηκών ,συνέταξε ένα  πρώτο σχέδιο  Αναμόρφωσης   του Προγράμματος  το οποίο δεν αποτελεί αναθεώρηση, αλλά μια προσπάθεια που στοχεύε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ΣΤΗ ΒΕΛΤΙΣΤΗ ΑΞΙΟΠΟΙΗΣΗ ΤΩΝ ΔΙΑΘΕΣΙΜΩΝ ΠΟΡΩΝ ΣΤΑ ΕΠΟΜΕΝΑ ΕΤΗ, ΩΣΤΕ ΝΑ ΕΠΙΤΕΥΧΘΕΙ Η ΜΕΓΙΣΤΟΠΟΙΗΣΗ ΤΩΝ ΑΝΑΠΤΥΞΙΑΚΩΝ ΑΠΟΤΕΛΕΣΜΑΤΩΝ ΓΙΑ ΤΗΝ ΠΕΡΙΟΧΗ Μ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99cc00"/>
                </a:solidFill>
                <a:latin typeface="Arial"/>
              </a:rPr>
              <a:t>Τον τρόπο που εργαστήκαμε  ,ανά άξονα και κωδικό ,για να φθάσουμε στο σχέδιο αναμόρφωσης  που σας παρουσιάζουμε ,σας τον  αποστείλαμε για να ενημερωθείτε , τηρώντας την αρχή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99cc00"/>
                </a:solidFill>
                <a:latin typeface="Arial"/>
              </a:rPr>
              <a:t>Επιγραμματικά σας αναφέρουμε ότι</a:t>
            </a:r>
            <a:r>
              <a:rPr b="0" i="1" lang="en-US" sz="1200" spc="-1" strike="noStrike">
                <a:solidFill>
                  <a:srgbClr val="99cc00"/>
                </a:solidFill>
                <a:latin typeface="Arial"/>
                <a:ea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Wingdings"/>
                <a:ea typeface="Wingdings"/>
              </a:rPr>
              <a:t></a:t>
            </a:r>
            <a:r>
              <a:rPr b="0" i="1" lang="el-GR" sz="1200" spc="-1" strike="noStrike">
                <a:solidFill>
                  <a:srgbClr val="000000"/>
                </a:solidFill>
                <a:latin typeface="Arial"/>
              </a:rPr>
              <a:t> </a:t>
            </a:r>
            <a:r>
              <a:rPr b="0" i="1" lang="el-GR" sz="1200" spc="-1" strike="noStrike">
                <a:solidFill>
                  <a:srgbClr val="000000"/>
                </a:solidFill>
                <a:latin typeface="Arial"/>
              </a:rPr>
              <a:t>Επανασυντάσουμε το πρόγραμμα σύμφωνα με αναπτυξιακές ενότητες (περιβάλλον – μεταφορές – υγεία κλ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Wingdings"/>
                <a:ea typeface="Wingdings"/>
              </a:rPr>
              <a:t></a:t>
            </a:r>
            <a:r>
              <a:rPr b="0" i="1" lang="el-GR" sz="1200" spc="-1" strike="noStrike">
                <a:solidFill>
                  <a:srgbClr val="000000"/>
                </a:solidFill>
                <a:latin typeface="Arial"/>
              </a:rPr>
              <a:t> </a:t>
            </a:r>
            <a:r>
              <a:rPr b="0" i="1" lang="el-GR" sz="1200" spc="-1" strike="noStrike">
                <a:solidFill>
                  <a:srgbClr val="000000"/>
                </a:solidFill>
                <a:latin typeface="Arial"/>
              </a:rPr>
              <a:t>Σε αυτή  την χρονική  περίοδο χρησιμοποιούμε ΜΟΝΟ  τα ποσά που αναφέρονται στη συγχρηματοδοτούμενη Δημόσια δαπάνη.(420ε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Wingdings"/>
                <a:ea typeface="Wingdings"/>
              </a:rPr>
              <a:t></a:t>
            </a:r>
            <a:r>
              <a:rPr b="0" i="1" lang="el-GR" sz="1200" spc="-1" strike="noStrike">
                <a:solidFill>
                  <a:srgbClr val="000000"/>
                </a:solidFill>
                <a:latin typeface="Arial"/>
              </a:rPr>
              <a:t> </a:t>
            </a:r>
            <a:r>
              <a:rPr b="0" i="1" lang="el-GR" sz="1200" spc="-1" strike="noStrike">
                <a:solidFill>
                  <a:srgbClr val="000000"/>
                </a:solidFill>
                <a:latin typeface="Arial"/>
              </a:rPr>
              <a:t>Η Αναμόρφωσης   του Προγράμματος διαπνέεται από αυστηρή ιεράρχηση προτεραιοτήτων. Ενισχύουμε έτσι τις περιβαλλοντικές δράσεις που αποτελούν δέσμευση της χώρ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7CFE04-74C9-4721-AAC1-C3F6671967E6}"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75" name="PlaceHolder 1"/>
          <p:cNvSpPr>
            <a:spLocks noGrp="1"/>
          </p:cNvSpPr>
          <p:nvPr>
            <p:ph type="sldImg"/>
          </p:nvPr>
        </p:nvSpPr>
        <p:spPr>
          <a:xfrm>
            <a:off x="927000" y="743040"/>
            <a:ext cx="4953240" cy="3714840"/>
          </a:xfrm>
          <a:prstGeom prst="rect">
            <a:avLst/>
          </a:prstGeom>
          <a:ln w="0">
            <a:noFill/>
          </a:ln>
        </p:spPr>
      </p:sp>
      <p:sp>
        <p:nvSpPr>
          <p:cNvPr id="176" name="PlaceHolder 2"/>
          <p:cNvSpPr>
            <a:spLocks noGrp="1"/>
          </p:cNvSpPr>
          <p:nvPr>
            <p:ph type="body"/>
          </p:nvPr>
        </p:nvSpPr>
        <p:spPr>
          <a:xfrm>
            <a:off x="666720" y="4737240"/>
            <a:ext cx="5448240" cy="4457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Επιπλέον στοχεύουμ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i="1" lang="el-GR" sz="1200" spc="-1" strike="noStrike">
                <a:solidFill>
                  <a:srgbClr val="000000"/>
                </a:solidFill>
                <a:latin typeface="Arial"/>
              </a:rPr>
              <a:t>α ενταχθούν έργα ώριμα που μπορούν άμεσα να αξιολογηθούν για να παράγουν εντός του έτους δαπάν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κ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i="1" lang="el-GR" sz="1200" spc="-1" strike="noStrike">
                <a:solidFill>
                  <a:srgbClr val="000000"/>
                </a:solidFill>
                <a:latin typeface="Arial"/>
              </a:rPr>
              <a:t>α ενταχθούν τα απολύτως αναγκαία  έργα που προσφέρουν πολλαπλασιαστικά αναπτυξιακά αποτελέσματα και που κατά την επιλογή  θα κυριαρχούν τα κριτήρια της αποδοτικότητ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FB3E445-1241-4FF7-AA0D-EFA8BCA72F21}"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78" name="PlaceHolder 1"/>
          <p:cNvSpPr>
            <a:spLocks noGrp="1"/>
          </p:cNvSpPr>
          <p:nvPr>
            <p:ph type="sldImg"/>
          </p:nvPr>
        </p:nvSpPr>
        <p:spPr>
          <a:xfrm>
            <a:off x="927000" y="743040"/>
            <a:ext cx="4953240" cy="3714840"/>
          </a:xfrm>
          <a:prstGeom prst="rect">
            <a:avLst/>
          </a:prstGeom>
          <a:ln w="0">
            <a:noFill/>
          </a:ln>
        </p:spPr>
      </p:sp>
      <p:sp>
        <p:nvSpPr>
          <p:cNvPr id="179"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Έτσ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Στην κατανομή των ποσών ανά τομέα φροντίζουμε να εξασφαλίζονται τα ποσά που χρειάζονται τα  ήδη ενταγμένα έργα, τα αιτήματα  που αξιολογούνται  και τα αναμενόμενα αιτήματα  στο αμέσως προσεχές μέλλον, (με όποιο τρόπο και αν αυτά έχουν γίνει γνωστ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Φυσικά στην εκτίμησή μας αυτή , λαμβάνουμε υπόψη μας τις εκπτώσεις που πετυχαίνονται , σε συνδυασμό με τις αυξήσεις  που θα προκύψουν από τις αναθεωρήσεις των τι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54520" y="9408960"/>
            <a:ext cx="2950920" cy="4953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DF4DA0-9A67-43E7-9B7B-7D1DB5731E5F}" type="slidenum">
              <a:rPr b="0" lang="el-GR" sz="1200" spc="-1" strike="noStrike">
                <a:solidFill>
                  <a:srgbClr val="ffffff"/>
                </a:solidFill>
                <a:latin typeface="Arial"/>
              </a:rPr>
              <a:t>&lt;number&gt;</a:t>
            </a:fld>
            <a:endParaRPr b="1" lang="en-US" sz="1200" spc="-1" strike="noStrike">
              <a:solidFill>
                <a:srgbClr val="ffffff"/>
              </a:solidFill>
              <a:latin typeface="Arial"/>
            </a:endParaRPr>
          </a:p>
        </p:txBody>
      </p:sp>
      <p:sp>
        <p:nvSpPr>
          <p:cNvPr id="181" name="PlaceHolder 1"/>
          <p:cNvSpPr>
            <a:spLocks noGrp="1"/>
          </p:cNvSpPr>
          <p:nvPr>
            <p:ph type="sldImg"/>
          </p:nvPr>
        </p:nvSpPr>
        <p:spPr>
          <a:xfrm>
            <a:off x="927000" y="743040"/>
            <a:ext cx="4953240" cy="3714840"/>
          </a:xfrm>
          <a:prstGeom prst="rect">
            <a:avLst/>
          </a:prstGeom>
          <a:ln w="0">
            <a:noFill/>
          </a:ln>
        </p:spPr>
      </p:sp>
      <p:sp>
        <p:nvSpPr>
          <p:cNvPr id="182" name="PlaceHolder 2"/>
          <p:cNvSpPr>
            <a:spLocks noGrp="1"/>
          </p:cNvSpPr>
          <p:nvPr>
            <p:ph type="body"/>
          </p:nvPr>
        </p:nvSpPr>
        <p:spPr>
          <a:xfrm>
            <a:off x="678960" y="4704840"/>
            <a:ext cx="544860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Τα χρηματοδοτικά στοιχεία των πινάκων που καταθέσαμε  θα οριστικοποιηθούν τον Ιούνιο και θα πρέπει να  είναι σε συμφωνία με το Πρόγραμμα Σταθερότητας και Ανάπτυξ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Σύμφωνα  με τα στοιχεία αυτ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α. Ενισχύουμε τις δράσεις του περιβάλλον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β. Διατηρούμε τα ποσά που χρειάζονται τα έργα των μεταφορών που         ωριμάζου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γ. Έχουμε ανοικτές προσκλήσεις με ικανά διαθέσιμα ποσά για την παιδεία, την υγεία, τον τουρισμό και τον πολιτισμ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350CE-8AE1-401A-A1AC-3D595E6AC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EEAAB-33EA-4241-8FF7-6DD1A27EF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CF6F6-D480-475A-B1F0-6C816E86C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47B6D-DB3B-465E-9CF8-34A8124D8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5D7CE-519A-4096-88CF-9062F54B6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2162D-39D3-4056-9738-58875B51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8369-02D6-4E07-B993-50CF3B8C2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F57BD-3D07-42C5-AD63-008A589B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24232-F625-4967-AFD2-B8CB60423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5D04D-774E-4320-B4D9-7ED6169C1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6C32E-C00A-43E0-A253-9D9436BE7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3C60C-C990-4595-8A15-63E2F7CF2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0aca8"/>
                </a:gs>
                <a:gs pos="50000">
                  <a:srgbClr val="006666"/>
                </a:gs>
                <a:gs pos="100000">
                  <a:srgbClr val="00aca8"/>
                </a:gs>
              </a:gsLst>
              <a:lin ang="18900000"/>
            </a:gra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277F-3089-4CC0-AE70-DCCEDCFB95DD}" type="slidenum">
              <a:rPr b="0" lang="en-US" sz="1000" spc="-1" strike="noStrike">
                <a:solidFill>
                  <a:srgbClr val="ffffff"/>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56" name="Picture 6" descr="ΠΕΡΙΦΕΡΕΙΕΣ SKETO_SMALL2"/>
          <p:cNvPicPr/>
          <p:nvPr/>
        </p:nvPicPr>
        <p:blipFill>
          <a:blip r:embed="rId1"/>
          <a:stretch/>
        </p:blipFill>
        <p:spPr>
          <a:xfrm>
            <a:off x="179280" y="5157720"/>
            <a:ext cx="1548000" cy="1065240"/>
          </a:xfrm>
          <a:prstGeom prst="rect">
            <a:avLst/>
          </a:prstGeom>
          <a:ln w="0">
            <a:noFill/>
          </a:ln>
        </p:spPr>
      </p:pic>
      <p:sp>
        <p:nvSpPr>
          <p:cNvPr id="57" name="Text Box 7"/>
          <p:cNvSpPr/>
          <p:nvPr/>
        </p:nvSpPr>
        <p:spPr>
          <a:xfrm>
            <a:off x="6012000" y="6093000"/>
            <a:ext cx="3132000" cy="5223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ffffff"/>
                </a:solidFill>
                <a:latin typeface="Arial"/>
              </a:rPr>
              <a:t>ΠΕΡΙΦΕΡΕΙΑΚΟ ΣΥΜΒΟΥΛΙΟ ΗΠΕΙΡΟΥ</a:t>
            </a:r>
            <a:br>
              <a:rPr sz="800"/>
            </a:br>
            <a:r>
              <a:rPr b="1" lang="el-GR" sz="800" spc="-1" strike="noStrike">
                <a:solidFill>
                  <a:srgbClr val="ffffff"/>
                </a:solidFill>
                <a:latin typeface="Arial"/>
              </a:rPr>
              <a:t>ΙΩΑΝΝΙΝΑ 8/4/2010</a:t>
            </a:r>
            <a:endParaRPr b="1"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ffffff"/>
                </a:solidFill>
                <a:latin typeface="Arial"/>
              </a:rPr>
              <a:t>ΕΛΕΝΗ ΡΟΚΚΟΥ</a:t>
            </a:r>
            <a:endParaRPr b="1" lang="en-US" sz="800" spc="-1" strike="noStrike">
              <a:solidFill>
                <a:srgbClr val="ffffff"/>
              </a:solidFill>
              <a:latin typeface="Arial"/>
            </a:endParaRPr>
          </a:p>
        </p:txBody>
      </p:sp>
      <p:sp>
        <p:nvSpPr>
          <p:cNvPr id="58"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59"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Rectangle 11"/>
          <p:cNvSpPr/>
          <p:nvPr/>
        </p:nvSpPr>
        <p:spPr>
          <a:xfrm>
            <a:off x="826920" y="1390320"/>
            <a:ext cx="7848720" cy="24703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99"/>
                </a:solidFill>
                <a:uFillTx/>
                <a:latin typeface="Arial"/>
              </a:rPr>
              <a:t>ΕΠΙΧΕΙΡΗΣΙΑΚΟ ΠΡΟΓΡΑΜΜΑ ΘΕΣΣΑΛΙΑΣ-ΣΤΕΡΕΑΣ ΕΛΛΑΔΑΣ-ΗΠΕΙΡΟΥ 2007-2013</a:t>
            </a:r>
            <a:br>
              <a:rPr sz="3200"/>
            </a:br>
            <a:br>
              <a:rPr sz="3200"/>
            </a:br>
            <a:r>
              <a:rPr b="0" lang="el-GR" sz="2800" spc="-1" strike="noStrike" u="sng">
                <a:solidFill>
                  <a:srgbClr val="ffff99"/>
                </a:solidFill>
                <a:uFillTx/>
                <a:latin typeface="Arial"/>
              </a:rPr>
              <a:t>ΠΡΟΓΡΑΜΜΑ ΗΠΕΙΡΟΥ</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09" name="Picture 6" descr="ΠΕΡΙΦΕΡΕΙΕΣ SKETO_SMALL2"/>
          <p:cNvPicPr/>
          <p:nvPr/>
        </p:nvPicPr>
        <p:blipFill>
          <a:blip r:embed="rId1"/>
          <a:stretch/>
        </p:blipFill>
        <p:spPr>
          <a:xfrm>
            <a:off x="179280" y="5157720"/>
            <a:ext cx="1548000" cy="1065240"/>
          </a:xfrm>
          <a:prstGeom prst="rect">
            <a:avLst/>
          </a:prstGeom>
          <a:ln w="0">
            <a:noFill/>
          </a:ln>
        </p:spPr>
      </p:pic>
      <p:sp>
        <p:nvSpPr>
          <p:cNvPr id="110"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111"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12"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Ενεργοποιούμε τις δράσεις που αναφέρονται στην έρευνα και στην ενέργεια</a:t>
            </a:r>
            <a:endParaRPr b="0" lang="en-US" sz="32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Συνεργαζόμαστε με τα Υπουργεία για την ενίσχυση και ενεργοποίηση των δράσεων που αναφέρονται στην επιχειρηματικότητα και την ψηφιακή σύγκλιση.</a:t>
            </a:r>
            <a:endParaRPr b="0" lang="en-US" sz="32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Ωριμάζουμε τις δράσεις των ολοκληρωμένων προγραμμάτων</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15" name="Picture 6" descr="ΠΕΡΙΦΕΡΕΙΕΣ SKETO_SMALL2"/>
          <p:cNvPicPr/>
          <p:nvPr/>
        </p:nvPicPr>
        <p:blipFill>
          <a:blip r:embed="rId1"/>
          <a:stretch/>
        </p:blipFill>
        <p:spPr>
          <a:xfrm>
            <a:off x="179280" y="5157720"/>
            <a:ext cx="1548000" cy="1065240"/>
          </a:xfrm>
          <a:prstGeom prst="rect">
            <a:avLst/>
          </a:prstGeom>
          <a:ln w="0">
            <a:noFill/>
          </a:ln>
        </p:spPr>
      </p:pic>
      <p:sp>
        <p:nvSpPr>
          <p:cNvPr id="116"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117"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18"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graphicFrame>
        <p:nvGraphicFramePr>
          <p:cNvPr id="120" name=""/>
          <p:cNvGraphicFramePr/>
          <p:nvPr/>
        </p:nvGraphicFramePr>
        <p:xfrm>
          <a:off x="324000" y="1600200"/>
          <a:ext cx="8362800" cy="3578400"/>
        </p:xfrm>
        <a:graphic>
          <a:graphicData uri="http://schemas.openxmlformats.org/drawingml/2006/table">
            <a:tbl>
              <a:tblPr/>
              <a:tblGrid>
                <a:gridCol w="3276360"/>
                <a:gridCol w="1524240"/>
                <a:gridCol w="1962000"/>
                <a:gridCol w="1600200"/>
              </a:tblGrid>
              <a:tr h="91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γκεκριμένο Ε.Π.</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οσοτικοποίηση Τροποποιήσεων</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ροτεινόμενη Προγραμματική Δέσμευση</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ΑΞΟΝΑΣ 3</a:t>
                      </a:r>
                      <a:endParaRPr b="1" lang="en-US" sz="18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ΥΠΟΔΟΜΕΣ ΚΑΙ ΥΠΗΡΕΣΙΕΣ ΠΡΟΣΠΕΛΑΣΙΜΟΤΗΤΑΣ</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6.353.110</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6.353.110</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ΜΕΤΑΦΟΡΕΣ (22, 23, 24, 25,26, 29)</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372.551</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100.000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272.551</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ΕΝΕΡΓΕΙΑ (41, 42)</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981.259</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1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81.259</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21" name="Picture 6" descr="ΠΕΡΙΦΕΡΕΙΕΣ SKETO_SMALL2"/>
          <p:cNvPicPr/>
          <p:nvPr/>
        </p:nvPicPr>
        <p:blipFill>
          <a:blip r:embed="rId1"/>
          <a:stretch/>
        </p:blipFill>
        <p:spPr>
          <a:xfrm>
            <a:off x="179280" y="5157720"/>
            <a:ext cx="1548000" cy="1065240"/>
          </a:xfrm>
          <a:prstGeom prst="rect">
            <a:avLst/>
          </a:prstGeom>
          <a:ln w="0">
            <a:noFill/>
          </a:ln>
        </p:spPr>
      </p:pic>
      <p:sp>
        <p:nvSpPr>
          <p:cNvPr id="122"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123"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24"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graphicFrame>
        <p:nvGraphicFramePr>
          <p:cNvPr id="126" name=""/>
          <p:cNvGraphicFramePr/>
          <p:nvPr/>
        </p:nvGraphicFramePr>
        <p:xfrm>
          <a:off x="457200" y="1600200"/>
          <a:ext cx="8229600" cy="5786280"/>
        </p:xfrm>
        <a:graphic>
          <a:graphicData uri="http://schemas.openxmlformats.org/drawingml/2006/table">
            <a:tbl>
              <a:tblPr/>
              <a:tblGrid>
                <a:gridCol w="3046320"/>
                <a:gridCol w="1500120"/>
                <a:gridCol w="1873440"/>
                <a:gridCol w="1809720"/>
              </a:tblGrid>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Εγκεκριμένο Ε.Π.</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Ποσοτικοποίηση Τροποποιήσεων</a:t>
                      </a:r>
                      <a:endParaRPr b="1"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Προτεινόμενη Προγραμματική Δέσμευση</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ΑΞΟΝΑΣ 6</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ΑΕΙΦΟΡΟΣ ΑΝΑΠΤΥΞΗ ΚΑΙ ΠΟΙΟΤΗΤΑ ΖΩΗΣ</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843.492</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843.492</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ΝΑΥΤΙΛΙΑ (30)</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1.267.439</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1.2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2.467.439</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ΔΡΑΣΕΙΣ ΠΕΡΙΒΑΛΛΟΝΤΟΣ (44, 45, 46, 50, 51)</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26.451.452</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7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58.151.452</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ΤΟΥΡΙΣΜΟΣ (56, 57)</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11.901.252</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6.4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5.501.252</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ΠΟΛΙΤΙΣΜΟΣ (58, 59)</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12.344.856</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1.7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14.044.856</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ΑΣΤΙΚΗ ΚΑΙ ΑΓΡΟΤΙΚΗ ΑΝΑΓΕΝΝΗΣΗ (61)</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33.621.988</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6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33.021.988</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ΑΝΑΠΤΥΞΗ ΑΝΘΡΩΠΙΝΟΥ ΔΥΝΑΜΙΚΟΥ (69)</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10.256.75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9.1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1.156.750</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ΕΚΠΑΙΔΕΥΣΗ ΚΑΙ ΔΙΑ ΒΙΟΥ ΜΑΘΗΣΗ (75)</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48.542.914</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8.5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40.042.914</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ΥΓΕΙΑΣ - ΚΟΙΝΩΝΙΚΗ ΜΕΡΙΜΝΑ (76, 77, 79)</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60.456.841</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50.456.841</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27" name="Picture 6" descr="ΠΕΡΙΦΕΡΕΙΕΣ SKETO_SMALL2"/>
          <p:cNvPicPr/>
          <p:nvPr/>
        </p:nvPicPr>
        <p:blipFill>
          <a:blip r:embed="rId1"/>
          <a:stretch/>
        </p:blipFill>
        <p:spPr>
          <a:xfrm>
            <a:off x="179280" y="5157720"/>
            <a:ext cx="1548000" cy="1065240"/>
          </a:xfrm>
          <a:prstGeom prst="rect">
            <a:avLst/>
          </a:prstGeom>
          <a:ln w="0">
            <a:noFill/>
          </a:ln>
        </p:spPr>
      </p:pic>
      <p:sp>
        <p:nvSpPr>
          <p:cNvPr id="128"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129"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30"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graphicFrame>
        <p:nvGraphicFramePr>
          <p:cNvPr id="132" name=""/>
          <p:cNvGraphicFramePr/>
          <p:nvPr/>
        </p:nvGraphicFramePr>
        <p:xfrm>
          <a:off x="457200" y="1600200"/>
          <a:ext cx="8229600" cy="4530600"/>
        </p:xfrm>
        <a:graphic>
          <a:graphicData uri="http://schemas.openxmlformats.org/drawingml/2006/table">
            <a:tbl>
              <a:tblPr/>
              <a:tblGrid>
                <a:gridCol w="3046320"/>
                <a:gridCol w="1500120"/>
                <a:gridCol w="1971720"/>
                <a:gridCol w="1711440"/>
              </a:tblGrid>
              <a:tr h="105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γκεκριμένο Ε.Π.</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οσοτικοποίηση Τροποποιήσεων</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ροτεινόμενη Προγραμματική Δέσμευση</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8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ΑΞΟΝΑΣ 9</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ΨΗΦΙΑΚΗ ΣΥΓΚΛΙΣΗ ΚΑΙ ΕΠΙΧΕΙΡΗΜΑΤΙΚΟΤΗΤΑ</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102.698</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102.698</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ΡΕΥΝΑ &amp; ΤΕΧΝΟΛΟΓΙΑ (1, 2, 3, 4)</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865.238</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865.238</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9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ΠΙΧΕΙΡΗΜΑΤΙΚΟΤΗΤΑ (7, 8, 9)</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347.452</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347.452</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4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ΨΗΦΙΑΚΗ ΣΥΓΚΛΙΣΗ (10, 13, 14, 15)</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890.008</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890.008</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33" name="Picture 6" descr="ΠΕΡΙΦΕΡΕΙΕΣ SKETO_SMALL2"/>
          <p:cNvPicPr/>
          <p:nvPr/>
        </p:nvPicPr>
        <p:blipFill>
          <a:blip r:embed="rId1"/>
          <a:stretch/>
        </p:blipFill>
        <p:spPr>
          <a:xfrm>
            <a:off x="179280" y="5157720"/>
            <a:ext cx="1548000" cy="1065240"/>
          </a:xfrm>
          <a:prstGeom prst="rect">
            <a:avLst/>
          </a:prstGeom>
          <a:ln w="0">
            <a:noFill/>
          </a:ln>
        </p:spPr>
      </p:pic>
      <p:sp>
        <p:nvSpPr>
          <p:cNvPr id="134"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135"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36"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graphicFrame>
        <p:nvGraphicFramePr>
          <p:cNvPr id="138" name=""/>
          <p:cNvGraphicFramePr/>
          <p:nvPr/>
        </p:nvGraphicFramePr>
        <p:xfrm>
          <a:off x="457200" y="1600200"/>
          <a:ext cx="8229600" cy="4530600"/>
        </p:xfrm>
        <a:graphic>
          <a:graphicData uri="http://schemas.openxmlformats.org/drawingml/2006/table">
            <a:tbl>
              <a:tblPr/>
              <a:tblGrid>
                <a:gridCol w="3046320"/>
                <a:gridCol w="1573200"/>
                <a:gridCol w="1898640"/>
                <a:gridCol w="1711440"/>
              </a:tblGrid>
              <a:tr h="157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γκεκριμένο Ε.Π.</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οσοτικοποίηση Τροποποιήσεων</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ροτεινόμενη Προγραμματική Δέσμευση</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63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ΑΞΟΝΑΣ12</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ΤΕΧΝΙΚΗ ΥΠΟΣΤΗΡΙΞΗ ΕΦΑΡΜΟΓΗΣ ΗΠΕΙΡΟΥ</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00.000</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5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ΤΕΧΝΙΚΗ ΥΠΟΣΤΗΡΙΞΗ (85, 86)</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00.000</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00.000</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39" name="Picture 6" descr="ΠΕΡΙΦΕΡΕΙΕΣ SKETO_SMALL2"/>
          <p:cNvPicPr/>
          <p:nvPr/>
        </p:nvPicPr>
        <p:blipFill>
          <a:blip r:embed="rId1"/>
          <a:stretch/>
        </p:blipFill>
        <p:spPr>
          <a:xfrm>
            <a:off x="179280" y="5157720"/>
            <a:ext cx="1548000" cy="1065240"/>
          </a:xfrm>
          <a:prstGeom prst="rect">
            <a:avLst/>
          </a:prstGeom>
          <a:ln w="0">
            <a:noFill/>
          </a:ln>
        </p:spPr>
      </p:pic>
      <p:sp>
        <p:nvSpPr>
          <p:cNvPr id="140"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141"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42"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graphicFrame>
        <p:nvGraphicFramePr>
          <p:cNvPr id="144" name=""/>
          <p:cNvGraphicFramePr/>
          <p:nvPr/>
        </p:nvGraphicFramePr>
        <p:xfrm>
          <a:off x="457200" y="1600200"/>
          <a:ext cx="8229600" cy="5108400"/>
        </p:xfrm>
        <a:graphic>
          <a:graphicData uri="http://schemas.openxmlformats.org/drawingml/2006/table">
            <a:tbl>
              <a:tblPr/>
              <a:tblGrid>
                <a:gridCol w="3197160"/>
                <a:gridCol w="1494000"/>
                <a:gridCol w="1871640"/>
                <a:gridCol w="1666800"/>
              </a:tblGrid>
              <a:tr h="91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γκεκριμένο Ε.Π.</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οσοτικοποίηση Τροποποιήσεων</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ροτεινόμενη Προγραμματική Δέσμευση</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ΡΟΓΡΑΜΜΑ ΗΠΕΙΡΟΥ</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0.0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0.000.000</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ΑΞΟΝΑΣ 3</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ΥΠΟΔΟΜΕΣ ΚΑΙ ΥΠΗΡΕΣΙΕΣ ΠΡΟΣΠΕΛΑΣΙΜΟΤΗΤΑΣ</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6.353.110</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6.353.110</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ΑΞΟΝΑΣ 6</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ΑΕΙΦΟΡΟΣ ΑΝΑΠΤΥΞΗ ΚΑΙ ΠΟΙΟΤΗΤΑ ΖΩΗΣ</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843.492</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843.492</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ΑΞΟΝΑΣ 9</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ΨΗΦΙΑΚΗ ΣΥΓΚΛΙΣΗ ΚΑΙ ΕΠΙΧΕΙΡΗΜΑΤΙΚΟΤΗΤΑ</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102.698</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 </a:t>
                      </a:r>
                      <a:r>
                        <a:rPr b="0" lang="el-GR"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102.698</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ΑΞΟΝΑΣ12</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ΤΕΧΝΙΚΗ ΥΠΟΣΤΗΡΙΞΗ ΕΦΑΡΜΟΓΗΣ ΗΠΕΙΡΟΥ</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00.00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0</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l-GR" sz="1800" spc="-1" strike="noStrike">
                          <a:solidFill>
                            <a:srgbClr val="ffffff"/>
                          </a:solidFill>
                          <a:latin typeface="Arial"/>
                        </a:rPr>
                        <a:t> </a:t>
                      </a:r>
                      <a:r>
                        <a:rPr b="0" lang="en-US" sz="1800" spc="-1" strike="noStrike">
                          <a:solidFill>
                            <a:srgbClr val="ffffff"/>
                          </a:solidFill>
                          <a:latin typeface="Arial"/>
                        </a:rPr>
                        <a:t>       </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00.000</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45" name="Picture 6" descr="ΠΕΡΙΦΕΡΕΙΕΣ SKETO_SMALL2"/>
          <p:cNvPicPr/>
          <p:nvPr/>
        </p:nvPicPr>
        <p:blipFill>
          <a:blip r:embed="rId1"/>
          <a:stretch/>
        </p:blipFill>
        <p:spPr>
          <a:xfrm>
            <a:off x="179280" y="5157720"/>
            <a:ext cx="1548000" cy="1065240"/>
          </a:xfrm>
          <a:prstGeom prst="rect">
            <a:avLst/>
          </a:prstGeom>
          <a:ln w="0">
            <a:noFill/>
          </a:ln>
        </p:spPr>
      </p:pic>
      <p:sp>
        <p:nvSpPr>
          <p:cNvPr id="146"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147"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48"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Ενδεικτικές Δράσεις για την Πράσινη Οικονομία στα Περιφερειακά Επιχειρησιακά Προγράμματα</a:t>
            </a:r>
            <a:endParaRPr b="0" lang="en-US" sz="2800" spc="-1" strike="noStrike">
              <a:solidFill>
                <a:srgbClr val="ffff99"/>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Πράσινη επιχειρηματικότητα.</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Ολοκληρωμένες παρεμβάσεις αστικής ανάπτυξης</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Δράσεις εξοικονόμησης ενέργειας και ενεργειακής αποδοτικότητας</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Ενίσχυση στις ΜΜΕ για την προώθηση σχεδίων βιώσιμης παραγωγής</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Καθαρές και φιλικές στο περιβάλλον μεταφορές</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Βιώσιμη διαχείριση των αστικών υγρών και στερεών αποβλήτων</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Έργα προστασίας υδατικών πόρων, έργα εξοικονόμησης νερού</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51" name="Picture 6" descr="ΠΕΡΙΦΕΡΕΙΕΣ SKETO_SMALL2"/>
          <p:cNvPicPr/>
          <p:nvPr/>
        </p:nvPicPr>
        <p:blipFill>
          <a:blip r:embed="rId1"/>
          <a:stretch/>
        </p:blipFill>
        <p:spPr>
          <a:xfrm>
            <a:off x="179280" y="5157720"/>
            <a:ext cx="1548000" cy="1065240"/>
          </a:xfrm>
          <a:prstGeom prst="rect">
            <a:avLst/>
          </a:prstGeom>
          <a:ln w="0">
            <a:noFill/>
          </a:ln>
        </p:spPr>
      </p:pic>
      <p:sp>
        <p:nvSpPr>
          <p:cNvPr id="152"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153"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54"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5" name="PlaceHolder 1"/>
          <p:cNvSpPr>
            <a:spLocks noGrp="1"/>
          </p:cNvSpPr>
          <p:nvPr>
            <p:ph type="title"/>
          </p:nvPr>
        </p:nvSpPr>
        <p:spPr>
          <a:xfrm>
            <a:off x="611280" y="277560"/>
            <a:ext cx="8075520" cy="336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u="sng">
                <a:solidFill>
                  <a:srgbClr val="ffff99"/>
                </a:solidFill>
                <a:uFillTx/>
                <a:latin typeface="Arial"/>
              </a:rPr>
              <a:t>ΕΠΙΧΕΙΡΗΣΙΑΚΟ ΠΡΟΓΡΑΜΜΑ ΘΕΣΣΑΛΙΑΣ-ΣΤΕΡΕΑΣ ΕΛΛΑΔΑΣ-ΗΠΕΙΡΟΥ 2007-2013</a:t>
            </a:r>
            <a:br>
              <a:rPr sz="4000"/>
            </a:br>
            <a:br>
              <a:rPr sz="4000"/>
            </a:br>
            <a:r>
              <a:rPr b="0" lang="el-GR" sz="4000" spc="-1" strike="noStrike" u="sng">
                <a:solidFill>
                  <a:srgbClr val="ffff99"/>
                </a:solidFill>
                <a:uFillTx/>
                <a:latin typeface="Arial"/>
              </a:rPr>
              <a:t>ΠΡΟΓΡΑΜΜΑ ΗΠΕΙΡΟΥ</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61" name="Picture 6" descr="ΠΕΡΙΦΕΡΕΙΕΣ SKETO_SMALL2"/>
          <p:cNvPicPr/>
          <p:nvPr/>
        </p:nvPicPr>
        <p:blipFill>
          <a:blip r:embed="rId1"/>
          <a:stretch/>
        </p:blipFill>
        <p:spPr>
          <a:xfrm>
            <a:off x="179280" y="5157720"/>
            <a:ext cx="1548000" cy="1065240"/>
          </a:xfrm>
          <a:prstGeom prst="rect">
            <a:avLst/>
          </a:prstGeom>
          <a:ln w="0">
            <a:noFill/>
          </a:ln>
        </p:spPr>
      </p:pic>
      <p:sp>
        <p:nvSpPr>
          <p:cNvPr id="62"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63"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64"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ΣΤΟΧΟΙ</a:t>
            </a: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Αναθέρμανση της οικονομίας για την έξοδο από την κρίση με παράλληλη επιτάχυνση στην υλοποίηση του ΕΣΠΑ για να αποφευχθεί η απώλεια πόρων και</a:t>
            </a:r>
            <a:endParaRPr b="0" lang="en-US" sz="3200" spc="-1" strike="noStrike">
              <a:solidFill>
                <a:srgbClr val="ffffff"/>
              </a:solidFill>
              <a:latin typeface="Arial"/>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Παραγωγική ανασυγκρότηση της οικονομίας, που θα δημιουργήσει νέες θέσεις εργασίας και θα βελτιώσει το βιοτικό επίπεδο του πολίτη.</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67" name="Picture 6" descr="ΠΕΡΙΦΕΡΕΙΕΣ SKETO_SMALL2"/>
          <p:cNvPicPr/>
          <p:nvPr/>
        </p:nvPicPr>
        <p:blipFill>
          <a:blip r:embed="rId1"/>
          <a:stretch/>
        </p:blipFill>
        <p:spPr>
          <a:xfrm>
            <a:off x="179280" y="5157720"/>
            <a:ext cx="1548000" cy="1065240"/>
          </a:xfrm>
          <a:prstGeom prst="rect">
            <a:avLst/>
          </a:prstGeom>
          <a:ln w="0">
            <a:noFill/>
          </a:ln>
        </p:spPr>
      </p:pic>
      <p:sp>
        <p:nvSpPr>
          <p:cNvPr id="68"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69"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70"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Βασικές παραδοχές </a:t>
            </a:r>
            <a:r>
              <a:rPr b="0" lang="en-US" sz="4000" spc="-1" strike="noStrike">
                <a:solidFill>
                  <a:srgbClr val="ffff99"/>
                </a:solidFill>
                <a:latin typeface="Arial"/>
              </a:rPr>
              <a:t>(</a:t>
            </a:r>
            <a:r>
              <a:rPr b="0" lang="el-GR" sz="4000" spc="-1" strike="noStrike">
                <a:solidFill>
                  <a:srgbClr val="ffff99"/>
                </a:solidFill>
                <a:latin typeface="Arial"/>
              </a:rPr>
              <a:t>1</a:t>
            </a:r>
            <a:r>
              <a:rPr b="0" lang="en-US" sz="4000" spc="-1" strike="noStrike">
                <a:solidFill>
                  <a:srgbClr val="ffff99"/>
                </a:solidFill>
                <a:latin typeface="Arial"/>
              </a:rPr>
              <a:t>)</a:t>
            </a:r>
            <a:endParaRPr b="0" lang="en-US" sz="4000" spc="-1" strike="noStrike">
              <a:solidFill>
                <a:srgbClr val="ffff99"/>
              </a:solidFill>
              <a:latin typeface="Arial"/>
            </a:endParaRPr>
          </a:p>
        </p:txBody>
      </p:sp>
      <p:sp>
        <p:nvSpPr>
          <p:cNvPr id="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Δεν υπάρχει περιθώριο επιβάρυνσης των Εθνικών πόρων πέρα από τα προβλεπόμενα κατά τον αρχικό προγραμματισμό ποσά κοινοτικής και εθνικής χρηματοδότησης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Ο νέος σχεδιασμός να διαπνέεται από αυστηρή ιεράρχηση προτεραιοτήτων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Θα πρέπει να δοθεί έμφαση σε προγραμματικές επιλογές που αναμένεται να παράξουν πολλαπλά αναπτυξιακά αποτελέσματα.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73" name="Picture 6" descr="ΠΕΡΙΦΕΡΕΙΕΣ SKETO_SMALL2"/>
          <p:cNvPicPr/>
          <p:nvPr/>
        </p:nvPicPr>
        <p:blipFill>
          <a:blip r:embed="rId1"/>
          <a:stretch/>
        </p:blipFill>
        <p:spPr>
          <a:xfrm>
            <a:off x="179280" y="5157720"/>
            <a:ext cx="1548000" cy="1065240"/>
          </a:xfrm>
          <a:prstGeom prst="rect">
            <a:avLst/>
          </a:prstGeom>
          <a:ln w="0">
            <a:noFill/>
          </a:ln>
        </p:spPr>
      </p:pic>
      <p:sp>
        <p:nvSpPr>
          <p:cNvPr id="74"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75"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76"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Βασικές παραδοχές</a:t>
            </a:r>
            <a:r>
              <a:rPr b="0" lang="en-US" sz="4400" spc="-1" strike="noStrike">
                <a:solidFill>
                  <a:srgbClr val="ffff99"/>
                </a:solidFill>
                <a:latin typeface="Arial"/>
              </a:rPr>
              <a:t> (</a:t>
            </a:r>
            <a:r>
              <a:rPr b="0" lang="el-GR" sz="4400" spc="-1" strike="noStrike">
                <a:solidFill>
                  <a:srgbClr val="ffff99"/>
                </a:solidFill>
                <a:latin typeface="Arial"/>
              </a:rPr>
              <a:t>2</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Οι παρεμβάσεις θα πρέπει να έχουν κατά το δυνατόν ολοκληρωμένο χαρακτήρα.</a:t>
            </a:r>
            <a:endParaRPr b="0" lang="en-US" sz="32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Η σκοπιμότητα επιλογής μιας παρέμβασης δεν θα πρέπει να επηρεάζεται από το ποιος θα είναι ο φορέας εκτέλεσης ενός έργου </a:t>
            </a:r>
            <a:endParaRPr b="0" lang="en-US" sz="32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Οι άξονες προτεραιότητας που αφορούν στην επιχειρηματικότητα και την ψηφιακή σύγκλιση, θα πρέπει να ενισχυθούν.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79" name="Picture 6" descr="ΠΕΡΙΦΕΡΕΙΕΣ SKETO_SMALL2"/>
          <p:cNvPicPr/>
          <p:nvPr/>
        </p:nvPicPr>
        <p:blipFill>
          <a:blip r:embed="rId1"/>
          <a:stretch/>
        </p:blipFill>
        <p:spPr>
          <a:xfrm>
            <a:off x="179280" y="5157720"/>
            <a:ext cx="1548000" cy="1065240"/>
          </a:xfrm>
          <a:prstGeom prst="rect">
            <a:avLst/>
          </a:prstGeom>
          <a:ln w="0">
            <a:noFill/>
          </a:ln>
        </p:spPr>
      </p:pic>
      <p:sp>
        <p:nvSpPr>
          <p:cNvPr id="80"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81"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82"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Βασικές παραδοχές</a:t>
            </a:r>
            <a:r>
              <a:rPr b="0" lang="en-US" sz="4000" spc="-1" strike="noStrike">
                <a:solidFill>
                  <a:srgbClr val="ffff99"/>
                </a:solidFill>
                <a:latin typeface="Arial"/>
              </a:rPr>
              <a:t> </a:t>
            </a:r>
            <a:r>
              <a:rPr b="0" lang="el-GR" sz="4000" spc="-1" strike="noStrike">
                <a:solidFill>
                  <a:srgbClr val="ffff99"/>
                </a:solidFill>
                <a:latin typeface="Arial"/>
              </a:rPr>
              <a:t>(3)</a:t>
            </a:r>
            <a:endParaRPr b="0" lang="en-US" sz="4000" spc="-1" strike="noStrike">
              <a:solidFill>
                <a:srgbClr val="ffff99"/>
              </a:solidFill>
              <a:latin typeface="Arial"/>
            </a:endParaRPr>
          </a:p>
        </p:txBody>
      </p:sp>
      <p:sp>
        <p:nvSpPr>
          <p:cNvPr id="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00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θα πρέπει να λαμβάνονται υπόψη όλες οι κανονιστικές και λοιπές  δεσμεύσεις της περιόδου 2007-2013 καθώς και</a:t>
            </a:r>
            <a:endParaRPr b="0" lang="en-US" sz="3200" spc="-1" strike="noStrike">
              <a:solidFill>
                <a:srgbClr val="ffffff"/>
              </a:solidFill>
              <a:latin typeface="Arial"/>
            </a:endParaRPr>
          </a:p>
          <a:p>
            <a:pPr marL="343080" indent="-343080" algn="just">
              <a:spcBef>
                <a:spcPts val="799"/>
              </a:spcBef>
              <a:buClr>
                <a:srgbClr val="00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η εφικτότητα και η ωριμότητα άμεσης  υλοποίησης του προγραμματισμού,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85" name="Picture 6" descr="ΠΕΡΙΦΕΡΕΙΕΣ SKETO_SMALL2"/>
          <p:cNvPicPr/>
          <p:nvPr/>
        </p:nvPicPr>
        <p:blipFill>
          <a:blip r:embed="rId1"/>
          <a:stretch/>
        </p:blipFill>
        <p:spPr>
          <a:xfrm>
            <a:off x="179280" y="5157720"/>
            <a:ext cx="1548000" cy="1065240"/>
          </a:xfrm>
          <a:prstGeom prst="rect">
            <a:avLst/>
          </a:prstGeom>
          <a:ln w="0">
            <a:noFill/>
          </a:ln>
        </p:spPr>
      </p:pic>
      <p:sp>
        <p:nvSpPr>
          <p:cNvPr id="86"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87"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88"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Επανασυντάσουμε το πρόγραμμα σύμφωνα με αναπτυξιακές ενότητες (περιβάλλον – μεταφορές – υγεία κλπ.)</a:t>
            </a:r>
            <a:endParaRPr b="0" lang="en-US" sz="3200" spc="-1" strike="noStrike">
              <a:solidFill>
                <a:srgbClr val="ffffff"/>
              </a:solidFill>
              <a:latin typeface="Arial"/>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Χρησιμοποιούμε τα ποσά που αναφέρονται στη συγχρηματοδοτούμενη Δημόσια δαπάνη.</a:t>
            </a:r>
            <a:endParaRPr b="0" lang="en-US" sz="3200" spc="-1" strike="noStrike">
              <a:solidFill>
                <a:srgbClr val="ffffff"/>
              </a:solidFill>
              <a:latin typeface="Arial"/>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Ενισχύουμε τις περιβαλλοντικές δράσεις που αποτελούν δέσμευση της χώρα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91" name="Picture 6" descr="ΠΕΡΙΦΕΡΕΙΕΣ SKETO_SMALL2"/>
          <p:cNvPicPr/>
          <p:nvPr/>
        </p:nvPicPr>
        <p:blipFill>
          <a:blip r:embed="rId1"/>
          <a:stretch/>
        </p:blipFill>
        <p:spPr>
          <a:xfrm>
            <a:off x="179280" y="5157720"/>
            <a:ext cx="1548000" cy="1065240"/>
          </a:xfrm>
          <a:prstGeom prst="rect">
            <a:avLst/>
          </a:prstGeom>
          <a:ln w="0">
            <a:noFill/>
          </a:ln>
        </p:spPr>
      </p:pic>
      <p:sp>
        <p:nvSpPr>
          <p:cNvPr id="92"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93"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94"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Ένταξη ώριμων έργων που μπορούν άμεσα να αξιολογηθούν</a:t>
            </a:r>
            <a:endParaRPr b="0" lang="en-US" sz="3200" spc="-1" strike="noStrike">
              <a:solidFill>
                <a:srgbClr val="ffffff"/>
              </a:solidFill>
              <a:latin typeface="Arial"/>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Ένταξη απολύτως αναγκαίων έργων που προσφέρουν πολλαπλασιαστικά αναπτυξιακά αποτελέσματ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97" name="Picture 6" descr="ΠΕΡΙΦΕΡΕΙΕΣ SKETO_SMALL2"/>
          <p:cNvPicPr/>
          <p:nvPr/>
        </p:nvPicPr>
        <p:blipFill>
          <a:blip r:embed="rId1"/>
          <a:stretch/>
        </p:blipFill>
        <p:spPr>
          <a:xfrm>
            <a:off x="179280" y="5157720"/>
            <a:ext cx="1548000" cy="1065240"/>
          </a:xfrm>
          <a:prstGeom prst="rect">
            <a:avLst/>
          </a:prstGeom>
          <a:ln w="0">
            <a:noFill/>
          </a:ln>
        </p:spPr>
      </p:pic>
      <p:sp>
        <p:nvSpPr>
          <p:cNvPr id="98"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99"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00"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Κατανομή ποσών ανά τομέ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Wingdings"/>
                <a:ea typeface="Wingdings"/>
              </a:rPr>
              <a:t></a:t>
            </a:r>
            <a:r>
              <a:rPr b="0" lang="el-GR" sz="3200" spc="-1" strike="noStrike">
                <a:solidFill>
                  <a:srgbClr val="ffffff"/>
                </a:solidFill>
                <a:latin typeface="Arial"/>
              </a:rPr>
              <a:t> </a:t>
            </a:r>
            <a:r>
              <a:rPr b="0" lang="el-GR" sz="3200" spc="-1" strike="noStrike">
                <a:solidFill>
                  <a:srgbClr val="ffffff"/>
                </a:solidFill>
                <a:latin typeface="Arial"/>
              </a:rPr>
              <a:t>ενταγμένα έργα</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Wingdings"/>
                <a:ea typeface="Wingdings"/>
              </a:rPr>
              <a:t></a:t>
            </a:r>
            <a:r>
              <a:rPr b="0" lang="el-GR" sz="3200" spc="-1" strike="noStrike">
                <a:solidFill>
                  <a:srgbClr val="ffffff"/>
                </a:solidFill>
                <a:latin typeface="Arial"/>
              </a:rPr>
              <a:t> </a:t>
            </a:r>
            <a:r>
              <a:rPr b="0" lang="el-GR" sz="3200" spc="-1" strike="noStrike">
                <a:solidFill>
                  <a:srgbClr val="ffffff"/>
                </a:solidFill>
                <a:latin typeface="Arial"/>
              </a:rPr>
              <a:t>αιτήματα νέων  έργων σε φάση αξιολόγησης</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Wingdings"/>
                <a:ea typeface="Wingdings"/>
              </a:rPr>
              <a:t></a:t>
            </a:r>
            <a:r>
              <a:rPr b="0" lang="el-GR" sz="2800" spc="-1" strike="noStrike">
                <a:solidFill>
                  <a:srgbClr val="ffffff"/>
                </a:solidFill>
                <a:latin typeface="Arial"/>
              </a:rPr>
              <a:t> </a:t>
            </a:r>
            <a:r>
              <a:rPr b="0" lang="el-GR" sz="3200" spc="-1" strike="noStrike">
                <a:solidFill>
                  <a:srgbClr val="ffffff"/>
                </a:solidFill>
                <a:latin typeface="Arial"/>
              </a:rPr>
              <a:t>αναμενόμενα αιτήματα</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03" name="Picture 6" descr="ΠΕΡΙΦΕΡΕΙΕΣ SKETO_SMALL2"/>
          <p:cNvPicPr/>
          <p:nvPr/>
        </p:nvPicPr>
        <p:blipFill>
          <a:blip r:embed="rId1"/>
          <a:stretch/>
        </p:blipFill>
        <p:spPr>
          <a:xfrm>
            <a:off x="179280" y="5157720"/>
            <a:ext cx="1548000" cy="1065240"/>
          </a:xfrm>
          <a:prstGeom prst="rect">
            <a:avLst/>
          </a:prstGeom>
          <a:ln w="0">
            <a:noFill/>
          </a:ln>
        </p:spPr>
      </p:pic>
      <p:sp>
        <p:nvSpPr>
          <p:cNvPr id="104" name="Text Box 7"/>
          <p:cNvSpPr/>
          <p:nvPr/>
        </p:nvSpPr>
        <p:spPr>
          <a:xfrm>
            <a:off x="6012000" y="6399360"/>
            <a:ext cx="31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ΠΕΡΙΦΕΡΕΙΑΚΟ ΣΥΜΒΟΥΛΙΟ ΗΠΕΙΡΟΥ</a:t>
            </a:r>
            <a:br>
              <a:rPr sz="800"/>
            </a:br>
            <a:r>
              <a:rPr b="1" lang="en-US" sz="800" spc="-1" strike="noStrike">
                <a:solidFill>
                  <a:srgbClr val="ffffff"/>
                </a:solidFill>
                <a:latin typeface="Arial"/>
              </a:rPr>
              <a:t>ΙΩΑΝΝΙΝΑ 8/4/2010</a:t>
            </a:r>
            <a:endParaRPr b="1" lang="en-US" sz="800" spc="-1" strike="noStrike">
              <a:solidFill>
                <a:srgbClr val="ffffff"/>
              </a:solidFill>
              <a:latin typeface="Arial"/>
            </a:endParaRPr>
          </a:p>
        </p:txBody>
      </p:sp>
      <p:sp>
        <p:nvSpPr>
          <p:cNvPr id="105" name="Text Box 8"/>
          <p:cNvSpPr/>
          <p:nvPr/>
        </p:nvSpPr>
        <p:spPr>
          <a:xfrm>
            <a:off x="0" y="6461280"/>
            <a:ext cx="24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ΧΩΡΙΚΗ ΕΝΟΤΗΤΑ </a:t>
            </a:r>
            <a:br>
              <a:rPr sz="800"/>
            </a:br>
            <a:r>
              <a:rPr b="0" lang="en-US" sz="800" spc="-1" strike="noStrike">
                <a:solidFill>
                  <a:srgbClr val="ffffff"/>
                </a:solidFill>
                <a:latin typeface="Arial"/>
              </a:rPr>
              <a:t>ΘΕΣΣΑΛΙΑΣ – ΣΤΕΡΕΑΣ ΕΛΛΑΔΑΣ - ΗΠΕΙΡΟΥ</a:t>
            </a:r>
            <a:endParaRPr b="1" lang="en-US" sz="800" spc="-1" strike="noStrike">
              <a:solidFill>
                <a:srgbClr val="ffffff"/>
              </a:solidFill>
              <a:latin typeface="Arial"/>
            </a:endParaRPr>
          </a:p>
        </p:txBody>
      </p:sp>
      <p:sp>
        <p:nvSpPr>
          <p:cNvPr id="106" name="Rectangle 10"/>
          <p:cNvSpPr/>
          <p:nvPr/>
        </p:nvSpPr>
        <p:spPr>
          <a:xfrm>
            <a:off x="611280" y="1773360"/>
            <a:ext cx="784692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Σχέδιο  Αναμόρφωσης   του Προγράμματος</a:t>
            </a:r>
            <a:endParaRPr b="0" lang="en-US" sz="4000" spc="-1" strike="noStrike">
              <a:solidFill>
                <a:srgbClr val="ffff99"/>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Ενισχύουμε τις δράσεις του περιβάλλοντος.</a:t>
            </a:r>
            <a:endParaRPr b="0" lang="en-US" sz="3200" spc="-1" strike="noStrike">
              <a:solidFill>
                <a:srgbClr val="ffffff"/>
              </a:solidFill>
              <a:latin typeface="Arial"/>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Διατηρούμε τα ποσά που χρειάζονται τα έργα των μεταφορών που ωριμάζουν.</a:t>
            </a:r>
            <a:endParaRPr b="0" lang="en-US" sz="3200" spc="-1" strike="noStrike">
              <a:solidFill>
                <a:srgbClr val="ffffff"/>
              </a:solidFill>
              <a:latin typeface="Arial"/>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Έχουμε ανοικτές προσκλήσεις με ικανά διαθέσιμα ποσά για την παιδεία, την υγεία, τον τουρισμό και τον πολιτισμό.</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08:49:52Z</dcterms:created>
  <dc:creator>student</dc:creator>
  <dc:description/>
  <dc:language>en-US</dc:language>
  <cp:lastModifiedBy>elenroku</cp:lastModifiedBy>
  <dcterms:modified xsi:type="dcterms:W3CDTF">2010-04-07T08:42:48Z</dcterms:modified>
  <cp:revision>135</cp:revision>
  <dc:subject/>
  <dc:title>Άλμπουμ φωτογραφιών</dc:title>
</cp:coreProperties>
</file>