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28E-397F-4B3A-ABD8-3D6AC350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8D9-DD9B-44A6-970A-2961BA85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C52-03C4-47D2-ACBF-816CEE44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0BC-6FB7-48E3-AF38-F965D21F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3C7-DB85-4A15-A641-F6C4260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D83-C319-487A-A6F2-3264DCAE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CF5-9047-4602-B5EB-03853A24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C97-AB03-4169-BCCF-A30120C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904-5976-4004-8E16-23FBADF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876-BD65-438D-93F3-4F9636ED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A2F-7FCA-4FDE-BE3A-CF2200A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451-F2B9-468F-A701-98E1F3B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351-021B-4E1B-93AB-0D02790CC5E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ορεία υλοποίησης έργων Περιφ. σχεδιασμού διαχ/σης στερεών αποβλήτων (ΠΕΣΔΑ) - επικαιρ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ιάννης Παπαγιάνν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εριβαλλοντολόγος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/νση Περιβάλλοντος &amp; Χωροταξίας Περιφέρειας Ηπείρου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νεδρίαση Περιφερειακού Συμβουλίο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Ιωάννινα 8 Απριλίου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Περιφέρεια Ηπείρου"/>
          <p:cNvPicPr/>
          <p:nvPr/>
        </p:nvPicPr>
        <p:blipFill>
          <a:blip r:embed="rId1"/>
          <a:stretch/>
        </p:blipFill>
        <p:spPr>
          <a:xfrm>
            <a:off x="684360" y="26028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Δ.Ε. (Ν. Ιωαννίνω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158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Ανακύκλωση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Συσκευασίες:</a:t>
            </a:r>
            <a:r>
              <a:rPr b="0" lang="el-GR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 Δεν έχουν γίνει μακροχρόνιες συμβάσεις με το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γκεκριμένο σύστημα της Ελλ. Εταιρείας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ξιοποίησης Ανακύκλωσης (ΕΕΑΑ) σε κανένα ΟΤ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υ Ν.Ιωαννίνων  (μπλέ κάδοι ανακύκλωσης, Α/Φ,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ΚΔΑ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ολιγόμηνες συμβάσεις μεμονομένων ΟΤΑ με ιδιωτικό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ΔΑΥ (π.χ. Δ. Δωδώνης, Δ. Μπιζανίου, Δ.Τύμφη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Αποβλ. Ηλ. &amp; ηλεκτρ. Εξοπλισμού, ορυκτέλαια κ.α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Σύμφωνα με δημοσιεύματα έχουν γίνει συμβάσεις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ρισμένων ΟΤΑ &amp; ιδιωτών με τα αντίστοιχ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στήματα (δεν υπάρχουν διαθέσιμα στοιχεία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 (Ν. Ιωαννίνω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ΧΑΔ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Σύνολο χωματερ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Έχουν αποκατασταθεί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Ανοιχτοί (1 ΧΑΔΑ ανά ΟΤΑ)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ΑΔΑ Δουρούτη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παραμένει ανοιχτός, λειτουργεί από το 1960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εξυπηρετεί 14 ΟΤ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Ιωαννιτών, Παμβώτιδας, 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σσαρώνος, Περάματος, Μπιζανίου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ωδώνης, Κατσανοχωρίων, Ευρυμενών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τσόβου, Αγ. Δημητρίου, Λάκκας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        Σουλίου, Κόνιτσας, Τζουμέρκων, Ζίτσας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.α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2800" spc="-1" strike="noStrike">
                <a:solidFill>
                  <a:srgbClr val="99cc00"/>
                </a:solidFill>
                <a:latin typeface="Arial"/>
              </a:rPr>
              <a:t>Έχει ενταχθεί για χρηματοδότηση στο Ε.Π. </a:t>
            </a:r>
            <a:r>
              <a:rPr b="1" lang="el-GR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99cc00"/>
                </a:solidFill>
                <a:latin typeface="Arial"/>
              </a:rPr>
              <a:t>Θ.Η.Σ. 2007-13 με ποσό 7,5 εκατ.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 Δ/Ν ΧΥΤΑ Πρέβεζας - Θεσπρω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860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Υλοποιούμενα έργα: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λειτουργία ο ΧΥΤ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ρβουναρίου Δ. Παραμυθιάς (Ιανουάριος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ΣΜΑ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Ο ΦοΔΣΑ έχει αναθέσει μελέτες σκοπιμότητ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μελέτες χωροθέτησης 2 ΣΜΑ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(δεν έχουν αδειοδοτηθεί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ούτε ενταχθεί σε χρημ. πρόγραμμ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Ανακύκλωση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Συσκευασίες:</a:t>
            </a:r>
            <a:r>
              <a:rPr b="0" lang="el-GR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 Έχουν γίνει μακροχρόνιες συμβάσεις με το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γκεκριμένο σύστημα της Ελλ. Εταιρείας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ξιοποίησης Ανακύκλωσης (ΕΕΑΑ) </a:t>
            </a: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για όλους τους     ΟΤΑ της Διαχ. ενότητα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παροχή μπλέ κάδων ανακύκλωσης, Απορριμματοφόρων, λειτουργία ΚΔΑ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 Δ/Ν ΧΥΤΑ Πρέβεζας - Θεσπρω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Αποβλ. Ηλ. &amp; ηλεκτρ. Εξοπλισμού, ορυκτέλαια κ.α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Σύμφωνα με δημοσιεύματα έχουν γίνει συμβάσεις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ρισμένων ΟΤΑ &amp; ιδιωτών με τα αντίστοιχ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στήματα (δεν υπάρχουν διαθέσιμα στοιχεί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 Δ/Ν ΧΥΤΑ Πρέβεζας - Θεσπρω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ΧΑΔ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Σύνολο χωματερ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Έχουν αποκατασταθεί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Ανοιχτοί (1 ΧΑΔΑ ανά ΟΤΑ)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(υλοποιούνται οι οριστικές μελέτες αποκατάστασης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(για 3 ΧΑΔΑ έχουν ενταχθεί και είναι προς δημοπράτηση τα έργα αποκατάστασης, στο Ε.Π. Θ.Η.Σ.2007-13 με ποσό 1,175εκατ. € περίπο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ΧΑΔΑ ‘’Κούκος’’ Δ. Πρέβεζας: Λειτουργεί, έχει γίνει μελέτη αποκατάστασ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2 εκατ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: Ν. Άρτας &amp; Πρέβεζ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Υλοποιούμενα έργα: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λειτουργία ο ΧΥΤ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λαχέρνας Δ. Βλαχερνών (Μάιος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ΣΜΑ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Έχουν χωροθετηθεί (Μάιος ’09 και Ιούλιος ’09) ο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2 ΣΜΑ δεν έχουν κατατεθεί ΜΠΕ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δεν έχουν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αδειοδοτηθεί ούτε ενταχθεί σε χρημ. πρόγραμμ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Ανακύκλωση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Συσκευασίες:</a:t>
            </a:r>
            <a:r>
              <a:rPr b="0" lang="el-GR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 Έχουν γίνει μακροχρόνιες συμβάσεις με το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γκεκριμένο σύστημα της Ελλ. Εταιρείας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ξιοποίησης Ανακύκλωσης (ΕΕΑΑ) </a:t>
            </a: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για το Δήμο  </a:t>
            </a:r>
            <a:r>
              <a:rPr b="1" lang="el-GR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Αρταίων (εκκρεμεί για τους άλλους ΟΤΑ της </a:t>
            </a:r>
            <a:r>
              <a:rPr b="1" lang="el-GR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Διαχ. ενότητας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: Ν. Άρτας &amp; Πρέβεζ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Αποβλ. Ηλ. &amp; ηλεκτρ. Εξοπλισμού, ορυκτέλαια κ.α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Σύμφωνα με δημοσιεύματα έχουν γίνει συμβάσεις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ρισμένων ΟΤΑ &amp; ιδιωτών με τα αντίστοιχ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στήματα (δεν υπάρχουν διαθέσιμα στοιχεί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ΧΑΔ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3200" spc="-1" strike="noStrike">
                <a:solidFill>
                  <a:srgbClr val="996600"/>
                </a:solidFill>
                <a:latin typeface="Arial"/>
              </a:rPr>
              <a:t>Σύνολο χωματερών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: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3200" spc="-1" strike="noStrike">
                <a:solidFill>
                  <a:srgbClr val="996600"/>
                </a:solidFill>
                <a:latin typeface="Arial"/>
              </a:rPr>
              <a:t>Έχουν αποκατασταθεί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: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3200" spc="-1" strike="noStrike">
                <a:solidFill>
                  <a:srgbClr val="996600"/>
                </a:solidFill>
                <a:latin typeface="Arial"/>
              </a:rPr>
              <a:t>Προς ένταξη έργων στο ΠΕΠ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996600"/>
                </a:solidFill>
                <a:latin typeface="Arial"/>
              </a:rPr>
              <a:t>Προς αποκατάσταση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(υλοποιούνται οι οριστικές μελέτες αποκατάστασης για 4 ΧΑΔΑ ενώ οι υπόλοιποι 9 θα αποκατασταθούν με ιδία μέσα των ΟΤΑ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(4 ΟΤΑ Ν. Θεσπρωτία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Υλοποιούμενα έργα: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περαιωθεί οι εργασίε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ασκευής του ΧΥΤΑ Παραποτάμου (2007)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Δεν έχει αρχίσει η λειτουργία του. (εντός 2 μήν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ΣΜΑ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Δεν προβλέπονται από τον ΠΕΣΔ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υπάρχει αίτημα από τον Δ. Ηγουμενίτσας &amp; τον ΦοΔΣ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2 ΣΜ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Ανακύκλωση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Συσκευασίες:</a:t>
            </a:r>
            <a:r>
              <a:rPr b="0" lang="el-GR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 Έχουν γίνει μακροχρόνιες συμβάσεις με το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γκεκριμένο σύστημα της Ελλ. Εταιρείας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ξιοποίησης Ανακύκλωσης (ΕΕΑΑ) </a:t>
            </a:r>
            <a:r>
              <a:rPr b="1" lang="el-GR" sz="2400" spc="-1" strike="noStrike" u="sng">
                <a:solidFill>
                  <a:srgbClr val="99cc00"/>
                </a:solidFill>
                <a:uFillTx/>
                <a:latin typeface="Arial"/>
              </a:rPr>
              <a:t>για το Δήμο  </a:t>
            </a:r>
            <a:r>
              <a:rPr b="1" lang="el-GR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99cc00"/>
                </a:solidFill>
                <a:latin typeface="Arial"/>
              </a:rPr>
              <a:t>Ηγουμενίτσα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παροχή μπλέ κάδων ανακύκλωσης,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ρριμματοφόρων, λειτουργία ΚΔΑ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(4 ΟΤΑ Ν. Θεσπρωτία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99cc00"/>
                </a:solidFill>
                <a:uFillTx/>
                <a:latin typeface="Arial"/>
              </a:rPr>
              <a:t>Αποβλ. Ηλ. &amp; ηλεκτρ. Εξοπλισμού, ορυκτέλαια κ.α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Σύμφωνα με δημοσιεύματα έχουν γίνει συμβάσεις ορισμένων ΟΤ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&amp; ιδιωτών με τα αντίστοιχα συστήματα (δεν υπάρχουν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θέσιμα στοιχεί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ΧΑΔ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Σύνολο χωματερ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Έχουν αποκατασταθεί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Ανοιχτοί (1 ΧΑΔΑ ανά ΟΤΑ)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ΧΑΔΑ ‘’Κοτσέκι’’ ΔΔ. Καστριού του Δ. Ηγουμενίτσας: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Λειτουργεί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, εκκρεμούν αδειοδοτήσεις και τεχν. μελέτη για τα έργα αποκατάσταση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Προβλήματα σχετιζόμενα με την υλοποίηση ΠΕΣΔΑ και αποκατάστασης ΧΑΔ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εν έχουν ολοκληρωθεί οι μελέτες τόσο για την αδειοδότηση όσο και για την υλοποίηση των έργων ΣΜΑ, ΚΔΑΥ (δημοσίου), μονάδας επεξεργασίας από τον αρμόδιο φορέα υλοποίησ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εν υπάρχει στελέχωση και επαρκή ενεργοποίηση των ΦοΔΣΑ για θέματα της αρμοδιότητάς των (π.χ. υλοποίηση έργων και δραστηριοτήτων που απαιτούνται για την λειτουργία των ΧΥΤΑ (π.χ. εξοπλισμός, Η/Μ εγκαταστάσεις κ.α.)., υποδομές προσωρινής αποθήκευσης και επεξεργασίας ΑΣΑ, αποκατάσταση των ΧΑΔΑ, παρακολούθηση των αποκατεστημένων ΧΑΔΑ, κ.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εν υπάρχει υπεύθυνη αντιμετώπιση και ενεργοποίηση των ΟΤΑ για την αποκατάσταση των ΧΑΔ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ομοθεσία: ΚΥΑ Η.Π. 50910/2727/2003 (ΦΕΚ 1909Β/2003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‘’Μέτρ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όροι  για τη Διαχείριση Στερεών Αποβλήτων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Εθνικός &amp; Περιφερειακός Σχεδιασμός’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Arial"/>
              </a:rPr>
              <a:t>ΕΘΝΙΚΟΣ ΣΧΕΔΙΑΣΜΟ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αύση λειτουργίας των ΧΑΔ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- περιβαλλοντικά ασφαλή και οικονομικά συμφέρουσα μεταφορά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οβλή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- αξιοποίηση αποβλήτων (π.χ. συσκευασίες, οχήματα, ελαστικά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δρανή, ηλεκ. &amp; ηλεκτρ. εξοπλισμός, χαρτί, αδρανή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- διαλογή ΑΣΑ στην πηγ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- μείωση ποσότητας βιοαποδομήσιμων στους ΧΥ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- ολοκληρωμένες εγκαταστάσεις τελικής διάθεσης αποβλή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- προγράμματα ευαισθητοποίησης κοινού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58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c0000"/>
                </a:solidFill>
                <a:latin typeface="Arial"/>
              </a:rPr>
              <a:t>* Σύμφωνα με τις ανακοινώσεις του ΥΠΕΚΑ εντός του 2010 θα αναθεωρηθεί ο Εθνικός Σχεδιασμό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Σχεδιασμός Διαχείρισης Στερεών αποβλήτω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Προβλήματα σχετιζόμενα με την υλοποίηση ΠΕΣΔΑ και αποκατάστασης ΧΑΔ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Θα πρέπει να γίνει έναρξη διαδικασιών και απαιτούμενων μελετών – ενεργειών για την μετατροπή των υφιστάμενων ΧΥΤΑ σε λειτουργία ΧΥΤ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εν έχει αναπτυχθεί η ανακύκλωση και διαλογή στην πηγή ιδιαίτερα στο Δ. Ιωαννιτών που είναι και ο μεγαλύτερος παραγωγός απορριμμάτων στην Περιφέρεια Ηπείρ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εν έχουν γίνει συμβάσεις (κυρίως του Δ. Ιωαννιτών και άλλων ΟΤΑ) με όλα τα συστήματα εναλλακτικής διαχείρισης αποβλήτων π.χ. συσκευασίας, ελαστικών, ηλεκτρονικού και ηλεκτρικού εξοπλισμού, ορυκτελαίων. (Ν. 3929/2001 (ΦΕΚ 179/Α/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ροτεινόμενες ενέργειες των ΟΤΑ &amp; ΦοΔΣ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- Ανάπτυξη και προμήθεια κατάλληλου εξοπλισμού για την ανακύκλωση και κυρίως για την διαλογή σε όλα τα σχολεία όλων των βαθμίδ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Στοχευμένη και παρατεταμένη ενημέρωση των πολιτών για τα οφέλη της ανακύκλωσης, της διαλογής και της ανάκτησ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Σταδιακή εγκατάσταση των τριών (3) κάδων διαλογής απορριμμάτων ξεκινώντας από τον ‘’μπλέ’’ κάδο (Συσκευασίες), συνεχίζοντας με τον ‘’πράσινο’’ κάδο (Υπολείμματα κουζίνας) και τελική προσθήκη με τον κάδο των λοιπών αποβλήτω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τεινόμενες ενέργειες των ΟΤΑ &amp; ΦοΔΣ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6600"/>
                </a:solidFill>
                <a:latin typeface="Arial"/>
              </a:rPr>
              <a:t>Ανάπτυξη στην αρχή πιλοτικά και στη συνέχεια σε ευρεία κλίμακα, των συστημάτων συλλογής και μεταφοράς και διάθεσης των επιμέρους ‘’ρευμάτων’’ αποβλήτω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6600"/>
                </a:solidFill>
                <a:latin typeface="Arial"/>
              </a:rPr>
              <a:t>Προώθηση της οικιακής κομποστοποίησης, αρχικά, στα σπίτια που διαθέτουν αυλές – κήπ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6600"/>
                </a:solidFill>
                <a:latin typeface="Arial"/>
              </a:rPr>
              <a:t>Στελέχωση των ΦοΔΣΑ και των σχετικών υπηρεσιών των ΟΤΑ για την έναρξη εφαρμογής αποτελεσματικότερου συστήματος διαλογής απορριμμάτων στοχεύοντας στη μείωση κατανάλωσης ενέργειας και λειτουργικού κόστους προς όφελος του περιβάλλοντος.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Προτεινόμενα έργα – δράσεις ΠΕΣΔ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4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996600"/>
                </a:solidFill>
                <a:latin typeface="Arial"/>
              </a:rPr>
              <a:t>Σε δημοσιοποίηση η πρόθεση ανάθεσης της μελέτης για τη μονάδα επεξεργασίας ΑΣΑ (επιλογή κατάλληλης μεθόδου επεξεργασίας, διερεύνηση χώρων εγκατάστασης)</a:t>
            </a:r>
            <a:r>
              <a:rPr b="0" lang="el-GR" sz="2200" spc="-1" strike="noStrike">
                <a:solidFill>
                  <a:srgbClr val="996600"/>
                </a:solidFill>
                <a:latin typeface="Arial"/>
              </a:rPr>
              <a:t> (αξιοποίηση στοιχείων από τη μελέτη Ποιοτικής σύστασης ΑΣΑ Περιφ. Ηπείρου, 2008) ποσό 60.000€.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εχν. Βοήθεια Ε.Π. Θ.Η.Σ. 2007-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996600"/>
                </a:solidFill>
                <a:latin typeface="Arial"/>
              </a:rPr>
              <a:t>Αποκατάσταση των ενεργών ΧΑΔ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996600"/>
                </a:solidFill>
                <a:latin typeface="Arial"/>
              </a:rPr>
              <a:t>Μετατροπή των υφιστάμενων ΧΥΤΑ σε ΧΥΤ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996600"/>
                </a:solidFill>
                <a:latin typeface="Arial"/>
              </a:rPr>
              <a:t>Χρηματοδότηση – επαναξιολόγηση αριθμού ΣΜΑ, επιλογή χώρων συγκέντρωσης ανακυκλώσιμων υλικώ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996600"/>
                </a:solidFill>
                <a:latin typeface="Arial"/>
              </a:rPr>
              <a:t>Ενίσχυση της ανακύκλωσης και της διαλογής στην πηγή (κυρίως όπου δεν έχει ξεκινήσει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Χρηματοδοτικά εργαλε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-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Ε.Π. -  Θ.Η.Σ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             ‘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’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Δράσεις περιβάλλοντος’’ κωδ. 44, στο ΕΠ. Θ.Η.Σ. για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  ‘’Διαχείριση οικιακών και Βιομηχανικών αποβλήτων’’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- συμπληρωματικές  παρεμβάσεις στο δίκτυο ΧΥΤΑ κ.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      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- υποδομές προσωρινής αποθήκευσης ΑΣ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συνολικό ποσό 7.030.000 €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.</a:t>
            </a: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(δεν έχουν υποβληθεί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προτάσει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‘’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Δράσεις περιβάλλοντος’’ κωδ. 50, στο ΕΠ. Θ.Η.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      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-  αποκαταστάσεις ΧΑΔ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          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συνολικό ποσό 8.172.428 €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(έχει υπερκαλυφθεί το ποσό   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996600"/>
                </a:solidFill>
                <a:latin typeface="Arial"/>
              </a:rPr>
              <a:t>                                                      από τις προτάσεις των ΟΤΑ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-252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996600"/>
                </a:solidFill>
                <a:uFillTx/>
                <a:latin typeface="Arial"/>
              </a:rPr>
              <a:t>ΕΠΠΕΡΑΑ</a:t>
            </a:r>
            <a:r>
              <a:rPr b="0" lang="el-GR" sz="2000" spc="-1" strike="noStrike">
                <a:solidFill>
                  <a:srgbClr val="996600"/>
                </a:solidFill>
                <a:latin typeface="Arial"/>
              </a:rPr>
              <a:t> του ΥΠΕΚΑ</a:t>
            </a: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7040" indent="-252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996600"/>
                </a:solidFill>
                <a:latin typeface="Arial"/>
              </a:rPr>
              <a:t>Πρόγραμμα Υπ. Εσωτερικών, ΘΗΣΕΑΣ κ.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95008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093000"/>
            <a:ext cx="7618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υχαριστ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871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Δεσμεύσεις σύμφωνα με τη Νομοθεσί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indent="-81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336699"/>
                </a:solidFill>
                <a:latin typeface="Arial"/>
              </a:rPr>
              <a:t>ΚΥΑ Η.Π. 50910/2727/03 &amp; ΚΥΑ Η.Π. 29407/3508/2002, Ν. 2939/01 σύμφωνα με τις Οδηγίες (94/62/ΕΚ), 91/156/ΕΟΚ, 99/31/ΕΟΚ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 u="sng">
                <a:solidFill>
                  <a:srgbClr val="000000"/>
                </a:solidFill>
                <a:uFillTx/>
                <a:latin typeface="Arial"/>
              </a:rPr>
              <a:t>Οι βασικοί στόχοι ανά κατηγορία είναι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8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6600"/>
                </a:solidFill>
                <a:latin typeface="Arial"/>
              </a:rPr>
              <a:t>Βιοαποδομήσιμα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-2635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Έως 16 Ιουλίου 2010: μείωση των Β/Α στους ΧΥΤ στο 75% της      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                    ποσότητας του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-2635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Έως 16 Ιουλίου 2013: μείωση των Β/Α στους ΧΥΤ στο 50% της  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                    ποσότητας του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-2635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Έως 16 Ιουλίου 2020: μείωση των Β/Α στους ΧΥΤ στο 35% της 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                    ποσότητας του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60280" algn="just">
              <a:lnSpc>
                <a:spcPct val="80000"/>
              </a:lnSpc>
              <a:spcBef>
                <a:spcPts val="326"/>
              </a:spcBef>
              <a:buClr>
                <a:srgbClr val="996600"/>
              </a:buClr>
              <a:buFont typeface="Arial"/>
              <a:buChar char="–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996600"/>
                </a:solidFill>
                <a:latin typeface="Arial"/>
              </a:rPr>
              <a:t>Συσκευασίες:</a:t>
            </a: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Μέχρι 31.12.2005 αξιοποίηση τουλάχιστον το 50 - 65% κ.β. Ανακύκλωση τουλάχιστον το 15% κάθε υλικού συσκευασία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60280" algn="just">
              <a:lnSpc>
                <a:spcPct val="80000"/>
              </a:lnSpc>
              <a:spcBef>
                <a:spcPts val="326"/>
              </a:spcBef>
              <a:buClr>
                <a:srgbClr val="996600"/>
              </a:buClr>
              <a:buFont typeface="Arial"/>
              <a:buChar char="–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996600"/>
                </a:solidFill>
                <a:latin typeface="Arial"/>
              </a:rPr>
              <a:t>Ορυκτέλαια:</a:t>
            </a: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Συλλογή κατά 70% και αναγέννηση κατά 80% από αυτά μέχρι το 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60280" algn="just">
              <a:lnSpc>
                <a:spcPct val="80000"/>
              </a:lnSpc>
              <a:spcBef>
                <a:spcPts val="326"/>
              </a:spcBef>
              <a:buClr>
                <a:srgbClr val="996600"/>
              </a:buClr>
              <a:buFont typeface="Arial"/>
              <a:buChar char="–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996600"/>
                </a:solidFill>
                <a:latin typeface="Arial"/>
              </a:rPr>
              <a:t>Ηλεκτρικές συσκευές, μπαταρίες, ελαστικά, οχήματα τέλους ζωής, μπάζα, προϊόντα χάρτου:</a:t>
            </a: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χωριστή συλλογή, απορρύπανση, αξιοποίηση, ανακύκλωση σε σημαντικά ή μεγάλα ποσοστά τόσο το 2006, όσο και το 2015.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2602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Περιφερειακός Σχεδιασμός Διαχείρισης Στερεών αποβλή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cc0000"/>
                </a:solidFill>
                <a:latin typeface="Arial"/>
              </a:rPr>
              <a:t>Εξειδίκευση του ΕΣΔΑ με το ΠΕΣΔΑ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  Επιλογή περιοχών – συγκρότηση Διαχειριστικών Ενοτήτ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 καθορισμός μεθόδων διαχείρισης σε κάθε Δ.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 εξειδίκευση συγκεκριμένων μέτρων, όρων και περιορισμών για τους στόχους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ου ΕΣΔΑ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cc0000"/>
                </a:solidFill>
                <a:latin typeface="Arial"/>
              </a:rPr>
              <a:t>Κατάρτιση ΠΕΣΔΑ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Σύνταξη μελέτης διαχείρισης στερεών αποβλήτων από την Δ/νση ΠΕ. ΧΩ.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Περιφέρει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 Προδιαγραφές ΠΕΣΔΑ (παράρτημα ΙΙΙ, άρθρο 16 ΚΥΑ 50910/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 Γνωμοδοτήσεις οργανισμών, συμβουλίων και υπηρεσιών (π.χ. Νομαρχιακά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Συμβούλια, ΤΕΔΚ Νομών, ΥΠΕΚΑ, Υπ.ΕΣ., Περιφερειακό Συμβούλιο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  Έγκριση ΠΕΣΔΑ με Απόφαση Γεν. Γραμμ. Περιφέρεια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 Άρθρο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§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: Το ΠΕΣΔΑ μπορεί να αναθεωρείται ανά πενταετία ύστερα από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διαπιστωμένη ανάγκη και μετά από έκθεση υλοποίησης του ΠΕΣΔΑ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προς τον Υπουργό ΠΕΚΑ και  την σύμφωνη γνώμη του ΥΠΕΚ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63640" y="176040"/>
          <a:ext cx="5977080" cy="6681960"/>
        </p:xfrm>
        <a:graphic>
          <a:graphicData uri="http://schemas.openxmlformats.org/drawingml/2006/table">
            <a:tbl>
              <a:tblPr/>
              <a:tblGrid>
                <a:gridCol w="1863720"/>
                <a:gridCol w="1254240"/>
                <a:gridCol w="1363680"/>
                <a:gridCol w="14954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/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ι -Κοινότητε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ληθυσμό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Διαχειριστική ενότητ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μός Ιωαννίνω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Όλοι οι Δήμοι &amp; Κοινότητες του Νομο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.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Διαχειριστική ενότητ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μός Θεσπρωτία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Αχέρoντ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Μαργαριτίο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Παραμυθιά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Συβότω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. Πέρδικα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. Σουλίο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μός Πρεβέζη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Ζαλόγγο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Λούρο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Πάργα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Πρεβέζη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Φαναρίο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Διαχειριστική ενότητ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μός Άρτα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λοι οι Δήμοι &amp; Κοινότητες του Ν. ΑΡΤΑ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μός Πρεβέζη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Ανωγείο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Θεσπρωτικο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ήμος Φιλιππιάδο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οινότητα Κρανέα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Διαχειριστική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νότητ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ομός. Θεσπρωτία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Ηγουμενίτσα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Παραποτάμο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 φιλιατω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.Σαγιάδα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a0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77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κτιμώμενες ποσότητες ΑΣ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87280" y="1844640"/>
          <a:ext cx="7561440" cy="3543480"/>
        </p:xfrm>
        <a:graphic>
          <a:graphicData uri="http://schemas.openxmlformats.org/drawingml/2006/table">
            <a:tbl>
              <a:tblPr/>
              <a:tblGrid>
                <a:gridCol w="3773520"/>
                <a:gridCol w="1408320"/>
                <a:gridCol w="1185840"/>
                <a:gridCol w="1193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Δ.Ε. (Ν. Ιωαννίνω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Δ.Ε. (Δ/Ν ΧΥΤΑ Πρέβεζας –     Θεσπρωτίας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Δ.Ε. (Ν. Άρτας &amp; Πρέβεζα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Δ.Ε. (Θεσπρωτία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6680" y="-1080"/>
            <a:ext cx="757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996600"/>
                </a:solidFill>
                <a:latin typeface="Calibri"/>
                <a:ea typeface="Times New Roman"/>
              </a:rPr>
              <a:t>Πίνακας: Αποτελέσματα μετρήσεων ανά ΔΕ σχετικά με την κ.β. σύσταση των απορριμμάτων (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260280"/>
          <a:ext cx="7345440" cy="6534360"/>
        </p:xfrm>
        <a:graphic>
          <a:graphicData uri="http://schemas.openxmlformats.org/drawingml/2006/table">
            <a:tbl>
              <a:tblPr/>
              <a:tblGrid>
                <a:gridCol w="1152720"/>
                <a:gridCol w="1224000"/>
                <a:gridCol w="1079280"/>
                <a:gridCol w="1297080"/>
                <a:gridCol w="1366920"/>
                <a:gridCol w="1225440"/>
              </a:tblGrid>
              <a:tr h="428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Υλικ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ΣΥΣΤΑΣΗ, 1η ΔΕ, % κ.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ΣΥΣΤΑΣΗ, 2η ΔΕ, % κ.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ΣΥΣΤΑΣΗ, 3η ΔΕ, % κ.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ΣΥΣΤΑΣΗ, 4η ΔΕ, % κ.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Οργανικά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,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5,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,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,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Χαρτ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2-1 Συσκευασί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,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2-2 Έντυπ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7,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2-3 Λοιπά χαρτι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7,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Χαρτόνι (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7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5,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Σύνθετα υλικά (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5,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-Ξ-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5-1 Συσκευασί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5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,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5-2 Λοιπ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Πλαστικ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6-1 Συσκευασί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,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6-2 Λοιπ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5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Γυαλ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7-1 Συσκευασί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,7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7-2 Λοιπ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Μέταλλ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8-1 Fe  (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,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8-2 Fe (Λοιπά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8-3 Al  (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7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8-4  Λοιπά Μέταλλ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Υφάσματ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,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Μπαταρίε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Αδραν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3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,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Υπόλοιπ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Λεπτόκοκκα &lt;10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,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ροτεινόμενα έργα ΠΕΣ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1341360"/>
          <a:ext cx="806436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064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84360" y="5979960"/>
            <a:ext cx="734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μία (1) μονάδα Επεξεργασίας Οργανικού Κλάσματος που θα περιέχει και μονάδα μηχανικής διαλογή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Δ.Ε. (Ν. Ιωαννίνω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Υλοποιούμενα έργα: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ό κατασκευή ο ΧΥΤΑ στο ΔΔ.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λληνικού Δ. Κατσανοχωρίων (εκτιμώμενη έναρξη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οκιμαστικής λειτουργίας, Ιούνιος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ΣΜΑ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Ο ΦοΔΣΑ έχει αναθέσει και παραλάβει μελέτε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κοπιμότητας και μελέτες χωροθέτησης 3 ΣΜΑ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δεν έχουν αδειοδοτηθεί ούτε ενταχθεί σε χρημ. πρόγραμμ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996600"/>
                </a:solidFill>
                <a:uFillTx/>
                <a:latin typeface="Arial"/>
              </a:rPr>
              <a:t>Κ.Δ.Α.Υ. – μονάδα επεξεργασίας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έχουν υπάρξει ενέργειες για μελέτη κα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δειοδότηση ΚΔΑΥ (Δημοσίο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4:05:34Z</dcterms:created>
  <dc:creator>user</dc:creator>
  <dc:description/>
  <dc:language>en-US</dc:language>
  <cp:lastModifiedBy>Περιφέρεια Ηπείρου</cp:lastModifiedBy>
  <dcterms:modified xsi:type="dcterms:W3CDTF">2010-03-29T08:58:17Z</dcterms:modified>
  <cp:revision>103</cp:revision>
  <dc:subject/>
  <dc:title>Διαφάνεια 1</dc:title>
</cp:coreProperties>
</file>