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0360" cy="487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79360" y="0"/>
            <a:ext cx="2970360" cy="487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90360" y="731520"/>
            <a:ext cx="4870440" cy="36529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UB-Front"/>
              </a:rPr>
              <a:t>Click to move the slide</a:t>
            </a:r>
            <a:endParaRPr b="1" lang="en-US" sz="3600" spc="-1" strike="noStrike">
              <a:solidFill>
                <a:srgbClr val="336600"/>
              </a:solidFill>
              <a:latin typeface="UB-Front"/>
            </a:endParaRPr>
          </a:p>
        </p:txBody>
      </p:sp>
      <p:sp>
        <p:nvSpPr>
          <p:cNvPr id="90" name="PlaceHolder 4"/>
          <p:cNvSpPr>
            <a:spLocks noGrp="1"/>
          </p:cNvSpPr>
          <p:nvPr>
            <p:ph type="body"/>
          </p:nvPr>
        </p:nvSpPr>
        <p:spPr>
          <a:xfrm>
            <a:off x="684000" y="4630680"/>
            <a:ext cx="5483160" cy="438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8"/>
          </p:nvPr>
        </p:nvSpPr>
        <p:spPr>
          <a:xfrm>
            <a:off x="-360" y="9258120"/>
            <a:ext cx="2970360" cy="487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79360" y="9258120"/>
            <a:ext cx="2970360" cy="487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142AE-F82B-41B1-A02A-0F8C4E51386C}"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990720" y="731880"/>
            <a:ext cx="4870440" cy="3652920"/>
          </a:xfrm>
          <a:prstGeom prst="rect">
            <a:avLst/>
          </a:prstGeom>
          <a:ln w="0">
            <a:noFill/>
          </a:ln>
        </p:spPr>
      </p:sp>
      <p:sp>
        <p:nvSpPr>
          <p:cNvPr id="126" name="PlaceHolder 2"/>
          <p:cNvSpPr>
            <a:spLocks noGrp="1"/>
          </p:cNvSpPr>
          <p:nvPr>
            <p:ph type="body"/>
          </p:nvPr>
        </p:nvSpPr>
        <p:spPr>
          <a:xfrm>
            <a:off x="684000" y="4630680"/>
            <a:ext cx="5483160" cy="438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Η εισήγηση αφορά τις Μελέτες ωρίμανσης και προετοιμασίας της νέας Προγραμματικής περιόδου 2007- 20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Στην 7</a:t>
            </a:r>
            <a:r>
              <a:rPr b="0" lang="en-US" sz="1200" spc="-1" strike="noStrike" baseline="30000">
                <a:solidFill>
                  <a:srgbClr val="000000"/>
                </a:solidFill>
                <a:latin typeface="Times New Roman"/>
              </a:rPr>
              <a:t>η</a:t>
            </a:r>
            <a:r>
              <a:rPr b="0" lang="en-US" sz="1200" spc="-1" strike="noStrike">
                <a:solidFill>
                  <a:srgbClr val="000000"/>
                </a:solidFill>
                <a:latin typeface="Times New Roman"/>
              </a:rPr>
              <a:t> Επιτροπή Παρακολούθησης του Κ.Π.Σ 2000-2006 αποφασίστηκε μεταξύ άλλων η δυνατότητα προετοιμασίας έργων υποδομής σε εθνικό και περιφερειακό επίπεδο που αναμένεται να υλοποιηθούν στα πλαίσια της τρέχουσας Προγραμματικής περιόδου. Οι προς χρηματοδότηση Πράξεις εντάσσονται στο Μέτρο 6.4. με τίτλο «Μελέτες Ωρίμανσης και Προετοιμασίας» και συνολικό προϋπολογισμό 11,5 εκατ. €.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990720" y="731880"/>
            <a:ext cx="4870440" cy="3652920"/>
          </a:xfrm>
          <a:prstGeom prst="rect">
            <a:avLst/>
          </a:prstGeom>
          <a:ln w="0">
            <a:noFill/>
          </a:ln>
        </p:spPr>
      </p:sp>
      <p:sp>
        <p:nvSpPr>
          <p:cNvPr id="138" name="PlaceHolder 2"/>
          <p:cNvSpPr>
            <a:spLocks noGrp="1"/>
          </p:cNvSpPr>
          <p:nvPr>
            <p:ph type="body"/>
          </p:nvPr>
        </p:nvSpPr>
        <p:spPr>
          <a:xfrm>
            <a:off x="684000" y="4630680"/>
            <a:ext cx="5483160" cy="438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Στον Πίνακα 4 παρουσιάζονται όλες οι Προτάσεις που έχουν έρθει έως και σήμερα και ζητούν την έγκριση του Περιφερειακού Συμβουλίου. Οι προτάσεις είναι οι εξής:</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990720" y="731880"/>
            <a:ext cx="4870440" cy="3652920"/>
          </a:xfrm>
          <a:prstGeom prst="rect">
            <a:avLst/>
          </a:prstGeom>
          <a:ln w="0">
            <a:noFill/>
          </a:ln>
        </p:spPr>
      </p:sp>
      <p:sp>
        <p:nvSpPr>
          <p:cNvPr id="140" name="PlaceHolder 2"/>
          <p:cNvSpPr>
            <a:spLocks noGrp="1"/>
          </p:cNvSpPr>
          <p:nvPr>
            <p:ph type="body"/>
          </p:nvPr>
        </p:nvSpPr>
        <p:spPr>
          <a:xfrm>
            <a:off x="684000" y="4630680"/>
            <a:ext cx="5483160" cy="438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Τελειώνοντας την παρουσίαση του Προγράμματος θα θέλαμε να σας επισημάνουμε το μεγάλο ενδιαφέρον που έδειξαν οι φορείς για την υποβολή Προτάσεων αλλά και την χρονική πίεση που υπάρχει για την ολοκλήρωση των Πράξεων, καθώς οι διαδικασίες δημοπράτησης, αξιολόγησης και εκπόνησης είναι αρκετά χρονοβόρες. </a:t>
            </a: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990720" y="731880"/>
            <a:ext cx="4870440" cy="3652920"/>
          </a:xfrm>
          <a:prstGeom prst="rect">
            <a:avLst/>
          </a:prstGeom>
          <a:ln w="0">
            <a:noFill/>
          </a:ln>
        </p:spPr>
      </p:sp>
      <p:sp>
        <p:nvSpPr>
          <p:cNvPr id="128" name="PlaceHolder 2"/>
          <p:cNvSpPr>
            <a:spLocks noGrp="1"/>
          </p:cNvSpPr>
          <p:nvPr>
            <p:ph type="body"/>
          </p:nvPr>
        </p:nvSpPr>
        <p:spPr>
          <a:xfrm>
            <a:off x="684000" y="4630680"/>
            <a:ext cx="5483160" cy="438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Σύμφωνα με τις Οδηγίες του Υπουργείου Οικονομίας και Οικονομικών για τα Περιφερειακά Προγράμματα προτάθηκε να δοθεί προτεραιότητα στην προετοιμασία νέων έργων που αφορούν σε Οδικές Μεταφορές (για έργα με προϋπολογισμό κατασκευής άνω των 5.000.000€), Περιβάλλον (για την κάλυψη των υποχρεώσεων της χώρας σε παραβιάσεις της Κοινοτικής Περιβαλλοντικής Νομοθεσίας). Η χρηματοδότηση των Πράξεων γίνεται από το Ευρωπαϊκό Ταμείο Περιφερειακής Ανάπτυξης. Με βάση τις Οδηγίες αυτές η ΕΥΔ ΠΕΠ Ηπείρου στις 15/6/2006 εξέδωσε την Πρόσκληση 161 συνολικού Προϋπολογισμού 8.000.000€ με την οποία καλούσε τους Φορείς για την Υποβολή Προτάσεων.</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990720" y="731880"/>
            <a:ext cx="4870440" cy="3652920"/>
          </a:xfrm>
          <a:prstGeom prst="rect">
            <a:avLst/>
          </a:prstGeom>
          <a:ln w="0">
            <a:noFill/>
          </a:ln>
        </p:spPr>
      </p:sp>
      <p:sp>
        <p:nvSpPr>
          <p:cNvPr id="130" name="PlaceHolder 2"/>
          <p:cNvSpPr>
            <a:spLocks noGrp="1"/>
          </p:cNvSpPr>
          <p:nvPr>
            <p:ph type="body"/>
          </p:nvPr>
        </p:nvSpPr>
        <p:spPr>
          <a:xfrm>
            <a:off x="684000" y="4630680"/>
            <a:ext cx="5483160" cy="438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Υποβλήθηκαν συνολικά 8 Προτάσεις που είχαν την έγκριση του προηγούμενου Περιφερειακού Συμβουλίου (Ηγουμενίτσα, 13 Απριλίου 2006). Επισημαίνεται ότι η έγκριση από το Περιφερειακό Συμβούλιο είναι προαπαιτούμενο για την ένταξη των Προτάσεων στο Μέτρο 6.4. Το συνολικό κόστος των αιτημάτων ανέρχεται σε 12.000.000 € περίπου.</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990720" y="731880"/>
            <a:ext cx="4870440" cy="3652920"/>
          </a:xfrm>
          <a:prstGeom prst="rect">
            <a:avLst/>
          </a:prstGeom>
          <a:ln w="0">
            <a:noFill/>
          </a:ln>
        </p:spPr>
      </p:sp>
      <p:sp>
        <p:nvSpPr>
          <p:cNvPr id="132" name="PlaceHolder 2"/>
          <p:cNvSpPr>
            <a:spLocks noGrp="1"/>
          </p:cNvSpPr>
          <p:nvPr>
            <p:ph type="body"/>
          </p:nvPr>
        </p:nvSpPr>
        <p:spPr>
          <a:xfrm>
            <a:off x="684000" y="4630680"/>
            <a:ext cx="5483160" cy="438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Υποβλήθηκαν συνολικά 8 Προτάσεις που είχαν την έγκριση του προηγούμενου Περιφερειακού Συμβουλίου (Ηγουμενίτσα, 13 Απριλίου 2006). Επισημαίνεται ότι η έγκριση από το Περιφερειακό Συμβούλιο είναι προαπαιτούμενο για την ένταξη των Προτάσεων στο Μέτρο 6.4. Το συνολικό κόστος των αιτημάτων ανέρχεται σε 12.000.000 € περίπου.</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90720" y="731880"/>
            <a:ext cx="4870440" cy="3652920"/>
          </a:xfrm>
          <a:prstGeom prst="rect">
            <a:avLst/>
          </a:prstGeom>
          <a:ln w="0">
            <a:noFill/>
          </a:ln>
        </p:spPr>
      </p:sp>
      <p:sp>
        <p:nvSpPr>
          <p:cNvPr id="134" name="PlaceHolder 2"/>
          <p:cNvSpPr>
            <a:spLocks noGrp="1"/>
          </p:cNvSpPr>
          <p:nvPr>
            <p:ph type="body"/>
          </p:nvPr>
        </p:nvSpPr>
        <p:spPr>
          <a:xfrm>
            <a:off x="684000" y="4630680"/>
            <a:ext cx="5483160" cy="438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Υπήρξαν 3 Μελέτες που είχαν την έγκριση του Περιφερειακού Συμβουλίου αλλά δεν υποβλήθηκαν Προτάσεις.</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990720" y="731880"/>
            <a:ext cx="4870440" cy="3652920"/>
          </a:xfrm>
          <a:prstGeom prst="rect">
            <a:avLst/>
          </a:prstGeom>
          <a:ln w="0">
            <a:noFill/>
          </a:ln>
        </p:spPr>
      </p:sp>
      <p:sp>
        <p:nvSpPr>
          <p:cNvPr id="136" name="PlaceHolder 2"/>
          <p:cNvSpPr>
            <a:spLocks noGrp="1"/>
          </p:cNvSpPr>
          <p:nvPr>
            <p:ph type="body"/>
          </p:nvPr>
        </p:nvSpPr>
        <p:spPr>
          <a:xfrm>
            <a:off x="684000" y="4630680"/>
            <a:ext cx="5483160" cy="438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Επίσης κατατέθηκαν συνολικά άλλες 16 Προτάσεις, χωρίς την έγκριση του Περιφερειακού Συμβουλίου, συνολικού ποσού 8.700.000€ περίπου, οι οποίες και απορίφθηκαν.</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B5360F-2AFB-47B7-9E4E-9EE614FA68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29" name="PlaceHolder 2"/>
          <p:cNvSpPr>
            <a:spLocks noGrp="1"/>
          </p:cNvSpPr>
          <p:nvPr>
            <p:ph/>
          </p:nvPr>
        </p:nvSpPr>
        <p:spPr>
          <a:xfrm>
            <a:off x="228600" y="4724280"/>
            <a:ext cx="601992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228600" y="5480640"/>
            <a:ext cx="601992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B56E04-E02D-4132-9CAB-B8636CDC7E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32" name="PlaceHolder 2"/>
          <p:cNvSpPr>
            <a:spLocks noGrp="1"/>
          </p:cNvSpPr>
          <p:nvPr>
            <p:ph/>
          </p:nvPr>
        </p:nvSpPr>
        <p:spPr>
          <a:xfrm>
            <a:off x="228600" y="472428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313440" y="472428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228600" y="548064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3313440" y="548064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AB6E11-8A1F-4A6E-97B7-93BD9286C4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37" name="PlaceHolder 2"/>
          <p:cNvSpPr>
            <a:spLocks noGrp="1"/>
          </p:cNvSpPr>
          <p:nvPr>
            <p:ph/>
          </p:nvPr>
        </p:nvSpPr>
        <p:spPr>
          <a:xfrm>
            <a:off x="228600" y="4724280"/>
            <a:ext cx="19382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2264040" y="4724280"/>
            <a:ext cx="19382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4299840" y="4724280"/>
            <a:ext cx="19382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228600" y="5480640"/>
            <a:ext cx="19382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2264040" y="5480640"/>
            <a:ext cx="19382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4299840" y="5480640"/>
            <a:ext cx="19382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CB0646-B8DF-40B0-AAF1-6146EE31C6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5DBA56-930F-4C77-AB3A-BB31DE6B86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51" name="PlaceHolder 2"/>
          <p:cNvSpPr>
            <a:spLocks noGrp="1"/>
          </p:cNvSpPr>
          <p:nvPr>
            <p:ph type="subTitle"/>
          </p:nvPr>
        </p:nvSpPr>
        <p:spPr>
          <a:xfrm>
            <a:off x="228600" y="4724280"/>
            <a:ext cx="6019920" cy="14479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10B3C3-BC7F-4335-8F49-5C7188A108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53" name="PlaceHolder 2"/>
          <p:cNvSpPr>
            <a:spLocks noGrp="1"/>
          </p:cNvSpPr>
          <p:nvPr>
            <p:ph/>
          </p:nvPr>
        </p:nvSpPr>
        <p:spPr>
          <a:xfrm>
            <a:off x="228600" y="4724280"/>
            <a:ext cx="6019920" cy="1447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8105C6-A429-4D91-BCF7-5B041A1666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55" name="PlaceHolder 2"/>
          <p:cNvSpPr>
            <a:spLocks noGrp="1"/>
          </p:cNvSpPr>
          <p:nvPr>
            <p:ph/>
          </p:nvPr>
        </p:nvSpPr>
        <p:spPr>
          <a:xfrm>
            <a:off x="228600" y="4724280"/>
            <a:ext cx="2937600" cy="1447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3313440" y="4724280"/>
            <a:ext cx="2937600" cy="1447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36D018-A275-4F2A-8275-8F3634883A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872B7A-1319-4A8F-89BD-0F8A1DDE51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28600" y="3501720"/>
            <a:ext cx="8305920" cy="55198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77404B-B2CD-46E3-86EC-2D8FBD9FCF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60" name="PlaceHolder 2"/>
          <p:cNvSpPr>
            <a:spLocks noGrp="1"/>
          </p:cNvSpPr>
          <p:nvPr>
            <p:ph/>
          </p:nvPr>
        </p:nvSpPr>
        <p:spPr>
          <a:xfrm>
            <a:off x="228600" y="472428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3313440" y="4724280"/>
            <a:ext cx="2937600" cy="1447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28600" y="548064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8A462E-FD8B-46E5-AABA-3E0B2BB071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8" name="PlaceHolder 2"/>
          <p:cNvSpPr>
            <a:spLocks noGrp="1"/>
          </p:cNvSpPr>
          <p:nvPr>
            <p:ph type="subTitle"/>
          </p:nvPr>
        </p:nvSpPr>
        <p:spPr>
          <a:xfrm>
            <a:off x="228600" y="4724280"/>
            <a:ext cx="6019920" cy="14479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FD25D6-97F1-4FD3-B891-890EBAE4B8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64" name="PlaceHolder 2"/>
          <p:cNvSpPr>
            <a:spLocks noGrp="1"/>
          </p:cNvSpPr>
          <p:nvPr>
            <p:ph/>
          </p:nvPr>
        </p:nvSpPr>
        <p:spPr>
          <a:xfrm>
            <a:off x="228600" y="4724280"/>
            <a:ext cx="2937600" cy="1447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3313440" y="472428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3313440" y="548064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556722-5DEB-4B7E-840F-36B79037E8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68" name="PlaceHolder 2"/>
          <p:cNvSpPr>
            <a:spLocks noGrp="1"/>
          </p:cNvSpPr>
          <p:nvPr>
            <p:ph/>
          </p:nvPr>
        </p:nvSpPr>
        <p:spPr>
          <a:xfrm>
            <a:off x="228600" y="472428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313440" y="472428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28600" y="5480640"/>
            <a:ext cx="601992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AEBB3D-385C-409E-89D0-C87B8F184D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72" name="PlaceHolder 2"/>
          <p:cNvSpPr>
            <a:spLocks noGrp="1"/>
          </p:cNvSpPr>
          <p:nvPr>
            <p:ph/>
          </p:nvPr>
        </p:nvSpPr>
        <p:spPr>
          <a:xfrm>
            <a:off x="228600" y="4724280"/>
            <a:ext cx="601992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28600" y="5480640"/>
            <a:ext cx="601992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1E9E2A-9481-43D3-8C74-D6B074311E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75" name="PlaceHolder 2"/>
          <p:cNvSpPr>
            <a:spLocks noGrp="1"/>
          </p:cNvSpPr>
          <p:nvPr>
            <p:ph/>
          </p:nvPr>
        </p:nvSpPr>
        <p:spPr>
          <a:xfrm>
            <a:off x="228600" y="472428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313440" y="472428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28600" y="548064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313440" y="548064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2AC9DC-67C8-4E8B-84E4-5B07B7D80F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80" name="PlaceHolder 2"/>
          <p:cNvSpPr>
            <a:spLocks noGrp="1"/>
          </p:cNvSpPr>
          <p:nvPr>
            <p:ph/>
          </p:nvPr>
        </p:nvSpPr>
        <p:spPr>
          <a:xfrm>
            <a:off x="228600" y="4724280"/>
            <a:ext cx="19382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2264040" y="4724280"/>
            <a:ext cx="19382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299840" y="4724280"/>
            <a:ext cx="19382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28600" y="5480640"/>
            <a:ext cx="19382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2264040" y="5480640"/>
            <a:ext cx="19382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4299840" y="5480640"/>
            <a:ext cx="19382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B573F5-0C3C-439B-8A6A-1C693C06D2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10" name="PlaceHolder 2"/>
          <p:cNvSpPr>
            <a:spLocks noGrp="1"/>
          </p:cNvSpPr>
          <p:nvPr>
            <p:ph/>
          </p:nvPr>
        </p:nvSpPr>
        <p:spPr>
          <a:xfrm>
            <a:off x="228600" y="4724280"/>
            <a:ext cx="6019920" cy="1447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F0C52D-A130-47D8-AAFE-5D25FEE631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12" name="PlaceHolder 2"/>
          <p:cNvSpPr>
            <a:spLocks noGrp="1"/>
          </p:cNvSpPr>
          <p:nvPr>
            <p:ph/>
          </p:nvPr>
        </p:nvSpPr>
        <p:spPr>
          <a:xfrm>
            <a:off x="228600" y="4724280"/>
            <a:ext cx="2937600" cy="1447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3313440" y="4724280"/>
            <a:ext cx="2937600" cy="1447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88BE17-038C-44C3-A006-5BCB82396B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EF5B96-9DB7-4C7B-8941-57728DC420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28600" y="3501720"/>
            <a:ext cx="8305920" cy="55198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5B70B7-CF3B-41DF-9EDC-D576C00AC9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17" name="PlaceHolder 2"/>
          <p:cNvSpPr>
            <a:spLocks noGrp="1"/>
          </p:cNvSpPr>
          <p:nvPr>
            <p:ph/>
          </p:nvPr>
        </p:nvSpPr>
        <p:spPr>
          <a:xfrm>
            <a:off x="228600" y="472428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3313440" y="4724280"/>
            <a:ext cx="2937600" cy="1447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228600" y="548064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FD2EB-84AB-4D52-8C1B-64ABE5C758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21" name="PlaceHolder 2"/>
          <p:cNvSpPr>
            <a:spLocks noGrp="1"/>
          </p:cNvSpPr>
          <p:nvPr>
            <p:ph/>
          </p:nvPr>
        </p:nvSpPr>
        <p:spPr>
          <a:xfrm>
            <a:off x="228600" y="4724280"/>
            <a:ext cx="2937600" cy="1447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3313440" y="472428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3313440" y="548064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7FBA2-F374-4C6B-96D1-52AA078316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25" name="PlaceHolder 2"/>
          <p:cNvSpPr>
            <a:spLocks noGrp="1"/>
          </p:cNvSpPr>
          <p:nvPr>
            <p:ph/>
          </p:nvPr>
        </p:nvSpPr>
        <p:spPr>
          <a:xfrm>
            <a:off x="228600" y="472428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3313440" y="472428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228600" y="5480640"/>
            <a:ext cx="601992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84070-4D91-4673-9C42-48A4AAF1F4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0" r="45976" b="0"/>
          <a:stretch/>
        </p:blipFill>
        <p:spPr>
          <a:xfrm>
            <a:off x="7353360" y="0"/>
            <a:ext cx="1790640" cy="6858000"/>
          </a:xfrm>
          <a:prstGeom prst="rect">
            <a:avLst/>
          </a:prstGeom>
          <a:ln w="0">
            <a:noFill/>
          </a:ln>
        </p:spPr>
      </p:pic>
      <p:pic>
        <p:nvPicPr>
          <p:cNvPr id="1" name="" descr=""/>
          <p:cNvPicPr/>
          <p:nvPr/>
        </p:nvPicPr>
        <p:blipFill>
          <a:blip r:embed="rId3"/>
          <a:stretch/>
        </p:blipFill>
        <p:spPr>
          <a:xfrm>
            <a:off x="0" y="0"/>
            <a:ext cx="9144000" cy="6858000"/>
          </a:xfrm>
          <a:prstGeom prst="rect">
            <a:avLst/>
          </a:prstGeom>
          <a:ln w="0">
            <a:noFill/>
          </a:ln>
        </p:spPr>
      </p:pic>
      <p:sp>
        <p:nvSpPr>
          <p:cNvPr id="2" name="PlaceHolder 1"/>
          <p:cNvSpPr>
            <a:spLocks noGrp="1"/>
          </p:cNvSpPr>
          <p:nvPr>
            <p:ph type="title"/>
          </p:nvPr>
        </p:nvSpPr>
        <p:spPr>
          <a:xfrm>
            <a:off x="685800" y="317520"/>
            <a:ext cx="784872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00"/>
                </a:solidFill>
                <a:latin typeface="UB-Front"/>
              </a:rPr>
              <a:t>Click to edit the title text format</a:t>
            </a:r>
            <a:endParaRPr b="1" lang="en-US" sz="4400" spc="-1" strike="noStrike">
              <a:solidFill>
                <a:srgbClr val="336600"/>
              </a:solidFill>
              <a:latin typeface="UB-Front"/>
            </a:endParaRPr>
          </a:p>
        </p:txBody>
      </p:sp>
      <p:sp>
        <p:nvSpPr>
          <p:cNvPr id="3" name="PlaceHolder 2"/>
          <p:cNvSpPr>
            <a:spLocks noGrp="1"/>
          </p:cNvSpPr>
          <p:nvPr>
            <p:ph type="body"/>
          </p:nvPr>
        </p:nvSpPr>
        <p:spPr>
          <a:xfrm>
            <a:off x="685800" y="1905120"/>
            <a:ext cx="7848720" cy="4038480"/>
          </a:xfrm>
          <a:prstGeom prst="rect">
            <a:avLst/>
          </a:prstGeom>
          <a:noFill/>
          <a:ln w="0">
            <a:noFill/>
          </a:ln>
        </p:spPr>
        <p:txBody>
          <a:bodyPr lIns="90000" rIns="90000" tIns="46800" bIns="46800" anchor="t">
            <a:normAutofit fontScale="98000"/>
          </a:bodyPr>
          <a:p>
            <a:pPr marL="335880" indent="-3358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7920" indent="-280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19960" indent="-22392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68160" indent="-2239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16000" indent="-2239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dt" idx="1"/>
          </p:nvPr>
        </p:nvSpPr>
        <p:spPr>
          <a:xfrm>
            <a:off x="228240" y="6248520"/>
            <a:ext cx="16002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cc"/>
                </a:solidFill>
                <a:latin typeface="UB-Fron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UB-Front"/>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2209320" y="6248520"/>
            <a:ext cx="35053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cc"/>
                </a:solidFill>
                <a:latin typeface="UB-Fron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UB-Front"/>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248160" y="6248520"/>
            <a:ext cx="152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cc"/>
                </a:solidFill>
                <a:latin typeface="UB-Fron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EA93E-0636-4366-8885-498E5555A81F}" type="slidenum">
              <a:rPr b="0" lang="en-US" sz="1400" spc="-1" strike="noStrike">
                <a:solidFill>
                  <a:srgbClr val="0000cc"/>
                </a:solidFill>
                <a:latin typeface="UB-Fron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rcRect l="0" t="0" r="13799" b="0"/>
          <a:stretch/>
        </p:blipFill>
        <p:spPr>
          <a:xfrm>
            <a:off x="6292800" y="-1440"/>
            <a:ext cx="2857680" cy="6868800"/>
          </a:xfrm>
          <a:prstGeom prst="rect">
            <a:avLst/>
          </a:prstGeom>
          <a:ln w="0">
            <a:noFill/>
          </a:ln>
        </p:spPr>
      </p:pic>
      <p:pic>
        <p:nvPicPr>
          <p:cNvPr id="44" name="" descr=""/>
          <p:cNvPicPr/>
          <p:nvPr/>
        </p:nvPicPr>
        <p:blipFill>
          <a:blip r:embed="rId3"/>
          <a:stretch/>
        </p:blipFill>
        <p:spPr>
          <a:xfrm>
            <a:off x="0" y="0"/>
            <a:ext cx="9144000" cy="6858000"/>
          </a:xfrm>
          <a:prstGeom prst="rect">
            <a:avLst/>
          </a:prstGeom>
          <a:ln w="0">
            <a:noFill/>
          </a:ln>
        </p:spPr>
      </p:pic>
      <p:sp>
        <p:nvSpPr>
          <p:cNvPr id="45"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UB-Front"/>
              </a:rPr>
              <a:t>Click to edit the title text format</a:t>
            </a:r>
            <a:endParaRPr b="1" lang="en-US" sz="3600" spc="-1" strike="noStrike">
              <a:solidFill>
                <a:srgbClr val="336600"/>
              </a:solidFill>
              <a:latin typeface="UB-Front"/>
            </a:endParaRPr>
          </a:p>
        </p:txBody>
      </p:sp>
      <p:sp>
        <p:nvSpPr>
          <p:cNvPr id="46" name="PlaceHolder 2"/>
          <p:cNvSpPr>
            <a:spLocks noGrp="1"/>
          </p:cNvSpPr>
          <p:nvPr>
            <p:ph type="dt" idx="4"/>
          </p:nvPr>
        </p:nvSpPr>
        <p:spPr>
          <a:xfrm>
            <a:off x="256680" y="6248520"/>
            <a:ext cx="16225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cc"/>
                </a:solidFill>
                <a:latin typeface="UB-Fron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UB-Front"/>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2108160" y="6248520"/>
            <a:ext cx="29973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cc"/>
                </a:solidFill>
                <a:latin typeface="UB-Fron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UB-Front"/>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5486400" y="6248520"/>
            <a:ext cx="13716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cc"/>
                </a:solidFill>
                <a:latin typeface="UB-Fron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94E66-4A34-4CAD-99E2-CC4010528735}" type="slidenum">
              <a:rPr b="0" lang="en-US" sz="1400" spc="-1" strike="noStrike">
                <a:solidFill>
                  <a:srgbClr val="0000cc"/>
                </a:solidFill>
                <a:latin typeface="UB-Front"/>
              </a:rPr>
              <a:t>&lt;number&gt;</a:t>
            </a:fld>
            <a:endParaRPr b="0" lang="en-US" sz="1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5f5f5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5f5f5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5f5f5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subTitle"/>
          </p:nvPr>
        </p:nvSpPr>
        <p:spPr>
          <a:xfrm>
            <a:off x="304560" y="5029200"/>
            <a:ext cx="6283080" cy="1447920"/>
          </a:xfrm>
          <a:prstGeom prst="rect">
            <a:avLst/>
          </a:prstGeom>
          <a:noFill/>
          <a:ln w="0">
            <a:noFill/>
          </a:ln>
        </p:spPr>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336600"/>
                </a:solidFill>
                <a:latin typeface="Arial"/>
              </a:rPr>
              <a:t>ΜΕΛΕΤΕΣ ΩΡΙΜΑΝΣΗΣ ΚΑΙ ΠΡΟΕΤΟΙΜΑΣΙΑΣ ΝΕΑΣ ΠΡΟΓΡΑΜΜΑΤΙΚΗΣ ΠΕΡΙΟΔΟΥ</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336600"/>
                </a:solidFill>
                <a:latin typeface="Arial"/>
              </a:rPr>
              <a:t>ΣΥΝΕΔΡΙΑΣΗ ΠΕΡΙΦΕΡΕΙΑΚΟΥ ΣΥΜΒΟΥΛΙΟΥ</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336600"/>
                </a:solidFill>
                <a:latin typeface="Arial"/>
              </a:rPr>
              <a:t>ΑΡΤΑ 14 ΜΑΙΟΥ 2007</a:t>
            </a:r>
            <a:endParaRPr b="0" lang="en-US" sz="1600" spc="-1" strike="noStrike">
              <a:solidFill>
                <a:srgbClr val="000000"/>
              </a:solidFill>
              <a:latin typeface="Arial"/>
            </a:endParaRPr>
          </a:p>
        </p:txBody>
      </p:sp>
    </p:spTree>
  </p:cSld>
  <p:transition>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4360" y="567360"/>
            <a:ext cx="7991280" cy="916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00"/>
                </a:solidFill>
                <a:latin typeface="UB-Front"/>
              </a:rPr>
              <a:t>ΠΙΝΑΚΑΣ 4: ΠΡΟΤΑΣΕΙΣ ΠΟΥ ΥΠΟΒΛΗΘΗΚΑΝ ΧΩΡΙΣ ΠΡΟΣΚΛΗΣΗ ΠΡΟΣ Γ.Γ.Π.Η. Ή Ε.Υ.Δ. ΠΕΠ ΗΠΕΙΡΟΥ ΚΑΙ ΖΗΤΑΝΕ ΝΑ ΑΞΙΟΛΟΓΗΘΟΥΝ ΓΙΑ ΕΝΤΑΞΗ</a:t>
            </a:r>
            <a:endParaRPr b="1" lang="en-US" sz="1800" spc="-1" strike="noStrike">
              <a:solidFill>
                <a:srgbClr val="336600"/>
              </a:solidFill>
              <a:latin typeface="UB-Front"/>
            </a:endParaRPr>
          </a:p>
        </p:txBody>
      </p:sp>
      <p:graphicFrame>
        <p:nvGraphicFramePr>
          <p:cNvPr id="113" name=""/>
          <p:cNvGraphicFramePr/>
          <p:nvPr/>
        </p:nvGraphicFramePr>
        <p:xfrm>
          <a:off x="755640" y="1484280"/>
          <a:ext cx="7778880" cy="4371840"/>
        </p:xfrm>
        <a:graphic>
          <a:graphicData uri="http://schemas.openxmlformats.org/drawingml/2006/table">
            <a:tbl>
              <a:tblPr/>
              <a:tblGrid>
                <a:gridCol w="576360"/>
                <a:gridCol w="3671640"/>
                <a:gridCol w="1873440"/>
                <a:gridCol w="1657440"/>
              </a:tblGrid>
              <a:tr h="733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Greek"/>
                        </a:rPr>
                        <a:t>Α/Α</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Greek"/>
                        </a:rPr>
                        <a:t>ΤΙΤΛΟΣ ΜΕΛΕΤΗΣ</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Greek"/>
                        </a:rPr>
                        <a:t>ΦΟΡΕΑΣ</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Greek"/>
                        </a:rPr>
                        <a:t>ΚΟΣΤΟΣ ΑΙΤΗΜΑΤΟΣ ΜΕ ΦΠΑ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ΜΕΛΕΤΗ ΑΠΟΧΕΤΕΥΤΙΚΟΥ ΚΡΥΑΣ, ΠΕΡΑΜΑΤΟΣ &amp; ΑΜΦΙΘΕΑ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ΔΗΜΟΣ ΠΕΡΑΜΑΤΟ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425.007,4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ΑΠΟΧΕΤΕΥΣΗ - ΒΙΟΛΟΓΙΚΟΣ ΚΑΘΑΡΙΣΜΟΣ ΠΛΑΤΑΡΙΑΣ - ΣΥΒΟΤΩΝ - ΠΕΡΔΙΚΑΣ Ν. ΘΕΣΠΡΩΤΙΑ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ΔΗΜΟΣ ΣΥΒΟΤΩΝ</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648.55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ΜΕΛΕΤΗ ΑΠΟΧΕΤΕΥΣΗΣ ΑΚΑΘΑΡΤΩΝ ΚΑΙ ΕΓΚΑΤΑΣΤΑΣΗ ΕΠΕΞΕΡΓΑΣΙΑΣ ΛΥΜΑΤΩΝ Δ.Δ. ΔΗΜΟΥ ΠΑΜΒΩΤΙΔΟ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ΔΗΜΟΣ ΠΑΜΒΩΤΙΔΟ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986.348,9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ΜΕΛΕΤΗ ΕΠΑΡΧΙΑΚΗΣ ΟΔΟΥ ΑΡΤΑΣ - ΚΑΡΔΙΤΣΑΣ (ΤΜΗΜΑ ΓΡΕΒΙΑ - ΓΕΦΥΡΑ ΚΟΡΑΚΟΥ)</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ΝΟΜΑΡΧΙΑΚΗ ΑΥΤΟΔΙΟΙΚΗΣΗ ΑΡΤΑ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1.052.00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ΜΕΛΕΤΗ ΔΙΑΝΟΜΑΡΧΙΑΚΟΥ ΔΡΟΜΟΥ ΑΡΤΑΣ - ΑΙΤΟΛΟΑΚΑΡΝΑΝΙΑΣ (ΤΜΗΜΑ ΜΕΓΑΛΟΧΑΡΗ - ΜΕΣΟΠΥΡΓΟΣ - ΟΡΙΑ ΝΟΜΟΥ)</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ΝΟΜΑΡΧΙΑΚΗ ΑΥΤΟΔΙΟΙΚΗΣΗ ΑΡΤΑ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655.00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4360" y="567360"/>
            <a:ext cx="7991280" cy="916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00"/>
                </a:solidFill>
                <a:latin typeface="UB-Front"/>
              </a:rPr>
              <a:t>ΠΙΝΑΚΑΣ 4 (ΣΥΝΕΧΕΙΑ): ΠΡΟΤΑΣΕΙΣ ΠΟΥ ΥΠΟΒΛΗΘΗΚΑΝ ΧΩΡΙΣ ΠΡΟΣΚΛΗΣΗ ΠΡΟΣ Γ.Γ.Π.Η. Ή Ε.Υ.Δ. ΠΕΠ ΗΠΕΙΡΟΥ ΚΑΙ ΖΗΤΑΝΕ ΝΑ ΑΞΙΟΛΟΓΗΘΟΥΝ ΓΙΑ ΕΝΤΑΞΗ</a:t>
            </a:r>
            <a:endParaRPr b="1" lang="en-US" sz="1800" spc="-1" strike="noStrike">
              <a:solidFill>
                <a:srgbClr val="336600"/>
              </a:solidFill>
              <a:latin typeface="UB-Front"/>
            </a:endParaRPr>
          </a:p>
        </p:txBody>
      </p:sp>
      <p:graphicFrame>
        <p:nvGraphicFramePr>
          <p:cNvPr id="115" name=""/>
          <p:cNvGraphicFramePr/>
          <p:nvPr/>
        </p:nvGraphicFramePr>
        <p:xfrm>
          <a:off x="755640" y="1557360"/>
          <a:ext cx="7778880" cy="4340160"/>
        </p:xfrm>
        <a:graphic>
          <a:graphicData uri="http://schemas.openxmlformats.org/drawingml/2006/table">
            <a:tbl>
              <a:tblPr/>
              <a:tblGrid>
                <a:gridCol w="503280"/>
                <a:gridCol w="3744720"/>
                <a:gridCol w="1702080"/>
                <a:gridCol w="1828800"/>
              </a:tblGrid>
              <a:tr h="733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Greek"/>
                        </a:rPr>
                        <a:t>Α/Α</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Greek"/>
                        </a:rPr>
                        <a:t>ΤΙΤΛΟΣ ΜΕΛΕΤΗΣ</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Greek"/>
                        </a:rPr>
                        <a:t>ΦΟΡΕΑΣ</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Greek"/>
                        </a:rPr>
                        <a:t>ΚΟΣΤΟΣ ΑΙΤΗΜΑΤΟΣ ΜΕ ΦΠΑ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1193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ΜΕΛΕΤΗ ΚΑΤΑΣΚΕΥΗΣ ΤΗΣ Λ. ΙΩΝΙΑΣ ΤΩΝ ΔΥΟ ΠΕΡΙΦΕΡΕΙΑΚΩΝ ΔΑΚΤΥΛΙΩΝ ΚΑΘΩΣ ΚΑΙ ΤΟΥ ΔΡΟΜΟΥ ΣΥΝΔΕΣΗΣ ΤΗΣ ΑΝΑΤΟΛΗΣ ΜΕ ΤΗΝ ΜΠΑΦΡΑ ΚΑΙ ΤΗΝ ΝΕΟΚΑΙΣΑΡΕΙΑ</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ΔΗΜΟΣ ΑΝΑΤΟΛΗ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700.00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ΜΕΛΕΤΗ ΔΙΕΥΘΕΤΗΣΗΣ ΟΜΒΡΙΩΝ ΥΔΑΤΩΝ - ΑΠΟΣΤΡΑΓΓΙΣΤΙΚΩΝ ΤΑΦΡΩΝ ΔΗΜΟΥ ΑΝΑΤΟΛΗ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ΔΗΜΟΣ ΑΝΑΤΟΛΗ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300.00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ΜΕΛΕΤΗ ΟΔΙΚΟΥ ΚΥΚΛΩΜΑΤΟΣ: ΜΥΤΙΚΑΣ- ΒΙ.ΠΕ- ΠΝΕΥΜΑΤΙΚΟΣ ΦΑΡΟΣ- ΝΕΟΧΩΡΙ- ΑΓ. ΘΩΜΑ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ΝΟΜΑΡΧΙΑΚΗ ΑΥΤΟΔΙΟΙΚΗΣΗ ΠΡΕΒΕΖΑ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1.100.00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ΜΕΛΕΤΗ ΠΕΡΙΦΕΡΕΙΑΚΗΣ ΟΔΟΥ ΔΗΜΟΥ ΠΑΡΓΑΣ ΚΑΙ ΚΑΘΕΤΩΝ ΑΞΟΝΩΝ ΣΥΝΔΕΣΗΣ ΜΕ ΔΗΜΟΤΙΚΑ ΔΙΑΜΕΡΙΣΜΑΤΑ</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ΝΟΜΑΡΧΙΑΚΗ ΑΥΤΟΔΙΟΙΚΗΣΗ ΠΡΕΒΕΖΑ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1.250.00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4360" y="567360"/>
            <a:ext cx="7991280" cy="916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00"/>
                </a:solidFill>
                <a:latin typeface="UB-Front"/>
              </a:rPr>
              <a:t>ΠΙΝΑΚΑΣ 4 (ΣΥΝΕΧΕΙΑ): ΠΡΟΤΑΣΕΙΣ ΠΟΥ ΥΠΟΒΛΗΘΗΚΑΝ ΧΩΡΙΣ ΠΡΟΣΚΛΗΣΗ ΠΡΟΣ Γ.Γ.Π.Η. Ή Ε.Υ.Δ. ΠΕΠ ΗΠΕΙΡΟΥ ΚΑΙ ΖΗΤΑΝΕ ΝΑ ΑΞΙΟΛΟΓΗΘΟΥΝ ΓΙΑ ΕΝΤΑΞΗ</a:t>
            </a:r>
            <a:endParaRPr b="1" lang="en-US" sz="1800" spc="-1" strike="noStrike">
              <a:solidFill>
                <a:srgbClr val="336600"/>
              </a:solidFill>
              <a:latin typeface="UB-Front"/>
            </a:endParaRPr>
          </a:p>
        </p:txBody>
      </p:sp>
      <p:graphicFrame>
        <p:nvGraphicFramePr>
          <p:cNvPr id="117" name=""/>
          <p:cNvGraphicFramePr/>
          <p:nvPr/>
        </p:nvGraphicFramePr>
        <p:xfrm>
          <a:off x="755640" y="1628640"/>
          <a:ext cx="7778880" cy="3978360"/>
        </p:xfrm>
        <a:graphic>
          <a:graphicData uri="http://schemas.openxmlformats.org/drawingml/2006/table">
            <a:tbl>
              <a:tblPr/>
              <a:tblGrid>
                <a:gridCol w="576360"/>
                <a:gridCol w="3960720"/>
                <a:gridCol w="1428840"/>
                <a:gridCol w="1812960"/>
              </a:tblGrid>
              <a:tr h="733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Greek"/>
                        </a:rPr>
                        <a:t>Α/Α</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Greek"/>
                        </a:rPr>
                        <a:t>ΤΙΤΛΟΣ ΜΕΛΕΤΗΣ</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Greek"/>
                        </a:rPr>
                        <a:t>ΦΟΡΕΑΣ</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Greek"/>
                        </a:rPr>
                        <a:t>ΚΟΣΤΟΣ ΑΙΤΗΜΑΤΟΣ ΜΕ ΦΠΑ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1159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1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ΥΠΟΓΕΙΟΠΟΙΗΣΗ ΤΩΝ ΟΔΩΝ ΠΑΡΑΚΑΜΨΗΣ ΑΝΑΤΟΛΙΚΑ- ΝΟΤΙΟΑΝΑΤΟΛΙΚΑ ΤΗΣ ΠΟΛΗΣ ΤΩΝ ΙΩΑΝΝΙΝΩΝ (ΜΕΛΕΤΗ ΥΠΟΓΕΙΑΣ ΣΥΝΔΕΣΗΣ ΛΕΩΦΟΡΩΝ ΠΑΠΑΝΔΡΕΟΥ ΚΑΙ ΜΑΚΑΡΙΟΥ)</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ΔΗΜΟΣ ΙΩΑΝΝΙΤΩΝ</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2.000.00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1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ΜΕΛΕΤΗ ΑΠΟΧΕΤΕΥΤΙΚΟΥ ΣΥΣΤΗΜΑΤΟΣ ΠΑΡΑΠΟΤΑΜΟΥ ΚΑΙ ΣΥΝΔΕΣΗ ΤΟΥ ΜΕ ΤΟ ΑΠΟΧΕΤΕΥΤΙΚΟ ΣΥΣΤΗΜΑ ΤΗΣ ΗΓΟΥΜΕΝΙΤΣΑ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ΔΗΜΟΣ ΠΑΡΑΠΟΤΑΜΟΥ</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59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1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ΟΡΙΣΤΙΚΗ ΜΕΛΕΤΗ ΕΡΓΟΥ: ΑΠΟΚΑΤΑΣΤΑΣΗ ΧΩΡΟΥ ΑΝΕΞΕΛΕΓΚΤΗΣ ΔΙΑΘΕΣΗΣ ΑΠΟΒΛΗΤΩΝ (ΧΑΔΑ) ΣΤΗ ΘΕΣΗ ΓΥΡΕΣ ΤΟΥ Δ.Δ. ΚΑΛΑΜΙΑΣ ΤΟΥ ΔΗΜΟΥ ΦΙΛΟΘΕΗ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ΔΗΜΟΣ ΦΙΛΟΘΕΗ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35.00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4360" y="567360"/>
            <a:ext cx="7991280" cy="916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00"/>
                </a:solidFill>
                <a:latin typeface="UB-Front"/>
              </a:rPr>
              <a:t>ΠΙΝΑΚΑΣ 4 (ΣΥΝΕΧΕΙΑ): ΠΡΟΤΑΣΕΙΣ ΠΟΥ ΥΠΟΒΛΗΘΗΚΑΝ ΧΩΡΙΣ ΠΡΟΣΚΛΗΣΗ ΠΡΟΣ Γ.Γ.Π.Η. Ή Ε.Υ.Δ. ΠΕΠ ΗΠΕΙΡΟΥ ΚΑΙ ΖΗΤΑΝΕ ΝΑ ΑΞΙΟΛΟΓΗΘΟΥΝ ΓΙΑ ΕΝΤΑΞΗ</a:t>
            </a:r>
            <a:endParaRPr b="1" lang="en-US" sz="1800" spc="-1" strike="noStrike">
              <a:solidFill>
                <a:srgbClr val="336600"/>
              </a:solidFill>
              <a:latin typeface="UB-Front"/>
            </a:endParaRPr>
          </a:p>
        </p:txBody>
      </p:sp>
      <p:graphicFrame>
        <p:nvGraphicFramePr>
          <p:cNvPr id="119" name=""/>
          <p:cNvGraphicFramePr/>
          <p:nvPr/>
        </p:nvGraphicFramePr>
        <p:xfrm>
          <a:off x="755640" y="1484280"/>
          <a:ext cx="7778880" cy="4281480"/>
        </p:xfrm>
        <a:graphic>
          <a:graphicData uri="http://schemas.openxmlformats.org/drawingml/2006/table">
            <a:tbl>
              <a:tblPr/>
              <a:tblGrid>
                <a:gridCol w="576360"/>
                <a:gridCol w="3671640"/>
                <a:gridCol w="1717920"/>
                <a:gridCol w="1812960"/>
              </a:tblGrid>
              <a:tr h="733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Greek"/>
                        </a:rPr>
                        <a:t>Α/Α</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Greek"/>
                        </a:rPr>
                        <a:t>ΤΙΤΛΟΣ ΜΕΛΕΤΗΣ</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Greek"/>
                        </a:rPr>
                        <a:t>ΦΟΡΕΑΣ</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Greek"/>
                        </a:rPr>
                        <a:t>ΚΟΣΤΟΣ ΑΙΤΗΜΑΤΟΣ ΜΕ ΦΠΑ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1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ΜΕΛΕΤΗ ΚΑΤΑΣΚΕΥΗΣ ΑΠΟΧΕΤΕΥΤΙΚΟΥ ΔΙΚΤΥΟΥ ΚΑΙ ΒΙΟΛΟΓΙΚΟΥ ΚΑΘΑΡΙΣΜΟΥ ΣΤΗΝ ΚΟΙΝΟΤΗΤΑ ΚΑΛΑΡΡΥΤΩΝ</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ΚΟΙΝΟΤΗΤΑ ΚΑΛΑΡΡΥΤΩΝ</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1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ΠΕΡΙΒΑΛΛΟΝΤΙΚΗ ΑΠΟΚΑΤΑΣΤΑΣΗ ΤΩΝ ΥΓΡΟΤΟΠΙΚΩΝ ΛΕΙΤΟΥΡΓΙΩΝ ΚΑΙ ΑΞΙΩΝ ΤΟΥ ΤΕΩΣ ΥΓΡΟΤΟΠΟΥ ΒΑΛΤΟΣ Ν. ΙΩΑΝΝΙΝΩΝ</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ΔΗΜΟΣ ΑΝΩ ΚΑΛΑΜΑ</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135.00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1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ΜΕΛΕΤΕΣ ΥΛΟΠΟΙΗΣΗΣ ΤΩΝ ΑΝΑΓΚΑΙΩΝ ΕΡΓΩΝ ΥΠΟΔΟΜΗΣ ΓΙΑ ΤΗΝ ΠΡΟΛΗΨΗ ΠΕΡΙΒΑΛΛΟΝΤΙΚΩΝ ΚΙΝΔΥΝΩΝ</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ΔΗΜΟΣ ΔΩΔΩΝΗ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1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ΔΙΚΤΥΟ ΑΠΟΧΕΤΕΥΣΗΣ ΑΚΑΘΑΡΤΩΝ- ΠΡΟΣΤΑΣΙΑ ΠΗΓΗΣ ΥΔΡΕΥΣΗΣ Τ.Δ. ΔΕΡΒΙΖΙΑΝΩΝ</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ΔΗΜΟΣ ΛΑΚΚΑΣ ΣΟΥΛΙΟΥ</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11280" y="259200"/>
            <a:ext cx="7991280" cy="916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00"/>
                </a:solidFill>
                <a:latin typeface="UB-Front"/>
              </a:rPr>
              <a:t>ΠΙΝΑΚΑΣ 4 (ΣΥΝΕΧΕΙΑ): ΠΡΟΤΑΣΕΙΣ ΠΟΥ ΥΠΟΒΛΗΘΗΚΑΝ ΧΩΡΙΣ ΠΡΟΣΚΛΗΣΗ ΠΡΟΣ Γ.Γ.Π.Η. Ή Ε.Υ.Δ. ΠΕΠ ΗΠΕΙΡΟΥ ΚΑΙ ΖΗΤΑΝΕ ΝΑ ΑΞΙΟΛΟΓΗΘΟΥΝ ΓΙΑ ΕΝΤΑΞΗ</a:t>
            </a:r>
            <a:endParaRPr b="1" lang="en-US" sz="1800" spc="-1" strike="noStrike">
              <a:solidFill>
                <a:srgbClr val="336600"/>
              </a:solidFill>
              <a:latin typeface="UB-Front"/>
            </a:endParaRPr>
          </a:p>
        </p:txBody>
      </p:sp>
      <p:graphicFrame>
        <p:nvGraphicFramePr>
          <p:cNvPr id="121" name=""/>
          <p:cNvGraphicFramePr/>
          <p:nvPr/>
        </p:nvGraphicFramePr>
        <p:xfrm>
          <a:off x="826920" y="1268280"/>
          <a:ext cx="7778880" cy="3855960"/>
        </p:xfrm>
        <a:graphic>
          <a:graphicData uri="http://schemas.openxmlformats.org/drawingml/2006/table">
            <a:tbl>
              <a:tblPr/>
              <a:tblGrid>
                <a:gridCol w="576360"/>
                <a:gridCol w="3816360"/>
                <a:gridCol w="1800360"/>
                <a:gridCol w="1585800"/>
              </a:tblGrid>
              <a:tr h="733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Greek"/>
                        </a:rPr>
                        <a:t>Α/Α</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Greek"/>
                        </a:rPr>
                        <a:t>ΤΙΤΛΟΣ ΜΕΛΕΤΗΣ</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Greek"/>
                        </a:rPr>
                        <a:t>ΦΟΡΕΑΣ</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Greek"/>
                        </a:rPr>
                        <a:t>ΚΟΣΤΟΣ ΑΙΤΗΜΑΤΟΣ ΜΕ ΦΠΑ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1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ΑΝΤΙΠΛΗΜΜΥΡΙΚΟΣ ΣΧΕΔΙΑΣΜΟΣ ΑΝΩ ΡΟΥ ΑΧΕΡΟΝΤΑ ΑΠΌ Τ.Δ. ΜΠΕΣΤΙΑΣ ΕΩΣ Τ.Δ. ΣΕΡΖΙΑΝΩΝ</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ΔΗΜΟΣ ΛΑΚΚΑΣ ΣΟΥΛΙΟΥ</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1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ΔΙΕΥΘΕΤΗΣΗ ΤΩΝ ΧΕΙΜΑΡΡΩΝ "ΑΣΠΡΟΛΑΚΚΟΣ ΚΑΙ ΜΙΣΟΥΛΑΚΙΑ"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ΚΟΙΝΟΤΗΤΑ ΑΕΤΟΜΗΛΙΤΣΑ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200.00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72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1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ΟΡΙΣΤΙΚΗ ΜΕΛΕΤΗ ΑΠΟΧΕΤΕΥΣΗΣ ΕΣΩΤΕΡΙΚΟΥ ΔΙΚΤΥΟΥ ΑΚΑΘΑΡΤΩΝ ΚΑΙ ΠΡΟΜΕΛΕΤΗ ΕΓΚΑΤΑΣΤΑΣΗΣ ΕΠΕΞΕΡΓΑΣΙΑΣ ΑΚΑΘΑΡΤΩΝ ΤΩΝ Δ.Δ. ΠΑΡΑΜΥΘΙΑΣ ΚΑΙ ΚΑΡΥΩΤΙΟΥ ΤΟΥ ΔΗΜΟΥ ΠΑΡΑΜΥΘΙΑ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ΔΗΜΟΣ ΠΑΡΑΜΥΘΙΑ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318.428,8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ΜΕΛΕΤΗ ΑΠΟΧΕΤΕΥΣΗΣ ΑΚΑΘΑΡΤΩΝ ΕΠΕΚΤΑΣΗΣ Δ.Δ. ΚΑΤΣΙΚΑ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ΔΗΜΟΣ ΠΑΜΒΩΤΙΔΟ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166.729,3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11280" y="259200"/>
            <a:ext cx="7991280" cy="916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00"/>
                </a:solidFill>
                <a:latin typeface="UB-Front"/>
              </a:rPr>
              <a:t>ΠΙΝΑΚΑΣ 4 (ΣΥΝΕΧΕΙΑ): ΠΡΟΤΑΣΕΙΣ ΠΟΥ ΥΠΟΒΛΗΘΗΚΑΝ ΧΩΡΙΣ ΠΡΟΣΚΛΗΣΗ ΠΡΟΣ Γ.Γ.Π.Η. Ή Ε.Υ.Δ. ΠΕΠ ΗΠΕΙΡΟΥ ΚΑΙ ΖΗΤΑΝΕ ΝΑ ΑΞΙΟΛΟΓΗΘΟΥΝ ΓΙΑ ΕΝΤΑΞΗ</a:t>
            </a:r>
            <a:endParaRPr b="1" lang="en-US" sz="1800" spc="-1" strike="noStrike">
              <a:solidFill>
                <a:srgbClr val="336600"/>
              </a:solidFill>
              <a:latin typeface="UB-Front"/>
            </a:endParaRPr>
          </a:p>
        </p:txBody>
      </p:sp>
      <p:graphicFrame>
        <p:nvGraphicFramePr>
          <p:cNvPr id="123" name=""/>
          <p:cNvGraphicFramePr/>
          <p:nvPr/>
        </p:nvGraphicFramePr>
        <p:xfrm>
          <a:off x="684360" y="1341360"/>
          <a:ext cx="7778520" cy="3173400"/>
        </p:xfrm>
        <a:graphic>
          <a:graphicData uri="http://schemas.openxmlformats.org/drawingml/2006/table">
            <a:tbl>
              <a:tblPr/>
              <a:tblGrid>
                <a:gridCol w="647640"/>
                <a:gridCol w="3449520"/>
                <a:gridCol w="1868400"/>
                <a:gridCol w="1812960"/>
              </a:tblGrid>
              <a:tr h="1050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Greek"/>
                        </a:rPr>
                        <a:t>Α/Α</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Greek"/>
                        </a:rPr>
                        <a:t>ΤΙΤΛΟΣ ΜΕΛΕΤΗΣ</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Greek"/>
                        </a:rPr>
                        <a:t>ΦΟΡΕΑΣ</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Greek"/>
                        </a:rPr>
                        <a:t>ΚΟΣΤΟΣ ΑΙΤΗΜΑΤΟΣ ΜΕ ΦΠΑ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1176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2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ΕΚΠΟΝΗΣΗ ΜΕΛΕΤΗΣ ΚΑΙ ΚΑΤΑΣΚΕΥΗ ΕΡΓΩΝ ΑΠΟΚΑΤΑΣΤΑΣΗΣ ΤΟΥ ΟΙΚΟΣΥΣΤΗΜΑΤΟΣ ΛΙΜΝΩΝ ΠΑΜΒΩΤΙΔΟΣ ΙΩΑΝΝΙΝΩΝ- ΛΑΨΙΣΤΑ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ΣΥΛΛΟΓΟΣ ΠΡΟΣΤΑΣΙΑΣ ΠΕΡΙΒΑΛΛΟΝΤΟΣ ΙΩΑΝΝΙΝΩΝ</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2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ΚΑΤΑΣΚΕΥΗ ΔΙΚΤΥΟΥ ΣΥΛΛΟΓΗΣ ΑΚΑΘΑΡΤΩΝ ΛΥΜΑΤΩΝ ΚΑΙ ΚΑΤΑΣΚΕΥΗ ΒΙΟΛΟΓΙΚΟΥ ΚΑΘΑΡΙΣΜΟΥ ΔΗΜΟΥ ΕΚΑΛΗ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ΔΗΜΟΣ ΕΚΑΛΗ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subTitle"/>
          </p:nvPr>
        </p:nvSpPr>
        <p:spPr>
          <a:xfrm>
            <a:off x="304560" y="5029200"/>
            <a:ext cx="6283080" cy="1447920"/>
          </a:xfrm>
          <a:prstGeom prst="rect">
            <a:avLst/>
          </a:prstGeom>
          <a:noFill/>
          <a:ln w="0">
            <a:noFill/>
          </a:ln>
        </p:spPr>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336600"/>
                </a:solidFill>
                <a:latin typeface="Arial"/>
              </a:rPr>
              <a:t>ΜΕΛΕΤΕΣ ΩΡΙΜΑΝΣΗΣ ΚΑΙ ΠΡΟΕΤΟΙΜΑΣΙΑΣ ΝΕΑΣ ΠΡΟΓΡΑΜΜΑΤΙΚΗΣ ΠΕΡΙΟΔΟΥ</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336600"/>
                </a:solidFill>
                <a:latin typeface="Arial"/>
              </a:rPr>
              <a:t>ΣΥΝΕΔΡΙΑΣΗ ΠΕΡΙΦΕΡΕΙΑΚΟΥ ΣΥΜΒΟΥΛΙΟΥ</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336600"/>
                </a:solidFill>
                <a:latin typeface="Arial"/>
              </a:rPr>
              <a:t>ΑΡΤΑ 14 ΜΑΙΟΥ 2007</a:t>
            </a:r>
            <a:endParaRPr b="0" lang="en-US" sz="1600" spc="-1" strike="noStrike">
              <a:solidFill>
                <a:srgbClr val="000000"/>
              </a:solidFill>
              <a:latin typeface="Arial"/>
            </a:endParaRPr>
          </a:p>
        </p:txBody>
      </p:sp>
    </p:spTree>
  </p:cSld>
  <p:transition>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760320"/>
            <a:ext cx="7848720" cy="1373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00"/>
                </a:solidFill>
                <a:latin typeface="UB-Front"/>
              </a:rPr>
              <a:t>Περιεχόμενα Προτάσεων για ένταξη στο Μέτρο 6.4.</a:t>
            </a:r>
            <a:br>
              <a:rPr sz="3000"/>
            </a:br>
            <a:r>
              <a:rPr b="1" lang="en-US" sz="2400" spc="-1" strike="noStrike">
                <a:solidFill>
                  <a:srgbClr val="336600"/>
                </a:solidFill>
                <a:latin typeface="UB-Front"/>
              </a:rPr>
              <a:t>(Σύμφωνα με έγγραφο 7652/ΕΥΣ 1463 του ΥΠ.ΟΙ.Ο)</a:t>
            </a:r>
            <a:endParaRPr b="1" lang="en-US" sz="2400" spc="-1" strike="noStrike">
              <a:solidFill>
                <a:srgbClr val="336600"/>
              </a:solidFill>
              <a:latin typeface="UB-Front"/>
            </a:endParaRPr>
          </a:p>
        </p:txBody>
      </p:sp>
      <p:sp>
        <p:nvSpPr>
          <p:cNvPr id="95" name=""/>
          <p:cNvSpPr/>
          <p:nvPr/>
        </p:nvSpPr>
        <p:spPr>
          <a:xfrm>
            <a:off x="684360" y="2565360"/>
            <a:ext cx="7993080" cy="901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Οδικές Μεταφορές</a:t>
            </a:r>
            <a:endParaRPr b="0" lang="en-US" sz="2400" spc="-1" strike="noStrike">
              <a:solidFill>
                <a:srgbClr val="000000"/>
              </a:solidFill>
              <a:latin typeface="Times New Roman"/>
            </a:endParaRPr>
          </a:p>
          <a:p>
            <a:pPr marL="457200" indent="-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Περιβάλλον</a:t>
            </a:r>
            <a:endParaRPr b="0" lang="en-US" sz="2400" spc="-1" strike="noStrike">
              <a:solidFill>
                <a:srgbClr val="000000"/>
              </a:solidFill>
              <a:latin typeface="Times New Roman"/>
            </a:endParaRPr>
          </a:p>
        </p:txBody>
      </p:sp>
      <p:sp>
        <p:nvSpPr>
          <p:cNvPr id="96" name=""/>
          <p:cNvSpPr/>
          <p:nvPr/>
        </p:nvSpPr>
        <p:spPr>
          <a:xfrm>
            <a:off x="684360" y="2492280"/>
            <a:ext cx="7559640" cy="1657440"/>
          </a:xfrm>
          <a:prstGeom prst="downArrowCallout">
            <a:avLst>
              <a:gd name="adj1" fmla="val 114036"/>
              <a:gd name="adj2" fmla="val 114026"/>
              <a:gd name="adj3" fmla="val 16667"/>
              <a:gd name="adj4" fmla="val 6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1332000" y="4365720"/>
            <a:ext cx="6553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6600"/>
                </a:solidFill>
                <a:uFillTx/>
                <a:latin typeface="Times New Roman"/>
              </a:rPr>
              <a:t>ΠΡΟΣΚΛΗΣΗ 161/2006 </a:t>
            </a:r>
            <a:endParaRPr b="0" lang="en-US" sz="2800" spc="-1" strike="noStrike">
              <a:solidFill>
                <a:srgbClr val="000000"/>
              </a:solidFill>
              <a:latin typeface="Times New Roman"/>
            </a:endParaRPr>
          </a:p>
        </p:txBody>
      </p:sp>
    </p:spTree>
  </p:cSld>
  <p:transition>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743400"/>
            <a:ext cx="7848720" cy="1008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00"/>
                </a:solidFill>
                <a:latin typeface="UB-Front"/>
              </a:rPr>
              <a:t>ΠΙΝΑΚΑΣ 1: ΜΕΛΕΤΕΣ ΠΟΥ ΥΠΟΒΛΗΘΗΚΑΝ ΜΕΤΑ ΑΠΟ ΠΡΟΣΚΛΗΣΗ, ΜΕ ΥΠΟΒΟΛΗ ΤΕΧΝΙΚΟΥ ΔΕΛΤΙΟΥ, ΚΑΙ ΕΙΧΑΝ ΕΓΚΡΙΣΗ ΤΟΥ ΠΕΡΙΦΕΡΕΙΑΚΟΥ ΣΥΜΒΟΥΛΙΟΥ</a:t>
            </a:r>
            <a:endParaRPr b="1" lang="en-US" sz="2000" spc="-1" strike="noStrike">
              <a:solidFill>
                <a:srgbClr val="336600"/>
              </a:solidFill>
              <a:latin typeface="UB-Front"/>
            </a:endParaRPr>
          </a:p>
        </p:txBody>
      </p:sp>
      <p:graphicFrame>
        <p:nvGraphicFramePr>
          <p:cNvPr id="99" name=""/>
          <p:cNvGraphicFramePr/>
          <p:nvPr/>
        </p:nvGraphicFramePr>
        <p:xfrm>
          <a:off x="755640" y="1905120"/>
          <a:ext cx="7778880" cy="3560760"/>
        </p:xfrm>
        <a:graphic>
          <a:graphicData uri="http://schemas.openxmlformats.org/drawingml/2006/table">
            <a:tbl>
              <a:tblPr/>
              <a:tblGrid>
                <a:gridCol w="503280"/>
                <a:gridCol w="3673440"/>
                <a:gridCol w="1944720"/>
                <a:gridCol w="1657440"/>
              </a:tblGrid>
              <a:tr h="8406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Greek"/>
                        </a:rPr>
                        <a:t>Α/Α</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Greek"/>
                        </a:rPr>
                        <a:t>ΤΙΤΛΟΣ ΜΕΛΕΤΗΣ</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Greek"/>
                        </a:rPr>
                        <a:t>ΤΕΛΙΚΟΣ ΔΙΚΑΙΟΥΧΟΣ</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Greek"/>
                        </a:rPr>
                        <a:t>ΚΟΣΤΟΣ ΑΙΤΗΜΑΤΟΣ ΜΕ ΦΠΑ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ΜΕΛΕΤΗ ΠΑΡΑΚΑΜΨΗΣ ΠΟΛΕΩΣ ΗΓΟΥΜΕΝΙΤΣΑ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ΔΗΜΟΣ ΗΓΟΥΜΕΝΙΤΣΑΣ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2.582.483,5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ΣΥΝΔΕΣΗ Ε.Ο. ΗΓΟΥΜΕΝΙΤΣΑΣ- ΠΡΕΒΕΖΑΣ ΜΕ ΕΓΝΑΤΙΑ ΟΔΟ (ΤΜΗΜΑ ΚΟΜΒΟΣ ΝΕΟΧΩΡΙΟΥ- ΚΟΜΒΟΣ ΜΕΣΣΟΠΟΤΑΜΟΥ)</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ΔΙΕΥΘΥΝΣΗ ΔΗΜΟΣΙΩΝ ΕΡΓΩΝ</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2.313.361,2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ΜΕΛΕΤΗ ΑΝΑΠΛΑΣΗΣ ΒΙΚΟΥ</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ΔΑΣΑΡΧΕΙΟ ΙΩΑΝΝΙΝΩΝ</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419.137,8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ΜΕΛΕΤΗ ΠΟΙΟΤΙΚΗΣ ΣΥΝΘΕΣΗΣ ΑΣΤΙΚΩΝ ΣΤΕΡΕΩΝ ΑΠΟΒΛΗΤΩΝ ΠΕΡΙΦΕΡΕΙΑΣ ΗΠΕΙΡΟΥ</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ΔΙΕΥΘΥΝΣΗ ΠΕΡΙΒΑΛΛΟΝΤΟΣ ΧΩΡΟΤΑΞΙΑ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440.00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743400"/>
            <a:ext cx="7848720" cy="1008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336600"/>
                </a:solidFill>
                <a:latin typeface="UB-Front"/>
              </a:rPr>
              <a:t>ΠΙΝΑΚΑΣ 1</a:t>
            </a:r>
            <a:r>
              <a:rPr b="1" lang="en-US" sz="2000" spc="-1" strike="noStrike">
                <a:solidFill>
                  <a:srgbClr val="336600"/>
                </a:solidFill>
                <a:latin typeface="UB-Front"/>
              </a:rPr>
              <a:t> </a:t>
            </a:r>
            <a:r>
              <a:rPr b="1" lang="el-GR" sz="2000" spc="-1" strike="noStrike">
                <a:solidFill>
                  <a:srgbClr val="336600"/>
                </a:solidFill>
                <a:latin typeface="UB-Front"/>
              </a:rPr>
              <a:t>(ΣΥΝΕΧΕΙΑ): ΜΕΛΕΤΕΣ ΠΟΥ ΥΠΟΒΛΗΘΗΚΑΝ ΜΕΤΑ ΑΠΟ ΠΡΟΣΚΛΗΣΗ, ΜΕ ΥΠΟΒΟΛΗ ΤΕΧΝΙΚΟΥ ΔΕΛΤΙΟΥ, ΚΑΙ ΕΙΧΑΝ ΕΓΚΡΙΣΗ ΤΟΥ ΠΕΡΙΦΕΡΕΙΑΚΟΥ ΣΥΜΒΟΥΛΙΟΥ</a:t>
            </a:r>
            <a:endParaRPr b="1" lang="en-US" sz="2000" spc="-1" strike="noStrike">
              <a:solidFill>
                <a:srgbClr val="336600"/>
              </a:solidFill>
              <a:latin typeface="UB-Front"/>
            </a:endParaRPr>
          </a:p>
        </p:txBody>
      </p:sp>
      <p:graphicFrame>
        <p:nvGraphicFramePr>
          <p:cNvPr id="101" name=""/>
          <p:cNvGraphicFramePr/>
          <p:nvPr/>
        </p:nvGraphicFramePr>
        <p:xfrm>
          <a:off x="826920" y="1905120"/>
          <a:ext cx="7707600" cy="3643200"/>
        </p:xfrm>
        <a:graphic>
          <a:graphicData uri="http://schemas.openxmlformats.org/drawingml/2006/table">
            <a:tbl>
              <a:tblPr/>
              <a:tblGrid>
                <a:gridCol w="505080"/>
                <a:gridCol w="3671640"/>
                <a:gridCol w="1944720"/>
                <a:gridCol w="1586160"/>
              </a:tblGrid>
              <a:tr h="733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Greek"/>
                        </a:rPr>
                        <a:t>Α/Α</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Greek"/>
                        </a:rPr>
                        <a:t>ΤΙΤΛΟΣ ΜΕΛΕΤΗΣ</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Greek"/>
                        </a:rPr>
                        <a:t>ΤΕΛΙΚΟΣ ΔΙΚΑΙΟΥΧΟΣ</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Greek"/>
                        </a:rPr>
                        <a:t>ΚΟΣΤΟΣ ΑΙΤΗΜΑΤΟΣ ΜΕ ΦΠΑ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ΜΑΓΝΗΤΙΚΕΣ ΔΙΑΣΚΟΠΗΣΕΙΣ ΚΑΙ ΜΕΛΕΤΗ ΣΥΝΟΛΙΚΗΣ ΑΝΑΔΕΙΞΗΣ ΑΡΧΑΙΟΛΟΓΙΚΟΥ ΧΩΡΟΥ ΝΙΚΟΠΟΛΗ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Τ.Δ.Π.Ε.Α.Ε. ΥΠΟΥΡΓΕΙΟΥ ΠΟΛΙΤΙΣΜΟΥ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1.416.691,3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ΜΕΛΕΤΗ ΣΥΓΚΟΙΝΩΝΙΑΚΩΝ ΕΡΓΩΝ ΑΝΑΔΕΙΞΗΣ ΑΡΧΑΙΟΛΟΓΙΚΟΥ ΧΩΡΟΥ ΝΙΚΟΠΟΛΗ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ΔΙΕΥΘΥΝΣΗ ΔΗΜΟΣΙΩΝ ΕΡΓΩΝ</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600.00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ΜΕΛΕΤΕΣ ΑΠΟΧΕΤΕΥΣΗΣ ΚΑΙ ΕΠΕΞΕΡΓΑΣΙΑΣ ΥΓΡΩΝ ΑΠΟΒΛΗΤΩΝ ΔΗΜΩΝ, ΑΜΒΡΑΚΙΚΟΥ, ΑΡΑΧΘΟΥ,  ΖΑΛΟΓΓΟΥ ΚΑΙ ΦΙΛΟΘΕΗ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ΔΙΕΥΘΥΝΣΗ ΔΗΜΟΣΙΩΝ ΕΡΓΩΝ</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2.731.624,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ΜΕΛΕΤΕΣ ΟΔΙΚΟΥ ΚΥΚΛΩΜΑΤΟΣ ΤΖΟΥΜΕΡΚΩΝ</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ΝΟΜΑΡΧΙΑ ΙΩΑΝΝΙΝΩΝ</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1.500.00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743400"/>
            <a:ext cx="7848720" cy="1008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336600"/>
                </a:solidFill>
                <a:latin typeface="UB-Front"/>
              </a:rPr>
              <a:t>ΠΙΝΑΚΑΣ </a:t>
            </a:r>
            <a:r>
              <a:rPr b="1" lang="en-US" sz="2000" spc="-1" strike="noStrike">
                <a:solidFill>
                  <a:srgbClr val="336600"/>
                </a:solidFill>
                <a:latin typeface="UB-Front"/>
              </a:rPr>
              <a:t>2</a:t>
            </a:r>
            <a:r>
              <a:rPr b="1" lang="el-GR" sz="2000" spc="-1" strike="noStrike">
                <a:solidFill>
                  <a:srgbClr val="336600"/>
                </a:solidFill>
                <a:latin typeface="UB-Front"/>
              </a:rPr>
              <a:t>: ΜΕΛΕΤΕΣ ΠΟΥ ΕΝΩ ΕΧΟΥΝ ΤΗΝ ΕΓΚΡΙΣΗ ΤΟΥ ΠΕΡΙΦΕΡΕΙΑΚΟΥ ΣΥΜΒΟΥΛΙΟΥ ΔΕΝ ΥΠΟΒΛΗΘΗΚΑΝ ΠΡΟΤΑΣΕΙΣ</a:t>
            </a:r>
            <a:endParaRPr b="1" lang="en-US" sz="2000" spc="-1" strike="noStrike">
              <a:solidFill>
                <a:srgbClr val="336600"/>
              </a:solidFill>
              <a:latin typeface="UB-Front"/>
            </a:endParaRPr>
          </a:p>
        </p:txBody>
      </p:sp>
      <p:graphicFrame>
        <p:nvGraphicFramePr>
          <p:cNvPr id="103" name=""/>
          <p:cNvGraphicFramePr/>
          <p:nvPr/>
        </p:nvGraphicFramePr>
        <p:xfrm>
          <a:off x="900000" y="1905120"/>
          <a:ext cx="7634520" cy="1425600"/>
        </p:xfrm>
        <a:graphic>
          <a:graphicData uri="http://schemas.openxmlformats.org/drawingml/2006/table">
            <a:tbl>
              <a:tblPr/>
              <a:tblGrid>
                <a:gridCol w="792360"/>
                <a:gridCol w="6842160"/>
              </a:tblGrid>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Greek"/>
                        </a:rPr>
                        <a:t>Α/Α</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Greek"/>
                        </a:rPr>
                        <a:t>ΤΙΤΛΟΣ ΜΕΛΕΤΗΣ</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ΚΑΤΑΣΚΕΥΗ ΑΝΙΣΟΠΕΔΩΝ ΚΟΜΒΩΝ ΣΤΙΣ ΕΙΣΟΔΟΥΣ ΤΗΣ ΠΟΛΗΣ ΤΩΝ ΙΩΑΝΝΙΝΩΝ</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ΜΕΛΕΤΗ ΔΙΑΧΕΙΡΙΣΗΣ ΖΩΙΚΩΝ ΑΠΟΒΛΗΤΩΝ</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ΣΥΝΟΛΙΚΗ ΑΝΑΔΕΙΞΗ ΚΑΣΤΡΟΥ ΙΩΑΝΝΙΝΩΝ</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403560"/>
            <a:ext cx="8893080" cy="916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336600"/>
                </a:solidFill>
                <a:latin typeface="UB-Front"/>
              </a:rPr>
              <a:t>ΠΙΝΑΚΑΣ </a:t>
            </a:r>
            <a:r>
              <a:rPr b="1" lang="en-US" sz="1800" spc="-1" strike="noStrike">
                <a:solidFill>
                  <a:srgbClr val="336600"/>
                </a:solidFill>
                <a:latin typeface="UB-Front"/>
              </a:rPr>
              <a:t>3</a:t>
            </a:r>
            <a:r>
              <a:rPr b="1" lang="el-GR" sz="1800" spc="-1" strike="noStrike">
                <a:solidFill>
                  <a:srgbClr val="336600"/>
                </a:solidFill>
                <a:latin typeface="UB-Front"/>
              </a:rPr>
              <a:t>: ΜΕΛΕΤΕΣ ΠΟΥ ΥΠΟΒΛΗΘΗΚΑΝ ΜΕΤΑ ΑΠΌ ΠΡΟΣΚΛΗΣΗ, ΜΕ ΥΠΟΒΟΛΗ ΤΕΧΝΙΚΟΥ ΔΕΛΤΙΟΥ, ΟΙ ΟΠΟΙΕΣ ΑΠΟΡΡΙΠΤΟΝΤΑΙ ΛΟΓΩ ΜΗ ΕΓΚΡΙΣΗΣ ΤΟΥ ΠΕΡΙΦΕΡΕΙΑΚΟΥ ΣΥΜΒΟΥΛΙΟΥ</a:t>
            </a:r>
            <a:endParaRPr b="1" lang="en-US" sz="1800" spc="-1" strike="noStrike">
              <a:solidFill>
                <a:srgbClr val="336600"/>
              </a:solidFill>
              <a:latin typeface="UB-Front"/>
            </a:endParaRPr>
          </a:p>
        </p:txBody>
      </p:sp>
      <p:graphicFrame>
        <p:nvGraphicFramePr>
          <p:cNvPr id="105" name=""/>
          <p:cNvGraphicFramePr/>
          <p:nvPr/>
        </p:nvGraphicFramePr>
        <p:xfrm>
          <a:off x="755640" y="1413000"/>
          <a:ext cx="7778880" cy="4371840"/>
        </p:xfrm>
        <a:graphic>
          <a:graphicData uri="http://schemas.openxmlformats.org/drawingml/2006/table">
            <a:tbl>
              <a:tblPr/>
              <a:tblGrid>
                <a:gridCol w="644400"/>
                <a:gridCol w="3970440"/>
                <a:gridCol w="1765440"/>
                <a:gridCol w="1398600"/>
              </a:tblGrid>
              <a:tr h="733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Greek"/>
                        </a:rPr>
                        <a:t>Α/Α</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Greek"/>
                        </a:rPr>
                        <a:t>ΤΙΤΛΟΣ ΜΕΛΕΤΗΣ</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Greek"/>
                        </a:rPr>
                        <a:t>ΦΟΡΕΑΣ ΠΡΟΤΑΣΗΣ</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Greek"/>
                        </a:rPr>
                        <a:t>ΚΟΣΤΟΣ ΑΙΤΗΜΑΤΟΣ ΜΕ ΦΠΑ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ΑΠΟΧΕΤΕΥΣΗ - ΒΙΟΛΟΓΙΚΟΣ ΚΑΘΑΡΙΣΜΟΣ ΠΛΑΤΑΡΙΑΣ - ΣΥΒΟΤΩΝ - ΠΕΡΔΙΚΑΣ Ν. ΘΕΣΠΡΩΤΙΑ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ΔΗΜΟΣ ΣΥΒΟΤΩΝ</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648.55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ΜΕΛΕΤΗ ΑΠΟΧΕΤΕΥΣΗΣ ΑΚΑΘΑΡΤΩΝ ΟΙΚΙΣΜΩΝ ΔΗΜΟΥ ΑΡΤΑΙΩΝ</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ΔΗΜΟΣ ΑΡΤΑΙΩΝ</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372.011,8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ΜΕΛΕΤΗ ΑΠΟΧΕΤΕΥΣΗΣ ΑΚΑΘΑΡΤΩΝ ΚΑΙ ΕΓΚΑΤΑΣΤΑΣΗ ΕΠΕΞΕΡΓΑΣΙΑΣ ΛΥΜΑΤΩΝ Δ.Δ. ΔΗΜΟΥ ΠΑΜΒΩΤΙΔΟ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ΔΗΜΟΣ ΠΑΜΒΩΤΙΔΟ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986.348,9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ΜΕΛΕΤΗ ΕΠΑΡΧΙΑΚΗΣ ΟΔΟΥ ΑΡΤΑΣ - ΚΑΡΔΙΤΣΑΣ (ΤΜΗΜΑ ΓΡΕΒΙΑ - ΓΕΦΥΡΑ ΚΟΡΑΚΟΥ)</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ΝΟΜΑΡΧΙΑΚΗ ΑΥΤΟΔΙΟΙΚΗΣΗ ΑΡΤΑ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1.052.00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ΜΕΛΕΤΗ ΔΙΑΝΟΜΑΡΧΙΑΚΟΥ ΔΡΟΜΟΥ ΑΡΤΑΣ - ΑΙΤΟΛΟΑΚΑΡΝΑΝΙΑΣ (ΤΜΗΜΑ ΜΕΓΑΛΟΧΑΡΗ - ΜΕΣΟΠΥΡΓΟΣ - ΟΡΙΑ ΝΟΜΟΥ)</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ΝΟΜΑΡΧΙΑΚΗ ΑΥΤΟΔΙΟΙΚΗΣΗ ΑΡΤΑ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655.00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4360" y="292680"/>
            <a:ext cx="799128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336600"/>
                </a:solidFill>
                <a:latin typeface="UB-Front"/>
              </a:rPr>
              <a:t>ΠΙΝΑΚΑΣ </a:t>
            </a:r>
            <a:r>
              <a:rPr b="1" lang="en-US" sz="1800" spc="-1" strike="noStrike">
                <a:solidFill>
                  <a:srgbClr val="336600"/>
                </a:solidFill>
                <a:latin typeface="UB-Front"/>
              </a:rPr>
              <a:t>3 </a:t>
            </a:r>
            <a:r>
              <a:rPr b="1" lang="el-GR" sz="1800" spc="-1" strike="noStrike">
                <a:solidFill>
                  <a:srgbClr val="336600"/>
                </a:solidFill>
                <a:latin typeface="UB-Front"/>
              </a:rPr>
              <a:t>(ΣΥΝΕΧΕΙΑ): ΜΕΛΕΤΕΣ ΠΟΥ ΥΠΟΒΛΗΘΗΚΑΝ ΜΕΤΑ ΑΠΌ ΠΡΟΣΚΛΗΣΗ, ΜΕ ΥΠΟΒΟΛΗ ΤΕΧΝΙΚΟΥ ΔΕΛΤΙΟΥ, ΟΙ ΟΠΟΙΕΣ ΑΠΟΡΡΙΠΤΟΝΤΑΙ ΛΟΓΩ ΜΗ ΕΓΚΡΙΣΗΣ ΤΟΥ ΠΕΡΙΦΕΡΕΙΑΚΟΥ ΣΥΜΒΟΥΛΙΟΥ</a:t>
            </a:r>
            <a:endParaRPr b="1" lang="en-US" sz="1800" spc="-1" strike="noStrike">
              <a:solidFill>
                <a:srgbClr val="336600"/>
              </a:solidFill>
              <a:latin typeface="UB-Front"/>
            </a:endParaRPr>
          </a:p>
        </p:txBody>
      </p:sp>
      <p:graphicFrame>
        <p:nvGraphicFramePr>
          <p:cNvPr id="107" name=""/>
          <p:cNvGraphicFramePr/>
          <p:nvPr/>
        </p:nvGraphicFramePr>
        <p:xfrm>
          <a:off x="755640" y="1557360"/>
          <a:ext cx="7778880" cy="4317840"/>
        </p:xfrm>
        <a:graphic>
          <a:graphicData uri="http://schemas.openxmlformats.org/drawingml/2006/table">
            <a:tbl>
              <a:tblPr/>
              <a:tblGrid>
                <a:gridCol w="503280"/>
                <a:gridCol w="4321080"/>
                <a:gridCol w="1555920"/>
                <a:gridCol w="1398600"/>
              </a:tblGrid>
              <a:tr h="7452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Greek"/>
                        </a:rPr>
                        <a:t>Α/Α</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Greek"/>
                        </a:rPr>
                        <a:t>ΤΙΤΛΟΣ ΜΕΛΕΤΗΣ</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Greek"/>
                        </a:rPr>
                        <a:t>ΦΟΡΕΑΣ ΠΡΟΤΑΣΗΣ</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Greek"/>
                        </a:rPr>
                        <a:t>ΚΟΣΤΟΣ ΑΙΤΗΜΑΤΟΣ ΜΕ ΦΠΑ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ΜΕΛΕΤΗ ΚΑΤΑΣΚΕΥΗΣ ΤΗΣ Λ. ΙΩΝΙΑΣ ΤΩΝ ΔΥΟ ΠΕΡΙΦΕΡΕΙΑΚΩΝ ΔΑΚΤΥΛΙΩΝ ΚΑΘΩΣ ΚΑΙ ΤΟΥ ΔΡΟΜΟΥ ΣΥΝΔΕΣΗΣ ΤΗΣ ΑΝΑΤΟΛΗΣ ΜΕ ΤΗΝ ΜΠΑΦΡΑ ΚΑΙ ΤΗΝ ΝΕΟΚΑΙΣΑΡΕΙΑ</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ΔΗΜΟΣ ΑΝΑΤΟΛΗ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700.00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ΜΕΛΕΤΗ ΔΙΕΥΘΕΤΗΣΗΣ ΟΜΒΡΙΩΝ ΥΔΑΤΩΝ - ΑΠΟΣΤΡΑΓΓΙΣΤΙΚΩΝ ΤΑΦΡΩΝ ΔΗΜΟΥ ΑΝΑΤΟΛΗ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ΔΗΜΟΣ ΑΝΑΤΟΛΗ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300.00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ΟΡΙΣΤΙΚΗ ΜΕΛΕΤΗ ΔΙΚΤΥΩΝ ΑΠΟΧΕΤΕΥΣΗΣ ΚΑΙ ΕΓΚΑΤΑΣΤΑΣΗΣ ΕΠΕΞΕΡΓΑΣΙΑΣ ΛΥΜΑΤΩΝ ΣΤΟΝ ΟΙΚΙΣΜΟ ΑΓΝΑΝΤΩΝ</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ΔΗΜΟΣ ΑΓΝΑΝΤΩΝ</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250.00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59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ΟΡΙΣΤΙΚΗ ΜΕΛΕΤΗ ΑΠΟΧΕΤΕΥΣΗΣ ΕΣΩΤΕΡΙΚΟΥ ΔΙΚΤΥΟΥ ΑΚΑΘΑΡΤΩΝ ΚΑΙ ΠΡΟΜΕΛΕΤΗ ΕΓΚΑΤΑΣΤΑΣΗΣ ΕΠΕΞΕΡΓΑΣΙΑΣ ΑΚΑΘΑΡΤΩΝ ΤΩΝ Δ.Δ. ΠΑΡΑΜΥΘΙΑΣ ΚΑΙ ΚΑΡΥΩΤΙΟΥ ΤΟΥ ΔΗΜΟΥ ΠΑΡΑΜΥΘΙΑ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ΔΗΜΟΣ ΠΑΡΑΜΥΘΙΑ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318.428,8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4360" y="292680"/>
            <a:ext cx="799128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336600"/>
                </a:solidFill>
                <a:latin typeface="UB-Front"/>
              </a:rPr>
              <a:t>ΠΙΝΑΚΑΣ </a:t>
            </a:r>
            <a:r>
              <a:rPr b="1" lang="en-US" sz="1800" spc="-1" strike="noStrike">
                <a:solidFill>
                  <a:srgbClr val="336600"/>
                </a:solidFill>
                <a:latin typeface="UB-Front"/>
              </a:rPr>
              <a:t>3 </a:t>
            </a:r>
            <a:r>
              <a:rPr b="1" lang="el-GR" sz="1800" spc="-1" strike="noStrike">
                <a:solidFill>
                  <a:srgbClr val="336600"/>
                </a:solidFill>
                <a:latin typeface="UB-Front"/>
              </a:rPr>
              <a:t>(ΣΥΝΕΧΕΙΑ): ΜΕΛΕΤΕΣ ΠΟΥ ΥΠΟΒΛΗΘΗΚΑΝ ΜΕΤΑ ΑΠΌ ΠΡΟΣΚΛΗΣΗ, ΜΕ ΥΠΟΒΟΛΗ ΤΕΧΝΙΚΟΥ ΔΕΛΤΙΟΥ, ΟΙ ΟΠΟΙΕΣ ΑΠΟΡΡΙΠΤΟΝΤΑΙ ΛΟΓΩ ΜΗ ΕΓΚΡΙΣΗΣ ΤΟΥ ΠΕΡΙΦΕΡΕΙΑΚΟΥ ΣΥΜΒΟΥΛΙΟΥ</a:t>
            </a:r>
            <a:endParaRPr b="1" lang="en-US" sz="1800" spc="-1" strike="noStrike">
              <a:solidFill>
                <a:srgbClr val="336600"/>
              </a:solidFill>
              <a:latin typeface="UB-Front"/>
            </a:endParaRPr>
          </a:p>
        </p:txBody>
      </p:sp>
      <p:graphicFrame>
        <p:nvGraphicFramePr>
          <p:cNvPr id="109" name=""/>
          <p:cNvGraphicFramePr/>
          <p:nvPr/>
        </p:nvGraphicFramePr>
        <p:xfrm>
          <a:off x="684360" y="1989000"/>
          <a:ext cx="7778520" cy="3430800"/>
        </p:xfrm>
        <a:graphic>
          <a:graphicData uri="http://schemas.openxmlformats.org/drawingml/2006/table">
            <a:tbl>
              <a:tblPr/>
              <a:tblGrid>
                <a:gridCol w="644400"/>
                <a:gridCol w="4251240"/>
                <a:gridCol w="1484280"/>
                <a:gridCol w="1398600"/>
              </a:tblGrid>
              <a:tr h="733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Greek"/>
                        </a:rPr>
                        <a:t>Α/Α</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Greek"/>
                        </a:rPr>
                        <a:t>ΤΙΤΛΟΣ ΜΕΛΕΤΗΣ</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Greek"/>
                        </a:rPr>
                        <a:t>ΦΟΡΕΑΣ ΠΡΟΤΑΣΗΣ</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Greek"/>
                        </a:rPr>
                        <a:t>ΚΟΣΤΟΣ ΑΙΤΗΜΑΤΟΣ ΜΕ ΦΠΑ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1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ΜΕΛΕΤΗ ΑΠΟΧΕΤΕΥΣΗΣ ΑΚΑΘΑΡΤΩΝ ΛΥΜΑΤΩΝ ΚΑΙ ΟΜΒΡΙΩΝ Δ.Δ. ΠΕΔΙΝΗ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ΔΗΜΟΣ ΠΕΔΙΝΗ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200.00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1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ΑΝΤΙΜΕΤΩΠΙΣΗ ΠΛΗΜΜΥΡΙΚΩΝ ΚΑΤΑΣΤΑΣΕΩΝ ΣΤΟ ΠΕΔΙΝΟ ΜΕΡΟΣ ΤΟΥ ΔΗΜΟΥ ΜΠΙΖΑΝΙΟΥ</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ΔΗΜΟΣ ΜΠΙΖΑΝΙΟΥ</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200.00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59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1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ΥΠΟΓΕΙΟΠΟΙΗΣΗ ΤΩΝ ΟΔΩΝ ΠΑΡΑΚΑΜΨΗΣ ΑΝΑΤΟΛΙΚΑ- ΝΟΤΙΟΑΝΑΤΟΛΙΚΑ ΤΗΣ ΠΟΛΗΣ ΤΩΝ ΙΩΑΝΝΙΝΩΝ (ΜΕΛΕΤΗ ΥΠΟΓΕΙΑΣ ΣΥΝΔΕΣΗΣ ΛΕΩΦΟΡΩΝ ΠΑΠΑΝΔΡΕΟΥ ΚΑΙ ΜΑΚΑΡΙΟΥ)</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ΔΗΜΟΣ ΙΩΑΝΝΙΤΩΝ</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2.000.00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1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ΜΕΛΕΤΗ ΑΠΟΧΕΤΕΥΣΗΣ ΑΚΑΘΑΡΤΩΝ ΕΠΕΚΤΑΣΗΣ Δ.Δ. ΚΑΤΣΙΚΑ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ΔΗΜΟΣ ΠΑΜΒΩΤΙΔΟ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166.729,3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4360" y="292680"/>
            <a:ext cx="799128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336600"/>
                </a:solidFill>
                <a:latin typeface="UB-Front"/>
              </a:rPr>
              <a:t>ΠΙΝΑΚΑΣ </a:t>
            </a:r>
            <a:r>
              <a:rPr b="1" lang="en-US" sz="1800" spc="-1" strike="noStrike">
                <a:solidFill>
                  <a:srgbClr val="336600"/>
                </a:solidFill>
                <a:latin typeface="UB-Front"/>
              </a:rPr>
              <a:t>3 </a:t>
            </a:r>
            <a:r>
              <a:rPr b="1" lang="el-GR" sz="1800" spc="-1" strike="noStrike">
                <a:solidFill>
                  <a:srgbClr val="336600"/>
                </a:solidFill>
                <a:latin typeface="UB-Front"/>
              </a:rPr>
              <a:t>(ΣΥΝΕΧΕΙΑ): ΜΕΛΕΤΕΣ ΠΟΥ ΥΠΟΒΛΗΘΗΚΑΝ ΜΕΤΑ ΑΠΌ ΠΡΟΣΚΛΗΣΗ, ΜΕ ΥΠΟΒΟΛΗ ΤΕΧΝΙΚΟΥ ΔΕΛΤΙΟΥ, ΟΙ ΟΠΟΙΕΣ ΑΠΟΡΡΙΠΤΟΝΤΑΙ ΛΟΓΩ ΜΗ ΕΓΚΡΙΣΗΣ ΤΟΥ ΠΕΡΙΦΕΡΕΙΑΚΟΥ ΣΥΜΒΟΥΛΙΟΥ</a:t>
            </a:r>
            <a:endParaRPr b="1" lang="en-US" sz="1800" spc="-1" strike="noStrike">
              <a:solidFill>
                <a:srgbClr val="336600"/>
              </a:solidFill>
              <a:latin typeface="UB-Front"/>
            </a:endParaRPr>
          </a:p>
        </p:txBody>
      </p:sp>
      <p:graphicFrame>
        <p:nvGraphicFramePr>
          <p:cNvPr id="111" name=""/>
          <p:cNvGraphicFramePr/>
          <p:nvPr/>
        </p:nvGraphicFramePr>
        <p:xfrm>
          <a:off x="755640" y="1557360"/>
          <a:ext cx="7778880" cy="3394080"/>
        </p:xfrm>
        <a:graphic>
          <a:graphicData uri="http://schemas.openxmlformats.org/drawingml/2006/table">
            <a:tbl>
              <a:tblPr/>
              <a:tblGrid>
                <a:gridCol w="646200"/>
                <a:gridCol w="3970440"/>
                <a:gridCol w="1761840"/>
                <a:gridCol w="1400400"/>
              </a:tblGrid>
              <a:tr h="733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Greek"/>
                        </a:rPr>
                        <a:t>Α/Α</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Greek"/>
                        </a:rPr>
                        <a:t>ΤΙΤΛΟΣ ΜΕΛΕΤΗΣ</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Greek"/>
                        </a:rPr>
                        <a:t>ΦΟΡΕΑΣ ΠΡΟΤΑΣΗΣ</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Greek"/>
                        </a:rPr>
                        <a:t>ΚΟΣΤΟΣ ΑΙΤΗΜΑΤΟΣ ΜΕ ΦΠΑ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1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ΜΕΛΕΤΕΣ ΠΡΟΕΤΟΙΜΑΣΙΑΣ ΓΙΑ ΤΗΝ ΟΛΟΚΛΗΡΩΣΗ ΕΡΓΩΝ ΔΙΑΧΕΙΡΙΣΗΣ ΣΤΕΡΕΩΝ ΑΠΟΒΛΗΤΩΝ 4ης ΔΙΑΧΕΙΡΙΣΤΙΚΗΣ ΕΝΟΤΗΤΑΣ ΠΕΡΙΦΕΡΕΙΑΣ ΗΠΕΙΡΟΥ</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ΔΗΜΟΣ ΗΓΟΥΜΕΝΙΤΣΑ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679.719,6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1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ΠΕΡΙΒΑΛΛΟΝΤΙΚΗ ΑΠΟΚΑΤΑΣΤΑΣΗ ΤΩΝ ΥΓΡΟΤΟΠΙΚΩΝ ΛΕΙΤΟΥΡΓΙΩΝ ΚΑΙ ΑΞΙΩΝ ΤΟΥ ΤΕΩΣ ΥΓΡΟΤΟΠΟΥ ΒΑΛΤΟΣ Ν. ΙΩΑΝΝΙΝΩΝ</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ΔΗΜΟΣ ΑΝΩ ΚΑΛΑΜΑ</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135.00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7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1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ΑΠΟΚΑΤΑΣΤΑΣΗ ΧΩΡΟΥ ΑΝΕΞΕΛΕΓΚΤΗΣ ΔΙΑΘΕΣΗΣ ΑΠΟΒΛΗΤΩΝ ΣΤΗ ΘΕΣΗ ΓΥΡΕΣ ΤΟΥ Δ.Δ. ΚΑΛΑΜΙΑ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ΔΗΜΟΣ ΦΙΛΟΘΕΗΣ</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Greek"/>
                        </a:rPr>
                        <a:t>35.00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4T11:39:22Z</dcterms:created>
  <dc:creator>nikobalt</dc:creator>
  <dc:description/>
  <dc:language>en-US</dc:language>
  <cp:lastModifiedBy>cmilonis</cp:lastModifiedBy>
  <dcterms:modified xsi:type="dcterms:W3CDTF">2007-05-09T11:39:59Z</dcterms:modified>
  <cp:revision>514</cp:revision>
  <dc:subject/>
  <dc:title>Παρουσίαση του PowerPoint</dc:title>
</cp:coreProperties>
</file>