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360"/>
            <a:ext cx="28782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76240" y="77904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38840"/>
            <a:ext cx="28782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438840"/>
            <a:ext cx="28782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E8840-09BC-433E-96B3-F90374F2795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876240" y="779400"/>
            <a:ext cx="4889520" cy="3667320"/>
          </a:xfrm>
          <a:prstGeom prst="rect">
            <a:avLst/>
          </a:prstGeom>
          <a:ln w="0">
            <a:noFill/>
          </a:ln>
        </p:spPr>
      </p:sp>
      <p:sp>
        <p:nvSpPr>
          <p:cNvPr id="110"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Μελέτη Στρατηγικής Περιβαλλοντικής Εκτίμησης του Προγράμματος Διαπεριφερειακής Συνεργασίας εκπονήθηκε για λογαριασμό της Διαχειριστικής Αρχής του </a:t>
            </a:r>
            <a:r>
              <a:rPr b="0" lang="en-US" sz="1200" spc="-1" strike="noStrike">
                <a:solidFill>
                  <a:srgbClr val="000000"/>
                </a:solidFill>
                <a:latin typeface="Times New Roman"/>
              </a:rPr>
              <a:t>INTERREG IV C, </a:t>
            </a:r>
            <a:r>
              <a:rPr b="0" lang="el-GR" sz="1200" spc="-1" strike="noStrike">
                <a:solidFill>
                  <a:srgbClr val="000000"/>
                </a:solidFill>
                <a:latin typeface="Times New Roman"/>
              </a:rPr>
              <a:t>σύμφωνα με τις απαιτήσεις της σχετικής Κοινοτικής Οδηγίας  και διενεργήθηκε παράλληλα με την ανάπτυξη του Προγράμματο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Αποσκοπεί</a:t>
            </a:r>
            <a:r>
              <a:rPr b="0" lang="el-GR" sz="1200" spc="-1" strike="noStrike">
                <a:solidFill>
                  <a:srgbClr val="000000"/>
                </a:solidFill>
                <a:latin typeface="Times New Roman"/>
              </a:rPr>
              <a:t> να εξασφαλίσει ότι «πριν την υιοθέτηση του Προγράμματος εντοπίζονται, περιγράφονται, αξιολογούνται και συνεκτιμώνται οι ενδεχόμενες σημαντικές επιπτώσεις στο περιβάλλον από την υλοποίησή του καθώς και των εύλογων εναλλακτικών λύσεων».</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76240" y="779400"/>
            <a:ext cx="4889520" cy="3667320"/>
          </a:xfrm>
          <a:prstGeom prst="rect">
            <a:avLst/>
          </a:prstGeom>
          <a:ln w="0">
            <a:noFill/>
          </a:ln>
        </p:spPr>
      </p:sp>
      <p:sp>
        <p:nvSpPr>
          <p:cNvPr id="112"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ύμφωνα με την Μελέτη, την επιλογή της μεθοδολογίας που ακολουθήθηκε επηρέασαν παράγοντες όπως: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Το πολύ ευρύ γεωγραφικό πεδίο εφαρμογής</a:t>
            </a:r>
            <a:r>
              <a:rPr b="0" lang="en-US" sz="1200" spc="-1" strike="noStrike">
                <a:solidFill>
                  <a:srgbClr val="000000"/>
                </a:solidFill>
                <a:latin typeface="Times New Roman"/>
              </a:rPr>
              <a:t> του Προγράμματος, δεδομένου ότι δεν είναι αυτό που θα μπορούσε να θεωρηθεί ως ο κλασσικός τύπος αναπτυξιακού Προγράμματος για το οποίο διενεργείται ΣΜΠΕ</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Η φύση των δράσεων</a:t>
            </a:r>
            <a:r>
              <a:rPr b="0" lang="en-US" sz="1200" spc="-1" strike="noStrike">
                <a:solidFill>
                  <a:srgbClr val="000000"/>
                </a:solidFill>
                <a:latin typeface="Times New Roman"/>
              </a:rPr>
              <a:t>, λόγω του ότι ο τύπος των δράσεων που πρόκειται να χρηματοδοτηθούν δεν ορίζει το πλαίσιο έγκρισης μελλοντικής ανάπτυξης των έργων της Οδηγία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Το υψηλό επίπεδο στρατηγικής προσέγγισης, </a:t>
            </a:r>
            <a:r>
              <a:rPr b="0" lang="en-US" sz="1200" spc="-1" strike="noStrike">
                <a:solidFill>
                  <a:srgbClr val="000000"/>
                </a:solidFill>
                <a:latin typeface="Times New Roman"/>
              </a:rPr>
              <a:t>δεδομένου ότι το Πρόγραμμα προσδιορίζει ένα ευρύ πλαίσιο συνεργασίας το οποίο οι λεπτομέρειες των έργων θα αποφασισθούν αργότερα κατά την προγραμματική διαδικασία</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76240" y="779400"/>
            <a:ext cx="4889520" cy="3667320"/>
          </a:xfrm>
          <a:prstGeom prst="rect">
            <a:avLst/>
          </a:prstGeom>
          <a:ln w="0">
            <a:noFill/>
          </a:ln>
        </p:spPr>
      </p:sp>
      <p:sp>
        <p:nvSpPr>
          <p:cNvPr id="114"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φόσον το Πρόγραμμα χρηματοδοτήθηκε από την Ευρωπαϊκή Επιτροπή και ένας από τους στόχους του είναι το περιβάλλον και η πρόληψη κινδύνων, έγινε </a:t>
            </a:r>
            <a:r>
              <a:rPr b="0" lang="el-GR" sz="1200" spc="-1" strike="noStrike" u="sng">
                <a:solidFill>
                  <a:srgbClr val="000000"/>
                </a:solidFill>
                <a:uFillTx/>
                <a:latin typeface="Times New Roman"/>
              </a:rPr>
              <a:t>έλεγχος της συμβατότητας και της συνάφειας</a:t>
            </a:r>
            <a:r>
              <a:rPr b="0" lang="el-GR" sz="1200" spc="-1" strike="noStrike">
                <a:solidFill>
                  <a:srgbClr val="000000"/>
                </a:solidFill>
                <a:latin typeface="Times New Roman"/>
              </a:rPr>
              <a:t> του Επιχειρησιακού Προγράμματος με τις προτεραιότητες της ευρωπαικής περιβαλλοντικής πολιτικής. Τα </a:t>
            </a:r>
            <a:r>
              <a:rPr b="0" lang="el-GR" sz="1200" spc="-1" strike="noStrike" u="sng">
                <a:solidFill>
                  <a:srgbClr val="000000"/>
                </a:solidFill>
                <a:uFillTx/>
                <a:latin typeface="Times New Roman"/>
              </a:rPr>
              <a:t>κυριότερα πορίσματα</a:t>
            </a:r>
            <a:r>
              <a:rPr b="0" lang="el-GR" sz="1200" spc="-1" strike="noStrike">
                <a:solidFill>
                  <a:srgbClr val="000000"/>
                </a:solidFill>
                <a:latin typeface="Times New Roman"/>
              </a:rPr>
              <a:t> από την εκτίμηση της συμβατότητας ήταν:</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επιχειρησιακοί στόχοι είναι σύμφωνοι με το 6ο Πρόγραμμα Δράσεων για το Περιβάλλον</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προτεραιότητα 1 </a:t>
            </a:r>
            <a:r>
              <a:rPr b="1" i="1" lang="el-GR" sz="1200" spc="-1" strike="noStrike">
                <a:solidFill>
                  <a:srgbClr val="000000"/>
                </a:solidFill>
                <a:latin typeface="Times New Roman"/>
              </a:rPr>
              <a:t>καινοτομία και οικονομία της γνώσης</a:t>
            </a:r>
            <a:r>
              <a:rPr b="0" lang="el-GR" sz="1200" spc="-1" strike="noStrike">
                <a:solidFill>
                  <a:srgbClr val="000000"/>
                </a:solidFill>
                <a:latin typeface="Times New Roman"/>
              </a:rPr>
              <a:t> δεν έχει άμεση σχέση με το 6ο Πρόγραμμα Δράσεων για το Περιβάλλον ή θεματικές στρατηγικέ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προτεραιότητα 2 </a:t>
            </a:r>
            <a:r>
              <a:rPr b="1" i="1" lang="el-GR" sz="1200" spc="-1" strike="noStrike">
                <a:solidFill>
                  <a:srgbClr val="000000"/>
                </a:solidFill>
                <a:latin typeface="Times New Roman"/>
              </a:rPr>
              <a:t>περιβάλλον και πρόληψη των κινδύνων</a:t>
            </a:r>
            <a:r>
              <a:rPr b="0" lang="el-GR" sz="1200" spc="-1" strike="noStrike">
                <a:solidFill>
                  <a:srgbClr val="000000"/>
                </a:solidFill>
                <a:latin typeface="Times New Roman"/>
              </a:rPr>
              <a:t> έχει πιο άμεση και θετική σχέση με 6ο Πρόγραμμα Δράσεων για το Περιβάλλον &amp; τις θεματικές στρατηγικέ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Ωστόσο η Μελέτη σημείωσε ορισμένα θέματα που χρήζουν περαιτέρω διευκρινήσεων και εντόπισε αριθμό θεμάτων Στρατηγικής Περιβαλλοντικής Εκτίμησης για τα οποία θα μπορούσαν να αναπτυχθούν στόχοι.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76240" y="779400"/>
            <a:ext cx="4889520" cy="3667320"/>
          </a:xfrm>
          <a:prstGeom prst="rect">
            <a:avLst/>
          </a:prstGeom>
          <a:ln w="0">
            <a:noFill/>
          </a:ln>
        </p:spPr>
      </p:sp>
      <p:sp>
        <p:nvSpPr>
          <p:cNvPr id="116"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a:t>
            </a:r>
            <a:r>
              <a:rPr b="0" lang="en-US" sz="1200" spc="-1" strike="noStrike" u="sng">
                <a:solidFill>
                  <a:srgbClr val="000000"/>
                </a:solidFill>
                <a:uFillTx/>
                <a:latin typeface="Times New Roman"/>
              </a:rPr>
              <a:t>Εκτίμηση έδειξε</a:t>
            </a:r>
            <a:r>
              <a:rPr b="0" lang="en-US" sz="1200" spc="-1" strike="noStrike">
                <a:solidFill>
                  <a:srgbClr val="000000"/>
                </a:solidFill>
                <a:latin typeface="Times New Roman"/>
              </a:rPr>
              <a:t> ότι δεν υπάρχουν φανερές, σημαντικές ή ήπιας μορφής αρνητικές επιπτώσεις από το Πρόγραμμα. Απεναντίας σημείωσε ότι πολλές πτυχές στο πλαίσιο της δεύτερης προτεραιότητας ενδέχεται να έχουν θετικές μολονότι έμμεσες επιδράσεις στο περιβάλλον της Ευρώπη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Συνέστησε</a:t>
            </a:r>
            <a:r>
              <a:rPr b="0" lang="en-US" sz="1200" spc="-1" strike="noStrike">
                <a:solidFill>
                  <a:srgbClr val="000000"/>
                </a:solidFill>
                <a:latin typeface="Times New Roman"/>
              </a:rPr>
              <a:t> να εξετάζονται τα μέτρα προστασίας του περιβάλλοντος στις οδηγίες εφαρμογής των έργων καθώς και στις διαδικασίες επιλογής έργων προς αποφυγή ενδεχόμενης ασυμβατότητας με διαφορετικούς περιβαλλοντικούς στόχους ή και μεταξύ του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σον αφορά στην εκτίμηση των εναλλακτικών λύσεων που προτείνονται, η Περιβαλλοντική εκτίμηση έχει </a:t>
            </a:r>
            <a:r>
              <a:rPr b="0" lang="en-US" sz="1200" spc="-1" strike="noStrike" u="sng">
                <a:solidFill>
                  <a:srgbClr val="000000"/>
                </a:solidFill>
                <a:uFillTx/>
                <a:latin typeface="Times New Roman"/>
              </a:rPr>
              <a:t>διαπιστώσει</a:t>
            </a:r>
            <a:r>
              <a:rPr b="0" lang="en-US" sz="1200" spc="-1" strike="noStrike">
                <a:solidFill>
                  <a:srgbClr val="000000"/>
                </a:solidFill>
                <a:latin typeface="Times New Roman"/>
              </a:rPr>
              <a:t> ότι η προτεινόμενη εναρμονίζεται σε μεγάλο βαθμό με τις προτεραιότητες της πολιτικής της ΕΕ για το περιβάλλον. Ενδέχεται να έχει συνολικά θετικό έμμεσο αποτέλεσμα σε αρκετούς τομείς προτεραιότητας για το περιβάλλον στην Ευρώπη.</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a:t>
            </a:r>
            <a:r>
              <a:rPr b="0" lang="en-US" sz="1200" spc="-1" strike="noStrike" u="sng">
                <a:solidFill>
                  <a:srgbClr val="000000"/>
                </a:solidFill>
                <a:uFillTx/>
                <a:latin typeface="Times New Roman"/>
              </a:rPr>
              <a:t>γενικό συμπέρασμα</a:t>
            </a:r>
            <a:r>
              <a:rPr b="0" lang="en-US" sz="1200" spc="-1" strike="noStrike">
                <a:solidFill>
                  <a:srgbClr val="000000"/>
                </a:solidFill>
                <a:latin typeface="Times New Roman"/>
              </a:rPr>
              <a:t> είναι ότι οι επιχειρησιακοί στόχοι του Προγράμματος, έτσι όπως αυτοί αναγράφονται, ενδέχεται να οδηγήσουν σε περισσότερα έντονα θετικά έμμεσα αποτελέσματα.</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ο τέλος της Μελέτης παρουσιάζεται το Ερωτηματολόγιο Διαβούλευσης.</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D8441-61DF-4A4B-B6A1-D9CB7CBB1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B7E6B-6A47-4AB4-8E00-FEA5ACB49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075C7-CD38-4A08-8158-52D7ACDB9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39060-3C4B-46CD-82FC-64269A2E9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075D50-DF07-422E-A093-588CCFFF4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2AB46-2FA2-4168-930C-9A945821E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E3317-7B43-446C-8D7D-E12781404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14B18-68AF-4786-A4FB-2E367D223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BBDFE-AA2B-48EA-BFAF-7E6126521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2AD13-7B7A-4226-9E65-98DDEDB22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6B636-FABD-4303-9C1D-CF16C2972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EB90C-3EA2-426A-9720-13214F543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8AB21-0971-4C1A-89AB-DBC43E950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C6048-4F04-4563-8537-7FBB7BC9E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47D01-0BFE-42F6-8098-8DF72D66B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06EC9-7594-45D7-8AD0-C7E1A76E2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0493DC-BA79-4F83-B45E-C4F398050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52007-09DA-440D-BA24-25722A25C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40D20-3C16-4D42-80CF-3A0977DD6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1E3DA-0034-4356-AF69-E7B57EEED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DA532-35E3-4D55-8C90-97A8CEC73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31E10-87D1-428A-85B6-20A3FE0DD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AA4CA-9C6F-4FF4-B0BB-3E1F199B4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F2784-7FF0-4A39-9D6E-874DFD2EC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559F-8DEB-4EF7-B775-B061DB4CD7D5}"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6765-1838-44A0-95EA-5CE4A1341D99}"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26000"/>
          </a:bodyPr>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ΣΜΠΕ</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ΔΙΑΠΕΡΙΦΕΡΕΙΑΚΗ ΣΥΝΕΡΓΑΣΙΑ</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2a3d7a"/>
                </a:solidFill>
                <a:uFillTx/>
                <a:latin typeface="Times New Roman"/>
              </a:rPr>
              <a:t>INTERREG IV C </a:t>
            </a:r>
            <a:r>
              <a:rPr b="1" i="1" lang="el-GR" sz="3200" spc="-1" strike="noStrike" u="sng">
                <a:solidFill>
                  <a:srgbClr val="2a3d7a"/>
                </a:solidFill>
                <a:uFillTx/>
                <a:latin typeface="Times New Roman"/>
              </a:rPr>
              <a:t> 2007-2013</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18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8"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218960"/>
            <a:ext cx="7772400" cy="4730760"/>
          </a:xfrm>
          <a:prstGeom prst="rect">
            <a:avLst/>
          </a:prstGeom>
          <a:no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ΣΜΠΕ ΔΙΑΠΕΡΙΦΕΡΕΙΑΚΗ  ΣΥΝΕΡΓΑΣΙΑ</a:t>
            </a:r>
            <a:endParaRPr b="0" lang="en-US" sz="2800" spc="-1" strike="noStrike">
              <a:solidFill>
                <a:srgbClr val="5b5249"/>
              </a:solidFill>
              <a:latin typeface="Times New Roman"/>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INTERREG IV C </a:t>
            </a:r>
            <a:r>
              <a:rPr b="1" i="1" lang="el-G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ποσκοπεί να εξασφαλίσει ότι</a:t>
            </a:r>
            <a:endParaRPr b="0" lang="en-US" sz="24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ριν την υιοθέτηση του Προγράμματος εντοπίζονται, περιγράφονται, αξιολογούνται, συνεκτιμώνται οι ενδεχόμενες σημαντικές επιπτώσεις για το περιβάλλον από την υλοποίησή του καθώς και των εύλογων εναλλακτικών λύσεων»</a:t>
            </a:r>
            <a:endParaRPr b="0" lang="en-US" sz="24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1218960"/>
            <a:ext cx="7772400" cy="473076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ΣΜΠΕ</a:t>
            </a:r>
            <a:r>
              <a:rPr b="1" i="1" lang="fr-FR" sz="2800" spc="-1" strike="noStrike" u="sng">
                <a:solidFill>
                  <a:srgbClr val="fac164"/>
                </a:solidFill>
                <a:uFillTx/>
                <a:latin typeface="Times New Roman"/>
              </a:rPr>
              <a:t> </a:t>
            </a:r>
            <a:r>
              <a:rPr b="1" i="1" lang="el-GR" sz="2800" spc="-1" strike="noStrike" u="sng">
                <a:solidFill>
                  <a:srgbClr val="fac164"/>
                </a:solidFill>
                <a:uFillTx/>
                <a:latin typeface="Times New Roman"/>
              </a:rPr>
              <a:t>ΔΙΑΠΕΡΙΦΕΡΕΙΑΚΗ  ΣΥΝΕΡΓΑΣΙΑ </a:t>
            </a:r>
            <a:endParaRPr b="0" lang="en-US" sz="2800" spc="-1" strike="noStrike">
              <a:solidFill>
                <a:srgbClr val="5b5249"/>
              </a:solidFill>
              <a:latin typeface="Times New Roman"/>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INTERREG IV C </a:t>
            </a:r>
            <a:r>
              <a:rPr b="1" i="1" lang="el-G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Την επιλογή της μεθοδολογίας επηρέασαν:</a:t>
            </a:r>
            <a:endParaRPr b="0" lang="en-US" sz="2400" spc="-1" strike="noStrike">
              <a:solidFill>
                <a:srgbClr val="5b5249"/>
              </a:solidFill>
              <a:latin typeface="Times New Roman"/>
            </a:endParaRPr>
          </a:p>
          <a:p>
            <a:pPr marL="609480" indent="-60948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ολύ ευρύ πεδίο εφαρμογής</a:t>
            </a:r>
            <a:endParaRPr b="0" lang="en-US" sz="2400" spc="-1" strike="noStrike">
              <a:solidFill>
                <a:srgbClr val="5b5249"/>
              </a:solidFill>
              <a:latin typeface="Times New Roman"/>
            </a:endParaRPr>
          </a:p>
          <a:p>
            <a:pPr marL="609480" indent="-60948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Φύση δράσεων</a:t>
            </a:r>
            <a:endParaRPr b="0" lang="en-US" sz="2400" spc="-1" strike="noStrike">
              <a:solidFill>
                <a:srgbClr val="5b5249"/>
              </a:solidFill>
              <a:latin typeface="Times New Roman"/>
            </a:endParaRPr>
          </a:p>
          <a:p>
            <a:pPr marL="609480" indent="-60948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Υψηλό επίπεδο στρατηγικής προσέγγισης</a:t>
            </a:r>
            <a:endParaRPr b="0" lang="en-US" sz="2400" spc="-1" strike="noStrike">
              <a:solidFill>
                <a:srgbClr val="5b5249"/>
              </a:solidFill>
              <a:latin typeface="Times New Roman"/>
            </a:endParaRPr>
          </a:p>
        </p:txBody>
      </p:sp>
      <p:pic>
        <p:nvPicPr>
          <p:cNvPr id="10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1218960"/>
            <a:ext cx="7772400" cy="473076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ΣΜΠΕ</a:t>
            </a:r>
            <a:r>
              <a:rPr b="1" i="1" lang="fr-FR" sz="2800" spc="-1" strike="noStrike" u="sng">
                <a:solidFill>
                  <a:srgbClr val="fac164"/>
                </a:solidFill>
                <a:uFillTx/>
                <a:latin typeface="Times New Roman"/>
              </a:rPr>
              <a:t> </a:t>
            </a:r>
            <a:r>
              <a:rPr b="1" i="1" lang="el-GR" sz="2800" spc="-1" strike="noStrike" u="sng">
                <a:solidFill>
                  <a:srgbClr val="fac164"/>
                </a:solidFill>
                <a:uFillTx/>
                <a:latin typeface="Times New Roman"/>
              </a:rPr>
              <a:t>ΔΙΑΠΕΡΙΦΕΡΕΙΑΚΗ  ΣΥΝΕΡΓΑΣΙΑ</a:t>
            </a:r>
            <a:endParaRPr b="0" lang="en-US" sz="2800" spc="-1" strike="noStrike">
              <a:solidFill>
                <a:srgbClr val="5b5249"/>
              </a:solidFill>
              <a:latin typeface="Times New Roman"/>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INTERREG IV C </a:t>
            </a:r>
            <a:r>
              <a:rPr b="1" i="1" lang="el-G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υριότερα πορίσματα συμβατότητας:</a:t>
            </a:r>
            <a:endParaRPr b="0" lang="en-US" sz="2400" spc="-1" strike="noStrike">
              <a:solidFill>
                <a:srgbClr val="5b5249"/>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60948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ύμφωνοι επιχειρησιακοί στόχοι με το 6</a:t>
            </a:r>
            <a:r>
              <a:rPr b="1" i="1" lang="el-GR" sz="2400" spc="-1" strike="noStrike" baseline="30000">
                <a:solidFill>
                  <a:srgbClr val="2a3d7a"/>
                </a:solidFill>
                <a:latin typeface="Times New Roman"/>
              </a:rPr>
              <a:t>ο</a:t>
            </a:r>
            <a:r>
              <a:rPr b="1" i="1" lang="el-GR" sz="2400" spc="-1" strike="noStrike">
                <a:solidFill>
                  <a:srgbClr val="2a3d7a"/>
                </a:solidFill>
                <a:latin typeface="Times New Roman"/>
              </a:rPr>
              <a:t> Πρόγραμμα Δράσεων Περιβάλλοντος</a:t>
            </a:r>
            <a:endParaRPr b="0" lang="en-US" sz="2400" spc="-1" strike="noStrike">
              <a:solidFill>
                <a:srgbClr val="5b5249"/>
              </a:solidFill>
              <a:latin typeface="Times New Roman"/>
            </a:endParaRPr>
          </a:p>
          <a:p>
            <a:pPr marL="609480" indent="-60948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Μη άμεση σχέση Προτεραιότητας 1</a:t>
            </a:r>
            <a:endParaRPr b="0" lang="en-US" sz="2400" spc="-1" strike="noStrike">
              <a:solidFill>
                <a:srgbClr val="5b5249"/>
              </a:solidFill>
              <a:latin typeface="Times New Roman"/>
            </a:endParaRPr>
          </a:p>
          <a:p>
            <a:pPr marL="609480" indent="-60948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μεση &amp; θετική σχέση Προτεραιότητας 2</a:t>
            </a:r>
            <a:endParaRPr b="0" lang="en-US" sz="2400" spc="-1" strike="noStrike">
              <a:solidFill>
                <a:srgbClr val="5b5249"/>
              </a:solidFill>
              <a:latin typeface="Times New Roman"/>
            </a:endParaRPr>
          </a:p>
        </p:txBody>
      </p:sp>
      <p:pic>
        <p:nvPicPr>
          <p:cNvPr id="10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62120" y="1219320"/>
            <a:ext cx="7772400" cy="4657680"/>
          </a:xfrm>
          <a:prstGeom prst="rect">
            <a:avLst/>
          </a:prstGeom>
          <a:noFill/>
          <a:ln w="0">
            <a:noFill/>
          </a:ln>
        </p:spPr>
        <p:txBody>
          <a:bodyPr lIns="90000" rIns="90000" tIns="46800" bIns="46800"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ΣΜΠΕ ΔΙΑΠΕΡΙΦΕΡΕΙΑΚΗ  ΣΥΝΕΡΓΑΣΙΑ</a:t>
            </a:r>
            <a:endParaRPr b="0" lang="en-US" sz="24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ac164"/>
                </a:solidFill>
                <a:uFillTx/>
                <a:latin typeface="Times New Roman"/>
              </a:rPr>
              <a:t>INTERREG IV C </a:t>
            </a:r>
            <a:r>
              <a:rPr b="1" i="1" lang="el-GR" sz="2400" spc="-1" strike="noStrike" u="sng">
                <a:solidFill>
                  <a:srgbClr val="fac164"/>
                </a:solidFill>
                <a:uFillTx/>
                <a:latin typeface="Times New Roman"/>
              </a:rPr>
              <a:t> 2007-2013</a:t>
            </a:r>
            <a:endParaRPr b="0" lang="en-US" sz="24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Κυριότερα συμπεράσματα:</a:t>
            </a:r>
            <a:endParaRPr b="0" lang="en-US" sz="2000" spc="-1" strike="noStrike">
              <a:solidFill>
                <a:srgbClr val="5b5249"/>
              </a:solidFill>
              <a:latin typeface="Times New Roman"/>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609480" indent="-609480" algn="ctr">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Μη ύπαρξη φανερών, σημαντικών ή ήπιας μορφής αρνητικών επιπτώσεων</a:t>
            </a:r>
            <a:endParaRPr b="0" lang="en-US" sz="2000" spc="-1" strike="noStrike">
              <a:solidFill>
                <a:srgbClr val="5b5249"/>
              </a:solidFill>
              <a:latin typeface="Times New Roman"/>
            </a:endParaRPr>
          </a:p>
          <a:p>
            <a:pPr marL="609480" indent="-609480" algn="ctr">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ξέταση των μέτρων προστασίας περιβάλλοντος στις οδηγίες εφαρμογής των μέτρων &amp; υλοποίησης των έργων</a:t>
            </a:r>
            <a:endParaRPr b="0" lang="en-US" sz="2000" spc="-1" strike="noStrike">
              <a:solidFill>
                <a:srgbClr val="5b5249"/>
              </a:solidFill>
              <a:latin typeface="Times New Roman"/>
            </a:endParaRPr>
          </a:p>
          <a:p>
            <a:pPr marL="609480" indent="-609480" algn="ctr">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ναρμόνιση της προτεινόμενης εναλλακτικής λύσης με ευρωπαϊκή πολιτική περιβάλλοντος</a:t>
            </a:r>
            <a:endParaRPr b="0" lang="en-US" sz="2000" spc="-1" strike="noStrike">
              <a:solidFill>
                <a:srgbClr val="5b5249"/>
              </a:solidFill>
              <a:latin typeface="Times New Roman"/>
            </a:endParaRPr>
          </a:p>
          <a:p>
            <a:pPr marL="609480" indent="-609480" algn="ctr">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Οι επιχειρησιακοί στόχοι ενδέχεται να οδηγήσουν σε περισσότερα θετικά έμμεσα αποτελέσματα</a:t>
            </a:r>
            <a:endParaRPr b="0" lang="en-US" sz="2000" spc="-1" strike="noStrike">
              <a:solidFill>
                <a:srgbClr val="5b5249"/>
              </a:solidFill>
              <a:latin typeface="Times New Roman"/>
            </a:endParaRPr>
          </a:p>
        </p:txBody>
      </p:sp>
      <p:pic>
        <p:nvPicPr>
          <p:cNvPr id="10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26000"/>
          </a:bodyPr>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ΣΜΠΕ</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ΔΙΑΠΕΡΙΦΕΡΕΙΑΚΗ ΣΥΝΕΡΓΑΣΙΑ</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2a3d7a"/>
                </a:solidFill>
                <a:uFillTx/>
                <a:latin typeface="Times New Roman"/>
              </a:rPr>
              <a:t>INTERREG IV C </a:t>
            </a:r>
            <a:r>
              <a:rPr b="1" i="1" lang="el-GR" sz="3200" spc="-1" strike="noStrike" u="sng">
                <a:solidFill>
                  <a:srgbClr val="2a3d7a"/>
                </a:solidFill>
                <a:uFillTx/>
                <a:latin typeface="Times New Roman"/>
              </a:rPr>
              <a:t> 2007-2013</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18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108"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PAPANIKOLAOU EYH</cp:lastModifiedBy>
  <dcterms:modified xsi:type="dcterms:W3CDTF">2007-05-11T07:09:54Z</dcterms:modified>
  <cp:revision>323</cp:revision>
  <dc:subject/>
  <dc:title>Παρουσίαση του PowerPoint</dc:title>
</cp:coreProperties>
</file>