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B2E83-2084-4B55-ABF7-26E1F7C2B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4B7F2-2186-40CB-8473-B89082761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ACF5D-A1A0-40EE-838C-A6BE54ABD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D291D-5A95-4810-9BE3-FF9EF9365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2B729-BCDE-490E-A069-0D7B2658B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80898-D28D-4650-B2B0-2404FF4F2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DD648-102D-408C-A876-C244C5B26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1CA38-BF31-41FD-A87A-0380B0D1A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B5C1F-EC00-4604-90C0-9EB77CC34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854D3-6D5F-4C08-9617-E523F2FCB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AFB6E-2D30-4A5A-B1B3-38BCE0D1A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8BCF6-A7BE-481C-8BDA-B6126369E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8384C-DE16-47C8-BDBF-71BE595FB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E0518-00C2-4C57-8807-E6F86F62F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A49BE-A020-4C47-999A-D2B75DE3B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06E69-9D27-4DEF-A8C7-6CCCE7761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DFFEC-6EA1-4602-A813-D480C1107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4DD87-134E-47CD-8695-FE9021B80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67A71-E52A-4EEF-83FF-355481C0E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CEC3-660B-41F1-A883-54E3B6F96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062EF-ACEF-4658-BF0B-940E02166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245B1-5EB5-4C2F-9F8B-4A5C7E2FC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6DB7E-A103-4B55-8C93-7D89DE074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E5DF-F6D1-4DCD-A632-444A163BA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1D9E-DCD7-48FA-954E-6C78E916743E}" type="slidenum">
              <a:rPr b="0" lang="el-GR"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2915-A11B-4109-9987-58C85A63C626}" type="slidenum">
              <a:rPr b="0" lang="el-GR"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838080" y="2133360"/>
            <a:ext cx="7981920" cy="1655640"/>
          </a:xfrm>
          <a:prstGeom prst="rect">
            <a:avLst/>
          </a:prstGeom>
          <a:noFill/>
          <a:ln w="0">
            <a:noFill/>
          </a:ln>
        </p:spPr>
        <p:txBody>
          <a:bodyPr lIns="90000" rIns="90000" tIns="46800" bIns="46800" anchor="t">
            <a:normAutofit fontScale="54000"/>
          </a:bodyPr>
          <a:p>
            <a:pPr marL="246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5b5249"/>
                </a:solidFill>
                <a:uFillTx/>
                <a:latin typeface="Times New Roman"/>
              </a:rPr>
              <a:t>ΣΤΡΑΤΗΓΙΚΗ ΜΕΛΕΤΗ ΠΕΡΙΒΑΛΛΟΝΤΙΚΩΝ ΕΠΙΠΤΩΣΕΩΝ </a:t>
            </a:r>
            <a:endParaRPr b="0" lang="en-US" sz="3200" spc="-1" strike="noStrike">
              <a:solidFill>
                <a:srgbClr val="5b5249"/>
              </a:solidFill>
              <a:latin typeface="Times New Roman"/>
            </a:endParaRPr>
          </a:p>
          <a:p>
            <a:pPr marL="246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5b5249"/>
                </a:solidFill>
                <a:uFillTx/>
                <a:latin typeface="Times New Roman"/>
              </a:rPr>
              <a:t>΄΄ ΑΝΤΑΓΩΝΙΣΤΙΚΟΤΗΤΑ &amp; ΕΠΙΧΕΙΡΗΜΑΤΙΚΟΤΗΤΑ 2007 – 2013΄΄</a:t>
            </a:r>
            <a:endParaRPr b="0" lang="en-US" sz="3200" spc="-1" strike="noStrike">
              <a:solidFill>
                <a:srgbClr val="5b5249"/>
              </a:solidFill>
              <a:latin typeface="Times New Roman"/>
            </a:endParaRPr>
          </a:p>
          <a:p>
            <a:pPr marL="246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246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a:t>
            </a:r>
            <a:r>
              <a:rPr b="1" i="1" lang="el-GR" sz="1600" spc="-1" strike="noStrike">
                <a:solidFill>
                  <a:srgbClr val="2a3d7a"/>
                </a:solidFill>
                <a:latin typeface="Times New Roman"/>
              </a:rPr>
              <a:t>5</a:t>
            </a:r>
            <a:r>
              <a:rPr b="1" i="1" lang="fr-FR" sz="1600" spc="-1" strike="noStrike">
                <a:solidFill>
                  <a:srgbClr val="2a3d7a"/>
                </a:solidFill>
                <a:latin typeface="Times New Roman"/>
              </a:rPr>
              <a:t>/200</a:t>
            </a:r>
            <a:r>
              <a:rPr b="1" i="1" lang="el-GR" sz="1600" spc="-1" strike="noStrike">
                <a:solidFill>
                  <a:srgbClr val="2a3d7a"/>
                </a:solidFill>
                <a:latin typeface="Times New Roman"/>
              </a:rPr>
              <a:t>7</a:t>
            </a:r>
            <a:endParaRPr b="0" lang="en-US" sz="1600" spc="-1" strike="noStrike">
              <a:solidFill>
                <a:srgbClr val="5b5249"/>
              </a:solidFill>
              <a:latin typeface="Times New Roman"/>
            </a:endParaRPr>
          </a:p>
          <a:p>
            <a:pPr marL="2466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1"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112500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ΒΑΛΛΟΝΤΙΚΕΣ ΕΠΙΠΤΩΣΕΙΣ</a:t>
            </a:r>
            <a:br>
              <a:rPr sz="3200"/>
            </a:br>
            <a:endParaRPr b="0" lang="en-US" sz="3200" spc="-1" strike="noStrike">
              <a:solidFill>
                <a:srgbClr val="2a3d7a"/>
              </a:solidFill>
              <a:latin typeface="Times New Roman"/>
            </a:endParaRPr>
          </a:p>
        </p:txBody>
      </p:sp>
      <p:sp>
        <p:nvSpPr>
          <p:cNvPr id="109"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ΑΠ3 κατά πλειοψηφία ουδέτερες ως θετικές, άμεσες και έμμεσες, μεσομακροπρόθεσμης εμφάνισης και μόνιμου χαρακτήρα</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ΑΠ4 ουδέτερες, αρνητικές ή θετικές, κάποιες από αυτές μπορούν να αποβούν  ιδιαίτερα αρνητικές αν δεν ληφθούν μέτρα, κυρίως άμεσες, βραχυπρόθεσμης εμφάνισης και μικτού χαρακτήρα διάρκεια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920" y="112500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ΑΝΤΙΜΕΤΩΠΙΣΗ ΤΩΝ ΕΠΙΠΤΩΣΕΩΝ</a:t>
            </a:r>
            <a:br>
              <a:rPr sz="3200"/>
            </a:br>
            <a:endParaRPr b="0" lang="en-US" sz="3200" spc="-1" strike="noStrike">
              <a:solidFill>
                <a:srgbClr val="2a3d7a"/>
              </a:solidFill>
              <a:latin typeface="Times New Roman"/>
            </a:endParaRPr>
          </a:p>
        </p:txBody>
      </p:sp>
      <p:sp>
        <p:nvSpPr>
          <p:cNvPr id="111"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Η αντιμετώπιση των επιπτώσεων του ΕΠ εδράζεται σε  δύο συνιστώσες :</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πρώτη</a:t>
            </a:r>
            <a:r>
              <a:rPr b="0" lang="en-US" sz="2800" spc="-1" strike="noStrike">
                <a:solidFill>
                  <a:srgbClr val="5b5249"/>
                </a:solidFill>
                <a:latin typeface="Times New Roman"/>
              </a:rPr>
              <a:t> εξαρτάται από το ίδιο το πρόγραμμα και μπορεί να επιτευχθεί με την αξιοποίηση εργαλείων, όπως οι ΜΠΕ και η θέσπιση κριτηρίων επιλογής των προτάσεων </a:t>
            </a:r>
            <a:endParaRPr b="0" lang="en-US" sz="28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δεύτερη</a:t>
            </a:r>
            <a:r>
              <a:rPr b="0" lang="en-US" sz="2800" spc="-1" strike="noStrike">
                <a:solidFill>
                  <a:srgbClr val="5b5249"/>
                </a:solidFill>
                <a:latin typeface="Times New Roman"/>
              </a:rPr>
              <a:t> συνιστώσα μπορεί να επιτευχθεί μέσω θεσμικών μέτρων, εθνικών στρατηγικών, του εθνικού χωροταξικού σχεδιασμού και την αύξηση του ελεγκτικού έργου των υπηρεσιών.</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765000"/>
            <a:ext cx="7848720" cy="136872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2a3d7a"/>
                </a:solidFill>
                <a:latin typeface="Times New Roman"/>
              </a:rPr>
              <a:t>ΠΑΡΑΚΟΛΟΥΘΗΣΗ</a:t>
            </a:r>
            <a:br>
              <a:rPr sz="3200"/>
            </a:br>
            <a:endParaRPr b="0" lang="en-US" sz="3200" spc="-1" strike="noStrike">
              <a:solidFill>
                <a:srgbClr val="2a3d7a"/>
              </a:solidFill>
              <a:latin typeface="Times New Roman"/>
            </a:endParaRPr>
          </a:p>
        </p:txBody>
      </p:sp>
      <p:sp>
        <p:nvSpPr>
          <p:cNvPr id="113"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Προτείνονται ανά περιβαλλοντικό τομέα δείκτες παρακολούθησης των επιπτώσεων, από τη εφαρμογή του ΕΠ. </a:t>
            </a:r>
            <a:endParaRPr b="0" lang="en-US" sz="2800" spc="-1" strike="noStrike">
              <a:solidFill>
                <a:srgbClr val="5b5249"/>
              </a:solidFill>
              <a:latin typeface="Times New Roman"/>
            </a:endParaRPr>
          </a:p>
          <a:p>
            <a:pPr marL="457200" indent="-457200">
              <a:lnSpc>
                <a:spcPct val="8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Από τους προτεινόμενους δείκτες μεγαλύτερη σχέση με το ΕΠ έχουν οι δείκτες που σχετίζονται με τους κλιματικούς παράγοντες και την ενέργεια</a:t>
            </a:r>
            <a:r>
              <a:rPr b="0" lang="en-US" sz="2000" spc="-1" strike="noStrike">
                <a:solidFill>
                  <a:srgbClr val="5b5249"/>
                </a:solidFill>
                <a:latin typeface="Times New Roman"/>
              </a:rPr>
              <a:t>.</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ΔΙΑΔΙΚΑΣΙΑ  ΣΜΠΕ</a:t>
            </a:r>
            <a:r>
              <a:rPr b="0" lang="en-US" sz="2400" spc="-1" strike="noStrike">
                <a:solidFill>
                  <a:srgbClr val="2a3d7a"/>
                </a:solidFill>
                <a:latin typeface="Times New Roman"/>
              </a:rPr>
              <a:t> </a:t>
            </a:r>
            <a:endParaRPr b="0" lang="en-US" sz="2400" spc="-1" strike="noStrike">
              <a:solidFill>
                <a:srgbClr val="2a3d7a"/>
              </a:solidFill>
              <a:latin typeface="Times New Roman"/>
            </a:endParaRPr>
          </a:p>
        </p:txBody>
      </p:sp>
      <p:sp>
        <p:nvSpPr>
          <p:cNvPr id="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Η ΣΜΠΕ είναι μια διαδικασία εκτίμησης των περιβαλλοντικών επιπτώσεων ορισμένων σχεδίων και προγραμμάτων, η οποία έχει εναρμονισθεί στη χώρα μας, στα πλαίσια της Οδηγίας 2001/42.</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Αντικειμενικός στόχος είναι η προώθηση της Βιώσιμης ή  Αειφόρου Ανάπτυξης.</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ΓΕΝΙΚΑ</a:t>
            </a:r>
            <a:endParaRPr b="0" lang="en-US" sz="3200" spc="-1" strike="noStrike">
              <a:solidFill>
                <a:srgbClr val="2a3d7a"/>
              </a:solidFill>
              <a:latin typeface="Times New Roman"/>
            </a:endParaRPr>
          </a:p>
        </p:txBody>
      </p:sp>
      <p:sp>
        <p:nvSpPr>
          <p:cNvPr id="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Το  Επιχειρησιακό Πρόγραμμα  για την Ανταγωνιστικότητα και Επιχειρηματικότητα εξειδικεύει τη στρατηγική για την ενίσχυση της ανταγωνιστικότητας και της εξωστρεφούς επιχειρηματικότητας της ελληνικής οικονομίας,  την περίοδο 2007- 2013.</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στρατηγική</a:t>
            </a:r>
            <a:r>
              <a:rPr b="0" lang="en-US" sz="2800" spc="-1" strike="noStrike">
                <a:solidFill>
                  <a:srgbClr val="5b5249"/>
                </a:solidFill>
                <a:latin typeface="Times New Roman"/>
              </a:rPr>
              <a:t> αναφέρεται  στους τομείς μεταποίηση, υπηρεσίες, εμπόριο, προστασία καταναλωτή , έρευνα – τεχνολογία, ενέργεια, τουρισμός και πολιτισμό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ΟΧΗ ΜΕΛΕΤΗΣ</a:t>
            </a:r>
            <a:r>
              <a:rPr b="1"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Καλύπτει σε στρατηγικό και χρηματοδοτικό επίπεδο ένα γεωγραφικό χώρο που αντιστοιχεί στις  οκτώ (8) Περιφέρειες  του Στόχου Σύγκλιση.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Ως ευρύτερη περιοχή μελέτης ορίζεται   ολόκληρη η χώρα, που αποτελεί την αναγκαία διεύρυνση του γεωγραφικού πεδίου εφαρμογής του προγράμματο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40428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ΕΧΟΜΕΝΟ ΠΡΟΓΡΑΜΜΑΤΟΣ</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99" name="PlaceHolder 2"/>
          <p:cNvSpPr>
            <a:spLocks noGrp="1"/>
          </p:cNvSpPr>
          <p:nvPr>
            <p:ph/>
          </p:nvPr>
        </p:nvSpPr>
        <p:spPr>
          <a:xfrm>
            <a:off x="826920" y="1557360"/>
            <a:ext cx="7772400" cy="4114800"/>
          </a:xfrm>
          <a:prstGeom prst="rect">
            <a:avLst/>
          </a:prstGeom>
          <a:noFill/>
          <a:ln w="0">
            <a:noFill/>
          </a:ln>
        </p:spPr>
        <p:txBody>
          <a:bodyPr lIns="90000" rIns="90000" tIns="46800" bIns="46800" anchor="t">
            <a:normAutofit fontScale="87000"/>
          </a:bodyPr>
          <a:p>
            <a:pPr marL="397440" indent="-397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Ενίσχυση της έρευνας της τεχνολογίας  και της καινοτομίας σε όλους τους κλάδους ως βασικού παράγοντα για την αναδιάρθρωση της ελληνικής οικονομίας και την μετάβαση στην οικονομία της γνώσης</a:t>
            </a:r>
            <a:endParaRPr b="0" lang="en-US" sz="2800" spc="-1" strike="noStrike">
              <a:solidFill>
                <a:srgbClr val="5b5249"/>
              </a:solidFill>
              <a:latin typeface="Times New Roman"/>
            </a:endParaRPr>
          </a:p>
          <a:p>
            <a:pPr marL="397440" indent="-397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Ενίσχυση της επιχειρηματικότητας και της εξωστρέφειας – Αναβάθμιση του παραγωγικού ιστού της χώρας – Αύξηση των παραγωγικών επενδύσεων και των εισροών ΞΑΕ και γενική ποιοτική αναβάθμιση των προσφερόμενων προϊόντων και υπηρεσιών σε όλους τους τομείς και κλάδους της ελληνικής οικονομίας που καλύπτονται από το Πρόγραμμα</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ΕΧΟΜΕΝΟ ΠΡΟΓΡΑΜΜΑΤΟΣ</a:t>
            </a:r>
            <a:r>
              <a:rPr b="0"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1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 </a:t>
            </a:r>
            <a:r>
              <a:rPr b="0" lang="el-GR" sz="2800" spc="-1" strike="noStrike">
                <a:solidFill>
                  <a:srgbClr val="5b5249"/>
                </a:solidFill>
                <a:latin typeface="Times New Roman"/>
              </a:rPr>
              <a:t>Βελτίωση του θεσμικού περιβάλλοντος και των υποστηρικτικών υποδομών, μηχανισμών και εργαλείων για την ανάπτυξη της επιχειρηματικότητας – ενδυνάμωση του ανταγωνισμού – προστασία του καταναλωτή</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 </a:t>
            </a:r>
            <a:r>
              <a:rPr b="0" lang="el-GR" sz="2800" spc="-1" strike="noStrike">
                <a:solidFill>
                  <a:srgbClr val="5b5249"/>
                </a:solidFill>
                <a:latin typeface="Times New Roman"/>
              </a:rPr>
              <a:t>Ολοκλήρωση του ενεργειακού συστήματος της χώρας και ενίσχυση της αειφορίας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42920" y="83628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ΕΝΑΛΛΑΚΤΙΚΕΣ ΛΥΣΕΙΣ</a:t>
            </a:r>
            <a:endParaRPr b="0" lang="en-US" sz="3200" spc="-1" strike="noStrike">
              <a:solidFill>
                <a:srgbClr val="2a3d7a"/>
              </a:solidFill>
              <a:latin typeface="Times New Roman"/>
            </a:endParaRPr>
          </a:p>
        </p:txBody>
      </p:sp>
      <p:sp>
        <p:nvSpPr>
          <p:cNvPr id="10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Για την κατάρτιση του προγράμματος εξετάσθηκαν τρείς εναλλακτικές λύσεις:</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πρώτη λύση</a:t>
            </a:r>
            <a:r>
              <a:rPr b="0" lang="en-US" sz="2800" spc="-1" strike="noStrike">
                <a:solidFill>
                  <a:srgbClr val="5b5249"/>
                </a:solidFill>
                <a:latin typeface="Times New Roman"/>
              </a:rPr>
              <a:t> επικεντρώνεται στην ταχύρυθμη ανάπτυξη με στόχο την άμεση απόδοση του προγράμματος, με ενίσχυση επιχειρηματικών προτάσεων άμεσης απόδοσης, χωρίς όμως τις διαρθρωτικές αλλαγές που θα έδιναν μια σταθερή ανάπτυξη σε βάθος χρόνου. </a:t>
            </a:r>
            <a:r>
              <a:rPr b="1" lang="en-US" sz="2800" spc="-1" strike="noStrike">
                <a:solidFill>
                  <a:srgbClr val="5b5249"/>
                </a:solidFill>
                <a:latin typeface="Times New Roman"/>
              </a:rPr>
              <a:t>Η ενίσχυση της επιχειρηματικότητας απορροφά το 70% των πόρων </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83628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ΕΝΑΛΛΑΚΤΙΚΕΣ ΛΥΣΕΙΣ</a:t>
            </a:r>
            <a:endParaRPr b="0" lang="en-US" sz="32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δεύτερη λύση</a:t>
            </a:r>
            <a:r>
              <a:rPr b="0" lang="en-US" sz="2800" spc="-1" strike="noStrike">
                <a:solidFill>
                  <a:srgbClr val="5b5249"/>
                </a:solidFill>
                <a:latin typeface="Times New Roman"/>
              </a:rPr>
              <a:t> επικεντρώνεται επίσης στην ταχύρυθμη ανάπτυξη, </a:t>
            </a:r>
            <a:r>
              <a:rPr b="1" lang="en-US" sz="2800" spc="-1" strike="noStrike">
                <a:solidFill>
                  <a:srgbClr val="5b5249"/>
                </a:solidFill>
                <a:latin typeface="Times New Roman"/>
              </a:rPr>
              <a:t>αλλά με επένδυση μόνο των 55% των πόρων στην ενίσχυση της επιχειρηματικότητας</a:t>
            </a:r>
            <a:r>
              <a:rPr b="1" lang="en-US" sz="3200" spc="-1" strike="noStrike">
                <a:solidFill>
                  <a:srgbClr val="5b5249"/>
                </a:solidFill>
                <a:latin typeface="Times New Roman"/>
              </a:rPr>
              <a:t>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Η τρίτη  λύση</a:t>
            </a:r>
            <a:r>
              <a:rPr b="0" lang="en-US" sz="2800" spc="-1" strike="noStrike">
                <a:solidFill>
                  <a:srgbClr val="5b5249"/>
                </a:solidFill>
                <a:latin typeface="Times New Roman"/>
              </a:rPr>
              <a:t> στοχεύει σε μια πιο ισορροπημένη ανάπτυξη σε βάθος χρόνου. </a:t>
            </a:r>
            <a:r>
              <a:rPr b="1" lang="en-US" sz="2800" spc="-1" strike="noStrike">
                <a:solidFill>
                  <a:srgbClr val="5b5249"/>
                </a:solidFill>
                <a:latin typeface="Times New Roman"/>
              </a:rPr>
              <a:t>Η ενίσχυση της επιχειρηματικότητας απορροφά το 30% των πόρων</a:t>
            </a:r>
            <a:r>
              <a:rPr b="1"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6920" y="1125000"/>
            <a:ext cx="7772400" cy="11430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ΠΕΡΙΒΑΛΛΟΝΤΙΚΕΣ ΕΠΙΠΤΩΣΕΙΣ</a:t>
            </a:r>
            <a:br>
              <a:rPr sz="3200"/>
            </a:br>
            <a:endParaRPr b="0" lang="en-US" sz="3200" spc="-1" strike="noStrike">
              <a:solidFill>
                <a:srgbClr val="2a3d7a"/>
              </a:solidFill>
              <a:latin typeface="Times New Roman"/>
            </a:endParaRPr>
          </a:p>
        </p:txBody>
      </p:sp>
      <p:sp>
        <p:nvSpPr>
          <p:cNvPr id="107" name="PlaceHolder 2"/>
          <p:cNvSpPr>
            <a:spLocks noGrp="1"/>
          </p:cNvSpPr>
          <p:nvPr>
            <p:ph/>
          </p:nvPr>
        </p:nvSpPr>
        <p:spPr>
          <a:xfrm>
            <a:off x="611280" y="2276640"/>
            <a:ext cx="7772400" cy="4114800"/>
          </a:xfrm>
          <a:prstGeom prst="rect">
            <a:avLst/>
          </a:prstGeom>
          <a:noFill/>
          <a:ln w="0">
            <a:noFill/>
          </a:ln>
        </p:spPr>
        <p:txBody>
          <a:bodyPr lIns="90000" rIns="90000" tIns="46800" bIns="46800"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ΑΠ1 κατά πλειοψηφία ουδέτερες ως θετικές, κυρίως έμμεσες, μεσομακροπρόθεσμης εμφάνισης  και μόνιμου χαρακτήρα</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5b5249"/>
                </a:solidFill>
                <a:latin typeface="Times New Roman"/>
              </a:rPr>
              <a:t> </a:t>
            </a:r>
            <a:r>
              <a:rPr b="0" lang="el-GR" sz="2800" spc="-1" strike="noStrike">
                <a:solidFill>
                  <a:srgbClr val="5b5249"/>
                </a:solidFill>
                <a:latin typeface="Times New Roman"/>
              </a:rPr>
              <a:t>ΑΠ2 ουδέτερες, αρνητικές ή θετικές και χωρίς τη λήψη μέτρων μπορούν να είναι ιδιαίτερα αρνητικές, είναι έμμεσες και άμεσες, βραχυμεσοπρόθεσμης  εμφάνισης και  μικτού χαρακτήρα διάρκεια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mantalovas</cp:lastModifiedBy>
  <dcterms:modified xsi:type="dcterms:W3CDTF">2007-05-11T11:09:05Z</dcterms:modified>
  <cp:revision>252</cp:revision>
  <dc:subject/>
  <dc:title>Παρουσίαση του PowerPoint</dc:title>
</cp:coreProperties>
</file>