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13862-387B-4C63-AC0B-9CC944A1315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76240" y="779400"/>
            <a:ext cx="4889520" cy="3667320"/>
          </a:xfrm>
          <a:prstGeom prst="rect">
            <a:avLst/>
          </a:prstGeom>
          <a:ln w="0">
            <a:noFill/>
          </a:ln>
        </p:spPr>
      </p:sp>
      <p:sp>
        <p:nvSpPr>
          <p:cNvPr id="11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Διαπεριφερειακής Συνεργασίας «</a:t>
            </a:r>
            <a:r>
              <a:rPr b="0" lang="en-US" sz="1200" spc="-1" strike="noStrike" u="sng">
                <a:solidFill>
                  <a:srgbClr val="000000"/>
                </a:solidFill>
                <a:uFillTx/>
                <a:latin typeface="Times New Roman"/>
              </a:rPr>
              <a:t>INTERREG IV C</a:t>
            </a:r>
            <a:r>
              <a:rPr b="0" lang="el-GR" sz="1200" spc="-1" strike="noStrike" u="sng">
                <a:solidFill>
                  <a:srgbClr val="000000"/>
                </a:solidFill>
                <a:uFillTx/>
                <a:latin typeface="Times New Roman"/>
              </a:rPr>
              <a:t>» </a:t>
            </a:r>
            <a:r>
              <a:rPr b="1" lang="el-GR" sz="1200" spc="-1" strike="noStrike">
                <a:solidFill>
                  <a:srgbClr val="000000"/>
                </a:solidFill>
                <a:latin typeface="Times New Roman"/>
              </a:rPr>
              <a:t>αποβλέπει</a:t>
            </a:r>
            <a:r>
              <a:rPr b="0" lang="el-GR" sz="1200" spc="-1" strike="noStrike">
                <a:solidFill>
                  <a:srgbClr val="000000"/>
                </a:solidFill>
                <a:latin typeface="Times New Roman"/>
              </a:rPr>
              <a:t> στο να καταστεί δυνατή α) η συνεργασία αρχών και φορέων, σε περιφερειακό και τοπικό επίπεδο, από διάφορες χώρες της ΕΕ27 συν της Νορβηγίας και της Ελβετίας σε έργα ανταλλαγής και διάχυσης των εμπειριών τους καθώς και β) η από κοινού ανάπτυξη προσεγγίσεων και μέσων βελτίωσης της αποτελεσματικότητας των πολιτικών περιφερειακής ανάπτυξης και της συμβολής στον οικονομικό εκσυγχρονισμό.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a:t>
            </a:r>
            <a:r>
              <a:rPr b="1" lang="el-GR" sz="1200" spc="-1" strike="noStrike">
                <a:solidFill>
                  <a:srgbClr val="000000"/>
                </a:solidFill>
                <a:latin typeface="Times New Roman"/>
              </a:rPr>
              <a:t>Γενικός στόχος</a:t>
            </a:r>
            <a:r>
              <a:rPr b="0" lang="el-GR" sz="1200" spc="-1" strike="noStrike">
                <a:solidFill>
                  <a:srgbClr val="000000"/>
                </a:solidFill>
                <a:latin typeface="Times New Roman"/>
              </a:rPr>
              <a:t> του Προγράμματος διατυπώνεται ως εξή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ελτίωση της αποτελεσματικότητας των πολιτικών περιφερειακής ανάπτυξης και η συμβολή στον οικονομικό εκσυγχρονισμό και την αύξηση της ανταγωνιστικότητας στην Ευρώπη στους τομείς της καινοτομίας, της γνώσης, του περιβάλλοντος και της πρόληψης κινδύνων μέσω διαπεριφερειακής συνεργασίας»</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76240" y="779400"/>
            <a:ext cx="4889520" cy="3667320"/>
          </a:xfrm>
          <a:prstGeom prst="rect">
            <a:avLst/>
          </a:prstGeom>
          <a:ln w="0">
            <a:noFill/>
          </a:ln>
        </p:spPr>
      </p:sp>
      <p:sp>
        <p:nvSpPr>
          <p:cNvPr id="11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Κοινοτικές Στρατηγικές Κατευθύνσεις για την Πολιτική Συνοχής 2007-2013, το Πρόγραμμα </a:t>
            </a:r>
            <a:r>
              <a:rPr b="1" lang="en-US" sz="1200" spc="-1" strike="noStrike">
                <a:solidFill>
                  <a:srgbClr val="000000"/>
                </a:solidFill>
                <a:latin typeface="Times New Roman"/>
              </a:rPr>
              <a:t>συμβάλλει</a:t>
            </a:r>
            <a:r>
              <a:rPr b="0" lang="en-US" sz="1200" spc="-1" strike="noStrike">
                <a:solidFill>
                  <a:srgbClr val="000000"/>
                </a:solidFill>
                <a:latin typeface="Times New Roman"/>
              </a:rPr>
              <a:t> στη στρατηγική της Ένωσης για την ανάπτυξη και τη δημιουργία θέσεων εργασίας. Από την άποψη αυτή, αποτελεί ένα σημαντικό μέσο για την υλοποίηση της πρωτοβουλίας της Ευρωπαϊκής Επιτροπής «Περιφέρειες για Οικονομική Αλλαγή» (ΠΟΑ), υποστηρίζοντας περιφερειακά και αστικά δίκτυα να ανακαλύψουν και εφαρμόσουν την ορθή πρακτική σε έργα οικονομικού εκσυγχρονισμού που σαφώς συμβάλλουν στην ατζέντα της Ένωσης για ανάπτυξη και δημιουργία θέσεων εργασίας και τη  διάδοσή του σε όλες τις περιφέρειες ώστε να συμβάλλει στην προώθηση της βιώσιμης ανάπτυξής τους και τη μείωση των οικονομικών ανισοτήτ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στην πρωτοβουλία </a:t>
            </a:r>
            <a:r>
              <a:rPr b="0" lang="en-US" sz="1200" spc="-1" strike="noStrike" u="sng">
                <a:solidFill>
                  <a:srgbClr val="000000"/>
                </a:solidFill>
                <a:uFillTx/>
                <a:latin typeface="Times New Roman"/>
              </a:rPr>
              <a:t>«Περιφέρειες για Οικονομική Αλλαγή»,</a:t>
            </a:r>
            <a:r>
              <a:rPr b="0" lang="en-US" sz="1200" spc="-1" strike="noStrike">
                <a:solidFill>
                  <a:srgbClr val="000000"/>
                </a:solidFill>
                <a:latin typeface="Times New Roman"/>
              </a:rPr>
              <a:t> πρόκειται για σχέδια περαιτέρω ενίσχυσης της καινοτομίας με την σύνδεση των ευρωπαϊκών περιφερειών σε ισχυρές εταιρικές σχέσεις για να μπορέσουν να επωφεληθούν από την εμπειρία και την καλή πρακτική.</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76240" y="779400"/>
            <a:ext cx="4889520" cy="3667320"/>
          </a:xfrm>
          <a:prstGeom prst="rect">
            <a:avLst/>
          </a:prstGeom>
          <a:ln w="0">
            <a:noFill/>
          </a:ln>
        </p:spPr>
      </p:sp>
      <p:sp>
        <p:nvSpPr>
          <p:cNvPr id="11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που οργανώνεται πάνω σε </a:t>
            </a:r>
            <a:r>
              <a:rPr b="1" lang="el-GR" sz="1200" spc="-1" strike="noStrike">
                <a:solidFill>
                  <a:srgbClr val="000000"/>
                </a:solidFill>
                <a:latin typeface="Times New Roman"/>
              </a:rPr>
              <a:t>δύο θεματικές προτεραιότητες</a:t>
            </a:r>
            <a:r>
              <a:rPr b="0" lang="el-GR" sz="1200" spc="-1" strike="noStrike">
                <a:solidFill>
                  <a:srgbClr val="000000"/>
                </a:solidFill>
                <a:latin typeface="Times New Roman"/>
              </a:rPr>
              <a:t>, ομαδοποιεί πεδία δράσης τα οποία θεωρούνται βασικά για την συμβολή των περιφερειών της Ευρώπης στη στρατηγική της Ένωσης για βελτίωση των οικονομικών μεγεθών, της απασχόλησης και της βιώσιμης ανάπτυξη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1</a:t>
            </a:r>
            <a:r>
              <a:rPr b="1" i="1" lang="el-GR" sz="1200" spc="-1" strike="noStrike">
                <a:solidFill>
                  <a:srgbClr val="000000"/>
                </a:solidFill>
                <a:latin typeface="Times New Roman"/>
              </a:rPr>
              <a:t> </a:t>
            </a:r>
            <a:r>
              <a:rPr b="0" lang="el-GR" sz="1200" spc="-1" strike="noStrike">
                <a:solidFill>
                  <a:srgbClr val="000000"/>
                </a:solidFill>
                <a:latin typeface="Times New Roman"/>
              </a:rPr>
              <a:t>αναφέρεται στην </a:t>
            </a:r>
            <a:r>
              <a:rPr b="1" i="1" lang="el-GR" sz="1200" spc="-1" strike="noStrike" u="sng">
                <a:solidFill>
                  <a:srgbClr val="000000"/>
                </a:solidFill>
                <a:uFillTx/>
                <a:latin typeface="Times New Roman"/>
              </a:rPr>
              <a:t>καινοτομία και την οικονομία της γνώσης</a:t>
            </a:r>
            <a:r>
              <a:rPr b="0" lang="el-GR" sz="1200" spc="-1" strike="noStrike">
                <a:solidFill>
                  <a:srgbClr val="000000"/>
                </a:solidFill>
                <a:latin typeface="Times New Roman"/>
              </a:rPr>
              <a:t>, εστιάζοντας κυρίως στα υπο-θεματικά πεδία της καινοτομίας, έρευνας και τεχνολογικής ανάπτυξης, επιχειρηματικότητας και ΜΜΕ, κοινωνίας της πληροφορίας, απασχόλησης και απόκτησης ικανοτήτ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2</a:t>
            </a:r>
            <a:r>
              <a:rPr b="0" lang="el-GR" sz="1200" spc="-1" strike="noStrike">
                <a:solidFill>
                  <a:srgbClr val="000000"/>
                </a:solidFill>
                <a:latin typeface="Times New Roman"/>
              </a:rPr>
              <a:t> στοχεύει στο </a:t>
            </a:r>
            <a:r>
              <a:rPr b="1" i="1" lang="el-GR" sz="1200" spc="-1" strike="noStrike" u="sng">
                <a:solidFill>
                  <a:srgbClr val="000000"/>
                </a:solidFill>
                <a:uFillTx/>
                <a:latin typeface="Times New Roman"/>
              </a:rPr>
              <a:t>περιβάλλον και την πρόληψη των κινδύνων</a:t>
            </a:r>
            <a:r>
              <a:rPr b="0" lang="el-GR" sz="1200" spc="-1" strike="noStrike">
                <a:solidFill>
                  <a:srgbClr val="000000"/>
                </a:solidFill>
                <a:latin typeface="Times New Roman"/>
              </a:rPr>
              <a:t>, κυρίως στα υπο-θεματικά πεδία των φυσικών και τεχνολογικών κινδύνων, διαχείρισης των υδάτων, διαχείρισης των αποβλήτων, βιοποικιλότητας και διατήρησης της φυσικής κληρονομιάς, ενέργειας και βιώσιμων μεταφορών, πολιτιστικής κληρονομιάς και τοπίου.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i="1" lang="el-GR" sz="1200" spc="-1" strike="noStrike" u="sng">
                <a:solidFill>
                  <a:srgbClr val="000000"/>
                </a:solidFill>
                <a:uFillTx/>
                <a:latin typeface="Times New Roman"/>
              </a:rPr>
              <a:t>προτεραιότητα 3</a:t>
            </a:r>
            <a:r>
              <a:rPr b="0" lang="el-GR" sz="1200" spc="-1" strike="noStrike">
                <a:solidFill>
                  <a:srgbClr val="000000"/>
                </a:solidFill>
                <a:latin typeface="Times New Roman"/>
              </a:rPr>
              <a:t> αφορά στην </a:t>
            </a:r>
            <a:r>
              <a:rPr b="1" i="1" lang="el-GR" sz="1200" spc="-1" strike="noStrike" u="sng">
                <a:solidFill>
                  <a:srgbClr val="000000"/>
                </a:solidFill>
                <a:uFillTx/>
                <a:latin typeface="Times New Roman"/>
              </a:rPr>
              <a:t>Τεχνική Βοήθεια</a:t>
            </a:r>
            <a:r>
              <a:rPr b="0" lang="el-GR" sz="1200" spc="-1" strike="noStrike">
                <a:solidFill>
                  <a:srgbClr val="000000"/>
                </a:solidFill>
                <a:latin typeface="Times New Roman"/>
              </a:rPr>
              <a:t> του Προγράμματος</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76240" y="779400"/>
            <a:ext cx="4889520" cy="3667320"/>
          </a:xfrm>
          <a:prstGeom prst="rect">
            <a:avLst/>
          </a:prstGeom>
          <a:ln w="0">
            <a:noFill/>
          </a:ln>
        </p:spPr>
      </p:sp>
      <p:sp>
        <p:nvSpPr>
          <p:cNvPr id="12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ο πρόγραμμα αυτό ενισχύει δύο διαφορετικούς </a:t>
            </a:r>
            <a:r>
              <a:rPr b="1" lang="en-US" sz="1200" spc="-1" strike="noStrike">
                <a:solidFill>
                  <a:srgbClr val="000000"/>
                </a:solidFill>
                <a:latin typeface="Times New Roman"/>
              </a:rPr>
              <a:t>τύπους συμπληρωματικών παρεμβάσεων</a:t>
            </a:r>
            <a:r>
              <a:rPr b="1" lang="en-US" sz="1200" spc="-1" strike="noStrike" u="sng">
                <a:solidFill>
                  <a:srgbClr val="000000"/>
                </a:solidFill>
                <a:uFillTx/>
                <a:latin typeface="Times New Roman"/>
              </a:rPr>
              <a:t> </a:t>
            </a:r>
            <a:r>
              <a:rPr b="0" lang="en-US" sz="1200" spc="-1" strike="noStrike">
                <a:solidFill>
                  <a:srgbClr val="000000"/>
                </a:solidFill>
                <a:latin typeface="Times New Roman"/>
              </a:rPr>
              <a:t>που από κοινού συμβάλλουν στην επίτευξη των στόχων του προγράμματο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ν </a:t>
            </a:r>
            <a:r>
              <a:rPr b="1" lang="en-US" sz="1200" spc="-1" strike="noStrike">
                <a:solidFill>
                  <a:srgbClr val="000000"/>
                </a:solidFill>
                <a:latin typeface="Times New Roman"/>
              </a:rPr>
              <a:t>πρώτο τύπο</a:t>
            </a:r>
            <a:r>
              <a:rPr b="0" lang="en-US" sz="1200" spc="-1" strike="noStrike">
                <a:solidFill>
                  <a:srgbClr val="000000"/>
                </a:solidFill>
                <a:latin typeface="Times New Roman"/>
              </a:rPr>
              <a:t> εντάσσονται </a:t>
            </a:r>
            <a:r>
              <a:rPr b="1" i="1" lang="en-US" sz="1200" spc="-1" strike="noStrike">
                <a:solidFill>
                  <a:srgbClr val="000000"/>
                </a:solidFill>
                <a:latin typeface="Times New Roman"/>
              </a:rPr>
              <a:t>οι Περιφερειακές Πρωτοβουλίες</a:t>
            </a:r>
            <a:r>
              <a:rPr b="0" lang="en-US" sz="1200" spc="-1" strike="noStrike">
                <a:solidFill>
                  <a:srgbClr val="000000"/>
                </a:solidFill>
                <a:latin typeface="Times New Roman"/>
              </a:rPr>
              <a:t>, (πρόκειται για την κλασσική διαπεριφερειακή συνεργασία). Είναι πρωτοβουλίες που ξεκινούν από φορείς σε περιφερειακό και τοπικό επίπεδο και στοχεύουν στην ανταλλαγή εμπειριών σε ένα συγκεκριμένο πεδίο πολιτικής με σκοπό τον εντοπισμό της ορθής πρακτικής και ανάπτυξης νέων εργαλείων και προσεγγίσεων προς υλοποίηση. Περιλαμβάνουν εταίρους από τουλάχιστον 3 χώρες (εκ των οποίων 2 τουλάχιστον Κράτη Μέλη της ΕΕ), με ανώτατο αριθμό ο οποίος να μην ξεπερνά τους 12.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Παραδείγματα δραστηριοτήτων</a:t>
            </a:r>
            <a:r>
              <a:rPr b="0" lang="en-US" sz="1200" spc="-1" strike="noStrike">
                <a:solidFill>
                  <a:srgbClr val="000000"/>
                </a:solidFill>
                <a:latin typeface="Times New Roman"/>
              </a:rPr>
              <a:t> που υποστηρίζονται στο πλαίσιο των Περιφερειακών Πρωτοβουλιών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αινοτομία, έρευνα &amp; τεχνολογική ανάπτυξη</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πιχειρηματικότητα, ΜΜΕ</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Κοινωνία της Πληροφορία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Απασχόληση, ανθρώπινο κεφάλαιο, εκπαίδευση</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76240" y="779400"/>
            <a:ext cx="4889520" cy="3667320"/>
          </a:xfrm>
          <a:prstGeom prst="rect">
            <a:avLst/>
          </a:prstGeom>
          <a:ln w="0">
            <a:noFill/>
          </a:ln>
        </p:spPr>
      </p:sp>
      <p:sp>
        <p:nvSpPr>
          <p:cNvPr id="12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a:t>
            </a:r>
            <a:r>
              <a:rPr b="1" lang="en-US" sz="1200" spc="-1" strike="noStrike">
                <a:solidFill>
                  <a:srgbClr val="000000"/>
                </a:solidFill>
                <a:latin typeface="Times New Roman"/>
              </a:rPr>
              <a:t>δεύτερος τύπος</a:t>
            </a:r>
            <a:r>
              <a:rPr b="0" lang="en-US" sz="1200" spc="-1" strike="noStrike">
                <a:solidFill>
                  <a:srgbClr val="000000"/>
                </a:solidFill>
                <a:latin typeface="Times New Roman"/>
              </a:rPr>
              <a:t> παρεμβάσεων καλείται </a:t>
            </a:r>
            <a:r>
              <a:rPr b="1" i="1" lang="en-US" sz="1200" spc="-1" strike="noStrike">
                <a:solidFill>
                  <a:srgbClr val="000000"/>
                </a:solidFill>
                <a:latin typeface="Times New Roman"/>
              </a:rPr>
              <a:t>Επιλογή Ταχείας Διαδικασίας</a:t>
            </a:r>
            <a:r>
              <a:rPr b="0" lang="en-US" sz="1200" spc="-1" strike="noStrike">
                <a:solidFill>
                  <a:srgbClr val="000000"/>
                </a:solidFill>
                <a:latin typeface="Times New Roman"/>
              </a:rPr>
              <a:t>.  Ο τύπος αυτός λαμβάνει τη μορφή δικτύων που συνδέουν περιφέρειες με μεγάλη εμπειρία σε ένα συγκεκριμένο πεδίο πολιτικής και περιφέρειες που επιθυμούν να βελτιωθούν στο εν λόγω πεδίο. Σκοπός είναι να διασφαλιστεί η ενσωμάτωση των ορθών πρακτικών που εντοπίζονται στα προγράμματα Σύγκλισης και Ανταγωνιστικότητας. Η πρωτοβουλία ανήκει στην Ευρωπαϊκή Επιτροπή η οποία καθορίζει τα θέματα που θα αναπτυχθούν σε συνεργασία με τα Κράτη-Μέλη, καλεί τις ενδιαφερόμενες περιφέρειες να συμμετάσχουν στα δίκτυα, είναι αρμόδια για την λειτουργία των δικτύων και συλλέγει τα αποτελέσματα.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Παραδείγματα δραστηριοτήτων</a:t>
            </a:r>
            <a:r>
              <a:rPr b="0" lang="en-US" sz="1200" spc="-1" strike="noStrike">
                <a:solidFill>
                  <a:srgbClr val="000000"/>
                </a:solidFill>
                <a:latin typeface="Times New Roman"/>
              </a:rPr>
              <a:t> συνεργασίας είνα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Φυσικοί &amp; τεχνολογικοί κίνδυνοι</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αχείριση υδάτ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ιαχείριση αποβλήτων</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Βιοποικιλότητα &amp; διατήρηση φυσικής κληρονομιά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έργεια &amp; βιώσιμες μεταφορές</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ολιτιστική κληρονομιά &amp; τοπί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76240" y="779400"/>
            <a:ext cx="4889520" cy="3667320"/>
          </a:xfrm>
          <a:prstGeom prst="rect">
            <a:avLst/>
          </a:prstGeom>
          <a:ln w="0">
            <a:noFill/>
          </a:ln>
        </p:spPr>
      </p:sp>
      <p:sp>
        <p:nvSpPr>
          <p:cNvPr id="12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Πρόγραμμα συγχρηματοδοτείται από το Ευρωπαϊκό Ταμείο Περιφερειακής Ανάπτυξης (ΕΤΠΑ) με συνολικές πιστώσεις για την περίοδο 2007-2013,  321.000.000 €  οι οποίες κατανέμονται ανά Προτεραιότητα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1: </a:t>
            </a:r>
            <a:r>
              <a:rPr b="0" lang="el-GR" sz="1200" spc="-1" strike="noStrike">
                <a:solidFill>
                  <a:srgbClr val="000000"/>
                </a:solidFill>
                <a:latin typeface="Times New Roman"/>
              </a:rPr>
              <a:t>καινοτομία και οικονομία της γνώσης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2: </a:t>
            </a:r>
            <a:r>
              <a:rPr b="0" lang="el-GR" sz="1200" spc="-1" strike="noStrike">
                <a:solidFill>
                  <a:srgbClr val="000000"/>
                </a:solidFill>
                <a:latin typeface="Times New Roman"/>
              </a:rPr>
              <a:t>περιβάλλον και πρόληψη των κινδύνων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Times New Roman"/>
              </a:rPr>
              <a:t>προτεραιότητα 3:</a:t>
            </a:r>
            <a:r>
              <a:rPr b="0" lang="el-GR" sz="1200" spc="-1" strike="noStrike">
                <a:solidFill>
                  <a:srgbClr val="000000"/>
                </a:solidFill>
                <a:latin typeface="Times New Roman"/>
              </a:rPr>
              <a:t> τεχνική βοήθεια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 συνολικός προυπολογισμός ανέρχεται σε 408.094.9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χωροθέτηση του Προγράμματος καλύπτει ολόκληρη την επικράτεια της Ευρωπαϊκής Ένωσης συν τη Νορβηγία και την Ελβετία.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6D527-6D89-4983-A7A4-76CB7F618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78675-0C93-4329-B177-A8AE3F40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3CC22-0480-4D78-B9A3-DC0612CDA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CAF3-5E19-4B86-85DE-B1D06268F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ED344-494B-479E-AF94-F4F1A17CB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506E3-9DEC-4C78-B20C-1C1E63FC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8AAC9-8B63-426B-B7D1-2C6B79252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E3EFC-8859-4922-AAF3-519180C65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61582-2EBC-4C23-A94A-124CA0D7E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1DB5F-EE09-4C2B-ACF4-E9B6CC931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520F5-BFFA-4DD5-882B-F5C538AD7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BACCB-BE16-4E22-B74A-5D55DCDB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8877-0B91-403F-BAA8-079C3789F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186A3-8685-4A75-98A1-A661125E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5C731-DE93-44E5-A743-3C60B2CDD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AA880-6904-4060-B3E4-E9897BE61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CCA62-1DA1-4195-8871-4EAFFB4EF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E929-66EA-43A4-A353-0CCFE730E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1D75-5B8E-4B29-ABC9-4365FEC1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BE7D8-5DE1-4CEE-B83C-2C1B399D5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2764-20FB-4249-A103-4E03CF746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A119-9F65-4377-B42F-8D16533F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9B695-CB85-418A-8A3A-15EC66BF3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360D-8571-4A02-9C23-A12DB038E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9D58-86DA-4C85-A836-7A6FF14A6D44}"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11A3-7826-438D-902A-82813556DFFE}"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Σ ΣΥΝΕΡΓΑΣΙΑΣ</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a3d7a"/>
                </a:solidFill>
                <a:uFillTx/>
                <a:latin typeface="Times New Roman"/>
              </a:rPr>
              <a:t>To </a:t>
            </a:r>
            <a:r>
              <a:rPr b="1" i="1" lang="el-GR" sz="2400" spc="-1" strike="noStrike" u="sng">
                <a:solidFill>
                  <a:srgbClr val="2a3d7a"/>
                </a:solidFill>
                <a:uFillTx/>
                <a:latin typeface="Times New Roman"/>
              </a:rPr>
              <a:t>Πρόγραμμα αποβλέπει σε</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εργασία αρχών &amp; φορέων</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ή ανάπτυξη προσεγγίσεων &amp; δράσεων</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Γενικός στόχος Προγράμματος</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αποτελεσματικότητας πολιτικών</a:t>
            </a:r>
            <a:endParaRPr b="0" lang="en-US" sz="2400" spc="-1" strike="noStrike">
              <a:solidFill>
                <a:srgbClr val="5b5249"/>
              </a:solidFill>
              <a:latin typeface="Times New Roman"/>
            </a:endParaRPr>
          </a:p>
          <a:p>
            <a:pPr marL="457200" indent="-45720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βολή στον οικονομικό εκσυγχρονισμό &amp; αύξηση ανταγωνιστικότητας</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2a3d7a"/>
                </a:solidFill>
                <a:uFillTx/>
                <a:latin typeface="Times New Roman"/>
              </a:rPr>
              <a:t>To </a:t>
            </a:r>
            <a:r>
              <a:rPr b="1" i="1" lang="el-GR" sz="2400" spc="-1" strike="noStrike" u="sng">
                <a:solidFill>
                  <a:srgbClr val="2a3d7a"/>
                </a:solidFill>
                <a:uFillTx/>
                <a:latin typeface="Times New Roman"/>
              </a:rPr>
              <a:t>Πρόγραμμα </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μβάλλει στη στρατηγική της ΕΕ για ανάπτυξη &amp; δημιουργία θέσεων εργασία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οτελεί σημαντικό μέσο υλοποίησης της πρωτοβουλίας «Περιφέρειες για Οικονομική Αλλαγή»</a:t>
            </a:r>
            <a:endParaRPr b="0" lang="en-US" sz="24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Προτεραιότητες </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ινοτομία &amp; οικονομία της γνώσης</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βάλλον &amp; πρόληψη κινδύνων</a:t>
            </a:r>
            <a:endParaRPr b="0" lang="en-US" sz="2400" spc="-1" strike="noStrike">
              <a:solidFill>
                <a:srgbClr val="5b5249"/>
              </a:solidFill>
              <a:latin typeface="Times New Roman"/>
            </a:endParaRPr>
          </a:p>
          <a:p>
            <a:pPr marL="457200" indent="-457200" algn="ct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εχνική βοήθεια</a:t>
            </a:r>
            <a:endParaRPr b="0" lang="en-US" sz="24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ύποι συμπληρωματικών παρεμβάσεων (1)</a:t>
            </a:r>
            <a:endParaRPr b="0" lang="en-US" sz="2400" spc="-1" strike="noStrike">
              <a:solidFill>
                <a:srgbClr val="5b5249"/>
              </a:solidFill>
              <a:latin typeface="Times New Roman"/>
            </a:endParaRPr>
          </a:p>
          <a:p>
            <a:pPr marL="609480" indent="-609480" algn="ct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εριφερειακές πρωτοβουλίες</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αινοτομία, έρευνα &amp; τεχνολογική ανάπτυξη</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χειρηματικότητα, ΜΜΕ</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ωνία της Πληροφορίας</a:t>
            </a:r>
            <a:endParaRPr b="0" lang="en-US" sz="2400" spc="-1" strike="noStrike">
              <a:solidFill>
                <a:srgbClr val="5b5249"/>
              </a:solidFill>
              <a:latin typeface="Times New Roman"/>
            </a:endParaRPr>
          </a:p>
          <a:p>
            <a:pPr marL="609480" indent="-609480">
              <a:lnSpc>
                <a:spcPct val="9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πασχόληση, ανθρώπινο κεφάλαιο, εκπαίδευση</a:t>
            </a:r>
            <a:endParaRPr b="0" lang="en-US" sz="2400" spc="-1" strike="noStrike">
              <a:solidFill>
                <a:srgbClr val="5b5249"/>
              </a:solidFill>
              <a:latin typeface="Times New Roman"/>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73076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ΔΙΑΠΕΡΙΦΕΡΕΙΑΚΗ  ΣΥΝΕΡΓΑΣΙΑ </a:t>
            </a:r>
            <a:endParaRPr b="0" lang="en-US" sz="2800" spc="-1" strike="noStrike">
              <a:solidFill>
                <a:srgbClr val="5b5249"/>
              </a:solidFill>
              <a:latin typeface="Times New Roman"/>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u="sng">
                <a:solidFill>
                  <a:srgbClr val="fac164"/>
                </a:solidFill>
                <a:uFillTx/>
                <a:latin typeface="Times New Roman"/>
              </a:rPr>
              <a:t>INTERREG IV C </a:t>
            </a:r>
            <a:r>
              <a:rPr b="1" i="1" lang="el-G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Τύποι συμπληρωματικών παρεμβάσεων (2)</a:t>
            </a:r>
            <a:endParaRPr b="0" lang="en-US" sz="2400" spc="-1" strike="noStrike">
              <a:solidFill>
                <a:srgbClr val="5b5249"/>
              </a:solidFill>
              <a:latin typeface="Times New Roman"/>
            </a:endParaRPr>
          </a:p>
          <a:p>
            <a:pPr marL="609480" indent="-609480" algn="ctr">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λογή ταχείας διαδικασίας</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Φυσικοί &amp; τεχνολογικοί κίνδυνοι</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ίριση υδάτων</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ίριση αποβλήτων</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ιοποικιλότητα &amp; διατήρηση φυσικής κληρονομιάς</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έργεια &amp; βιώσιμες μεταφορές</a:t>
            </a:r>
            <a:endParaRPr b="0" lang="en-US" sz="2400" spc="-1" strike="noStrike">
              <a:solidFill>
                <a:srgbClr val="5b5249"/>
              </a:solidFill>
              <a:latin typeface="Times New Roman"/>
            </a:endParaRPr>
          </a:p>
          <a:p>
            <a:pPr marL="609480" indent="-609480">
              <a:lnSpc>
                <a:spcPct val="80000"/>
              </a:lnSpc>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ολιτιστική κληρονομιά &amp; τοπία</a:t>
            </a:r>
            <a:endParaRPr b="0" lang="en-US" sz="2400" spc="-1" strike="noStrike">
              <a:solidFill>
                <a:srgbClr val="5b5249"/>
              </a:solidFill>
              <a:latin typeface="Times New Roman"/>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341360"/>
            <a:ext cx="7772400" cy="395928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ΔΙΑΠΕΡΙΦΕΡΕΙΑΚΗ ΣΥΝΕΡΓΑΣΙΑ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ac164"/>
                </a:solidFill>
                <a:uFillTx/>
                <a:latin typeface="Times New Roman"/>
              </a:rPr>
              <a:t>INTERREG IV C </a:t>
            </a:r>
            <a:r>
              <a:rPr b="1" i="1" lang="el-GR" sz="2400" spc="-1" strike="noStrike" u="sng">
                <a:solidFill>
                  <a:srgbClr val="fac164"/>
                </a:solidFill>
                <a:uFillTx/>
                <a:latin typeface="Times New Roman"/>
              </a:rPr>
              <a:t>  2007-2013</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graphicFrame>
        <p:nvGraphicFramePr>
          <p:cNvPr id="111" name=""/>
          <p:cNvGraphicFramePr/>
          <p:nvPr/>
        </p:nvGraphicFramePr>
        <p:xfrm>
          <a:off x="1187280" y="2852640"/>
          <a:ext cx="6121440" cy="2281320"/>
        </p:xfrm>
        <a:graphic>
          <a:graphicData uri="http://schemas.openxmlformats.org/drawingml/2006/table">
            <a:tbl>
              <a:tblPr/>
              <a:tblGrid>
                <a:gridCol w="3473640"/>
                <a:gridCol w="26478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Κοινοτική Συνδρομή ΕΤΠΑ</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τεραιότητα </a:t>
                      </a:r>
                      <a:r>
                        <a:rPr b="1" i="1" lang="en-US" sz="2000" spc="-1" strike="noStrike">
                          <a:solidFill>
                            <a:srgbClr val="2a3d7a"/>
                          </a:solidFill>
                          <a:latin typeface="Times New Roman"/>
                        </a:rPr>
                        <a:t>1</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  </a:t>
                      </a:r>
                      <a:r>
                        <a:rPr b="1" i="1" lang="el-GR" sz="2000" spc="-1" strike="noStrike">
                          <a:solidFill>
                            <a:srgbClr val="2a3d7a"/>
                          </a:solidFill>
                          <a:latin typeface="Times New Roman"/>
                        </a:rPr>
                        <a:t>55</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Προτεραιότητα </a:t>
                      </a:r>
                      <a:r>
                        <a:rPr b="1" i="1" lang="en-US" sz="2000" spc="-1" strike="noStrike">
                          <a:solidFill>
                            <a:srgbClr val="2a3d7a"/>
                          </a:solidFill>
                          <a:latin typeface="Times New Roman"/>
                        </a:rPr>
                        <a:t>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  </a:t>
                      </a:r>
                      <a:r>
                        <a:rPr b="1" i="1" lang="el-GR" sz="2000" spc="-1" strike="noStrike">
                          <a:solidFill>
                            <a:srgbClr val="2a3d7a"/>
                          </a:solidFill>
                          <a:latin typeface="Times New Roman"/>
                        </a:rPr>
                        <a:t>39</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Προτεραιότητα 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  </a:t>
                      </a:r>
                      <a:r>
                        <a:rPr b="1" i="1" lang="el-GR" sz="2000" spc="-1" strike="noStrike">
                          <a:solidFill>
                            <a:srgbClr val="2a3d7a"/>
                          </a:solidFill>
                          <a:latin typeface="Times New Roman"/>
                        </a:rPr>
                        <a:t>6</a:t>
                      </a:r>
                      <a:r>
                        <a:rPr b="1" i="1" lang="en-US" sz="2000" spc="-1" strike="noStrike">
                          <a:solidFill>
                            <a:srgbClr val="2a3d7a"/>
                          </a:solidFill>
                          <a:latin typeface="Times New Roman"/>
                        </a:rPr>
                        <a:t>%</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a3d7a"/>
                          </a:solidFill>
                          <a:latin typeface="Times New Roman"/>
                        </a:rPr>
                        <a:t>321.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26000"/>
          </a:bodyPr>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ΠΡΟΓΡΑΜΜΑ</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2a3d7a"/>
                </a:solidFill>
                <a:uFillTx/>
                <a:latin typeface="Times New Roman"/>
              </a:rPr>
              <a:t>ΔΙΑΠΕΡΙΦΕΡΕΙΑΚΗΣ ΣΥΝΕΡΓΑΣΙΑΣ</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2a3d7a"/>
                </a:solidFill>
                <a:uFillTx/>
                <a:latin typeface="Times New Roman"/>
              </a:rPr>
              <a:t>INTERREG IV C </a:t>
            </a:r>
            <a:r>
              <a:rPr b="1" i="1" lang="el-GR" sz="3200" spc="-1" strike="noStrike" u="sng">
                <a:solidFill>
                  <a:srgbClr val="2a3d7a"/>
                </a:solidFill>
                <a:uFillTx/>
                <a:latin typeface="Times New Roman"/>
              </a:rPr>
              <a:t> 2007-2013</a:t>
            </a: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18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18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13"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0T12:02:05Z</dcterms:modified>
  <cp:revision>318</cp:revision>
  <dc:subject/>
  <dc:title>Παρουσίαση του PowerPoint</dc:title>
</cp:coreProperties>
</file>