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66B-9C8C-4AFF-AC9B-FCDC7047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E8A-73F0-423E-A437-7029963F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5D8-4394-4344-82B1-E012B7CF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21D-8BB2-4753-B5A6-C819616B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D9B02-360F-4B9D-ACE0-F1F3ADF7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72C16-A720-44D8-9624-8A450D75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46C1F-AB15-4385-B045-F93C009F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42EB1-CF81-41A2-AAF2-2AD688E2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8CB71-A3E6-43B6-A80D-01D20919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7E9F8-544E-4EBD-BF8D-DD4A2815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663A5-10B6-48DF-A00C-0444FB0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F58-681F-40C5-86B6-167C3AEB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8E3F5-0D5F-420A-BD26-99146E4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1CD53-EABC-4004-B6B0-034DC4A6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EE9A4-A7B4-476B-850A-E4F0456F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33FDB-78DC-49E8-A9A2-C433ED93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7444F-E288-4F52-8917-11B85929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6D3-4119-4698-970B-E3D82807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FCC-B715-41FC-856F-A1D6C249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0DD-F74E-4408-8408-B24D4F15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FF2-B129-4703-952B-124B0600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C0E-4A8B-4A69-B716-EA86A4DA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9C9-F1EC-48C4-B9B9-A5789F92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A1F-552D-45FC-A02D-E007A971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F01B-6C03-4430-8A53-915F7FBF3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EF8B-BE9E-44F0-90FA-15F8C7AB4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ΕΠΙΧΕΙΡΗΜΑΤΙΚΟ ΣΧΕΔΙ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finance" descr=""/>
          <p:cNvPicPr/>
          <p:nvPr/>
        </p:nvPicPr>
        <p:blipFill>
          <a:blip r:embed="rId2"/>
          <a:stretch/>
        </p:blipFill>
        <p:spPr>
          <a:xfrm>
            <a:off x="324000" y="580536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300720" y="5805360"/>
            <a:ext cx="2581200" cy="771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14680" y="3019320"/>
            <a:ext cx="245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4680" y="3019320"/>
            <a:ext cx="32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916280"/>
            <a:ext cx="84247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Arial Black"/>
              </a:rPr>
              <a:t>ΑΝ</a:t>
            </a:r>
            <a:r>
              <a:rPr b="1" lang="el-GR" sz="3200" spc="-1" strike="noStrike">
                <a:solidFill>
                  <a:srgbClr val="ffffff"/>
                </a:solidFill>
                <a:latin typeface="Arial Black"/>
              </a:rPr>
              <a:t>ΑΝΕΩΣΙΜΑ</a:t>
            </a:r>
            <a:r>
              <a:rPr b="1" lang="el-GR" sz="3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l-GR" sz="4000" spc="-1" strike="noStrike">
                <a:solidFill>
                  <a:srgbClr val="ff0000"/>
                </a:solidFill>
                <a:latin typeface="Arial Black"/>
              </a:rPr>
              <a:t>ΚΑ</a:t>
            </a:r>
            <a:r>
              <a:rPr b="1" lang="el-GR" sz="3200" spc="-1" strike="noStrike">
                <a:solidFill>
                  <a:srgbClr val="ffffff"/>
                </a:solidFill>
                <a:latin typeface="Arial Black"/>
              </a:rPr>
              <a:t>ΥΣΙΜΑ</a:t>
            </a:r>
            <a:r>
              <a:rPr b="1" lang="el-GR" sz="3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l-GR" sz="4000" spc="-1" strike="noStrike">
                <a:solidFill>
                  <a:srgbClr val="ff0000"/>
                </a:solidFill>
                <a:latin typeface="Arial Black"/>
              </a:rPr>
              <a:t>ΕΛ</a:t>
            </a:r>
            <a:r>
              <a:rPr b="1" lang="el-GR" sz="3200" spc="-1" strike="noStrike">
                <a:solidFill>
                  <a:srgbClr val="ffffff"/>
                </a:solidFill>
                <a:latin typeface="Arial Black"/>
              </a:rPr>
              <a:t>ΛΑΔΟ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1" lang="el-GR" sz="4000" spc="-1" strike="noStrike">
                <a:solidFill>
                  <a:srgbClr val="ff0000"/>
                </a:solidFill>
                <a:latin typeface="Arial Black"/>
              </a:rPr>
              <a:t>ΑΝ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KA</a:t>
            </a:r>
            <a:r>
              <a:rPr b="1" lang="el-GR" sz="4000" spc="-1" strike="noStrike">
                <a:solidFill>
                  <a:srgbClr val="ff0000"/>
                </a:solidFill>
                <a:latin typeface="Arial Black"/>
              </a:rPr>
              <a:t>ΕΛ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18900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USINESS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484280"/>
            <a:ext cx="828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Microsoft Sans Serif"/>
              </a:rPr>
              <a:t>Μειώσει</a:t>
            </a:r>
            <a:r>
              <a:rPr b="0" lang="el-GR" sz="2800" spc="-1" strike="noStrike">
                <a:solidFill>
                  <a:srgbClr val="ffffff"/>
                </a:solidFill>
                <a:latin typeface="Microsoft Sans Serif"/>
              </a:rPr>
              <a:t> την εξάρτηση της εκάστοτε χώρας από την εισαγωγή πετρελαίο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Microsoft Sans Serif"/>
              </a:rPr>
              <a:t>Βοηθήσει </a:t>
            </a:r>
            <a:r>
              <a:rPr b="0" lang="el-GR" sz="2800" spc="-1" strike="noStrike">
                <a:solidFill>
                  <a:srgbClr val="ffffff"/>
                </a:solidFill>
                <a:latin typeface="Microsoft Sans Serif"/>
              </a:rPr>
              <a:t>στη δημιουργία μιας νέας αγοράς και στην ανάπτυξη του γεωργικού τομέ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Microsoft Sans Serif"/>
              </a:rPr>
              <a:t>Ελαττώσει</a:t>
            </a:r>
            <a:r>
              <a:rPr b="0" lang="el-GR" sz="2800" spc="-1" strike="noStrike">
                <a:solidFill>
                  <a:srgbClr val="ffffff"/>
                </a:solidFill>
                <a:latin typeface="Microsoft Sans Serif"/>
              </a:rPr>
              <a:t> τις εκπομπές CO2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Microsoft Sans Serif"/>
              </a:rPr>
              <a:t>Ελαττώσει</a:t>
            </a:r>
            <a:r>
              <a:rPr b="0" lang="el-GR" sz="2800" spc="-1" strike="noStrike">
                <a:solidFill>
                  <a:srgbClr val="ffffff"/>
                </a:solidFill>
                <a:latin typeface="Microsoft Sans Serif"/>
              </a:rPr>
              <a:t> τις εκπομπές άκαυστων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Microsoft Sans Serif"/>
              </a:rPr>
              <a:t>υδρογονανθράκων, μονοξειδίου του άνθρακα και αιθάλη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33336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Η χρήση βιοντήζελ είναι δυνατόν να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81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2920" y="54450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 Black"/>
              </a:rPr>
              <a:t>ΑΓΟΡΕΣ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&amp;</a:t>
            </a:r>
            <a:r>
              <a:rPr b="0" lang="el-G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RKET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7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Ο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Κλάδος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των καυσίμων κίνηση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Στην Ελλάδα δεν υπάρχει διαμορφωμένος κλάδος </a:t>
            </a:r>
            <a:r>
              <a:rPr b="0" lang="el-GR" sz="3200" spc="-1" strike="noStrike">
                <a:solidFill>
                  <a:srgbClr val="ff0000"/>
                </a:solidFill>
                <a:latin typeface="Tahoma"/>
              </a:rPr>
              <a:t>βιοκαυσίμων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. Ο κλάδος αυτός, ωστόσο, εντάσσεται στον κλάδο των πετρελαιοειδώ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Οι ποσότητες αυτούσιων υγρών </a:t>
            </a:r>
            <a:r>
              <a:rPr b="0" lang="el-GR" sz="3200" spc="-1" strike="noStrike">
                <a:solidFill>
                  <a:srgbClr val="ff0000"/>
                </a:solidFill>
                <a:latin typeface="Tahoma"/>
              </a:rPr>
              <a:t>βιοκαυσίμων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που υπόκεινται στο ειδικό φορολογικό καθεστώς των διατάξεων του άρθρου 78 του ν. 2960/200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351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Προσφέρονται από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Μονάδες Παραγωγή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βιοκαυσίμων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και προορίζονται για ανάμειξη με προϊόντα διύλισης αργού πετρελαίου, παραλαμβάνονται υποχρεωτικά και διατίθενται στην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Ελληνική Επικράτεια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Διατίθενται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Αποκλειστικά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από Εταιρείες κατόχους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Αδείας Διύλιση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και κατόχους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Αδείας Εμπορία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κατηγορίας Α'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4000" y="333360"/>
            <a:ext cx="8424720" cy="703440"/>
          </a:xfrm>
          <a:prstGeom prst="rect">
            <a:avLst/>
          </a:prstGeom>
          <a:solidFill>
            <a:srgbClr val="c0c0c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Χαρακτηριστικά των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πελατώ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3213000"/>
            <a:ext cx="806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Η 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</a:rPr>
              <a:t>MOTOR OIL HELLAS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 είναι μία εταιρεία με ηγετικό ρόλο στον τομέα της διύλισης πετρελαίου. Η εταιρεία έχει εξελιχθεί σε έναν από τους κύριους στυλοβάτες της εθνικής οικονομίας, ενώ παράλληλα διατηρεί και πρωταγωνιστικό ρόλο στην ευρύτερη περιοχή της Νοτιοανατολικής Ευρώπη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62064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Η </a:t>
            </a:r>
            <a:r>
              <a:rPr b="1" lang="en-US" sz="2800" spc="-1" strike="noStrike">
                <a:solidFill>
                  <a:srgbClr val="ff0000"/>
                </a:solidFill>
                <a:latin typeface="Microsoft Sans Serif"/>
              </a:rPr>
              <a:t>ΕΛΛΗΝΙΚΑ ΠΕΤΡΕΛΑΙΑ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 είναι η μεγαλύτερη βιομηχανική και εμπορική εταιρεία στην Ελλάδα με ηγετική θέση στον τομέα της ενέργειας στην Νοτιοανατολική Ευρώπ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9700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Sans Serif"/>
              </a:rPr>
              <a:t>Οι Ανταγωνιστέ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312560"/>
            <a:ext cx="8497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Microsoft Sans Serif"/>
              </a:rPr>
              <a:t>ΕΛ.ΒΙ</a:t>
            </a:r>
            <a:r>
              <a:rPr b="0" lang="en-US" sz="2300" spc="-1" strike="noStrike">
                <a:solidFill>
                  <a:srgbClr val="ffffff"/>
                </a:solidFill>
                <a:latin typeface="Microsoft Sans Serif"/>
              </a:rPr>
              <a:t> (ΕΛΛΗΝΙΚΑ ΒΙΟΠΕΤΡΕΛΑΙΑ ΑΒΕΕ) στο Σταυροχώρι του Κιλκίς με ετήσια δυναμικότητα 45.000 τόνους, το οποίο ξεκίνησε να λειτουργεί το Δεκέμβριο του 2005 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Microsoft Sans Serif"/>
              </a:rPr>
              <a:t>VERT OIL AE</a:t>
            </a:r>
            <a:r>
              <a:rPr b="0" lang="en-US" sz="2300" spc="-1" strike="noStrike">
                <a:solidFill>
                  <a:srgbClr val="ffffff"/>
                </a:solidFill>
                <a:latin typeface="Microsoft Sans Serif"/>
              </a:rPr>
              <a:t> στη Θεσσαλονίκη με ετήσια δυναμικότητα 25.000 τόνους και έναρξη παραγωγής τον Ιούλιο 2006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Microsoft Sans Serif"/>
              </a:rPr>
              <a:t>ΠΑΥΛΟΣ Ν.ΠΕΤΤΑΣ ΑΒΕΕ</a:t>
            </a:r>
            <a:r>
              <a:rPr b="0" lang="en-US" sz="2300" spc="-1" strike="noStrike">
                <a:solidFill>
                  <a:srgbClr val="ffffff"/>
                </a:solidFill>
                <a:latin typeface="Microsoft Sans Serif"/>
              </a:rPr>
              <a:t> στη Πάτρα με ετήσια δυναμικότητα 45.000 τόνους και έναρξη παραγωγής τον Ιούλιο 2006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Microsoft Sans Serif"/>
              </a:rPr>
              <a:t>AGROINVEST ΑΕ</a:t>
            </a:r>
            <a:r>
              <a:rPr b="0" lang="en-US" sz="2300" spc="-1" strike="noStrike">
                <a:solidFill>
                  <a:srgbClr val="ffffff"/>
                </a:solidFill>
                <a:latin typeface="Microsoft Sans Serif"/>
              </a:rPr>
              <a:t> στη Φθιώτιδα με ετήσια δυναμικότητα 200.000 τόνους και έναρξη παραγωγής τον Νοέμβριο 2006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Microsoft Sans Serif"/>
              </a:rPr>
              <a:t>ΕΛΙΝΟΙΛ ΑΕ</a:t>
            </a:r>
            <a:r>
              <a:rPr b="0" lang="en-US" sz="2300" spc="-1" strike="noStrike">
                <a:solidFill>
                  <a:srgbClr val="ffffff"/>
                </a:solidFill>
                <a:latin typeface="Microsoft Sans Serif"/>
              </a:rPr>
              <a:t> στο Βόλο με ετήσια δυναμικότητα 80.000 τόνους με έναρξη παραγωγής τον Δεκέμβρη 2006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Η εγκατεστημένη </a:t>
            </a:r>
            <a:r>
              <a:rPr b="1" lang="en-US" sz="3200" spc="-1" strike="noStrike">
                <a:solidFill>
                  <a:srgbClr val="ff0000"/>
                </a:solidFill>
                <a:latin typeface="Microsoft Sans Serif"/>
              </a:rPr>
              <a:t>αθροιστική δυναμικότητα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 των υπό κατασκευή μονάδων και των μονάδων οι οποίες έχουν εισέλθει στο στάδιο της </a:t>
            </a:r>
            <a:r>
              <a:rPr b="1" lang="en-US" sz="3200" spc="-1" strike="noStrike">
                <a:solidFill>
                  <a:srgbClr val="ff0000"/>
                </a:solidFill>
                <a:latin typeface="Microsoft Sans Serif"/>
              </a:rPr>
              <a:t>κανονικής παραγωγής βιοντήζελ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 ξεπερνούν κατά μια τάξη μεγέθους τις απαιτήσεις σε βιοντήζελ της χώρας για το </a:t>
            </a:r>
            <a:r>
              <a:rPr b="1" lang="en-US" sz="3200" spc="-1" strike="noStrike">
                <a:solidFill>
                  <a:srgbClr val="ff0000"/>
                </a:solidFill>
                <a:latin typeface="Microsoft Sans Serif"/>
              </a:rPr>
              <a:t>έτος 2010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Το τέλος του 2006 άλλες </a:t>
            </a:r>
            <a:r>
              <a:rPr b="1" lang="en-US" sz="3200" spc="-1" strike="noStrike">
                <a:solidFill>
                  <a:srgbClr val="ff0000"/>
                </a:solidFill>
                <a:latin typeface="Microsoft Sans Serif"/>
              </a:rPr>
              <a:t>8 μονάδες παραγωγής βιοντίζελ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 σε διάφορα σημεία της Ελλάδας με δυναμικότητε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3 των 5000 τόνω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3 των 11.000 τόνω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1 των 22.000 τόνων κα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1 των 100.000 τόνων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(με εκτιμώμενη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έναρξη παραγωγής το δεύτερο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εξάμηνο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του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404640"/>
            <a:ext cx="82803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Microsoft Sans Serif"/>
              </a:rPr>
              <a:t>Επίσης πρέπει να </a:t>
            </a:r>
            <a:r>
              <a:rPr b="1" lang="en-US" sz="3300" spc="-1" strike="noStrike">
                <a:solidFill>
                  <a:srgbClr val="ff0000"/>
                </a:solidFill>
                <a:latin typeface="Microsoft Sans Serif"/>
              </a:rPr>
              <a:t>ληφθούν υπόψη</a:t>
            </a:r>
            <a:r>
              <a:rPr b="1" lang="en-US" sz="3300" spc="-1" strike="noStrike">
                <a:solidFill>
                  <a:srgbClr val="ffffff"/>
                </a:solidFill>
                <a:latin typeface="Microsoft Sans Serif"/>
              </a:rPr>
              <a:t> διάφοροι παράγοντες όπως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70028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Η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αναμενόμενη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πάταξη της εκτεταμένης λαθρεμπορίας πετρελαίου θέρμανσης στην Ελλάδα και η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συνεπαγόμενη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θεαματική αύξηση στη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“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στατιστική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”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κατανάλωση </a:t>
            </a:r>
            <a:r>
              <a:rPr b="0" lang="en-GB" sz="3200" spc="-1" strike="noStrike">
                <a:solidFill>
                  <a:srgbClr val="ffffff"/>
                </a:solidFill>
                <a:latin typeface="Microsoft Sans Serif"/>
              </a:rPr>
              <a:t>diesel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κίνηση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4724280"/>
            <a:ext cx="8425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Η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αναμενόμενη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αύξηση του στοχευόμενου ποσοστού χρήσης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βιοκαυσίμων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στην Ευρωπαϊκή ένωση για το έτος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202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2276640"/>
            <a:ext cx="8497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ffffff"/>
                </a:solidFill>
                <a:latin typeface="Arial Black"/>
              </a:rPr>
              <a:t>Περιγραφή της</a:t>
            </a:r>
            <a:r>
              <a:rPr b="1" lang="en-US" sz="3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l-GR" sz="3800" spc="-1" strike="noStrike">
                <a:solidFill>
                  <a:srgbClr val="ff0000"/>
                </a:solidFill>
                <a:latin typeface="Arial Black"/>
              </a:rPr>
              <a:t>Επιχειρηματικής</a:t>
            </a:r>
            <a:br>
              <a:rPr sz="3800"/>
            </a:br>
            <a:r>
              <a:rPr b="1" lang="el-GR" sz="3800" spc="-1" strike="noStrike">
                <a:solidFill>
                  <a:srgbClr val="ffffff"/>
                </a:solidFill>
                <a:latin typeface="Arial Black"/>
              </a:rPr>
              <a:t>Δραστηριότητας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00000" y="393372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Η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εκφρασμένη αδυναμία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εγκατάστασης στη χώρα μονάδων παραγωγής άλλων βιοκαυσίμων (όπως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βιο-αιθανόλης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836640"/>
            <a:ext cx="75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Η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αύξηση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του στόλου των αυτοκινήτων στην Ελλάδα για το ίδιο διάστημα και ιδιαίτερα των αυτοκινήτων με κινητήρες </a:t>
            </a:r>
            <a:r>
              <a:rPr b="0" lang="en-GB" sz="3200" spc="-1" strike="noStrike">
                <a:solidFill>
                  <a:srgbClr val="ffffff"/>
                </a:solidFill>
                <a:latin typeface="Microsoft Sans Serif"/>
              </a:rPr>
              <a:t>dies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6899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620640"/>
            <a:ext cx="66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Τοποθέτηση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positionin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49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Microsoft Sans Serif"/>
              </a:rPr>
              <a:t>Στόχο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για κάλυψη σημαντικού ποσοστο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της εγχώριας αγοράς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βιοντήζελ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είνα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εφικτός και ρεαλιστικός και θα τύχει τη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στήριξης της Ελληνικής Πολιτείας και το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Υπουργείου Ανάπτυξης με τη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παραχώρηση αντίστοιχων ποσοστώ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απόφορολογημένου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βιοντήζελ στη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ΑΝΚΑΕΛ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στις κατανομές των πρώτω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ετών λειτουργίας της μονάδας παραγωγή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836640"/>
            <a:ext cx="8136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Η εταιρεία </a:t>
            </a:r>
            <a:r>
              <a:rPr b="1" lang="en-US" sz="3000" spc="-1" strike="noStrike">
                <a:solidFill>
                  <a:srgbClr val="ff0000"/>
                </a:solidFill>
                <a:latin typeface="Microsoft Sans Serif"/>
              </a:rPr>
              <a:t>ΑΝΚΑΕΛ</a:t>
            </a: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 θα δραστηριοποιηθεί μακροπρόθεσμα στην ανάπτυξη </a:t>
            </a:r>
            <a:r>
              <a:rPr b="0" lang="en-US" sz="3000" spc="-1" strike="noStrike">
                <a:solidFill>
                  <a:srgbClr val="ff0000"/>
                </a:solidFill>
                <a:latin typeface="Microsoft Sans Serif"/>
              </a:rPr>
              <a:t>καινοτόμων μεθόδων παραγωγής βιοκαυσίμων</a:t>
            </a: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 με ταυτόχρονη εκμετάλλευση των </a:t>
            </a:r>
            <a:r>
              <a:rPr b="0" lang="en-US" sz="3000" spc="-1" strike="noStrike">
                <a:solidFill>
                  <a:srgbClr val="ff0000"/>
                </a:solidFill>
                <a:latin typeface="Microsoft Sans Serif"/>
              </a:rPr>
              <a:t>παραγόμενων παραπροϊόντων</a:t>
            </a: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 όπως η αξιοποίηση της </a:t>
            </a:r>
            <a:r>
              <a:rPr b="0" lang="en-US" sz="3000" spc="-1" strike="noStrike">
                <a:solidFill>
                  <a:srgbClr val="ff0000"/>
                </a:solidFill>
                <a:latin typeface="Microsoft Sans Serif"/>
              </a:rPr>
              <a:t>γλυκερόλης</a:t>
            </a: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 η οποία παράγεται ταυτόχρονα με το </a:t>
            </a:r>
            <a:r>
              <a:rPr b="0" lang="en-US" sz="3000" spc="-1" strike="noStrike">
                <a:solidFill>
                  <a:srgbClr val="ff0000"/>
                </a:solidFill>
                <a:latin typeface="Microsoft Sans Serif"/>
              </a:rPr>
              <a:t>βιοντήζελ</a:t>
            </a: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. Η εκμετάλλευση των παραπροϊόντων για την παραγωγή προϊόντων υψηλής προστιθέμενης αξίας θα αποτελεί βασικό </a:t>
            </a:r>
            <a:r>
              <a:rPr b="0" lang="en-US" sz="3000" spc="-1" strike="noStrike">
                <a:solidFill>
                  <a:srgbClr val="ff0000"/>
                </a:solidFill>
                <a:latin typeface="Microsoft Sans Serif"/>
              </a:rPr>
              <a:t>στρατηγικό στόχο</a:t>
            </a: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 της εταιρείας ΑΝΚΑΕ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3141720"/>
            <a:ext cx="8424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 Black"/>
              </a:rPr>
              <a:t>Πολιτική </a:t>
            </a:r>
            <a:r>
              <a:rPr b="1" lang="en-US" sz="3700" spc="-1" strike="noStrike">
                <a:solidFill>
                  <a:srgbClr val="000000"/>
                </a:solidFill>
                <a:latin typeface="Arial Black"/>
              </a:rPr>
              <a:t>προϊόντος</a:t>
            </a:r>
            <a:r>
              <a:rPr b="1" lang="en-US" sz="3700" spc="-1" strike="noStrike">
                <a:solidFill>
                  <a:srgbClr val="ffffff"/>
                </a:solidFill>
                <a:latin typeface="Arial Black"/>
              </a:rPr>
              <a:t> ή υπηρεσίας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Microsoft Sans Serif"/>
              </a:rPr>
              <a:t>Πραγματοποίηση</a:t>
            </a:r>
            <a:r>
              <a:rPr b="1" lang="en-US" sz="3000" spc="-1" strike="noStrike">
                <a:solidFill>
                  <a:srgbClr val="ffffff"/>
                </a:solidFill>
                <a:latin typeface="Microsoft Sans Serif"/>
              </a:rPr>
              <a:t> σημαντικών δαπανών για έρευνα και ανάπτυξη  τις οποίες δεν είναι εφικτό να επωμιστεί εξολοκλήρου η ΑΝΚΑΕΛ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Microsoft Sans Serif"/>
              </a:rPr>
              <a:t>Δημιουργία</a:t>
            </a:r>
            <a:r>
              <a:rPr b="1" lang="en-US" sz="3000" spc="-1" strike="noStrike">
                <a:solidFill>
                  <a:srgbClr val="ffffff"/>
                </a:solidFill>
                <a:latin typeface="Microsoft Sans Serif"/>
              </a:rPr>
              <a:t> μιας στρατηγικής συμμαχίας με τα τμήματα Βιολογίας και Χημικών Μηχανικών του Πανεπιστημίου Πατρών και τα αντίστοιχα εργαστήρια τα οποία δραστηριοποιούνται σε θέματα σχετικά με την ανάπτυξη καινοτόμων βιο-διεργασιών</a:t>
            </a: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Microsoft Sans Serif"/>
              </a:rPr>
              <a:t>Δημιουργία</a:t>
            </a:r>
            <a:r>
              <a:rPr b="1" lang="en-US" sz="3000" spc="-1" strike="noStrike">
                <a:solidFill>
                  <a:srgbClr val="ffffff"/>
                </a:solidFill>
                <a:latin typeface="Microsoft Sans Serif"/>
              </a:rPr>
              <a:t> ενός Τμήματος Έρευνας και Ανάπτυξης και τη στελέχωσή του με ικανούς και έμπειρους ερευνητές</a:t>
            </a: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260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Τιμολόγησ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Το ιδιόμορφο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ολιγοπωλιακό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περιβάλλο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εντός του οποίου θα λειτουργήσει 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ΑΝΚΑΕΛ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θα αποτρέπει τον ελεύθερ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καθορισμό των τιμών διάθεσης το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παραγόμενου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βιοντήζελ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στους από το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νόμ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οριζόμενους αποκλειστικού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αγοραστές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907920"/>
            <a:ext cx="799128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Είναι κατά συνέπεια προφανές ότι είνα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προς το συμφέρον της χώρας ο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καθορισμός τιμών διάθεσης του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βιοντήζε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από τις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παραγωγικές μονάδες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στου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αποκλειστικούς αγοραστές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οι οποίες θ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εξασφαλίζουν την μακροπρόθεσμη κα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βραχυπρόθεσμη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βιωσιμότητα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τη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εταιρεία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836720" y="-4680"/>
            <a:ext cx="10980720" cy="6862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765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 Black"/>
              </a:rPr>
              <a:t>Προβολή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l-GR" sz="3600" spc="-1" strike="noStrike">
                <a:solidFill>
                  <a:srgbClr val="ffffff"/>
                </a:solidFill>
                <a:latin typeface="Arial Black"/>
              </a:rPr>
              <a:t>/ Προώθηση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l-GR" sz="3600" spc="-1" strike="noStrike">
                <a:solidFill>
                  <a:srgbClr val="ffffff"/>
                </a:solidFill>
                <a:latin typeface="Arial Black"/>
              </a:rPr>
              <a:t>Πωλήσεων</a:t>
            </a:r>
            <a:r>
              <a:rPr b="0" lang="el-G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27880" cy="1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ffffff"/>
                </a:solidFill>
                <a:latin typeface="Microsoft Sans Serif"/>
              </a:rPr>
              <a:t>Παραγωγή και διάθεση </a:t>
            </a:r>
            <a:r>
              <a:rPr b="0" lang="el-GR" sz="3400" spc="-1" strike="noStrike">
                <a:solidFill>
                  <a:srgbClr val="ff0000"/>
                </a:solidFill>
                <a:latin typeface="Microsoft Sans Serif"/>
              </a:rPr>
              <a:t>βιοκαυσίμων</a:t>
            </a:r>
            <a:r>
              <a:rPr b="0" lang="en-US" sz="3400" spc="-1" strike="noStrike">
                <a:solidFill>
                  <a:srgbClr val="ff0000"/>
                </a:solidFill>
                <a:latin typeface="Microsoft Sans Serif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ffffff"/>
                </a:solidFill>
                <a:latin typeface="Microsoft Sans Serif"/>
              </a:rPr>
              <a:t>στην</a:t>
            </a: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l-GR" sz="3400" spc="-1" strike="noStrike">
                <a:solidFill>
                  <a:srgbClr val="ffffff"/>
                </a:solidFill>
                <a:latin typeface="Microsoft Sans Serif"/>
              </a:rPr>
              <a:t>Ελληνική αγορά με έμφαση, σε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ffffff"/>
                </a:solidFill>
                <a:latin typeface="Microsoft Sans Serif"/>
              </a:rPr>
              <a:t>βραχύ</a:t>
            </a: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l-GR" sz="3400" spc="-1" strike="noStrike">
                <a:solidFill>
                  <a:srgbClr val="ffffff"/>
                </a:solidFill>
                <a:latin typeface="Microsoft Sans Serif"/>
              </a:rPr>
              <a:t>χρόνο, στο βιοντήζελ</a:t>
            </a: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141720"/>
            <a:ext cx="734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Ανάπτυξη, προτυποποίηση και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υλοποίηση προηγμένων μεθόδων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παραγωγής </a:t>
            </a:r>
            <a:r>
              <a:rPr b="0" lang="en-US" sz="3400" spc="-1" strike="noStrike">
                <a:solidFill>
                  <a:srgbClr val="ff0000"/>
                </a:solidFill>
                <a:latin typeface="Microsoft Sans Serif"/>
              </a:rPr>
              <a:t>βιοκαυσίμων</a:t>
            </a: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 όπως η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βιοαιθανόλη, το βιουδρογόνο και το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βιοντήζελ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850"/>
              </a:spcBef>
              <a:buClr>
                <a:srgbClr val="ffcc00"/>
              </a:buClr>
              <a:buSzPct val="12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692280"/>
            <a:ext cx="718920" cy="647640"/>
          </a:xfrm>
          <a:prstGeom prst="rightArrow">
            <a:avLst>
              <a:gd name="adj1" fmla="val 38972"/>
              <a:gd name="adj2" fmla="val 226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141720"/>
            <a:ext cx="719280" cy="647640"/>
          </a:xfrm>
          <a:prstGeom prst="rightArrow">
            <a:avLst>
              <a:gd name="adj1" fmla="val 38972"/>
              <a:gd name="adj2" fmla="val 226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549360"/>
            <a:ext cx="806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Microsoft Sans Serif"/>
              </a:rPr>
              <a:t>Επιθετική προβολή</a:t>
            </a: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 στους τελικούς καταναλωτές των πλεονεκτημάτων χρήσης ανανεώσιμων καυσίμω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Microsoft Sans Serif"/>
              </a:rPr>
              <a:t>Δημιουργία </a:t>
            </a: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μιας περιβαλλοντικά ευαίσθητης ομάδας καταναλωτώ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Microsoft Sans Serif"/>
              </a:rPr>
              <a:t>Διαφημιστική καμπάνια</a:t>
            </a:r>
            <a:r>
              <a:rPr b="0" lang="en-US" sz="3000" spc="-1" strike="noStrike">
                <a:solidFill>
                  <a:srgbClr val="ffffff"/>
                </a:solidFill>
                <a:latin typeface="Microsoft Sans Serif"/>
              </a:rPr>
              <a:t> στα ΜΜΕ και ημερήσιο Τύπο το κόστος της οποίας θα πρέπει να επιμεριστεί δικαίως μεταξύ των εταιρειών παραγωγής αλλά και τελικής διάθεσης των βιοκαυσίμω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3280" y="260280"/>
            <a:ext cx="3899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Παραγωγή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Διαχείριση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Λειτουργιώ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496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l-GR" sz="3200" spc="-1" strike="noStrike">
                <a:solidFill>
                  <a:srgbClr val="ff0000"/>
                </a:solidFill>
                <a:latin typeface="Microsoft Sans Serif"/>
              </a:rPr>
              <a:t>Ελαιοκράμβη - Κραμβέλαιο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Στη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διεθνή βιβλιογραφία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οι αποδόσεις της ελαιοκράμβης σε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βιοντήζελ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που αναφέρονται είναι αρκετά υψηλότερες ως και 2.7~3 </a:t>
            </a:r>
            <a:r>
              <a:rPr b="0" lang="en-GB" sz="3200" spc="-1" strike="noStrike">
                <a:solidFill>
                  <a:srgbClr val="ffffff"/>
                </a:solidFill>
                <a:latin typeface="Microsoft Sans Serif"/>
              </a:rPr>
              <a:t>t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 σπόρων/</a:t>
            </a:r>
            <a:r>
              <a:rPr b="0" lang="en-GB" sz="3200" spc="-1" strike="noStrike">
                <a:solidFill>
                  <a:srgbClr val="ffffff"/>
                </a:solidFill>
                <a:latin typeface="Microsoft Sans Serif"/>
              </a:rPr>
              <a:t>ha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ή 1100~1200 </a:t>
            </a:r>
            <a:r>
              <a:rPr b="0" lang="en-GB" sz="3200" spc="-1" strike="noStrike">
                <a:solidFill>
                  <a:srgbClr val="ffffff"/>
                </a:solidFill>
                <a:latin typeface="Microsoft Sans Serif"/>
              </a:rPr>
              <a:t>L 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βιοντήζελ/</a:t>
            </a:r>
            <a:r>
              <a:rPr b="0" lang="en-GB" sz="3200" spc="-1" strike="noStrike">
                <a:solidFill>
                  <a:srgbClr val="ffffff"/>
                </a:solidFill>
                <a:latin typeface="Microsoft Sans Serif"/>
              </a:rPr>
              <a:t>ha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Ενδεικτικά αναφέρεται ότι για απόδοση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500 </a:t>
            </a:r>
            <a:r>
              <a:rPr b="0" lang="en-GB" sz="3200" spc="-1" strike="noStrike">
                <a:solidFill>
                  <a:srgbClr val="ff0000"/>
                </a:solidFill>
                <a:latin typeface="Microsoft Sans Serif"/>
              </a:rPr>
              <a:t>L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βιοντήζελ/</a:t>
            </a:r>
            <a:r>
              <a:rPr b="0" lang="en-GB" sz="3200" spc="-1" strike="noStrike">
                <a:solidFill>
                  <a:srgbClr val="ff0000"/>
                </a:solidFill>
                <a:latin typeface="Microsoft Sans Serif"/>
              </a:rPr>
              <a:t>ha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καλλιεργήσιμης γης απαιτούνται συνολικά περίπου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340,000 </a:t>
            </a:r>
            <a:r>
              <a:rPr b="0" lang="en-GB" sz="3200" spc="-1" strike="noStrike">
                <a:solidFill>
                  <a:srgbClr val="ff0000"/>
                </a:solidFill>
                <a:latin typeface="Microsoft Sans Serif"/>
              </a:rPr>
              <a:t>ha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καλλιέργειας ελαιοκράμβης για την ικανοποίηση του στόχου για το έτος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2010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l-GR" sz="3200" spc="-1" strike="noStrike">
                <a:solidFill>
                  <a:srgbClr val="ff0000"/>
                </a:solidFill>
                <a:latin typeface="Microsoft Sans Serif"/>
              </a:rPr>
              <a:t>Παραγωγή Βιοντήζελ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Κατά τη διαδικασία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παραγωγής βιοντήζελ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, το έλαιο, του οποίου τα κύρια συστατικά είναι τα τριγλυκερίδια και τα ελεύθερα λιπαρά οξέα, αντιδρά με αλκοόλη παρουσία καταλύτη και παράγεται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βιοντήζελ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Το βιοντήζελ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δεν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παράγεται σε καθαρή μορφή αλλά αποτελεί μέρος ενός μίγματος εστέρων, ελαίου και ΕΛΟ, μεθανόλης, καταλύτη, σαπώνων, αλάτων και νερού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670716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Διοίκηση - Οργανόγραμμα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090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Οι ανάγκες σε άμεση εργασία εκτιμώνται σε 15 εργαζομένους. Έτσι συνολικά η επιχείρηση αναμένεται να απασχολεί περίπου 25 εργαζομένου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71640" y="3357000"/>
            <a:ext cx="7772400" cy="2613960"/>
            <a:chOff x="971640" y="3357000"/>
            <a:chExt cx="7772400" cy="2613960"/>
          </a:xfrm>
        </p:grpSpPr>
        <p:sp>
          <p:nvSpPr>
            <p:cNvPr id="151" name=""/>
            <p:cNvSpPr/>
            <p:nvPr/>
          </p:nvSpPr>
          <p:spPr>
            <a:xfrm>
              <a:off x="3239640" y="3357000"/>
              <a:ext cx="2754360" cy="432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Bookman Old Style"/>
                  <a:ea typeface="바탕"/>
                </a:rPr>
                <a:t>ΔΙΟΙΚΗΤΙΚΟ ΣΥΜΒΟΥΛΙΟ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39640" y="4077000"/>
              <a:ext cx="2754360" cy="288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Bookman Old Style"/>
                  <a:ea typeface="바탕"/>
                </a:rPr>
                <a:t>ΓΕΝΙΚΗ ΔΙΕΥΘΥΝΣ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71640" y="5085000"/>
              <a:ext cx="1458000" cy="884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ffffff"/>
                  </a:solidFill>
                  <a:latin typeface="Bookman Old Style"/>
                  <a:ea typeface="바탕"/>
                </a:rPr>
                <a:t>ΤΜΗΜΑ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ffffff"/>
                  </a:solidFill>
                  <a:latin typeface="Bookman Old Style"/>
                  <a:ea typeface="바탕"/>
                </a:rPr>
                <a:t>ΠΑΡΑΓΩΓΗΣ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91640" y="5085000"/>
              <a:ext cx="1620000" cy="8859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ffffff"/>
                  </a:solidFill>
                  <a:latin typeface="Bookman Old Style"/>
                  <a:ea typeface="바탕"/>
                </a:rPr>
                <a:t>ΤΜΗΜΑ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ffffff"/>
                  </a:solidFill>
                  <a:latin typeface="Bookman Old Style"/>
                  <a:ea typeface="바탕"/>
                </a:rPr>
                <a:t>ΕΦΟΔΙΑΣΜΟΥ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74000" y="5085000"/>
              <a:ext cx="1782000" cy="884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000000"/>
                  </a:solidFill>
                  <a:latin typeface="Bookman Old Style"/>
                  <a:ea typeface="바탕"/>
                </a:rPr>
                <a:t>ΤΜΗΜΑ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000000"/>
                  </a:solidFill>
                  <a:latin typeface="Bookman Old Style"/>
                  <a:ea typeface="바탕"/>
                </a:rPr>
                <a:t>ΟΙΚΟΝΟΜΙΚΩΝ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000000"/>
                  </a:solidFill>
                  <a:latin typeface="Bookman Old Style"/>
                  <a:ea typeface="바탕"/>
                </a:rPr>
                <a:t>&amp; ΠΡΟΣΩΠΙΚΟΥ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18360" y="5085000"/>
              <a:ext cx="2425680" cy="864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ffffff"/>
                  </a:solidFill>
                  <a:latin typeface="Bookman Old Style"/>
                  <a:ea typeface="바탕"/>
                </a:rPr>
                <a:t>ΤΜΗΜ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ffffff"/>
                  </a:solidFill>
                  <a:latin typeface="Bookman Old Style"/>
                  <a:ea typeface="바탕"/>
                </a:rPr>
                <a:t>ΠΟΙΟΤΙΚΟΥ ΕΛΕΓΧΟΥ &amp; ΕΡΕΥΝΑΣ &amp; ΑΝΑΠΤΥΞΗ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36000" y="3789000"/>
              <a:ext cx="108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19640" y="4797000"/>
              <a:ext cx="58327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19640" y="479700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39640" y="4797000"/>
              <a:ext cx="108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4000" y="4797000"/>
              <a:ext cx="108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52360" y="4797000"/>
              <a:ext cx="108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533480" y="4365000"/>
              <a:ext cx="1800" cy="43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Χρηματοοικονομικά  Στοιχεί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Οι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βασικές παραδοχέ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οι οποίες θα χρησιμοποιήθηκαν στη χρηματοοικονομική ανάλυση που ακολουθεί είναι οι ακόλουθε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Η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κατασκευή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της παραγωγικής μονάδας θα διαρκέσει δύο έτη με έναρξη κατασκευής τον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Ιανουάριο του 2009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Η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μονάδα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θα λειτουργήσει για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10 έτη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(2011-2020) και μετά το πέρας λειτουργίας η αξία τόσο του εξοπλισμού όσο και του οικοπέδου θα είναι μηδενικ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1280" y="430200"/>
            <a:ext cx="8136000" cy="62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ffffff"/>
                </a:solidFill>
                <a:latin typeface="Microsoft Sans Serif"/>
              </a:rPr>
              <a:t>Η </a:t>
            </a:r>
            <a:r>
              <a:rPr b="0" lang="el-GR" sz="3100" spc="-1" strike="noStrike">
                <a:solidFill>
                  <a:srgbClr val="ff0000"/>
                </a:solidFill>
                <a:latin typeface="Microsoft Sans Serif"/>
              </a:rPr>
              <a:t>δυναμικότητα</a:t>
            </a:r>
            <a:r>
              <a:rPr b="0" lang="el-GR" sz="3100" spc="-1" strike="noStrike">
                <a:solidFill>
                  <a:srgbClr val="ffffff"/>
                </a:solidFill>
                <a:latin typeface="Microsoft Sans Serif"/>
              </a:rPr>
              <a:t> της μονάδας θα είναι </a:t>
            </a:r>
            <a:r>
              <a:rPr b="0" lang="el-GR" sz="3100" spc="-1" strike="noStrike">
                <a:solidFill>
                  <a:srgbClr val="ff0000"/>
                </a:solidFill>
                <a:latin typeface="Microsoft Sans Serif"/>
              </a:rPr>
              <a:t>80,000 </a:t>
            </a:r>
            <a:r>
              <a:rPr b="0" lang="en-US" sz="3100" spc="-1" strike="noStrike">
                <a:solidFill>
                  <a:srgbClr val="ff0000"/>
                </a:solidFill>
                <a:latin typeface="Microsoft Sans Serif"/>
              </a:rPr>
              <a:t>t</a:t>
            </a:r>
            <a:r>
              <a:rPr b="0" lang="el-GR" sz="3100" spc="-1" strike="noStrike">
                <a:solidFill>
                  <a:srgbClr val="ffffff"/>
                </a:solidFill>
                <a:latin typeface="Microsoft Sans Serif"/>
              </a:rPr>
              <a:t> βιοντήζελ ετησίως με εξαίρεση τα δύο πρώτα έτη λειτουργίας: η μονάδα θα λειτουργήσει στο </a:t>
            </a:r>
            <a:r>
              <a:rPr b="0" lang="el-GR" sz="3100" spc="-1" strike="noStrike">
                <a:solidFill>
                  <a:srgbClr val="ff0000"/>
                </a:solidFill>
                <a:latin typeface="Microsoft Sans Serif"/>
              </a:rPr>
              <a:t>50%</a:t>
            </a:r>
            <a:r>
              <a:rPr b="0" lang="el-GR" sz="3100" spc="-1" strike="noStrike">
                <a:solidFill>
                  <a:srgbClr val="ffffff"/>
                </a:solidFill>
                <a:latin typeface="Microsoft Sans Serif"/>
              </a:rPr>
              <a:t> της δυναμικότητας το πρώτο έτος και στο </a:t>
            </a:r>
            <a:r>
              <a:rPr b="0" lang="el-GR" sz="3100" spc="-1" strike="noStrike">
                <a:solidFill>
                  <a:srgbClr val="ff0000"/>
                </a:solidFill>
                <a:latin typeface="Microsoft Sans Serif"/>
              </a:rPr>
              <a:t>90%</a:t>
            </a:r>
            <a:r>
              <a:rPr b="0" lang="el-GR" sz="3100" spc="-1" strike="noStrike">
                <a:solidFill>
                  <a:srgbClr val="ffffff"/>
                </a:solidFill>
                <a:latin typeface="Microsoft Sans Serif"/>
              </a:rPr>
              <a:t> της δυναμικότητας το δεύτερο έτος.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ffffff"/>
                </a:solidFill>
                <a:latin typeface="Microsoft Sans Serif"/>
              </a:rPr>
              <a:t>Το </a:t>
            </a:r>
            <a:r>
              <a:rPr b="0" lang="el-GR" sz="3100" spc="-1" strike="noStrike">
                <a:solidFill>
                  <a:srgbClr val="ff0000"/>
                </a:solidFill>
                <a:latin typeface="Microsoft Sans Serif"/>
              </a:rPr>
              <a:t>απαιτούμενο κεφάλαιο κίνησης</a:t>
            </a:r>
            <a:r>
              <a:rPr b="0" lang="el-GR" sz="3100" spc="-1" strike="noStrike">
                <a:solidFill>
                  <a:srgbClr val="ffffff"/>
                </a:solidFill>
                <a:latin typeface="Microsoft Sans Serif"/>
              </a:rPr>
              <a:t> μπορεί να εκτιμηθεί ως το κεφάλαιο που απαιτείται για την αγορά των απαιτούμενων πρώτων υλών και προμηθειών για την λειτουργία </a:t>
            </a:r>
            <a:r>
              <a:rPr b="0" lang="el-GR" sz="3100" spc="-1" strike="noStrike">
                <a:solidFill>
                  <a:srgbClr val="ff0000"/>
                </a:solidFill>
                <a:latin typeface="Microsoft Sans Serif"/>
              </a:rPr>
              <a:t>ενός μήνα</a:t>
            </a:r>
            <a:r>
              <a:rPr b="0" lang="el-GR" sz="3100" spc="-1" strike="noStrike">
                <a:solidFill>
                  <a:srgbClr val="ffffff"/>
                </a:solidFill>
                <a:latin typeface="Microsoft Sans Serif"/>
              </a:rPr>
              <a:t> και των εργατικών για </a:t>
            </a:r>
            <a:r>
              <a:rPr b="0" lang="el-GR" sz="3100" spc="-1" strike="noStrike">
                <a:solidFill>
                  <a:srgbClr val="ff0000"/>
                </a:solidFill>
                <a:latin typeface="Microsoft Sans Serif"/>
              </a:rPr>
              <a:t>τρεις μήνες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79311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0000"/>
                </a:solidFill>
                <a:latin typeface="Microsoft Sans Serif"/>
              </a:rPr>
              <a:t>Σύνοψη</a:t>
            </a:r>
            <a:r>
              <a:rPr b="1" lang="el-GR" sz="3000" spc="-1" strike="noStrike">
                <a:solidFill>
                  <a:srgbClr val="ffffff"/>
                </a:solidFill>
                <a:latin typeface="Microsoft Sans Serif"/>
              </a:rPr>
              <a:t> υπολογισμού συνολικού ετήσιου κόστους παραγωγής για μονάδα παραγωγής </a:t>
            </a:r>
            <a:r>
              <a:rPr b="1" lang="el-GR" sz="3000" spc="-1" strike="noStrike">
                <a:solidFill>
                  <a:srgbClr val="ff0000"/>
                </a:solidFill>
                <a:latin typeface="Microsoft Sans Serif"/>
              </a:rPr>
              <a:t>80,000 </a:t>
            </a:r>
            <a:r>
              <a:rPr b="1" lang="en-GB" sz="3000" spc="-1" strike="noStrike">
                <a:solidFill>
                  <a:srgbClr val="ff0000"/>
                </a:solidFill>
                <a:latin typeface="Microsoft Sans Serif"/>
              </a:rPr>
              <a:t>t</a:t>
            </a:r>
            <a:r>
              <a:rPr b="1" lang="el-GR" sz="3000" spc="-1" strike="noStrike">
                <a:solidFill>
                  <a:srgbClr val="ff0000"/>
                </a:solidFill>
                <a:latin typeface="Microsoft Sans Serif"/>
              </a:rPr>
              <a:t> βιοντήζελ/έτος</a:t>
            </a:r>
            <a:r>
              <a:rPr b="1" lang="el-GR" sz="3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353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Το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συνολικό κόστο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του εγκατεστημένο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εξοπλισμού για την κατασκευή μονάδα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παραγωγής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80,000 τόνων βιοντήζελ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ετησίω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εκτιμήθηκε σε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5 εκατομμύρια €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Το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πάγιο κεφάλαιο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σε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8.3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εκατομμύρια €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Το απαιτούμενο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κεφάλαιο κίνηση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εκτιμήθηκε σε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3 εκατομμύρια €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98100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Η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αγορά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και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διαμόρφωση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του οικοπέδου συνολικής έκτασης περίπου 2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ha 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εκτιμάται σε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2 εκατομμύρια €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Έτσι εκτιμάται ότι θα απαιτηθούν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7 εκατομμύρια €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το πρώτο έτος κατασκευής της μονάδας και </a:t>
            </a:r>
            <a:r>
              <a:rPr b="0" lang="el-GR" sz="3200" spc="-1" strike="noStrike">
                <a:solidFill>
                  <a:srgbClr val="ff0000"/>
                </a:solidFill>
                <a:latin typeface="Microsoft Sans Serif"/>
              </a:rPr>
              <a:t>6.3  εκατομμύρια €</a:t>
            </a:r>
            <a:r>
              <a:rPr b="0" lang="el-GR" sz="3200" spc="-1" strike="noStrike">
                <a:solidFill>
                  <a:srgbClr val="ffffff"/>
                </a:solidFill>
                <a:latin typeface="Microsoft Sans Serif"/>
              </a:rPr>
              <a:t> το δεύτερο έτος κατασκευής της μονάδα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32000" y="692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Ανάπτυξη προηγμένων τεχνολογιών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παραγωγής βιοντήζελ με ταυτόχρονη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πλήρη αξιοποίηση των </a:t>
            </a:r>
            <a:r>
              <a:rPr b="0" lang="en-US" sz="3400" spc="-1" strike="noStrike">
                <a:solidFill>
                  <a:srgbClr val="ff0000"/>
                </a:solidFill>
                <a:latin typeface="Microsoft Sans Serif"/>
              </a:rPr>
              <a:t>παραπροϊόντων</a:t>
            </a: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για την παραγωγή προϊόντων υψηλής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προστιθέμενης αξία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(όπως η παραγωγή προπανεδιόλης, δομικού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στοιχείου των σύγχρονων βιοαποικοδομήσιμω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πολυμερών)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692280"/>
            <a:ext cx="718920" cy="647640"/>
          </a:xfrm>
          <a:prstGeom prst="rightArrow">
            <a:avLst>
              <a:gd name="adj1" fmla="val 38972"/>
              <a:gd name="adj2" fmla="val 226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Η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παραγωγή βιοντήζελ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κατά το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πρώτο έτο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λειτουργίας της μονάδας (έτος 2011) δεν αναμένεται να ξεπεράσει το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50%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της εγκατεστημένης δυναμικότητας και θα παράγει περίπου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40 εκατομμύρια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τόνους βιοντήζε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Τα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συνολικά έσοδα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θα ανέλθουν έτσι σε περίπου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55 εκατομμύρια €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(εκτιμούμενη τιμή πώλησης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800 €/1000 λίτρα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βιοντήζελ για το έτος 2008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4360" y="549360"/>
            <a:ext cx="8064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Η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μονάδα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αναμένεται να λειτουργήσει σε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πλήρη δυναμικότητα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από το τρίτο έως το τελευταίο έτος λειτουργίας (έτη 2013-2020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Τα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αναμενόμενα έσοδα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για το έτος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2013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είναι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110  εκατομμύρια €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τα οποία αναμένεται να αυξάνονται με μέσο ρυθμό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4% ανά έτο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για τα υπόλοιπα έτ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333360"/>
            <a:ext cx="82915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ΣΑΣ ΕΥΧΑΡΙΣΤΩ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ΓΙΑ ΤΗΝ ΠΡΟΣΟΧΗ ΣΑ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03640" y="1989000"/>
          <a:ext cx="26636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26636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4360" y="5157720"/>
            <a:ext cx="7991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icrosoft Sans Serif"/>
              </a:rPr>
              <a:t>ΚΕΝΤΡΟ ΕΠΙΧΕΙΡΗΜΑΤΙΚΗΣ &amp; ΤΕΧΝΟΛΟΓΙΚΗΣ ΑΝΑΠΤΥΞΗ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988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 Black"/>
              </a:rPr>
              <a:t>Η επιχειρηματική </a:t>
            </a:r>
            <a:r>
              <a:rPr b="1" lang="en-US" sz="4200" spc="-1" strike="noStrike">
                <a:solidFill>
                  <a:srgbClr val="ff0000"/>
                </a:solidFill>
                <a:latin typeface="Arial Black"/>
              </a:rPr>
              <a:t>ευκαιρία 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Η οδηγία </a:t>
            </a:r>
            <a:r>
              <a:rPr b="0" lang="en-US" sz="3400" spc="-1" strike="noStrike">
                <a:solidFill>
                  <a:srgbClr val="ff0000"/>
                </a:solidFill>
                <a:latin typeface="Microsoft Sans Serif"/>
              </a:rPr>
              <a:t>2003/30/ΕΚ</a:t>
            </a: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 του Ευρωπαϊκού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Κοινοβουλίου στοχεύει στην προώθηση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της χρήσης βιοκαυσίμων και άλλων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ανανεώσιμων καυσίμων σε κάθε Κράτος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Μέλος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4221000"/>
            <a:ext cx="8317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Microsoft Sans Serif"/>
              </a:rPr>
              <a:t>Στόχοι</a:t>
            </a: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 της Ε.Ε. στα Βιοκαύσιμα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Για το </a:t>
            </a:r>
            <a:r>
              <a:rPr b="0" lang="en-US" sz="3400" spc="-1" strike="noStrike">
                <a:solidFill>
                  <a:srgbClr val="ff0000"/>
                </a:solidFill>
                <a:latin typeface="Microsoft Sans Serif"/>
              </a:rPr>
              <a:t>2010</a:t>
            </a: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: -5.7%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(επί του συνόλου των καυσίμω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Για το </a:t>
            </a:r>
            <a:r>
              <a:rPr b="0" lang="en-US" sz="3400" spc="-1" strike="noStrike">
                <a:solidFill>
                  <a:srgbClr val="ff0000"/>
                </a:solidFill>
                <a:latin typeface="Microsoft Sans Serif"/>
              </a:rPr>
              <a:t>2020</a:t>
            </a:r>
            <a:r>
              <a:rPr b="0" lang="en-US" sz="3400" spc="-1" strike="noStrike">
                <a:solidFill>
                  <a:srgbClr val="ffffff"/>
                </a:solidFill>
                <a:latin typeface="Microsoft Sans Serif"/>
              </a:rPr>
              <a:t>: -10%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50"/>
              </a:spcBef>
              <a:buClr>
                <a:srgbClr val="ffcc00"/>
              </a:buClr>
              <a:buSzPct val="12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549360"/>
            <a:ext cx="505080" cy="504720"/>
          </a:xfrm>
          <a:prstGeom prst="rightArrow">
            <a:avLst>
              <a:gd name="adj1" fmla="val 50000"/>
              <a:gd name="adj2" fmla="val 250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4365720"/>
            <a:ext cx="505080" cy="504720"/>
          </a:xfrm>
          <a:prstGeom prst="rightArrow">
            <a:avLst>
              <a:gd name="adj1" fmla="val 50000"/>
              <a:gd name="adj2" fmla="val 250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1125000"/>
            <a:ext cx="80661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Ένταξη των επενδυτικών σχεδίω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παραγωγής βιοκαυσίμων ή στερεώ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καυσίμων από βιομάζα στα υπαγόμεν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επενδυτικά σχέδια του Αναπτυξιακού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νόμο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197000"/>
            <a:ext cx="50472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862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7840" y="4437000"/>
            <a:ext cx="4826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Προϊόντα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&amp;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Υπηρεσίες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0000" y="1484280"/>
            <a:ext cx="77043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Το βιοντήζελ αποτελείται απ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μονοαλκυλικούς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εστέρες μεγάλω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χημικών αλυσίδων και προέρχεται απ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βιολογικές πηγές όπως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φυτικά έλαι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και </a:t>
            </a: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ζωικά λίπη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καθώς επίσης και απ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icrosoft Sans Serif"/>
              </a:rPr>
              <a:t>καμένα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έλαια (μαγειρικά έλαια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7628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icrosoft Sans Serif"/>
              </a:rPr>
              <a:t>Βιοντήζε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5:45:35Z</dcterms:created>
  <dc:creator>TEST2</dc:creator>
  <dc:description/>
  <dc:language>en-US</dc:language>
  <cp:lastModifiedBy>user</cp:lastModifiedBy>
  <dcterms:modified xsi:type="dcterms:W3CDTF">2008-09-19T08:06:45Z</dcterms:modified>
  <cp:revision>20</cp:revision>
  <dc:subject/>
  <dc:title>ΕΠΙΧΕΙΡΗΜΑΤΙΚΟ ΣΧΕΔΙΟ</dc:title>
</cp:coreProperties>
</file>