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AA8-270B-4791-875B-46885930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586-95C7-42BC-9409-066300CF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872-533C-42DF-B4C1-BBF0CCAA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D74-B3B4-480D-9AE4-D2917BCA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2C8-88FB-4EBE-870C-4EDB5714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D26D-C23F-4A8A-AF2C-B2272FD2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A20-ADF9-4166-8CFF-25810FF5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E0D-C113-4E62-96B5-07E2EDA0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1FC-10EC-403F-B6CF-0F5D7AB2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606-AE92-4E78-9996-BAF87CCC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EB1-A50E-4667-9962-7D6AEB44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797-BB77-42A3-94C1-9EC1B0F3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D971-9CA8-4DFA-9C42-84D24478C0C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1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0d0d"/>
                </a:solidFill>
                <a:latin typeface="Arial"/>
              </a:rPr>
              <a:t>SUPPORT CENT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99"/>
                </a:solidFill>
                <a:latin typeface="Arial"/>
              </a:rPr>
              <a:t>για τα Βιοκαύσιμα στην Περιφέρεια Ηπείρο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539640" y="404640"/>
          <a:ext cx="1871640" cy="14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4640"/>
                    <a:ext cx="1871640" cy="14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5"/>
          <p:cNvGraphicFramePr/>
          <p:nvPr/>
        </p:nvGraphicFramePr>
        <p:xfrm>
          <a:off x="7451640" y="404640"/>
          <a:ext cx="137160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51640" y="404640"/>
                    <a:ext cx="13716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6"/>
          <p:cNvGraphicFramePr/>
          <p:nvPr/>
        </p:nvGraphicFramePr>
        <p:xfrm>
          <a:off x="2987640" y="404640"/>
          <a:ext cx="3529080" cy="12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404640"/>
                    <a:ext cx="3529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7236000" y="5157720"/>
          <a:ext cx="172872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5157720"/>
                    <a:ext cx="172872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5"/>
          <p:cNvGraphicFramePr/>
          <p:nvPr/>
        </p:nvGraphicFramePr>
        <p:xfrm>
          <a:off x="2700360" y="476280"/>
          <a:ext cx="374328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76280"/>
                    <a:ext cx="37432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7"/>
          <p:cNvGraphicFramePr/>
          <p:nvPr/>
        </p:nvGraphicFramePr>
        <p:xfrm>
          <a:off x="539640" y="5445000"/>
          <a:ext cx="137160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5445000"/>
                    <a:ext cx="1371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Box 7"/>
          <p:cNvSpPr/>
          <p:nvPr/>
        </p:nvSpPr>
        <p:spPr>
          <a:xfrm>
            <a:off x="857160" y="2357280"/>
            <a:ext cx="7143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  <a:ea typeface="바탕"/>
              </a:rPr>
              <a:t>SUPPORT CEN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바탕"/>
              </a:rPr>
              <a:t>Αποτελεί μέρος της  </a:t>
            </a:r>
            <a:r>
              <a:rPr b="0" lang="el-GR" sz="2800" spc="-1" strike="noStrike">
                <a:solidFill>
                  <a:srgbClr val="262673"/>
                </a:solidFill>
                <a:latin typeface="Arial"/>
                <a:ea typeface="바탕"/>
              </a:rPr>
              <a:t>Δράσης 9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바탕"/>
              </a:rPr>
              <a:t>ενέργειες διάδοσης των αποτελεσμάτων του έργ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071720" y="3786120"/>
            <a:ext cx="5786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7236000" y="5157720"/>
          <a:ext cx="172872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5157720"/>
                    <a:ext cx="172872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2700360" y="476280"/>
          <a:ext cx="374328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76280"/>
                    <a:ext cx="37432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7"/>
          <p:cNvGraphicFramePr/>
          <p:nvPr/>
        </p:nvGraphicFramePr>
        <p:xfrm>
          <a:off x="539640" y="5445000"/>
          <a:ext cx="137160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5445000"/>
                    <a:ext cx="1371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Box 7"/>
          <p:cNvSpPr/>
          <p:nvPr/>
        </p:nvSpPr>
        <p:spPr>
          <a:xfrm>
            <a:off x="357120" y="1571760"/>
            <a:ext cx="857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SUPPORT CEN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Στεγάζεται  στα γραφεία της Περιφέρειας Ηπείρου (8</a:t>
            </a:r>
            <a:r>
              <a:rPr b="0" lang="el-GR" sz="2800" spc="-1" strike="noStrike" baseline="30000">
                <a:solidFill>
                  <a:srgbClr val="000000"/>
                </a:solidFill>
                <a:latin typeface="Arial"/>
              </a:rPr>
              <a:t>η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Μεραρχίας 5-7 στα Ιωάννινα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Costas\Documents\perifereia.jpg"/>
          <p:cNvPicPr/>
          <p:nvPr/>
        </p:nvPicPr>
        <p:blipFill>
          <a:blip r:embed="rId7"/>
          <a:stretch/>
        </p:blipFill>
        <p:spPr>
          <a:xfrm>
            <a:off x="2071800" y="2765520"/>
            <a:ext cx="5111640" cy="4021200"/>
          </a:xfrm>
          <a:prstGeom prst="rect">
            <a:avLst/>
          </a:prstGeom>
          <a:ln w="0">
            <a:noFill/>
          </a:ln>
        </p:spPr>
      </p:pic>
      <p:sp>
        <p:nvSpPr>
          <p:cNvPr id="65" name="Down Arrow 6"/>
          <p:cNvSpPr/>
          <p:nvPr/>
        </p:nvSpPr>
        <p:spPr>
          <a:xfrm>
            <a:off x="4572000" y="4143240"/>
            <a:ext cx="14292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236000" y="5157720"/>
          <a:ext cx="172872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5157720"/>
                    <a:ext cx="172872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5"/>
          <p:cNvGraphicFramePr/>
          <p:nvPr/>
        </p:nvGraphicFramePr>
        <p:xfrm>
          <a:off x="2700360" y="476280"/>
          <a:ext cx="374328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76280"/>
                    <a:ext cx="37432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7"/>
          <p:cNvGraphicFramePr/>
          <p:nvPr/>
        </p:nvGraphicFramePr>
        <p:xfrm>
          <a:off x="539640" y="5445000"/>
          <a:ext cx="137160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5445000"/>
                    <a:ext cx="1371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Box 7"/>
          <p:cNvSpPr/>
          <p:nvPr/>
        </p:nvSpPr>
        <p:spPr>
          <a:xfrm>
            <a:off x="142920" y="1689120"/>
            <a:ext cx="678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b050"/>
                </a:solidFill>
                <a:latin typeface="Arial"/>
              </a:rPr>
              <a:t>Λειτουργία του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SUPPORT CEN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7236000" y="5157720"/>
          <a:ext cx="172872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5157720"/>
                    <a:ext cx="172872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2700360" y="476280"/>
          <a:ext cx="374328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76280"/>
                    <a:ext cx="37432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7"/>
          <p:cNvGraphicFramePr/>
          <p:nvPr/>
        </p:nvGraphicFramePr>
        <p:xfrm>
          <a:off x="539640" y="5445000"/>
          <a:ext cx="137160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5445000"/>
                    <a:ext cx="1371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Box 7"/>
          <p:cNvSpPr/>
          <p:nvPr/>
        </p:nvSpPr>
        <p:spPr>
          <a:xfrm>
            <a:off x="142920" y="1689120"/>
            <a:ext cx="678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b050"/>
                </a:solidFill>
                <a:latin typeface="Arial"/>
              </a:rPr>
              <a:t>Λειτουργία του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SUPPORT CEN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1056600" y="2643120"/>
            <a:ext cx="66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ημιουργία Ενημερωτικής Βιβλιογραφ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142920" y="341136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υλλογή στοιχείων από έγκριτες μελέτες και σχετικές δημοσιεύσει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ικό των εταίρων (</a:t>
            </a:r>
            <a:r>
              <a:rPr b="0" lang="el-GR" sz="2200" spc="-1" strike="noStrike">
                <a:solidFill>
                  <a:srgbClr val="00682f"/>
                </a:solidFill>
                <a:latin typeface="Arial"/>
              </a:rPr>
              <a:t>Πανεπιστήμιο Πάτρας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200" spc="-1" strike="noStrike">
                <a:solidFill>
                  <a:srgbClr val="00682f"/>
                </a:solidFill>
                <a:latin typeface="Arial"/>
              </a:rPr>
              <a:t>Πανεπιστήμιο Ιωαννίνων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και </a:t>
            </a:r>
            <a:r>
              <a:rPr b="0" lang="el-GR" sz="2200" spc="-1" strike="noStrike">
                <a:solidFill>
                  <a:srgbClr val="00682f"/>
                </a:solidFill>
                <a:latin typeface="Arial"/>
              </a:rPr>
              <a:t>ΤΕΙ</a:t>
            </a:r>
            <a:r>
              <a:rPr b="0" lang="en-US" sz="2200" spc="-1" strike="noStrike">
                <a:solidFill>
                  <a:srgbClr val="00682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682f"/>
                </a:solidFill>
                <a:latin typeface="Arial"/>
              </a:rPr>
              <a:t>Ηπείρου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) του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OSIS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όσο και από έγκυρα διεθνή έντυπα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7236000" y="5157720"/>
          <a:ext cx="172872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5157720"/>
                    <a:ext cx="172872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5"/>
          <p:cNvGraphicFramePr/>
          <p:nvPr/>
        </p:nvGraphicFramePr>
        <p:xfrm>
          <a:off x="2700360" y="476280"/>
          <a:ext cx="374328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76280"/>
                    <a:ext cx="37432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7"/>
          <p:cNvGraphicFramePr/>
          <p:nvPr/>
        </p:nvGraphicFramePr>
        <p:xfrm>
          <a:off x="539640" y="5445000"/>
          <a:ext cx="137160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5445000"/>
                    <a:ext cx="1371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ectangle 6"/>
          <p:cNvSpPr/>
          <p:nvPr/>
        </p:nvSpPr>
        <p:spPr>
          <a:xfrm>
            <a:off x="1000080" y="2357280"/>
            <a:ext cx="57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928800" y="2000160"/>
            <a:ext cx="5786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ρόποι επικοινωνία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ηλεφωνικ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πίσκεψη στο κέντρ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4"/>
          <p:cNvGraphicFramePr/>
          <p:nvPr/>
        </p:nvGraphicFramePr>
        <p:xfrm>
          <a:off x="7236000" y="5157720"/>
          <a:ext cx="172872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5157720"/>
                    <a:ext cx="172872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5"/>
          <p:cNvGraphicFramePr/>
          <p:nvPr/>
        </p:nvGraphicFramePr>
        <p:xfrm>
          <a:off x="2700360" y="476280"/>
          <a:ext cx="374328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76280"/>
                    <a:ext cx="37432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7"/>
          <p:cNvGraphicFramePr/>
          <p:nvPr/>
        </p:nvGraphicFramePr>
        <p:xfrm>
          <a:off x="539640" y="5445000"/>
          <a:ext cx="137160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5445000"/>
                    <a:ext cx="1371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14"/>
          <p:cNvSpPr/>
          <p:nvPr/>
        </p:nvSpPr>
        <p:spPr>
          <a:xfrm>
            <a:off x="214200" y="1588320"/>
            <a:ext cx="8501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Κύριες υπηρεσίες το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nter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Ενημέρωση και ευαισθητοποίηση πολιτών για την παραγωγή και χρήση    βιοκαυσίμ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Υποστήριξη επενδυτών που ενδιαφέρονται για τον τομέα των βιοκαυσίμ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Συμμετοχή σε παγκόσμια δίκτυα προώθησης βιοκαυσίμων (</a:t>
            </a:r>
            <a:r>
              <a:rPr b="0" lang="en-US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EUBIONE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IEA</a:t>
            </a:r>
            <a:r>
              <a:rPr b="0" lang="el-GR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Bioenergy</a:t>
            </a:r>
            <a:r>
              <a:rPr b="0" lang="el-GR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Liquid</a:t>
            </a:r>
            <a:r>
              <a:rPr b="0" lang="el-GR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Biofuels</a:t>
            </a:r>
            <a:r>
              <a:rPr b="0" lang="el-GR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Networ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Πραγματοποίηση ενημερωτικών εκδηλώσεων ευαισθητοποίη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7236000" y="5157720"/>
          <a:ext cx="172872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5157720"/>
                    <a:ext cx="172872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5"/>
          <p:cNvGraphicFramePr/>
          <p:nvPr/>
        </p:nvGraphicFramePr>
        <p:xfrm>
          <a:off x="2700360" y="476280"/>
          <a:ext cx="374328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76280"/>
                    <a:ext cx="37432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7"/>
          <p:cNvGraphicFramePr/>
          <p:nvPr/>
        </p:nvGraphicFramePr>
        <p:xfrm>
          <a:off x="539640" y="5445000"/>
          <a:ext cx="137160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5445000"/>
                    <a:ext cx="1371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6"/>
          <p:cNvSpPr/>
          <p:nvPr/>
        </p:nvSpPr>
        <p:spPr>
          <a:xfrm>
            <a:off x="785880" y="177012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ους μήνες λειτουργίας του Κέντρου υπήρξε ικανοποιητική ανταπόκριση από ενδιαφερόμενους που ήθελαν να ενημερωθούν για τα Βιοκαύσιμα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214280" y="292896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ταπόκριση και από περιοχές εκτός Ηπείρ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λειονότητα ατόμα νεαρής ηλικ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όθηκαν γενικές πληροφορίες για τα βιοκάυσιμα και τις ενεργειακές καλλιέργει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στήθηκαν επαφές με αρμόδιες υπηρεσί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4"/>
          <p:cNvGraphicFramePr/>
          <p:nvPr/>
        </p:nvGraphicFramePr>
        <p:xfrm>
          <a:off x="7236000" y="5157720"/>
          <a:ext cx="172872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5157720"/>
                    <a:ext cx="172872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5"/>
          <p:cNvGraphicFramePr/>
          <p:nvPr/>
        </p:nvGraphicFramePr>
        <p:xfrm>
          <a:off x="2700360" y="476280"/>
          <a:ext cx="374328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76280"/>
                    <a:ext cx="37432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7"/>
          <p:cNvGraphicFramePr/>
          <p:nvPr/>
        </p:nvGraphicFramePr>
        <p:xfrm>
          <a:off x="539640" y="5445000"/>
          <a:ext cx="137160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5445000"/>
                    <a:ext cx="1371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6"/>
          <p:cNvSpPr/>
          <p:nvPr/>
        </p:nvSpPr>
        <p:spPr>
          <a:xfrm>
            <a:off x="1000080" y="2357280"/>
            <a:ext cx="57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571760" y="257184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υχαριστούμε για την προσοχή σ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44:38Z</dcterms:created>
  <dc:creator>ΚΩΣΤΑΣ</dc:creator>
  <dc:description/>
  <dc:language>en-US</dc:language>
  <cp:lastModifiedBy>Costas</cp:lastModifiedBy>
  <dcterms:modified xsi:type="dcterms:W3CDTF">2008-09-21T17:25:44Z</dcterms:modified>
  <cp:revision>39</cp:revision>
  <dc:subject/>
  <dc:title>SUPPORT CENTER </dc:title>
</cp:coreProperties>
</file>