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1.jpeg" ContentType="image/jpeg"/>
  <Override PartName="/ppt/media/image2.wmf" ContentType="image/x-wmf"/>
  <Override PartName="/ppt/media/image29.png" ContentType="image/png"/>
  <Override PartName="/ppt/media/image19.wmf" ContentType="image/x-wmf"/>
  <Override PartName="/ppt/media/image17.wmf" ContentType="image/x-wmf"/>
  <Override PartName="/ppt/media/image16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37.jpeg" ContentType="image/jpeg"/>
  <Override PartName="/ppt/media/image30.png" ContentType="image/png"/>
  <Override PartName="/ppt/media/image35.jpeg" ContentType="image/jpeg"/>
  <Override PartName="/ppt/media/image10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36.wmf" ContentType="image/x-wmf"/>
  <Override PartName="/ppt/media/image39.jpeg" ContentType="image/jpeg"/>
  <Override PartName="/ppt/media/image6.png" ContentType="image/png"/>
  <Override PartName="/ppt/media/image28.png" ContentType="image/png"/>
  <Override PartName="/ppt/media/image38.jpeg" ContentType="image/jpe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33.png" ContentType="image/png"/>
  <Override PartName="/ppt/media/image3.png" ContentType="image/png"/>
  <Override PartName="/ppt/media/image23.jpeg" ContentType="image/jpeg"/>
  <Override PartName="/ppt/media/image25.wmf" ContentType="image/x-wmf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87F-24A5-4D33-86B1-D817E145334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AB0C-34C6-4E58-9D51-2060476733BE}" type="slidenum">
              <a:rPr b="0" lang="el-G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6351-C068-4EEC-A611-7731BE24F379}" type="slidenum">
              <a:rPr b="0" lang="el-G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453-FA64-48D8-B92C-5828F0F4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904-5102-40F0-9EE1-22F0B587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384-8063-4DE5-B46B-0414237F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7CD-CEC7-4F5F-9EBC-9CDC87AC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4F71-40BC-4B83-8DC4-5D883A76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1DD0-3516-401B-BCD4-9F53AF8B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33B8-5C4B-438B-A1AD-CF845173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0410-F91B-4BE8-B8F3-B112A19D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1062-5BA4-4D20-83FF-CF3787AC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9396-F06A-4407-9985-9C663330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182A-7712-4164-AC73-E10730F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657-3C55-4617-929C-5D2B62D6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40BB-D496-447A-A20B-528A49D2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5321-D87A-43D4-9132-18BF4C30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46D0-20A3-4B66-8FA0-06ECB407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AEB7-092C-427A-A42C-1C5F7664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5CE5-60BE-4C00-9695-A4B05483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957-71ED-41EC-84C0-B3D9D715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D9B-D1CF-4320-8E92-46A196D6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CEF-C69E-4116-A5F2-B3C6ABEB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5E6-26C0-43CF-A450-17565537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1E2-3654-454A-81F0-3E8A73B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C3A-1573-4C05-BC91-FD58FAD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5D1-1BC4-4AD7-AA31-65CDAC7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0583-B3A4-4F37-A39D-F93BBF094A7A}" type="slidenum">
              <a:rPr b="0" lang="el-G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D2A1-3DE6-4541-BCB6-4901A45956F6}" type="slidenum">
              <a:rPr b="0" lang="el-G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INTERREG III</a:t>
            </a:r>
            <a:r>
              <a:rPr b="1" lang="el-GR" sz="4000" spc="-1" strike="noStrike">
                <a:solidFill>
                  <a:srgbClr val="b2b2b2"/>
                </a:solidFill>
                <a:latin typeface="Arial"/>
              </a:rPr>
              <a:t>Α 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GREECE</a:t>
            </a:r>
            <a:r>
              <a:rPr b="1" lang="el-GR" sz="4000" spc="-1" strike="noStrike">
                <a:solidFill>
                  <a:srgbClr val="b2b2b2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ITALY </a:t>
            </a:r>
            <a:r>
              <a:rPr b="1" lang="el-GR" sz="4000" spc="-1" strike="noStrike">
                <a:solidFill>
                  <a:srgbClr val="b2b2b2"/>
                </a:solidFill>
                <a:latin typeface="Arial"/>
              </a:rPr>
              <a:t>2000-2006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28954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B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leader: Prof. G. Lyber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75596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Bookman Old Style"/>
              </a:rPr>
              <a:t>MICROBIAL LIPID PRODUCTION FROM GLUC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11280" y="2133720"/>
          <a:ext cx="7991280" cy="3900240"/>
        </p:xfrm>
        <a:graphic>
          <a:graphicData uri="http://schemas.openxmlformats.org/drawingml/2006/table">
            <a:tbl>
              <a:tblPr/>
              <a:tblGrid>
                <a:gridCol w="4073400"/>
                <a:gridCol w="1614600"/>
                <a:gridCol w="2303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Microorgani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Biom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(g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Lipid cont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(w/w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nninghamella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i="1" lang="el-GR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chinul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v-SE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rtierella ramannia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v-SE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Mortierella isabell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3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v-SE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cor </a:t>
                      </a:r>
                      <a:r>
                        <a:rPr b="0" lang="sv-SE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5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v-SE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hamnidium eleg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.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39"/>
          <p:cNvSpPr/>
          <p:nvPr/>
        </p:nvSpPr>
        <p:spPr>
          <a:xfrm>
            <a:off x="430200" y="3333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Screening of oleaginous fungi on gluco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79156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Growth and lipid production by </a:t>
            </a:r>
            <a:r>
              <a:rPr b="1" i="1" lang="en-US" sz="4000" spc="-1" strike="noStrike">
                <a:solidFill>
                  <a:srgbClr val="33cc33"/>
                </a:solidFill>
                <a:latin typeface="Bookman Old Style"/>
              </a:rPr>
              <a:t>Mortierella isabellina</a:t>
            </a: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 on glucose</a:t>
            </a:r>
            <a:r>
              <a:rPr b="1" lang="en-US" sz="3200" spc="-1" strike="noStrike" u="sng">
                <a:solidFill>
                  <a:srgbClr val="ffff99"/>
                </a:solidFill>
                <a:uFillTx/>
                <a:latin typeface="Bookman Old Style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-142920" y="4929120"/>
            <a:ext cx="1285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 Narrow"/>
              </a:rPr>
              <a:t>Y</a:t>
            </a:r>
            <a:r>
              <a:rPr b="0" lang="en-US" sz="2800" spc="-1" strike="noStrike" baseline="-25000">
                <a:solidFill>
                  <a:srgbClr val="b2b2b2"/>
                </a:solidFill>
                <a:latin typeface="Arial Narrow"/>
              </a:rPr>
              <a:t>X/S</a:t>
            </a:r>
            <a:r>
              <a:rPr b="0" lang="en-US" sz="2800" spc="-1" strike="noStrike" baseline="-25000">
                <a:solidFill>
                  <a:srgbClr val="b2b2b2"/>
                </a:solidFill>
                <a:latin typeface="Bookman Old Style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Object 5"/>
          <p:cNvGraphicFramePr/>
          <p:nvPr/>
        </p:nvGraphicFramePr>
        <p:xfrm>
          <a:off x="3024360" y="2133720"/>
          <a:ext cx="611964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360" y="2133720"/>
                    <a:ext cx="611964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6"/>
          <p:cNvSpPr/>
          <p:nvPr/>
        </p:nvSpPr>
        <p:spPr>
          <a:xfrm>
            <a:off x="82692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900000" y="6453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DSC00390"/>
          <p:cNvPicPr/>
          <p:nvPr/>
        </p:nvPicPr>
        <p:blipFill>
          <a:blip r:embed="rId3"/>
          <a:stretch/>
        </p:blipFill>
        <p:spPr>
          <a:xfrm>
            <a:off x="536400" y="1989000"/>
            <a:ext cx="1783080" cy="2376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1692360" y="50562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 Narrow"/>
              </a:rPr>
              <a:t>0.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763640" y="609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 Narrow"/>
              </a:rPr>
              <a:t>0.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12 - TextBox"/>
          <p:cNvSpPr/>
          <p:nvPr/>
        </p:nvSpPr>
        <p:spPr>
          <a:xfrm>
            <a:off x="142920" y="6072120"/>
            <a:ext cx="107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 Narrow"/>
              </a:rPr>
              <a:t>Y</a:t>
            </a:r>
            <a:r>
              <a:rPr b="0" lang="en-US" sz="2800" spc="-1" strike="noStrike" baseline="-25000">
                <a:solidFill>
                  <a:srgbClr val="b2b2b2"/>
                </a:solidFill>
                <a:latin typeface="Arial Narrow"/>
              </a:rPr>
              <a:t>L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75596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Bookman Old Style"/>
              </a:rPr>
              <a:t>MICROBIAL LIPID PRODUCTION FROM GLYCE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Βy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-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product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of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 biodiesel production process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.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1kg of glycerol becomes available by the production of 10kg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biodiesel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Important feedstock since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biodiesel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is applied on a large commercial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Enormous amounts of raw glycerol are accumul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24000" y="363240"/>
            <a:ext cx="83167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Raw or Industrial glycero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64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M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So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Inorganic sal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Glycerol from rapeseed oil contains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Phosphorus : 1.05 - 2.36 % (w/w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Potassium : 2.20 - 2.33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Sodium : 0.09 - 0.11%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Traces of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cadmium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,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quicksilver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and arsenic.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333360"/>
            <a:ext cx="104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Raw glycerol contains impurities</a:t>
            </a:r>
            <a:r>
              <a:rPr b="1" lang="el-GR" sz="4000" spc="-1" strike="noStrike">
                <a:solidFill>
                  <a:srgbClr val="33cc33"/>
                </a:solidFill>
                <a:latin typeface="Bookman Old Style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glycerol-13"/>
          <p:cNvPicPr/>
          <p:nvPr/>
        </p:nvPicPr>
        <p:blipFill>
          <a:blip r:embed="rId1"/>
          <a:stretch/>
        </p:blipFill>
        <p:spPr>
          <a:xfrm>
            <a:off x="755640" y="549360"/>
            <a:ext cx="7777080" cy="5852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188720" y="558972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844720" y="55897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w glycerol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500720" y="558972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w glycerol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6086160" y="558972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w glycerol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centri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20764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Raw glycerol valorization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90360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aw glycerol i</a:t>
            </a:r>
            <a:r>
              <a:rPr b="0" i="1" lang="el-GR" sz="2400" spc="-1" strike="noStrike">
                <a:solidFill>
                  <a:srgbClr val="ffffff"/>
                </a:solidFill>
                <a:latin typeface="Bookman Old Style"/>
              </a:rPr>
              <a:t>s used as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ole </a:t>
            </a:r>
            <a:r>
              <a:rPr b="0" i="1" lang="el-GR" sz="2400" spc="-1" strike="noStrike">
                <a:solidFill>
                  <a:srgbClr val="ffffff"/>
                </a:solidFill>
                <a:latin typeface="Bookman Old Style"/>
              </a:rPr>
              <a:t>carbon substrate in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l-GR" sz="2400" spc="-1" strike="noStrike">
                <a:solidFill>
                  <a:srgbClr val="ffffff"/>
                </a:solidFill>
                <a:latin typeface="Bookman Old Style"/>
              </a:rPr>
              <a:t>several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l-GR" sz="2400" spc="-1" strike="noStrike">
                <a:solidFill>
                  <a:srgbClr val="ffffff"/>
                </a:solidFill>
                <a:latin typeface="Bookman Old Style"/>
              </a:rPr>
              <a:t>biotechnological application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S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uccinic acid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by </a:t>
            </a:r>
            <a:r>
              <a:rPr b="0" i="1" lang="en-US" sz="2400" spc="-1" strike="noStrike">
                <a:solidFill>
                  <a:srgbClr val="ffcc66"/>
                </a:solidFill>
                <a:latin typeface="Bookman Old Style"/>
              </a:rPr>
              <a:t>Anaerobiospirillum succiniciproducens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Ethanol,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succinic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acid, acetic acid, lactic acid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, Η</a:t>
            </a:r>
            <a:r>
              <a:rPr b="0" lang="el-GR" sz="2400" spc="-1" strike="noStrike" baseline="-25000">
                <a:solidFill>
                  <a:srgbClr val="ffcc66"/>
                </a:solidFill>
                <a:latin typeface="Bookman Old Style"/>
              </a:rPr>
              <a:t>2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et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by </a:t>
            </a:r>
            <a:r>
              <a:rPr b="0" i="1" lang="en-US" sz="2400" spc="-1" strike="noStrike">
                <a:solidFill>
                  <a:srgbClr val="ffcc66"/>
                </a:solidFill>
                <a:latin typeface="Bookman Old Style"/>
              </a:rPr>
              <a:t>Escherichia coli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Citric acid by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Bookman Old Style"/>
              </a:rPr>
              <a:t>Yarrowia lipolytica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1,3-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propanediol by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Bookman Old Style"/>
              </a:rPr>
              <a:t>Clostridium butyricum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TAG by oleaginous microorganisms.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843280" y="2638440"/>
            <a:ext cx="381636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aw Glol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448080" y="4797360"/>
            <a:ext cx="2521080" cy="14400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S.C.O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780000" y="692280"/>
            <a:ext cx="2952720" cy="1224000"/>
          </a:xfrm>
          <a:prstGeom prst="rightArrow">
            <a:avLst>
              <a:gd name="adj1" fmla="val 50000"/>
              <a:gd name="adj2" fmla="val 60309"/>
            </a:avLst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 rot="5400000">
            <a:off x="4247640" y="1521000"/>
            <a:ext cx="1008360" cy="122364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306000 h 1223640"/>
              <a:gd name="textAreaBottom" fmla="*/ 918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Biofield"/>
          <p:cNvPicPr/>
          <p:nvPr/>
        </p:nvPicPr>
        <p:blipFill>
          <a:blip r:embed="rId1"/>
          <a:stretch/>
        </p:blipFill>
        <p:spPr>
          <a:xfrm>
            <a:off x="0" y="34920"/>
            <a:ext cx="3780000" cy="25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biodiesel-station"/>
          <p:cNvPicPr/>
          <p:nvPr/>
        </p:nvPicPr>
        <p:blipFill>
          <a:blip r:embed="rId2"/>
          <a:stretch/>
        </p:blipFill>
        <p:spPr>
          <a:xfrm>
            <a:off x="6696000" y="73080"/>
            <a:ext cx="2413080" cy="306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biodiesel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7093080" y="3789360"/>
            <a:ext cx="1769760" cy="3068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9"/>
          <p:cNvSpPr/>
          <p:nvPr/>
        </p:nvSpPr>
        <p:spPr>
          <a:xfrm rot="5400000">
            <a:off x="4247640" y="3681360"/>
            <a:ext cx="1008000" cy="122364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306000 h 1223640"/>
              <a:gd name="textAreaBottom" fmla="*/ 918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5940360" y="4941720"/>
            <a:ext cx="1008000" cy="122400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1" descr="1810-9"/>
          <p:cNvPicPr/>
          <p:nvPr/>
        </p:nvPicPr>
        <p:blipFill>
          <a:blip r:embed="rId4"/>
          <a:stretch/>
        </p:blipFill>
        <p:spPr>
          <a:xfrm>
            <a:off x="185760" y="3860640"/>
            <a:ext cx="1736640" cy="29973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2"/>
          <p:cNvSpPr/>
          <p:nvPr/>
        </p:nvSpPr>
        <p:spPr>
          <a:xfrm rot="16200000">
            <a:off x="7380360" y="2852640"/>
            <a:ext cx="1224000" cy="1224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 rot="10800000">
            <a:off x="6516360" y="3213000"/>
            <a:ext cx="1152360" cy="43200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 rot="10800000">
            <a:off x="1979640" y="4941720"/>
            <a:ext cx="1512720" cy="1224000"/>
          </a:xfrm>
          <a:custGeom>
            <a:avLst/>
            <a:gdLst>
              <a:gd name="textAreaLeft" fmla="*/ 189000 w 1512720"/>
              <a:gd name="textAreaRight" fmla="*/ 1323720 w 151272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51688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Screening of oleaginous fungi on raw glycerol</a:t>
            </a: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1960" y="2462040"/>
          <a:ext cx="7485120" cy="3713400"/>
        </p:xfrm>
        <a:graphic>
          <a:graphicData uri="http://schemas.openxmlformats.org/drawingml/2006/table">
            <a:tbl>
              <a:tblPr/>
              <a:tblGrid>
                <a:gridCol w="3981240"/>
                <a:gridCol w="1444680"/>
                <a:gridCol w="2059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Microorganis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Biomass (g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Lipid cont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(w/w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nninghamella echinul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9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v-SE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rtierella ramannia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v-SE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rtierella isabell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v-SE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cor s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9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v-SE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Thamnidium eleg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0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38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48888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University of Patras, Dept of Biology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crobiology group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eam leader: Assoc. Prof. G. Aggeli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eam members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01920" y="2708280"/>
            <a:ext cx="724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 S. Fakas, Post-doc resear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. Makri, PhD candi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. Bellou, A. Kommatas, M. Mavroma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440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. Rouni, M. Tselepi, G. Tsoumpe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440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1720" y="4869000"/>
            <a:ext cx="89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m task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431360" y="5326200"/>
            <a:ext cx="718920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600" spc="-1" strike="noStrike">
                <a:solidFill>
                  <a:srgbClr val="ffff99"/>
                </a:solidFill>
                <a:latin typeface="Verdana"/>
              </a:rPr>
              <a:t>Biotechnological production of biodies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1" lang="en-US" sz="2600" spc="-1" strike="noStrike">
                <a:solidFill>
                  <a:srgbClr val="ffff99"/>
                </a:solidFill>
                <a:latin typeface="Verdana"/>
              </a:rPr>
              <a:t>By-product valorizatio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9680" y="5715000"/>
            <a:ext cx="2530440" cy="8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Bookman Old Style"/>
              </a:rPr>
              <a:t>     </a:t>
            </a:r>
            <a:r>
              <a:rPr b="0" lang="en-US" sz="2800" spc="-1" strike="noStrike">
                <a:solidFill>
                  <a:srgbClr val="b2b2b2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Arial Narrow"/>
              </a:rPr>
              <a:t>Y</a:t>
            </a:r>
            <a:r>
              <a:rPr b="0" lang="en-US" sz="2800" spc="-1" strike="noStrike" baseline="-25000">
                <a:solidFill>
                  <a:srgbClr val="b2b2b2"/>
                </a:solidFill>
                <a:latin typeface="Arial Narrow"/>
              </a:rPr>
              <a:t>X/S </a:t>
            </a:r>
            <a:br>
              <a:rPr sz="2800"/>
            </a:br>
            <a:br>
              <a:rPr sz="2800"/>
            </a:br>
            <a:r>
              <a:rPr b="0" lang="en-US" sz="2800" spc="-1" strike="noStrike" baseline="-25000">
                <a:solidFill>
                  <a:srgbClr val="b2b2b2"/>
                </a:solidFill>
                <a:latin typeface="Bookman Old Style"/>
              </a:rPr>
              <a:t>                </a:t>
            </a:r>
            <a:r>
              <a:rPr b="0" lang="en-US" sz="2800" spc="-1" strike="noStrike">
                <a:solidFill>
                  <a:srgbClr val="b2b2b2"/>
                </a:solidFill>
                <a:latin typeface="Arial Narrow"/>
              </a:rPr>
              <a:t>Y</a:t>
            </a:r>
            <a:r>
              <a:rPr b="0" lang="en-US" sz="2800" spc="-1" strike="noStrike" baseline="-25000">
                <a:solidFill>
                  <a:srgbClr val="b2b2b2"/>
                </a:solidFill>
                <a:latin typeface="Arial Narrow"/>
              </a:rPr>
              <a:t>L/S</a:t>
            </a:r>
            <a:r>
              <a:rPr b="0" lang="en-US" sz="2800" spc="-1" strike="noStrike" baseline="-25000">
                <a:solidFill>
                  <a:srgbClr val="b2b2b2"/>
                </a:solidFill>
                <a:latin typeface="Arial Narrow"/>
              </a:rPr>
              <a:t>  </a:t>
            </a:r>
            <a:r>
              <a:rPr b="0" lang="en-US" sz="2800" spc="-1" strike="noStrike" baseline="-25000">
                <a:solidFill>
                  <a:srgbClr val="b2b2b2"/>
                </a:solidFill>
                <a:latin typeface="Bookman Old Style"/>
              </a:rPr>
              <a:t>                        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0" y="1928880"/>
          <a:ext cx="6546960" cy="35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8880"/>
                    <a:ext cx="65469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Line 7"/>
          <p:cNvSpPr/>
          <p:nvPr/>
        </p:nvSpPr>
        <p:spPr>
          <a:xfrm>
            <a:off x="2771640" y="580536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71640" y="652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78000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 Narrow"/>
              </a:rPr>
              <a:t>0.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14560" y="0"/>
            <a:ext cx="8230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Growth and lipid production b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4000" spc="-1" strike="noStrike">
                <a:solidFill>
                  <a:srgbClr val="33cc33"/>
                </a:solidFill>
                <a:latin typeface="Bookman Old Style"/>
              </a:rPr>
              <a:t>Thamnidium elegans</a:t>
            </a:r>
            <a:r>
              <a:rPr b="1" lang="sv-SE" sz="4000" spc="-1" strike="noStrike">
                <a:solidFill>
                  <a:srgbClr val="33cc33"/>
                </a:solidFill>
                <a:latin typeface="Bookman Old Style"/>
              </a:rPr>
              <a:t> on ra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33cc33"/>
                </a:solidFill>
                <a:latin typeface="Bookman Old Style"/>
              </a:rPr>
              <a:t>glyce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1" descr="DSC00392"/>
          <p:cNvPicPr/>
          <p:nvPr/>
        </p:nvPicPr>
        <p:blipFill>
          <a:blip r:embed="rId3"/>
          <a:stretch/>
        </p:blipFill>
        <p:spPr>
          <a:xfrm>
            <a:off x="6877080" y="3933720"/>
            <a:ext cx="1977840" cy="2637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3"/>
          <p:cNvSpPr/>
          <p:nvPr/>
        </p:nvSpPr>
        <p:spPr>
          <a:xfrm>
            <a:off x="3780000" y="6338880"/>
            <a:ext cx="8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 Narrow"/>
              </a:rPr>
              <a:t>0.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876240" y="2287440"/>
          <a:ext cx="739152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2287440"/>
                    <a:ext cx="73915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3"/>
          <p:cNvSpPr/>
          <p:nvPr/>
        </p:nvSpPr>
        <p:spPr>
          <a:xfrm>
            <a:off x="3894120" y="63198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Neutral lipids accumulate during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5843520" y="1085760"/>
            <a:ext cx="3357360" cy="2271600"/>
            <a:chOff x="5843520" y="1085760"/>
            <a:chExt cx="3357360" cy="2271600"/>
          </a:xfrm>
        </p:grpSpPr>
        <p:graphicFrame>
          <p:nvGraphicFramePr>
            <p:cNvPr id="194" name="Object 6"/>
            <p:cNvGraphicFramePr/>
            <p:nvPr/>
          </p:nvGraphicFramePr>
          <p:xfrm>
            <a:off x="5843520" y="1085760"/>
            <a:ext cx="3357360" cy="22716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3520" y="1085760"/>
                      <a:ext cx="3357360" cy="22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Rectangle 7"/>
            <p:cNvSpPr/>
            <p:nvPr/>
          </p:nvSpPr>
          <p:spPr>
            <a:xfrm>
              <a:off x="6808680" y="1117440"/>
              <a:ext cx="152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ary pha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Text Box 8"/>
          <p:cNvSpPr/>
          <p:nvPr/>
        </p:nvSpPr>
        <p:spPr>
          <a:xfrm>
            <a:off x="2843280" y="3573360"/>
            <a:ext cx="1547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utral lipi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361760" y="3537000"/>
            <a:ext cx="909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ycolipids+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hingolipi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221800" y="351144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hospholipi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743440" y="3213000"/>
            <a:ext cx="15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utral lipi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7219440" y="3176640"/>
            <a:ext cx="909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ycolipids+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hingolipi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8187480" y="3151080"/>
            <a:ext cx="965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hospholipi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Object 14"/>
          <p:cNvGraphicFramePr/>
          <p:nvPr/>
        </p:nvGraphicFramePr>
        <p:xfrm>
          <a:off x="2857680" y="1143000"/>
          <a:ext cx="3492360" cy="2374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1143000"/>
                    <a:ext cx="34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15"/>
          <p:cNvGrpSpPr/>
          <p:nvPr/>
        </p:nvGrpSpPr>
        <p:grpSpPr>
          <a:xfrm>
            <a:off x="5180400" y="3371040"/>
            <a:ext cx="1444320" cy="1041480"/>
            <a:chOff x="5180400" y="3371040"/>
            <a:chExt cx="1444320" cy="1041480"/>
          </a:xfrm>
        </p:grpSpPr>
        <p:sp>
          <p:nvSpPr>
            <p:cNvPr id="206" name="AutoShape 16"/>
            <p:cNvSpPr/>
            <p:nvPr/>
          </p:nvSpPr>
          <p:spPr>
            <a:xfrm rot="8853000">
              <a:off x="5345640" y="3688560"/>
              <a:ext cx="1285920" cy="347760"/>
            </a:xfrm>
            <a:prstGeom prst="leftArrow">
              <a:avLst>
                <a:gd name="adj1" fmla="val 50000"/>
                <a:gd name="adj2" fmla="val 92443"/>
              </a:avLst>
            </a:prstGeom>
            <a:solidFill>
              <a:srgbClr val="3399ff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7"/>
            <p:cNvSpPr/>
            <p:nvPr/>
          </p:nvSpPr>
          <p:spPr>
            <a:xfrm rot="1407600">
              <a:off x="5220000" y="4093200"/>
              <a:ext cx="318960" cy="266760"/>
            </a:xfrm>
            <a:prstGeom prst="ellipse">
              <a:avLst/>
            </a:prstGeom>
            <a:solidFill>
              <a:srgbClr val="3399ff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Rectangle 18"/>
          <p:cNvSpPr/>
          <p:nvPr/>
        </p:nvSpPr>
        <p:spPr>
          <a:xfrm>
            <a:off x="3612240" y="1273320"/>
            <a:ext cx="20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e exponential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Object 19"/>
          <p:cNvGraphicFramePr/>
          <p:nvPr/>
        </p:nvGraphicFramePr>
        <p:xfrm>
          <a:off x="-36360" y="2079720"/>
          <a:ext cx="3446280" cy="207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36360" y="2079720"/>
                    <a:ext cx="3446280" cy="20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20"/>
          <p:cNvSpPr/>
          <p:nvPr/>
        </p:nvSpPr>
        <p:spPr>
          <a:xfrm rot="16200000">
            <a:off x="-707040" y="3033360"/>
            <a:ext cx="173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pids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 (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/w of total lipids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648000" y="215748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d exponential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5560" y="4014720"/>
            <a:ext cx="1547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utral lipi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1544040" y="3978360"/>
            <a:ext cx="909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ycolipids+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hingolipi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2524680" y="395280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hospholipi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5"/>
          <p:cNvGrpSpPr/>
          <p:nvPr/>
        </p:nvGrpSpPr>
        <p:grpSpPr>
          <a:xfrm>
            <a:off x="2273400" y="4014720"/>
            <a:ext cx="834480" cy="1498680"/>
            <a:chOff x="2273400" y="4014720"/>
            <a:chExt cx="834480" cy="1498680"/>
          </a:xfrm>
        </p:grpSpPr>
        <p:sp>
          <p:nvSpPr>
            <p:cNvPr id="217" name="AutoShape 26"/>
            <p:cNvSpPr/>
            <p:nvPr/>
          </p:nvSpPr>
          <p:spPr>
            <a:xfrm rot="4144800">
              <a:off x="1958400" y="4590720"/>
              <a:ext cx="1463760" cy="333720"/>
            </a:xfrm>
            <a:prstGeom prst="leftArrow">
              <a:avLst>
                <a:gd name="adj1" fmla="val 50000"/>
                <a:gd name="adj2" fmla="val 109655"/>
              </a:avLst>
            </a:prstGeom>
            <a:solidFill>
              <a:srgbClr val="3399ff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27"/>
            <p:cNvSpPr/>
            <p:nvPr/>
          </p:nvSpPr>
          <p:spPr>
            <a:xfrm>
              <a:off x="2781360" y="5246640"/>
              <a:ext cx="304920" cy="266760"/>
            </a:xfrm>
            <a:prstGeom prst="ellipse">
              <a:avLst/>
            </a:prstGeom>
            <a:solidFill>
              <a:srgbClr val="3399ff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385800" y="3846600"/>
            <a:ext cx="716760" cy="1151640"/>
            <a:chOff x="3385800" y="3846600"/>
            <a:chExt cx="716760" cy="1151640"/>
          </a:xfrm>
        </p:grpSpPr>
        <p:sp>
          <p:nvSpPr>
            <p:cNvPr id="220" name="AutoShape 30"/>
            <p:cNvSpPr/>
            <p:nvPr/>
          </p:nvSpPr>
          <p:spPr>
            <a:xfrm rot="6844200">
              <a:off x="3267000" y="4223520"/>
              <a:ext cx="1006200" cy="278640"/>
            </a:xfrm>
            <a:prstGeom prst="leftArrow">
              <a:avLst>
                <a:gd name="adj1" fmla="val 50000"/>
                <a:gd name="adj2" fmla="val 90278"/>
              </a:avLst>
            </a:prstGeom>
            <a:solidFill>
              <a:srgbClr val="3399ff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31"/>
            <p:cNvSpPr/>
            <p:nvPr/>
          </p:nvSpPr>
          <p:spPr>
            <a:xfrm rot="888600">
              <a:off x="3409560" y="4749840"/>
              <a:ext cx="254880" cy="219240"/>
            </a:xfrm>
            <a:prstGeom prst="ellipse">
              <a:avLst/>
            </a:prstGeom>
            <a:solidFill>
              <a:srgbClr val="3399ff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DSC00403"/>
          <p:cNvPicPr/>
          <p:nvPr/>
        </p:nvPicPr>
        <p:blipFill>
          <a:blip r:embed="rId1"/>
          <a:stretch/>
        </p:blipFill>
        <p:spPr>
          <a:xfrm>
            <a:off x="3564000" y="2925720"/>
            <a:ext cx="2238480" cy="2987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DSC00409"/>
          <p:cNvPicPr/>
          <p:nvPr/>
        </p:nvPicPr>
        <p:blipFill>
          <a:blip r:embed="rId2"/>
          <a:stretch/>
        </p:blipFill>
        <p:spPr>
          <a:xfrm>
            <a:off x="6515280" y="2933640"/>
            <a:ext cx="2151000" cy="2997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DSC00413!"/>
          <p:cNvPicPr/>
          <p:nvPr/>
        </p:nvPicPr>
        <p:blipFill>
          <a:blip r:embed="rId3"/>
          <a:stretch/>
        </p:blipFill>
        <p:spPr>
          <a:xfrm>
            <a:off x="539640" y="2924280"/>
            <a:ext cx="2151000" cy="2997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893080" cy="22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 Narrow"/>
              </a:rPr>
              <a:t>NEUTRAL LIPIDS            </a:t>
            </a:r>
            <a:r>
              <a:rPr b="1" lang="el-GR" sz="2800" spc="-1" strike="noStrike">
                <a:solidFill>
                  <a:srgbClr val="00ff00"/>
                </a:solidFill>
                <a:latin typeface="Arial Narrow"/>
                <a:ea typeface="Arial"/>
              </a:rPr>
              <a:t>G</a:t>
            </a:r>
            <a:r>
              <a:rPr b="1" lang="en-U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LYCOLIPIDS           </a:t>
            </a:r>
            <a:r>
              <a:rPr b="1" lang="en-US" sz="2800" spc="-1" strike="noStrike">
                <a:solidFill>
                  <a:srgbClr val="00ff00"/>
                </a:solidFill>
                <a:latin typeface="Arial Narrow"/>
              </a:rPr>
              <a:t>PHOSPHOLIPIDS </a:t>
            </a:r>
            <a:br>
              <a:rPr sz="2800"/>
            </a:br>
            <a:r>
              <a:rPr b="1" lang="en-US" sz="2800" spc="-1" strike="noStrike">
                <a:solidFill>
                  <a:srgbClr val="00ff00"/>
                </a:solidFill>
                <a:latin typeface="Arial Narrow"/>
              </a:rPr>
              <a:t>                                                   &amp;  </a:t>
            </a:r>
            <a:br>
              <a:rPr sz="2800"/>
            </a:br>
            <a:r>
              <a:rPr b="1" lang="en-US" sz="2800" spc="-1" strike="noStrike">
                <a:solidFill>
                  <a:srgbClr val="00ff00"/>
                </a:solidFill>
                <a:latin typeface="Arial Narrow"/>
              </a:rPr>
              <a:t>                                        </a:t>
            </a:r>
            <a:r>
              <a:rPr b="1" lang="el-GR" sz="2800" spc="-1" strike="noStrike">
                <a:solidFill>
                  <a:srgbClr val="00ff00"/>
                </a:solidFill>
                <a:latin typeface="Arial Narrow"/>
                <a:ea typeface="Arial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PHINGOLIPIDS</a:t>
            </a:r>
            <a:r>
              <a:rPr b="1" lang="en-US" sz="2800" spc="-1" strike="noStrike">
                <a:solidFill>
                  <a:srgbClr val="ffff99"/>
                </a:solidFill>
                <a:latin typeface="Arial Narrow"/>
                <a:ea typeface="Arial"/>
              </a:rPr>
              <a:t> </a:t>
            </a:r>
            <a:r>
              <a:rPr b="1" lang="el-GR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l-GR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l-GR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l-GR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 Narrow"/>
              </a:rPr>
              <a:t>   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9178920" cy="223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Fatty acid composition of </a:t>
            </a:r>
            <a:r>
              <a:rPr b="1" i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Thamnidium</a:t>
            </a:r>
            <a:r>
              <a:rPr b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 lipids in stationary pha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27" name="Object 106"/>
          <p:cNvGraphicFramePr/>
          <p:nvPr/>
        </p:nvGraphicFramePr>
        <p:xfrm>
          <a:off x="1403280" y="2565360"/>
          <a:ext cx="60390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Object 1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039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5535360" cy="3392640"/>
          </a:xfrm>
          <a:prstGeom prst="rect">
            <a:avLst/>
          </a:prstGeom>
          <a:ln w="0">
            <a:noFill/>
          </a:ln>
        </p:spPr>
      </p:pic>
      <p:sp>
        <p:nvSpPr>
          <p:cNvPr id="230" name="4 - TextBox"/>
          <p:cNvSpPr/>
          <p:nvPr/>
        </p:nvSpPr>
        <p:spPr>
          <a:xfrm>
            <a:off x="1571760" y="78588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Fatty acid analysis of </a:t>
            </a:r>
            <a:r>
              <a:rPr b="1" i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Thamni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1 - TextBox"/>
          <p:cNvSpPr/>
          <p:nvPr/>
        </p:nvSpPr>
        <p:spPr>
          <a:xfrm>
            <a:off x="214200" y="14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Bookman Old Style"/>
              </a:rPr>
              <a:t>Scale-up of </a:t>
            </a:r>
            <a:r>
              <a:rPr b="1" i="1" lang="el-GR" sz="3200" spc="-1" strike="noStrike">
                <a:solidFill>
                  <a:srgbClr val="33cc33"/>
                </a:solidFill>
                <a:latin typeface="Bookman Old Style"/>
              </a:rPr>
              <a:t>Thamnidium elegans </a:t>
            </a:r>
            <a:r>
              <a:rPr b="1" lang="en-US" sz="3200" spc="-1" strike="noStrike">
                <a:solidFill>
                  <a:srgbClr val="33cc33"/>
                </a:solidFill>
                <a:latin typeface="Bookman Old Style"/>
              </a:rPr>
              <a:t>in laboratory biore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42920" y="1785960"/>
            <a:ext cx="4535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Bookman Old Style"/>
              </a:rPr>
              <a:t>Culture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Batch cultures on gly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Total volume : 3.7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Working volume : 2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Temperature : 28 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Automatic pH regulation   at 6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Agitation speed : 250-350 rp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Aeration rate : 1-2 vv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Εικόνα 5" descr="Βιοαντιδραστήρας"/>
          <p:cNvPicPr/>
          <p:nvPr/>
        </p:nvPicPr>
        <p:blipFill>
          <a:blip r:embed="rId9"/>
          <a:stretch/>
        </p:blipFill>
        <p:spPr>
          <a:xfrm>
            <a:off x="5143680" y="2428920"/>
            <a:ext cx="36399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191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Kinetic models for growth and oil accumulation by </a:t>
            </a:r>
            <a:r>
              <a:rPr b="1" i="1" lang="sv-SE" sz="4000" spc="-1" strike="noStrike">
                <a:solidFill>
                  <a:srgbClr val="33cc33"/>
                </a:solidFill>
                <a:latin typeface="Arial"/>
              </a:rPr>
              <a:t>Thamnidium elegans</a:t>
            </a:r>
            <a:r>
              <a:rPr b="0" lang="sv-SE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1" descr=""/>
          <p:cNvPicPr/>
          <p:nvPr/>
        </p:nvPicPr>
        <p:blipFill>
          <a:blip r:embed="rId1"/>
          <a:stretch/>
        </p:blipFill>
        <p:spPr>
          <a:xfrm>
            <a:off x="0" y="1928880"/>
            <a:ext cx="5840280" cy="507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Γράφημα 1"/>
          <p:cNvGraphicFramePr/>
          <p:nvPr/>
        </p:nvGraphicFramePr>
        <p:xfrm>
          <a:off x="4071960" y="1785960"/>
          <a:ext cx="5256360" cy="3497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8" name="Γράφημα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1960" y="1785960"/>
                    <a:ext cx="5256360" cy="3497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0" name="Object 13"/>
          <p:cNvGraphicFramePr/>
          <p:nvPr/>
        </p:nvGraphicFramePr>
        <p:xfrm>
          <a:off x="684360" y="2421000"/>
          <a:ext cx="777384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21000"/>
                    <a:ext cx="777384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14"/>
          <p:cNvSpPr/>
          <p:nvPr/>
        </p:nvSpPr>
        <p:spPr>
          <a:xfrm>
            <a:off x="539640" y="0"/>
            <a:ext cx="86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Growth and lipid production by </a:t>
            </a:r>
            <a:r>
              <a:rPr b="1" i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Yarrowia lipolytica</a:t>
            </a:r>
            <a:r>
              <a:rPr b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 on raw glycerol in continuous cul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Bookman Old Style"/>
                <a:ea typeface="Arial"/>
              </a:rPr>
              <a:t>Citric acid production by </a:t>
            </a:r>
            <a:r>
              <a:rPr b="1" i="1" lang="en-US" sz="3600" spc="-1" strike="noStrike">
                <a:solidFill>
                  <a:srgbClr val="33cc33"/>
                </a:solidFill>
                <a:latin typeface="Bookman Old Style"/>
                <a:ea typeface="Arial"/>
              </a:rPr>
              <a:t>Yarrowia lipolytica</a:t>
            </a:r>
            <a:r>
              <a:rPr b="1" lang="en-US" sz="3600" spc="-1" strike="noStrike">
                <a:solidFill>
                  <a:srgbClr val="33cc33"/>
                </a:solidFill>
                <a:latin typeface="Bookman Old Style"/>
                <a:ea typeface="Arial"/>
              </a:rPr>
              <a:t> on raw glycerol in batch cultur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4" name="Εικόνα 38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524480" cy="3838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DSC02931"/>
          <p:cNvPicPr/>
          <p:nvPr/>
        </p:nvPicPr>
        <p:blipFill>
          <a:blip r:embed="rId2"/>
          <a:stretch/>
        </p:blipFill>
        <p:spPr>
          <a:xfrm>
            <a:off x="5111640" y="2565360"/>
            <a:ext cx="40323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  <a:ea typeface="Arial"/>
              </a:rPr>
              <a:t>Raw glycerol vs gluco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2211480"/>
          <a:ext cx="8137440" cy="3522600"/>
        </p:xfrm>
        <a:graphic>
          <a:graphicData uri="http://schemas.openxmlformats.org/drawingml/2006/table">
            <a:tbl>
              <a:tblPr/>
              <a:tblGrid>
                <a:gridCol w="2590920"/>
                <a:gridCol w="1584000"/>
                <a:gridCol w="1657440"/>
                <a:gridCol w="230508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Substrate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Y</a:t>
                      </a:r>
                      <a:r>
                        <a:rPr b="1" lang="en-US" sz="2800" spc="-1" strike="noStrike" baseline="-25000">
                          <a:solidFill>
                            <a:srgbClr val="ffff99"/>
                          </a:solidFill>
                          <a:latin typeface="Arial Narrow"/>
                        </a:rPr>
                        <a:t>X/S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(g/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Y</a:t>
                      </a:r>
                      <a:r>
                        <a:rPr b="1" lang="en-US" sz="2800" spc="-1" strike="noStrike" baseline="-25000">
                          <a:solidFill>
                            <a:srgbClr val="ffff99"/>
                          </a:solidFill>
                          <a:latin typeface="Arial Narrow"/>
                        </a:rPr>
                        <a:t>L/S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(g/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Lipid cont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(w/w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uc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dustrial glyce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3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78508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Biodiesel produc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4071960"/>
            <a:ext cx="9217080" cy="2765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57120" y="1628640"/>
            <a:ext cx="853452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Biodiesel is produced by transesterification of vegetable oils with methan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Triacylglycerols (TAG)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are the main constituent of vegetable oil, animal fats and microbial lipi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5" descr="P1010003"/>
          <p:cNvPicPr/>
          <p:nvPr/>
        </p:nvPicPr>
        <p:blipFill>
          <a:blip r:embed="rId1"/>
          <a:stretch/>
        </p:blipFill>
        <p:spPr>
          <a:xfrm>
            <a:off x="4572000" y="3286080"/>
            <a:ext cx="4289400" cy="3378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7"/>
          <p:cNvSpPr/>
          <p:nvPr/>
        </p:nvSpPr>
        <p:spPr>
          <a:xfrm>
            <a:off x="0" y="2143080"/>
            <a:ext cx="45720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Bookman Old Style"/>
              </a:rPr>
              <a:t>Culture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Repeated batch cultures on gly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Total volume : 3.7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Working volume : 2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Temperature : 28 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Automatic pH regulation at 6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Agitation speed : 350-450 rp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Aeration rate : 1-2 vv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3 - TextBox"/>
          <p:cNvSpPr/>
          <p:nvPr/>
        </p:nvSpPr>
        <p:spPr>
          <a:xfrm>
            <a:off x="428760" y="35712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Bookman Old Style"/>
              </a:rPr>
              <a:t>Glycerol metabolism in </a:t>
            </a:r>
            <a:r>
              <a:rPr b="1" i="1" lang="en-US" sz="3200" spc="-1" strike="noStrike">
                <a:solidFill>
                  <a:srgbClr val="33cc33"/>
                </a:solidFill>
                <a:latin typeface="Bookman Old Style"/>
              </a:rPr>
              <a:t>Yarrowia lipolyt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0"/>
          <a:stretch/>
        </p:blipFill>
        <p:spPr>
          <a:xfrm>
            <a:off x="214200" y="1357200"/>
            <a:ext cx="4143600" cy="528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405080" y="2565360"/>
            <a:ext cx="6480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3cc33"/>
                </a:solidFill>
                <a:latin typeface="Bookman Old Style"/>
              </a:rPr>
              <a:t>S</a:t>
            </a:r>
            <a:r>
              <a:rPr b="1" lang="en-US" sz="4400" spc="-1" strike="noStrike">
                <a:solidFill>
                  <a:srgbClr val="33cc33"/>
                </a:solidFill>
                <a:latin typeface="Bookman Old Style"/>
              </a:rPr>
              <a:t>OLID STATE</a:t>
            </a:r>
            <a:r>
              <a:rPr b="1" lang="el-GR" sz="4400" spc="-1" strike="noStrike">
                <a:solidFill>
                  <a:srgbClr val="33cc33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33cc33"/>
                </a:solidFill>
                <a:latin typeface="Bookman Old Style"/>
              </a:rPr>
              <a:t>FERMENTATION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Solid state fermentation of </a:t>
            </a:r>
            <a:r>
              <a:rPr b="1" i="1" lang="en-US" sz="4000" spc="-1" strike="noStrike">
                <a:solidFill>
                  <a:srgbClr val="33cc33"/>
                </a:solidFill>
                <a:latin typeface="Bookman Old Style"/>
              </a:rPr>
              <a:t>Mortierella isabellina</a:t>
            </a: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 on by-</a:t>
            </a:r>
            <a:r>
              <a:rPr b="1" lang="el-GR" sz="4000" spc="-1" strike="noStrike">
                <a:solidFill>
                  <a:srgbClr val="33cc33"/>
                </a:solidFill>
                <a:latin typeface="Bookman Old Style"/>
              </a:rPr>
              <a:t>products from pear </a:t>
            </a: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processing</a:t>
            </a: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 Narrow"/>
              </a:rPr>
              <a:t> </a:t>
            </a:r>
            <a:r>
              <a:rPr b="0" lang="el-GR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4" name="Picture 5" descr="DSC02118"/>
          <p:cNvPicPr/>
          <p:nvPr/>
        </p:nvPicPr>
        <p:blipFill>
          <a:blip r:embed="rId1"/>
          <a:stretch/>
        </p:blipFill>
        <p:spPr>
          <a:xfrm>
            <a:off x="1042920" y="2711520"/>
            <a:ext cx="3459240" cy="2592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Εικόνα012"/>
          <p:cNvPicPr/>
          <p:nvPr/>
        </p:nvPicPr>
        <p:blipFill>
          <a:blip r:embed="rId2"/>
          <a:stretch/>
        </p:blipFill>
        <p:spPr>
          <a:xfrm>
            <a:off x="5003640" y="2708280"/>
            <a:ext cx="345924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Lipid production by </a:t>
            </a:r>
            <a:r>
              <a:rPr b="1" i="1" lang="en-US" sz="4000" spc="-1" strike="noStrike">
                <a:solidFill>
                  <a:srgbClr val="33cc33"/>
                </a:solidFill>
                <a:latin typeface="Bookman Old Style"/>
              </a:rPr>
              <a:t>Mortierella isabellina </a:t>
            </a: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on by-</a:t>
            </a:r>
            <a:r>
              <a:rPr b="1" lang="el-GR" sz="4000" spc="-1" strike="noStrike">
                <a:solidFill>
                  <a:srgbClr val="33cc33"/>
                </a:solidFill>
                <a:latin typeface="Bookman Old Style"/>
              </a:rPr>
              <a:t>products from pear </a:t>
            </a: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process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57" name="Object 10"/>
          <p:cNvGraphicFramePr/>
          <p:nvPr/>
        </p:nvGraphicFramePr>
        <p:xfrm>
          <a:off x="1908000" y="2359080"/>
          <a:ext cx="551664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359080"/>
                    <a:ext cx="551664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372360" y="3860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ID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R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4920" y="666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RENEWABLE CARBON SOURC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glucose, xylose, starc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w glycerol, tomato waste hydrolysate, pear pomace, industrial fat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386064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40-60% SCO / D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8-10 % SCO / D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-1080" y="54450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-1.2 g/l G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0-45 % CBS/D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8-10 % biodiesel / D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IMG_0537"/>
          <p:cNvPicPr/>
          <p:nvPr/>
        </p:nvPicPr>
        <p:blipFill>
          <a:blip r:embed="rId1"/>
          <a:stretch/>
        </p:blipFill>
        <p:spPr>
          <a:xfrm>
            <a:off x="3780000" y="3789360"/>
            <a:ext cx="2106360" cy="280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P1010013"/>
          <p:cNvPicPr/>
          <p:nvPr/>
        </p:nvPicPr>
        <p:blipFill>
          <a:blip r:embed="rId2"/>
          <a:stretch/>
        </p:blipFill>
        <p:spPr>
          <a:xfrm>
            <a:off x="5038560" y="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2"/>
          <p:cNvSpPr/>
          <p:nvPr/>
        </p:nvSpPr>
        <p:spPr>
          <a:xfrm>
            <a:off x="3851280" y="0"/>
            <a:ext cx="1079640" cy="1052640"/>
          </a:xfrm>
          <a:prstGeom prst="rightArrow">
            <a:avLst>
              <a:gd name="adj1" fmla="val 50000"/>
              <a:gd name="adj2" fmla="val 256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3"/>
          <p:cNvSpPr/>
          <p:nvPr/>
        </p:nvSpPr>
        <p:spPr>
          <a:xfrm flipV="1" rot="5400000">
            <a:off x="6010920" y="3499920"/>
            <a:ext cx="2592360" cy="21592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MG_0520"/>
          <p:cNvPicPr/>
          <p:nvPr/>
        </p:nvPicPr>
        <p:blipFill>
          <a:blip r:embed="rId1"/>
          <a:stretch/>
        </p:blipFill>
        <p:spPr>
          <a:xfrm>
            <a:off x="0" y="-22320"/>
            <a:ext cx="932508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541800" y="259920"/>
            <a:ext cx="759636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Microbial lipids </a:t>
            </a:r>
            <a:br>
              <a:rPr sz="4000"/>
            </a:b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(Single Cell Oil, SCO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Zygomycetes</a:t>
            </a:r>
            <a:r>
              <a:rPr b="0" lang="en-GB" sz="2400" spc="-1" strike="noStrike">
                <a:solidFill>
                  <a:srgbClr val="ffcc66"/>
                </a:solidFill>
                <a:latin typeface="Bookman Old Style"/>
              </a:rPr>
              <a:t> accumulate lipids rich in unsaturated fatty acids (e.g.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γ-linolenic acid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-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GLA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, d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ihomo-γ-linolenic acid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-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D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H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GLA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, a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rachidonic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acid - AA) of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high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nutritional and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dietary importance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Many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microorganisms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store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lipids with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unusual composition or structure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which presenting composition similarities with various exotic fats (e.g. cocoa butter).</a:t>
            </a:r>
            <a:r>
              <a:rPr b="0" lang="en-US" sz="3200" spc="-1" strike="noStrike">
                <a:solidFill>
                  <a:srgbClr val="ffcc66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Microbial lipids can be </a:t>
            </a:r>
            <a:r>
              <a:rPr b="0" lang="en-GB" sz="2400" spc="-1" strike="noStrike">
                <a:solidFill>
                  <a:srgbClr val="ffcc66"/>
                </a:solidFill>
                <a:latin typeface="Bookman Old Style"/>
              </a:rPr>
              <a:t>extracted and transformed to biodiesel.</a:t>
            </a:r>
            <a:r>
              <a:rPr b="0" lang="el-GR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4"/>
          <a:stretch/>
        </p:blipFill>
        <p:spPr>
          <a:xfrm>
            <a:off x="6659640" y="0"/>
            <a:ext cx="2093760" cy="1566720"/>
          </a:xfrm>
          <a:prstGeom prst="rect">
            <a:avLst/>
          </a:prstGeom>
          <a:ln w="0">
            <a:noFill/>
          </a:ln>
        </p:spPr>
      </p:pic>
      <p:sp>
        <p:nvSpPr>
          <p:cNvPr id="118" name="Line 5"/>
          <p:cNvSpPr/>
          <p:nvPr/>
        </p:nvSpPr>
        <p:spPr>
          <a:xfrm>
            <a:off x="6516720" y="765000"/>
            <a:ext cx="431640" cy="73080"/>
          </a:xfrm>
          <a:prstGeom prst="line">
            <a:avLst/>
          </a:prstGeom>
          <a:ln w="38160">
            <a:solidFill>
              <a:srgbClr val="8b1b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6012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TAG accumulation by oleaginous m/o grown on glucos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3" descr="7198937-0-large"/>
          <p:cNvPicPr/>
          <p:nvPr/>
        </p:nvPicPr>
        <p:blipFill>
          <a:blip r:embed="rId1"/>
          <a:stretch/>
        </p:blipFill>
        <p:spPr>
          <a:xfrm>
            <a:off x="428760" y="1352520"/>
            <a:ext cx="83516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58560" y="2349360"/>
            <a:ext cx="675324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Bookman Old Style"/>
              </a:rPr>
              <a:t>GLYCE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Bookman Old Style"/>
              </a:rPr>
              <a:t>METABOLIS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0108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Glycerol metabolism in microbial cel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4716360" y="2997360"/>
            <a:ext cx="3168720" cy="1366560"/>
          </a:xfrm>
          <a:prstGeom prst="ellipse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rob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539640" y="2924280"/>
            <a:ext cx="3167280" cy="1366560"/>
          </a:xfrm>
          <a:prstGeom prst="ellipse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aerob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H="1">
            <a:off x="2987280" y="1700280"/>
            <a:ext cx="147492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4498920" y="1700280"/>
            <a:ext cx="151128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1908000" y="4365720"/>
            <a:ext cx="358920" cy="433440"/>
          </a:xfrm>
          <a:prstGeom prst="downArrow">
            <a:avLst>
              <a:gd name="adj1" fmla="val 50000"/>
              <a:gd name="adj2" fmla="val 3019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 rot="939000">
            <a:off x="5221440" y="4437000"/>
            <a:ext cx="358560" cy="433440"/>
          </a:xfrm>
          <a:prstGeom prst="downArrow">
            <a:avLst>
              <a:gd name="adj1" fmla="val 50000"/>
              <a:gd name="adj2" fmla="val 3022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971640" y="5013360"/>
            <a:ext cx="2016000" cy="792000"/>
          </a:xfrm>
          <a:prstGeom prst="rect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karyotic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4067280" y="5013360"/>
            <a:ext cx="2016000" cy="792000"/>
          </a:xfrm>
          <a:prstGeom prst="rect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ukaryo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6804000" y="5013360"/>
            <a:ext cx="2016000" cy="792000"/>
          </a:xfrm>
          <a:prstGeom prst="rect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karyo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 rot="19927200">
            <a:off x="6876720" y="4437000"/>
            <a:ext cx="358920" cy="433440"/>
          </a:xfrm>
          <a:prstGeom prst="downArrow">
            <a:avLst>
              <a:gd name="adj1" fmla="val 50000"/>
              <a:gd name="adj2" fmla="val 3019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4716720" cy="559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Bookman Old Style"/>
              </a:rPr>
              <a:t>Glycerol catabolism in eukaryotic microorganisms</a:t>
            </a:r>
            <a:r>
              <a:rPr b="1" lang="el-GR" sz="30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3995640" y="42840"/>
          <a:ext cx="5118120" cy="68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42840"/>
                    <a:ext cx="511812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Bookman Old Style"/>
              </a:rPr>
              <a:t>Substrates used for SCO produc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2 - Ορθογώνιο"/>
          <p:cNvSpPr/>
          <p:nvPr/>
        </p:nvSpPr>
        <p:spPr>
          <a:xfrm>
            <a:off x="2071800" y="2286000"/>
            <a:ext cx="528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Raw gly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Bookman Old Style"/>
              </a:rPr>
              <a:t>Pear po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0:54:06Z</dcterms:created>
  <dc:creator>microbiology lab</dc:creator>
  <dc:description/>
  <dc:language>en-US</dc:language>
  <cp:lastModifiedBy>Anna</cp:lastModifiedBy>
  <dcterms:modified xsi:type="dcterms:W3CDTF">2008-09-04T08:42:53Z</dcterms:modified>
  <cp:revision>193</cp:revision>
  <dc:subject/>
  <dc:title>Διαφάνεια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