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873-3375-43AB-BB76-417C5A0F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B7F-D290-4131-8E90-0F5D680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A9C-9F42-4C32-BF3C-9D6DB0DB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F6D-7924-4F13-B17A-9E3C4BE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474-923B-4693-BF88-AC6600DF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0AA8-53DA-443A-8767-68D81F6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94F7-CE30-444F-B205-523B25C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CA9D-F871-47F0-9089-C062FEC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459-8B3D-47F3-B38B-7C4D97F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C41C-E56E-485C-96FB-C61299F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C946-2A0D-4524-9B83-02B3288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BE8-3E96-4C19-86B6-4400A06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A16-A53D-4A05-B00D-FEF14CD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F98-9BB4-4475-B040-8DB8D40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E95-ACF9-4BFD-895F-AB69463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07E6-42C9-4D49-942C-A1DB56A2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9AC-B580-4D58-B199-D5AB96F4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7494-E860-4BF1-9CB2-806D617D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BED0-D79D-4419-9354-256B7DE6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255C-D2EB-4D65-BA82-0A4B7BBC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3B4C-0057-4DED-BDFE-DC9B863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CC19-0CEE-4AFB-B884-C7A7709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457-FE8D-4B49-BF19-9A4FAD2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BCA5-7A23-4643-A122-0DB7F754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3D93-A7C9-4259-A690-FE77CDE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CE75-75E1-44D8-BD2A-C2F7A3A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8BC9-B744-44D3-BD0F-9F226FA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1929-B40E-462E-A733-626A1C7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2555-EC0F-4FED-8A24-C4220650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7350-A2D7-435F-B02A-0ACE524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015-B9C9-44E2-816E-51713C4A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D5E-EA47-47D8-B327-81F8D3F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537-977C-471C-B326-80A65C66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4A5-D502-4BE5-BF26-D81898D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6E3-7EF0-4E31-8F16-39B4E07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10E-F5AD-4369-A8CA-02B9CBA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10F7-94F1-490B-AD92-6EAAF707C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9F0-9C51-4F15-847F-0FD9973990F7}" type="slidenum">
              <a:rPr b="0" lang="el-G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AE11-2CFF-4A1E-9349-537E88367735}" type="slidenum">
              <a:rPr b="0" lang="el-G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3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ΡΟΚΑΤΑΡΚΤΙΚΗ ΜΕΛΕΤΗ ΣΚΟΠΙΜΟΤΗΤ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ΓΚΑΤΑΣΤΑΣΗΣ ΠΑΡΑΓΩΓ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ΙΟΑΙΘΑΝΟΛΗΣ 2ης Γενιά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591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ικόλαος Κ. Ντάβ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. Διδάκτω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μ. Μηχανικών Διαχείρισης Ενεργειακών Πό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51680" y="5929200"/>
            <a:ext cx="2057400" cy="884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638960" y="6019920"/>
            <a:ext cx="231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Βραβεύτηκε στο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ανελλήνιο Διαγωνισμ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ιχειρηματικού Σχεδί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ΜΕΡΙΔΑ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ΕΡΓΕΙΑΚΕΣ ΚΑΛΛΙΕΡΓΕΙΕΣ - ΠΑΡΑΓΩΓΗ ΒΙΟΝΤΗΖΕΛ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ωάννινα, 22 Σεπτεμβρί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εφοδιασμός με πρώτη ύλ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9323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968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αλλιέργεια καλαμποκιού στην Ελλάδα (ΕΣΥ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υνολική γεωργική γη της Ελλάδας κατά το έτος 2004 είναι 38.750 χιλ. στ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αλλιεργούμενη έκταση είναι 2.182 χιλ. στρ. και η παραγωγή φτάνει στους 2.193 χιλ. τόνους καλαμποκιο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900680" y="1295280"/>
            <a:ext cx="4208400" cy="5562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703600" y="5408640"/>
            <a:ext cx="215568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εφοδιασμός με πρώτη ύλ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3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βάση τα παραπάνω, το υπόλειμμα καλαμποκιού το οποίο θα χρησιμοποιείται, θα συλλέγεται και θα μεταφέρεται στην εγκατάσταση από μία μέση απόσταση 200 χλ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68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Τιμή Υπολείμματος Καλαμποκιού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τιμή του υπολείμματος καλαμποκιού είναι ακόμα θεωρητική και υποκειμενική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ις παρούσες πρακτικές και μηχανήματα, το υπόλειμμα καλαμποκιού θα συλλέγεται και θα συσκευάζεται χωριστά, αμέσως μετά την συγκομιδή του καλαμποκιο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έματα του υπολείμματος θα αποθηκεύονται και θα μεταφέρονται στο εργοστάσιο με τρόπο παρόμοιο με αυτό των δεμάτων άχυ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Τιμή Υπολείμματος Καλαμποκιού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μέση τιμή του υπολείμματος καλαμποκιού είναι 40€/τόνο και ένα στρέμμα καλλιεργήσιμης γης καλαμποκιού  αποδίδει περίπου 4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όλειμ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 μέσο όρο μεταφέρονται 400 δέματα ανά φορτηγό και η μεταφορά τους κοστίζει 15 €/τόνο για μέση απόσταση 200 χλ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μέσο βάρος ενός δέματος είναι περίπου 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92360" y="2708280"/>
            <a:ext cx="5759280" cy="26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αραγωγική διαδικασία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αγωγική διαδικασία η οποία χρησιμοποιείται είν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Υδρόλυση, με διαλύτη θειικό οξ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ης λιγνοκυτταρινούχας βιομάζα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νζυματική σακχαροποίησ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ης υπολειπόμενης κυτταρί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ι ζύμωση της παραγόμεν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λυκόζης και ξυλόζης σε αιθανό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αραγωγική διαδικασία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χείριση Υπολείμ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επεξεργασ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ακχαροποί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Ζύμω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σταξη Αιθανόλης και Διαχωρισμ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χείριση Αποβλή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άλυση Κόστους Κεφαλαίου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λύθηκαν τρεις διαφορετικές ικανότητες παραγωγής της εγκατάστασης με σκοπό να βρεθεί η βέλτιστη από οικονομικής άποψ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τές οι ικανότητες παραγωγής βιοαιθανόλης είν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20, 190 και 260 εκατ. λίτρα βιοαιθανόλ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άλυση Κόστους Κεφαλαίου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συνολικές δαπάνες δίνουν μία συνολική εικόνα για το ύψος της επένδυσης που χρειάζεται για την κατασκευή της εγκατάστασης παραγωγής βιοαιθανό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116000" y="4033800"/>
            <a:ext cx="7272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Οικονομική Αξιολόγησ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τό το τμήμα της μελέτης παρουσιάζει την χρηματοοικονομική απόδοση της εγκατάστασης παραγωγής βιοαιθανό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ροσέγγιση της μελέτης έγινε χρησιμοποιώντας συντηρητικές υποθέσεις κατά την οικονομική ανάλυση για να εκτιμηθεί το ελάχιστο κέρδος το οποίο θα μπορούσε να προκύψει από μία τέτοιου είδους επένδυ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Οικονομική Αξιολόγησ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ιμή πώλησης βιοαιθανόλης: 0,5 €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κτός από την βιοαιθανόλη θα πωλείται και η λιγνίνη με τιμή πώλησης τα 8 €/υγρό τόν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έσοδα αυτά αφαιρούνται τα έξοδα διανομής της αιθανόλης τα οποία είναι 0,01 €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8642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έμα της προκαταρκτικής μελέτης σκοπιμότητας είναι η δημιουργία εγκατάστασης παραγωγής βιοαιθανόλης στην ελληνική επικράτε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ούσα μελέτη είναι βασισμένη στην τεχνογνωσία η οποία έχει αναπτυχθεί στις Η.Π.Α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20760" y="426708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Οικονομική Αξιολόγησ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καθαρά κέρδη και για τις τρεις εγκαταστάσεις είναι εξίσου σημαντικ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τές οι τιμές δεν επιτρέπουν μία άμεση σύγκριση για το ποια από τις τρεις ικανότητες παραγωγής είναι αποδοτικότερ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ν παρακάτω πίνακα φαίνεται το «Καθαρό Κόστος Παραγωγής της Βιοαιθανόλης» κάτι το οποίο μας επιτρέπει την άμεση σύγκρι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Οικονομική Αξιολόγησ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4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8028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Κοινωνικο-οικονομικά οφέλ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 επίπεδο της αγροτικής παραγωγής, θα μπορούσε να αναγεννηθεί ο χώρος της καλλιέργειας του καλαμποκιού, αφού θα προσδίδει ένα επιπλέον κέρδος στους αγρότες που ασχολούνται με αυτή την καλλιέργει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ίσης θα μπορούσε να προσελκύσει νέους αγρότες στον συγκεκριμένο κλάδο σταματώντας έτσι ασύμφορες καλλιέργει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γκατάσταση παραγωγής βιοαιθανόλης θα απασχολεί σημαντικό αριθμό εργαζομένων και θα δίνει παράλληλα έσοδα τόσο στην τοπική κοινωνία, όσο και σε πολλούς αγροτικούς παραγωγού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Κοινωνικο-οικονομικά οφέλ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μειωθεί σε ένα βαθμό η ενεργειακή εξάρτηση που έχει η Ελλάδα από τις χώρες παραγωγής του πετρελαί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ία νέων θέσεων εργασίας σε πολλούς τομείς και περιοχές, τόσο κατά την κατασκευή της εγκατάστασης, όσο και κατά την λειτουργία της, γεγονός που θα συμβάλλει στο περιορισμό της ανεργ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συμβάλλει στην τουριστική βιομηχανία, η οποία θα μπορεί να «καυχιέται» για ένα οικολογικό τουριστικό προορισμ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υμπεράσματα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βάση την τεχνικό-οικονομική ανάλυση που προηγήθηκε, διαφαίνεται ότι η παραγωγή βιοαιθανόλης από υπόλειμμα καλαμποκιού μπορεί να είναι ανταγωνιστική, όχι μόνο συγκρινόμενη με άλλες τεχνικές παραγωγής βιοαιθανόλης, αλλά συγκρινόμενη και με τα άλλα βιοκαύσι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ίσης, η καινοτόμος «συνεργασία» μεταξύ εγκαταστάσεων παραγωγής βιοαιθανόλης και εργοστασίων παραγωγής ηλεκτρικής ενέργειας από λιγνίτη, προσδίδει σημαντικά οφέλη και πλεονεκτήματα και στους δύο τομεί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υμπεράσματα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 κατακλείδι, τα δεδομένα τα οποία προκύπτουν από την παρούσα προκαταρκτική μελέτη σκοπιμότητας οδηγούν αβίαστα στο συμπέρασμα ότι η εγκατάσταση παραγωγής βιοαιθανόλης με πρώτη ύλη το υπόλειμμα καλαμποκιού και «συνεργασία» με Ατμοηλεκτρικό Σταθμό είναι μία εξαιρετικά κερδοφόρα επένδυσ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αυτό συνηγορεί επίσης το γεγονός ότι η συνολική απόσβεση της επένδυσης με βάση την οικονομική αξιολόγηση θα μπορούσε να πραγματοποιηθεί περίπου σε 2,5 χρόνια από την έναρξη λειτουργίας της εγκατάστασ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00000"/>
                </a:solidFill>
                <a:latin typeface="Monotype Corsiva"/>
              </a:rPr>
              <a:t>Ευχαριστώ για την προσοχή σα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2565360"/>
            <a:ext cx="64008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ανεπιστήμιο Δυτικής Μακεδονία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μήμα Μηχανικών Διαχείρισης Ενεργειακών Πόρ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πακόλα &amp; Σιαλβέρ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.Κ. 50100, Κοζάν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Νικόλαος Κ. Ντάβο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π. Διδάκτω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ηλ: 24610566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ιν:69797744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-mail: ndavos@uowm.g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ώτες ύλες της εγκατάστασης μπορούν να είναι οι «εγκαταλελειμμένες» λιγνοκυτταρινούχες βιομάζ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υπολείμματα της γεωργίας και της δασοκομία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απόβλητα χαρτοβιομηχανιών κα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λλα στερεά απόβλητα που περιέχουν λιγνοκυτταρινούχες ενώ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ώτη ύλη είναι το υπόλειμμα καλαμποκιο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38560" y="256536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3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ούσα μελέτη διαπραγματεύεται την «συνύπαρξη» της εγκατάστασης παραγωγής βιοαιθανόλης με εργοστάσιο παραγωγής ηλεκτρικής ενέργειας από λιγνί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ιοαιθανόλ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χρησιμοποιηθεί, είτε ως έχει, είτε σε πρόσμιξη με τα συμβατικά καύσιμα, στους βενζινοκινητήρες και πετρελαιοκινητή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ειδή η βιοαιθανόλη παρουσιάζει τεχνικές δυσχέρειες όταν αναμιγνύεται με βενζίνη, προτείνεται η μετατροπή εντός των διυλιστηρίων της βιοαιθανόλης σ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B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yl Tertiary Butyl Ethe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και χρήση του τελευταίου ως συστατικό ανάμιξης στις βενζίνε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ποσοστό ανάμιξ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B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σε βενζίνη μπορεί να ανέλθει μέχρι 15% κατ’ όγκ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πιλογή Περιοχής Εγκατάστασης του Εργοστασίου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ατασκευή της εγκαταστάσης δίπλα σε εργοστάσιο παραγωγής ηλεκτρικής ενέργειας με καύση λιγνίτη παρουσιάζει μια ευκαιρία να μειωθεί το κύριο κόστος της με την εξάλειψη του λέβητα για την παραγωγή ατμο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λέβητας μπορεί να αντιπροσωπεύσει μέχρι 30% του κύριου κόσ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τοποθεσία η οποία επιλέχθηκε για την δημιουργία της εγκατάστασης είναι η περιοχή της Πτολεμαΐδ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πιλογή Περιοχής Εγκατάστασης του Εργοστασίου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435640" y="5892840"/>
            <a:ext cx="1109520" cy="96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1116000" cy="981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κριτήρια επιλογής της περιοχής που χρησιμοποιήθηκαν για την εγκατάσταση του εργοστασίου περιλαμβάνουν τις ακόλουθες γενικές κατηγορί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όσβαση σε Ατμοηλεκτρικό Σταθμό (Α.Η.Σ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ρκής πρώτη ύλη μέσα σε μια λογική απόσταση μεταφορώ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δομή που μπορεί να μειώσει το κόστος εγκατάστασης βιοαιθανόλης (ανεφοδιασμός ατμού ή επεξεργασία υδάτινων απόβλητω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 algn="just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όσβαση σε καλό οδικό και σιδηροδρομικό δίκτυ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6308640"/>
            <a:ext cx="853920" cy="270000"/>
          </a:xfrm>
          <a:prstGeom prst="leftRightArrow">
            <a:avLst>
              <a:gd name="adj1" fmla="val 50000"/>
              <a:gd name="adj2" fmla="val 629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63720" y="2247840"/>
          <a:ext cx="159228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2247840"/>
                    <a:ext cx="15922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403280" y="1484280"/>
            <a:ext cx="7086600" cy="3363840"/>
            <a:chOff x="1403280" y="1484280"/>
            <a:chExt cx="7086600" cy="3363840"/>
          </a:xfrm>
        </p:grpSpPr>
        <p:sp>
          <p:nvSpPr>
            <p:cNvPr id="222" name=""/>
            <p:cNvSpPr/>
            <p:nvPr/>
          </p:nvSpPr>
          <p:spPr>
            <a:xfrm>
              <a:off x="1419120" y="1558800"/>
              <a:ext cx="6842160" cy="1152720"/>
            </a:xfrm>
            <a:custGeom>
              <a:avLst/>
              <a:gdLst/>
              <a:ahLst/>
              <a:rect l="l" t="t" r="r" b="b"/>
              <a:pathLst>
                <a:path w="4310" h="726">
                  <a:moveTo>
                    <a:pt x="0" y="726"/>
                  </a:moveTo>
                  <a:lnTo>
                    <a:pt x="2014" y="0"/>
                  </a:lnTo>
                  <a:lnTo>
                    <a:pt x="3110" y="241"/>
                  </a:lnTo>
                  <a:lnTo>
                    <a:pt x="4310" y="1"/>
                  </a:lnTo>
                  <a:lnTo>
                    <a:pt x="385" y="711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3280" y="1547640"/>
              <a:ext cx="3508200" cy="3186360"/>
            </a:xfrm>
            <a:custGeom>
              <a:avLst/>
              <a:gdLst/>
              <a:ahLst/>
              <a:rect l="l" t="t" r="r" b="b"/>
              <a:pathLst>
                <a:path w="2210" h="2007">
                  <a:moveTo>
                    <a:pt x="0" y="728"/>
                  </a:moveTo>
                  <a:lnTo>
                    <a:pt x="2032" y="0"/>
                  </a:lnTo>
                  <a:lnTo>
                    <a:pt x="2210" y="2007"/>
                  </a:lnTo>
                  <a:lnTo>
                    <a:pt x="0" y="1016"/>
                  </a:lnTo>
                  <a:lnTo>
                    <a:pt x="0" y="72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3280" y="3160800"/>
              <a:ext cx="6999120" cy="1562040"/>
            </a:xfrm>
            <a:custGeom>
              <a:avLst/>
              <a:gdLst/>
              <a:ahLst/>
              <a:rect l="l" t="t" r="r" b="b"/>
              <a:pathLst>
                <a:path w="4409" h="984">
                  <a:moveTo>
                    <a:pt x="0" y="0"/>
                  </a:moveTo>
                  <a:lnTo>
                    <a:pt x="2135" y="984"/>
                  </a:lnTo>
                  <a:lnTo>
                    <a:pt x="3264" y="720"/>
                  </a:lnTo>
                  <a:lnTo>
                    <a:pt x="4409" y="954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3280" y="270360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384" y="288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527360" y="1484280"/>
              <a:ext cx="3962520" cy="33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2124000" y="3860640"/>
            <a:ext cx="4535640" cy="2853000"/>
            <a:chOff x="2124000" y="3860640"/>
            <a:chExt cx="4535640" cy="2853000"/>
          </a:xfrm>
        </p:grpSpPr>
        <p:sp>
          <p:nvSpPr>
            <p:cNvPr id="228" name=""/>
            <p:cNvSpPr/>
            <p:nvPr/>
          </p:nvSpPr>
          <p:spPr>
            <a:xfrm>
              <a:off x="2144520" y="3860640"/>
              <a:ext cx="4514760" cy="343080"/>
            </a:xfrm>
            <a:custGeom>
              <a:avLst/>
              <a:gdLst/>
              <a:ahLst/>
              <a:rect l="l" t="t" r="r" b="b"/>
              <a:pathLst>
                <a:path w="3058" h="229">
                  <a:moveTo>
                    <a:pt x="3058" y="0"/>
                  </a:moveTo>
                  <a:lnTo>
                    <a:pt x="0" y="229"/>
                  </a:lnTo>
                  <a:lnTo>
                    <a:pt x="2659" y="229"/>
                  </a:lnTo>
                  <a:lnTo>
                    <a:pt x="3058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5600" y="3860640"/>
              <a:ext cx="643680" cy="2853000"/>
            </a:xfrm>
            <a:custGeom>
              <a:avLst/>
              <a:gdLst/>
              <a:ahLst/>
              <a:rect l="l" t="t" r="r" b="b"/>
              <a:pathLst>
                <a:path w="436" h="1904">
                  <a:moveTo>
                    <a:pt x="436" y="0"/>
                  </a:moveTo>
                  <a:lnTo>
                    <a:pt x="0" y="259"/>
                  </a:lnTo>
                  <a:lnTo>
                    <a:pt x="60" y="1904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4000" y="3860640"/>
              <a:ext cx="4535640" cy="2841120"/>
            </a:xfrm>
            <a:custGeom>
              <a:avLst/>
              <a:gdLst/>
              <a:ahLst/>
              <a:rect l="l" t="t" r="r" b="b"/>
              <a:pathLst>
                <a:path w="3072" h="1896">
                  <a:moveTo>
                    <a:pt x="3072" y="0"/>
                  </a:moveTo>
                  <a:lnTo>
                    <a:pt x="2696" y="1896"/>
                  </a:lnTo>
                  <a:lnTo>
                    <a:pt x="0" y="1859"/>
                  </a:lnTo>
                  <a:lnTo>
                    <a:pt x="3072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2124000" y="4148280"/>
              <a:ext cx="3968640" cy="25426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πιλογή Περιοχής Εγκατάστασης του Εργοστασίου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3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279520" y="5805360"/>
          <a:ext cx="449280" cy="77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9520" y="5805360"/>
                    <a:ext cx="44928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700360" y="6054840"/>
          <a:ext cx="39060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00360" y="6054840"/>
                    <a:ext cx="390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516720" y="3700440"/>
            <a:ext cx="304920" cy="304920"/>
          </a:xfrm>
          <a:prstGeom prst="ellipse">
            <a:avLst/>
          </a:prstGeom>
          <a:solidFill>
            <a:srgbClr val="ff0000"/>
          </a:solidFill>
          <a:ln cap="sq" w="1908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59280" y="5589720"/>
          <a:ext cx="231480" cy="995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5589720"/>
                    <a:ext cx="2314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76720" y="5950080"/>
          <a:ext cx="284040" cy="65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76720" y="5950080"/>
                    <a:ext cx="2840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564000" y="5661000"/>
          <a:ext cx="168120" cy="9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64000" y="5661000"/>
                    <a:ext cx="168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708360" y="6237360"/>
          <a:ext cx="241200" cy="379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6237360"/>
                    <a:ext cx="24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εφοδιασμός με πρώτη ύλ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80808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Ελλάδα υπάρχει εκτεταμένη παραγωγή καλαμποκιού και επομένως αποθέματα του υπολείμματός 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κτιμήσεις της διαθεσιμότητας του υπολείμματος εξαρτώνται από την υπόθεση για την ποσότητα αυτού που μπορεί να συλλεχθεί και να χρησιμοποιηθε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ρογραμματισμός, ο οποίος χρησιμοποιείται βασίζεται στην εμπειρική υπόθεση ότι πρέπει να παραμείνει στο χωράφι περίπου το μισό αυτο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8:13:45Z</dcterms:created>
  <dc:creator>Nikos</dc:creator>
  <dc:description/>
  <dc:language>en-US</dc:language>
  <cp:lastModifiedBy>Nikos</cp:lastModifiedBy>
  <dcterms:modified xsi:type="dcterms:W3CDTF">2008-09-21T08:06:57Z</dcterms:modified>
  <cp:revision>9</cp:revision>
  <dc:subject/>
  <dc:title>ΠΡΟΚΑΤΑΡΚΤΙΚΗ ΜΕΛΕΤΗ ΣΚΟΠΙΜΟΤΗΤΑΣ ΕΓΚΑΤΑΣΤΑΣΗΣ ΠΑΡΑΓΩΓΗΣ ΒΙΟΑΙΘΑΝΟΛΗΣ 2ης Γενιάς</dc:title>
</cp:coreProperties>
</file>