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wmf" ContentType="image/x-wmf"/>
  <Override PartName="/ppt/media/image12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62A-10A0-4429-84AB-622BA92A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05D-3DEF-4231-89E2-E41A63FB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FF6-6F3B-41B5-81A3-EC455DA2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633-2047-4222-8902-FE939773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F96-3522-46E6-B3D9-90FE7CDD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2CD-3554-42A3-9E82-F5388726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146-2E7F-46A0-9DDE-3BD7658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C5E-5A76-46ED-9E44-5969564A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7C1-72D6-4FBA-BF77-DDA21488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99E-80B0-49D1-B45D-552BEA8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65B-58E2-4253-82F0-FE13334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C26-B2B0-445D-A6C7-14EC191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B6B-01FA-483F-ACAB-0767F6ACB7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340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cc"/>
                </a:solidFill>
                <a:latin typeface="Verdana"/>
              </a:rPr>
              <a:t>ΠΑΝΕΠΙΣΤΗΜΙΟ ΙΩΑΝΝΙΝΩΝ</a:t>
            </a:r>
            <a:br>
              <a:rPr sz="2000"/>
            </a:br>
            <a:r>
              <a:rPr b="0" lang="el-GR" sz="2000" spc="-1" strike="noStrike">
                <a:solidFill>
                  <a:srgbClr val="ffffcc"/>
                </a:solidFill>
                <a:latin typeface="Verdana"/>
              </a:rPr>
              <a:t>Τμήμα Διαχείρισης Περιβάλλοντος Και Φυσικών Πόρω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700280"/>
            <a:ext cx="6624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ΕΡΓΑΣΤΗΡΙΟ ΠΕΡΙΒΑΛΛΟΝΤΙΚΩΝ ΣΥΣΤΗΜΑ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5320" cy="1266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87280" y="2781360"/>
            <a:ext cx="684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Βιοτεχνολογική παραγωγή ελαίου με ζύμωση στερεάς και ημι-στερεάς κατάστα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63640" y="566100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Χ.Ν. Οικονόμου, Γ. Αγγελής, Δ.Β. Βαγενά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99"/>
                </a:solidFill>
                <a:latin typeface="Verdana"/>
              </a:rPr>
              <a:t>Βελτιστοποίηση των μετρή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5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Ανάγοντα σάκχαρα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cc"/>
                </a:solidFill>
                <a:latin typeface="Verdana"/>
              </a:rPr>
              <a:t>(Miller, 19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5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Έλαιο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cc"/>
                </a:solidFill>
                <a:latin typeface="Verdana"/>
              </a:rPr>
              <a:t>(</a:t>
            </a: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εξάνιο </a:t>
            </a:r>
            <a:r>
              <a:rPr b="0" lang="en-GB" sz="18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5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/N=30 mol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5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Γλυκοζαμίνη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(Εκτίμηση βιομάζα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ιράματα κινητικής στο σόργο σ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ζύμωση στερεάς κατάστα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cc"/>
                </a:solidFill>
                <a:uFillTx/>
                <a:latin typeface="Verdana"/>
              </a:rPr>
              <a:t>Αντιδραστήρ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Τρυβλία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e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cc"/>
                </a:solidFill>
                <a:uFillTx/>
                <a:latin typeface="Verdana"/>
              </a:rPr>
              <a:t>Υπόστρω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Θρυμματισμένο γλυκό σόργ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T=28</a:t>
            </a:r>
            <a:r>
              <a:rPr b="0" lang="en-GB" sz="2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C, pH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400720" y="1268280"/>
            <a:ext cx="3743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ιράματα κινητικής στο σόργο σ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ζύμωση στερεάς κατάστα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9"/>
          <p:cNvGraphicFramePr/>
          <p:nvPr/>
        </p:nvGraphicFramePr>
        <p:xfrm>
          <a:off x="1638360" y="1204920"/>
          <a:ext cx="5580000" cy="53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204920"/>
                    <a:ext cx="55800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ιράματα κινητικής στο σόργο σ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ζύμωση ημι-στερεάς κατάστα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cc"/>
                </a:solidFill>
                <a:uFillTx/>
                <a:latin typeface="Verdana"/>
              </a:rPr>
              <a:t>Αντιδραστήρ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Τρυβλία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e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cc"/>
                </a:solidFill>
                <a:uFillTx/>
                <a:latin typeface="Verdana"/>
              </a:rPr>
              <a:t>Υπόστρω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Θρυμματισμένο γλυκό σόργο και νερ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T=28</a:t>
            </a:r>
            <a:r>
              <a:rPr b="0" lang="en-GB" sz="2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C, pH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9509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116000" y="2163600"/>
            <a:ext cx="2881440" cy="26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435640" y="2171880"/>
            <a:ext cx="2860560" cy="2625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1908000" y="4853160"/>
            <a:ext cx="14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99"/>
                </a:solidFill>
                <a:latin typeface="Verdana"/>
              </a:rPr>
              <a:t>24 ώρε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12000" y="48531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99"/>
                </a:solidFill>
                <a:latin typeface="Verdana"/>
              </a:rPr>
              <a:t>400 ώρε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ιράματα ακτινικής ανάπτυξης του μύκητα σ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ζύμωση ημι-στερεάς κατάστα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900000" y="1484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Verdana"/>
              </a:rPr>
              <a:t>Γλυκό σόργο,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ffffcc"/>
                </a:solidFill>
                <a:latin typeface="Verdana"/>
              </a:rPr>
              <a:t>νερό και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gar (15g/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ιράματα ακτινικής ανάπτυξης του μύκητα σ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ζύμωση ημι-στερεάς κατάστα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195640" y="1413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Σόργο/νερό=0.1, 0.2, 0.4, 0.6,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1"/>
          <a:stretch/>
        </p:blipFill>
        <p:spPr>
          <a:xfrm>
            <a:off x="0" y="1341360"/>
            <a:ext cx="471636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2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5076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ίραμα κινητικής σ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ζύμωση ημι-στερεάς κατάστασης μ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σόργο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/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νερό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=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201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ίραμα κινητικής σ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ζύμωση ημι-στερεάς κατάστασης με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σόργο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/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νερό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=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7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Μοντέλο Συσσώρευσης /Αποδόμησης Λιπιδί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34920" y="1341360"/>
                <a:ext cx="3889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0" y="2637000"/>
                <a:ext cx="3889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0" y="3933720"/>
                <a:ext cx="4192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0" y="5445000"/>
                <a:ext cx="3960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Ν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5437080" y="148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5508720" y="2781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550872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5508720" y="5661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Μοντέλο Συσσώρευσης /Αποδόμησης Λιπιδίων </a:t>
            </a:r>
            <a:br>
              <a:rPr sz="2400"/>
            </a:b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(σόργο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/</a:t>
            </a: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νερό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0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99"/>
                </a:solidFill>
                <a:latin typeface="Verdana"/>
              </a:rPr>
              <a:t>Στόχο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Verdana"/>
              </a:rPr>
              <a:t>Task 2.</a:t>
            </a:r>
            <a:r>
              <a:rPr b="0" i="1" lang="el-GR" sz="1400" spc="-1" strike="noStrike">
                <a:solidFill>
                  <a:srgbClr val="ffff66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Verdana"/>
              </a:rPr>
              <a:t>Μικροβιακά στελέχη για αποτελεσματική βιομετατροπή των σακχάρων και των σακχαρούχων πρώτων υλών για βιοντήζε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Verdana"/>
              </a:rPr>
              <a:t>Task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Verdana"/>
              </a:rPr>
              <a:t>Κινητικά μοντέλα αύξησης επιλεγμένων ελαιογόνων μικροοργανισμών και συσσώρευσης ελαίου στη μικροβιακή μάζ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Verdana"/>
              </a:rPr>
              <a:t>Task 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Verdana"/>
              </a:rPr>
              <a:t>Βέλτιστος σχεδιασμός αντιδραστήρα και λειτουργικών παραμέτρων για την παραγωγή μικροβιακού ελαίο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Task 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Ανάπτυξη τεχνικών και μεθόδων προσδιορισμού των ποιοτικών χαρακτηριστικών του παραγόμενου βιοντήζελ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Task 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ffffcc"/>
                </a:solidFill>
                <a:latin typeface="Verdana"/>
              </a:rPr>
              <a:t>Εναλλακτικά σενάρια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Μοντέλο Συσσώρευσης /Αποδόμησης Λιπιδίων </a:t>
            </a:r>
            <a:br>
              <a:rPr sz="2400"/>
            </a:b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(σόργο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/</a:t>
            </a: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νερό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0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7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6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937160" y="11520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Τιμές κινητικών παραμέτ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8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1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4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7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3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6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9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2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5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8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1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4"/>
          <p:cNvSpPr/>
          <p:nvPr/>
        </p:nvSpPr>
        <p:spPr>
          <a:xfrm>
            <a:off x="1866960" y="1050840"/>
            <a:ext cx="27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8000" y="981000"/>
          <a:ext cx="5977080" cy="5432400"/>
        </p:xfrm>
        <a:graphic>
          <a:graphicData uri="http://schemas.openxmlformats.org/drawingml/2006/table">
            <a:tbl>
              <a:tblPr/>
              <a:tblGrid>
                <a:gridCol w="3311640"/>
                <a:gridCol w="26654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h</a:t>
                      </a:r>
                      <a:r>
                        <a:rPr b="0" lang="el-GR" sz="1200" spc="-1" strike="noStrike" baseline="30000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.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h</a:t>
                      </a:r>
                      <a:r>
                        <a:rPr b="0" lang="el-GR" sz="1200" spc="-1" strike="noStrike" baseline="30000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.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λιπιδίων/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βιομάζας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h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3.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βιομάζας/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σακχάρω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9.5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λιπιδίων/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σακχάρω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.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βιομάζας/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λιπιδίω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9.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βιομάζας/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αζώτο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.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/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100g DW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2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/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100g DW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470.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/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100g DW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.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/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100g DW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83.3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/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100g DW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                                    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g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/ 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100g DW</a:t>
                      </a:r>
                      <a:r>
                        <a:rPr b="0" lang="el-GR" sz="1200" spc="-1" strike="noStrike">
                          <a:solidFill>
                            <a:srgbClr val="ffffcc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39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9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7"/>
              <p:cNvSpPr txBox="1"/>
              <p:nvPr/>
            </p:nvSpPr>
            <p:spPr>
              <a:xfrm>
                <a:off x="1979640" y="1052640"/>
                <a:ext cx="5763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6"/>
              <p:cNvSpPr txBox="1"/>
              <p:nvPr/>
            </p:nvSpPr>
            <p:spPr>
              <a:xfrm>
                <a:off x="1979640" y="1484280"/>
                <a:ext cx="5158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5"/>
              <p:cNvSpPr txBox="1"/>
              <p:nvPr/>
            </p:nvSpPr>
            <p:spPr>
              <a:xfrm>
                <a:off x="1979640" y="1844640"/>
                <a:ext cx="3794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3"/>
              <p:cNvSpPr txBox="1"/>
              <p:nvPr/>
            </p:nvSpPr>
            <p:spPr>
              <a:xfrm>
                <a:off x="1979640" y="2205000"/>
                <a:ext cx="3729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2"/>
              <p:cNvSpPr txBox="1"/>
              <p:nvPr/>
            </p:nvSpPr>
            <p:spPr>
              <a:xfrm>
                <a:off x="1979640" y="2637000"/>
                <a:ext cx="3538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1"/>
              <p:cNvSpPr txBox="1"/>
              <p:nvPr/>
            </p:nvSpPr>
            <p:spPr>
              <a:xfrm>
                <a:off x="1979640" y="2997360"/>
                <a:ext cx="4032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0"/>
              <p:cNvSpPr txBox="1"/>
              <p:nvPr/>
            </p:nvSpPr>
            <p:spPr>
              <a:xfrm>
                <a:off x="1979640" y="3392640"/>
                <a:ext cx="4143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7"/>
              <p:cNvSpPr txBox="1"/>
              <p:nvPr/>
            </p:nvSpPr>
            <p:spPr>
              <a:xfrm>
                <a:off x="1979640" y="3824280"/>
                <a:ext cx="284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6"/>
              <p:cNvSpPr txBox="1"/>
              <p:nvPr/>
            </p:nvSpPr>
            <p:spPr>
              <a:xfrm>
                <a:off x="1979640" y="4184640"/>
                <a:ext cx="3049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5"/>
              <p:cNvSpPr txBox="1"/>
              <p:nvPr/>
            </p:nvSpPr>
            <p:spPr>
              <a:xfrm>
                <a:off x="1979640" y="4581360"/>
                <a:ext cx="32544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4"/>
              <p:cNvSpPr txBox="1"/>
              <p:nvPr/>
            </p:nvSpPr>
            <p:spPr>
              <a:xfrm>
                <a:off x="1979640" y="4941720"/>
                <a:ext cx="27468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90"/>
              <p:cNvSpPr txBox="1"/>
              <p:nvPr/>
            </p:nvSpPr>
            <p:spPr>
              <a:xfrm>
                <a:off x="1979640" y="5337000"/>
                <a:ext cx="1872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92"/>
              <p:cNvSpPr txBox="1"/>
              <p:nvPr/>
            </p:nvSpPr>
            <p:spPr>
              <a:xfrm>
                <a:off x="1979640" y="5734080"/>
                <a:ext cx="2188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70640" y="115920"/>
            <a:ext cx="824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Task 2.</a:t>
            </a:r>
            <a:r>
              <a:rPr b="0" i="1" lang="el-GR" sz="1400" spc="-1" strike="noStrike">
                <a:solidFill>
                  <a:srgbClr val="ffffcc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66"/>
                </a:solidFill>
                <a:latin typeface="Verdana"/>
              </a:rPr>
              <a:t>Βέλτιστος σχεδιασμός αντιδραστήρα και λειτουργικών παραμέτρων για την παραγωγή μικροβιακού ελαίο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5113440" cy="446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Photo-0015"/>
          <p:cNvPicPr/>
          <p:nvPr/>
        </p:nvPicPr>
        <p:blipFill>
          <a:blip r:embed="rId2"/>
          <a:stretch/>
        </p:blipFill>
        <p:spPr>
          <a:xfrm>
            <a:off x="5651640" y="2637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ιράματα παραγωγής βιο-ελαίου</a:t>
            </a:r>
            <a:br>
              <a:rPr sz="2800"/>
            </a:br>
            <a:r>
              <a:rPr b="0" lang="el-GR" sz="2400" spc="-1" strike="noStrike">
                <a:solidFill>
                  <a:srgbClr val="ffff99"/>
                </a:solidFill>
                <a:latin typeface="Verdana"/>
              </a:rPr>
              <a:t>(Σόργο/Νερό=0.4)</a:t>
            </a:r>
            <a:br>
              <a:rPr sz="2400"/>
            </a:br>
            <a:r>
              <a:rPr b="0" lang="el-GR" sz="2000" spc="-1" strike="noStrike">
                <a:solidFill>
                  <a:srgbClr val="ffff99"/>
                </a:solidFill>
                <a:latin typeface="Verdana"/>
              </a:rPr>
              <a:t>0.5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kg </a:t>
            </a:r>
            <a:r>
              <a:rPr b="0" lang="el-GR" sz="2000" spc="-1" strike="noStrike">
                <a:solidFill>
                  <a:srgbClr val="ffff99"/>
                </a:solidFill>
                <a:latin typeface="Verdana"/>
              </a:rPr>
              <a:t>νωπό σόργο – 15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gr</a:t>
            </a:r>
            <a:r>
              <a:rPr b="0" lang="el-GR" sz="2000" spc="-1" strike="noStrike">
                <a:solidFill>
                  <a:srgbClr val="ffff99"/>
                </a:solidFill>
                <a:latin typeface="Verdana"/>
              </a:rPr>
              <a:t> ξηρή βιομάζα – 1.5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l </a:t>
            </a:r>
            <a:r>
              <a:rPr b="0" lang="el-GR" sz="2000" spc="-1" strike="noStrike">
                <a:solidFill>
                  <a:srgbClr val="ffff99"/>
                </a:solidFill>
                <a:latin typeface="Verdana"/>
              </a:rPr>
              <a:t>λάδι</a:t>
            </a: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ffff99"/>
                </a:solidFill>
                <a:latin typeface="Verdana"/>
              </a:rPr>
              <a:t>(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Πειράματα παραγωγής βιο-ελαί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464000" cy="3340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5022720" y="1600200"/>
            <a:ext cx="3365640" cy="247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046840" y="4243320"/>
            <a:ext cx="33415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93840" y="2421000"/>
            <a:ext cx="8642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99"/>
                </a:solidFill>
                <a:latin typeface="Verdana"/>
              </a:rPr>
              <a:t>Ευχαριστώ πολύ για την προσοχή σ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99"/>
                </a:solidFill>
                <a:latin typeface="Verdana"/>
              </a:rPr>
              <a:t>Μοντέλο Συσσώρευσης /Αποδόμησης Λιπιδί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539640" y="2060640"/>
                <a:ext cx="3456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39640" y="3573360"/>
                <a:ext cx="3527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539640" y="5013360"/>
                <a:ext cx="35276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99"/>
                </a:solidFill>
                <a:latin typeface="Verdana"/>
              </a:rPr>
              <a:t>Ζύμωση Στερεάς Κατάστα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2492280"/>
            <a:ext cx="72007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Verdana"/>
              </a:rPr>
              <a:t>Μέθοδος κατά την οποία λαμβάνει χώρα η ανάπτυξη μικροοργανισμών, πάνω σε στερεά υποστρώματα απουσία ελεύθερου νερο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Αγροτικά και ξυλώδη υπολείμ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Ενεργειακές καλλιέργε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Υποπροϊόντα της βιομηχανίας τροφί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Χαμηλό κόσ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99"/>
                </a:solidFill>
                <a:latin typeface="Verdana"/>
              </a:rPr>
              <a:t>Ζύμωση Στερεάς Κατάστα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70640" y="115920"/>
            <a:ext cx="824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Task 2.</a:t>
            </a:r>
            <a:r>
              <a:rPr b="0" i="1" lang="el-GR" sz="1400" spc="-1" strike="noStrike">
                <a:solidFill>
                  <a:srgbClr val="ffff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66"/>
                </a:solidFill>
                <a:latin typeface="Verdana"/>
              </a:rPr>
              <a:t>Μικροβιακά στελέχη για αποτελεσματική βιομετατροπή των σακχάρων και των σακχαρούχων πρώτων υλών για βιοντήζε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99"/>
                </a:solidFill>
                <a:latin typeface="Verdana"/>
              </a:rPr>
              <a:t>Μικροοργανι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0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Ελαιογόνος μύκητας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Mortierella isabellina</a:t>
            </a:r>
            <a:r>
              <a:rPr b="0" i="1" lang="el-GR" sz="2400" spc="-1" strike="noStrike">
                <a:solidFill>
                  <a:srgbClr val="ffffcc"/>
                </a:solidFill>
                <a:latin typeface="Verdana"/>
              </a:rPr>
              <a:t>                </a:t>
            </a: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(50% σε υγρή καλλιέργει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4007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99"/>
                </a:solidFill>
                <a:latin typeface="Verdana"/>
              </a:rPr>
              <a:t>Υπόστρω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50920" y="1125360"/>
            <a:ext cx="83516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5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Γλυκό σόργο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(</a:t>
            </a:r>
            <a:r>
              <a:rPr b="0" lang="el-GR" sz="2400" spc="-1" strike="noStrike">
                <a:solidFill>
                  <a:srgbClr val="ffffcc"/>
                </a:solidFill>
                <a:latin typeface="Verdana"/>
              </a:rPr>
              <a:t>ενεργειακό φυτό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Default_단수수"/>
          <p:cNvPicPr/>
          <p:nvPr/>
        </p:nvPicPr>
        <p:blipFill>
          <a:blip r:embed="rId1"/>
          <a:stretch/>
        </p:blipFill>
        <p:spPr>
          <a:xfrm>
            <a:off x="1979640" y="2060640"/>
            <a:ext cx="489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70640" y="115920"/>
            <a:ext cx="823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Task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66"/>
                </a:solidFill>
                <a:latin typeface="Verdana"/>
              </a:rPr>
              <a:t>Κινητικά μοντέλα αύξησης επιλεγμένων ελαιογόνων μικροοργανισμών και συσσώρευσης ελαίου στη μικροβιακή μάζ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99"/>
                </a:solidFill>
                <a:latin typeface="Verdana"/>
              </a:rPr>
              <a:t>Συσσώρευση ελαί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276720" y="2565360"/>
            <a:ext cx="1224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5508720" y="2924280"/>
            <a:ext cx="0" cy="1512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3132000" y="2923920"/>
            <a:ext cx="1800360" cy="1514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-612720" y="2275560"/>
            <a:ext cx="639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                              </a:t>
            </a:r>
            <a:r>
              <a:rPr b="1" lang="el-GR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Άζωτ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1592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704680" y="4555080"/>
            <a:ext cx="385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Σάκχαρα</a:t>
            </a:r>
            <a:r>
              <a:rPr b="0" lang="pt-BR" sz="2000" spc="-1" strike="noStrike" baseline="-30000">
                <a:solidFill>
                  <a:srgbClr val="ffffcc"/>
                </a:solidFill>
                <a:latin typeface="Verdana"/>
                <a:ea typeface="Times New Roman"/>
              </a:rPr>
              <a:t>                </a:t>
            </a:r>
            <a:r>
              <a:rPr b="1" lang="el-GR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Λιπίδια (έλαι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3564000" y="4869000"/>
            <a:ext cx="1008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4572000" y="4437000"/>
            <a:ext cx="2087640" cy="792360"/>
          </a:xfrm>
          <a:prstGeom prst="ellipse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2340000" y="4508640"/>
            <a:ext cx="1225440" cy="649080"/>
          </a:xfrm>
          <a:prstGeom prst="ellipse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2124000" y="2205000"/>
            <a:ext cx="1082880" cy="649440"/>
          </a:xfrm>
          <a:prstGeom prst="ellipse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4500720" y="2205000"/>
            <a:ext cx="1584000" cy="647640"/>
          </a:xfrm>
          <a:prstGeom prst="ellipse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9"/>
          <p:cNvGrpSpPr/>
          <p:nvPr/>
        </p:nvGrpSpPr>
        <p:grpSpPr>
          <a:xfrm>
            <a:off x="2268360" y="2060640"/>
            <a:ext cx="936720" cy="934560"/>
            <a:chOff x="2268360" y="2060640"/>
            <a:chExt cx="936720" cy="934560"/>
          </a:xfrm>
        </p:grpSpPr>
        <p:sp>
          <p:nvSpPr>
            <p:cNvPr id="76" name="Line 17"/>
            <p:cNvSpPr/>
            <p:nvPr/>
          </p:nvSpPr>
          <p:spPr>
            <a:xfrm flipH="1">
              <a:off x="2268360" y="2165760"/>
              <a:ext cx="936720" cy="726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8"/>
            <p:cNvSpPr/>
            <p:nvPr/>
          </p:nvSpPr>
          <p:spPr>
            <a:xfrm>
              <a:off x="2412720" y="2060640"/>
              <a:ext cx="647640" cy="934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0"/>
          <p:cNvGrpSpPr/>
          <p:nvPr/>
        </p:nvGrpSpPr>
        <p:grpSpPr>
          <a:xfrm>
            <a:off x="2411280" y="4365720"/>
            <a:ext cx="936720" cy="934560"/>
            <a:chOff x="2411280" y="4365720"/>
            <a:chExt cx="936720" cy="934560"/>
          </a:xfrm>
        </p:grpSpPr>
        <p:sp>
          <p:nvSpPr>
            <p:cNvPr id="79" name="Line 21"/>
            <p:cNvSpPr/>
            <p:nvPr/>
          </p:nvSpPr>
          <p:spPr>
            <a:xfrm flipH="1">
              <a:off x="2411280" y="4470840"/>
              <a:ext cx="936720" cy="726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>
              <a:off x="2555640" y="4365720"/>
              <a:ext cx="647640" cy="934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23 - Ορθογώνιο"/>
          <p:cNvSpPr/>
          <p:nvPr/>
        </p:nvSpPr>
        <p:spPr>
          <a:xfrm>
            <a:off x="4757760" y="235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cc"/>
                </a:solidFill>
                <a:latin typeface="Verdana"/>
                <a:ea typeface="Times New Roman"/>
              </a:rPr>
              <a:t>Βιομάζ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8:23:40Z</dcterms:created>
  <dc:creator>oem</dc:creator>
  <dc:description/>
  <dc:language>en-US</dc:language>
  <cp:lastModifiedBy>user</cp:lastModifiedBy>
  <dcterms:modified xsi:type="dcterms:W3CDTF">2008-09-22T07:10:13Z</dcterms:modified>
  <cp:revision>436</cp:revision>
  <dc:subject/>
  <dc:title>Διαφάνεια 1</dc:title>
</cp:coreProperties>
</file>