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4F0-FC32-4FD5-B909-5A3E906C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FE3C-1702-4445-ABAD-652216EF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0329-1F57-49D0-9202-56E7A7A8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03A0-0C4B-4021-964B-BA9F4964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99AB-E8F6-4D6D-A823-330377EB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C03-B2A4-40A7-80D9-78B839E9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698-53C2-4D39-9C78-E0F27BB7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2174-658F-45DF-B578-AB751B7E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EBE-8AB3-4024-AAED-038E945E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66D-DC5A-4176-A7A5-141F659D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2D5-07EB-41AD-AFCB-DC859199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42D-5B91-4CEB-9841-AE74D08E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0976-6D2B-4CE9-8962-82FC25E5BE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Χαρακτηριστικοί τύποι Ηλιακών οχημάτω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ύπου Α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 Solar Vehicles of Typ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14440" y="2894040"/>
          <a:ext cx="2857320" cy="21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2894040"/>
                    <a:ext cx="285732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14440" y="5738760"/>
          <a:ext cx="2857320" cy="213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440" y="5738760"/>
                    <a:ext cx="285732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738600" y="5460840"/>
          <a:ext cx="2370240" cy="266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8600" y="5460840"/>
                    <a:ext cx="23702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505320" y="2913120"/>
          <a:ext cx="2838240" cy="212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2913120"/>
                    <a:ext cx="283824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3T10:04:32Z</dcterms:created>
  <dc:creator>Office</dc:creator>
  <dc:description/>
  <dc:language>en-US</dc:language>
  <cp:lastModifiedBy>WinXP</cp:lastModifiedBy>
  <cp:lastPrinted>2002-01-13T10:38:51Z</cp:lastPrinted>
  <dcterms:modified xsi:type="dcterms:W3CDTF">2008-02-19T12:37:46Z</dcterms:modified>
  <cp:revision>3</cp:revision>
  <dc:subject/>
  <dc:title>Χαρακτηριστικοί τύποι οχημάτων που κινούνται μόνο με την ηλιακή ενέργεια.</dc:title>
</cp:coreProperties>
</file>