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4F8-9B44-47DA-9943-846B0A350A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71440" y="71928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22520"/>
            <a:ext cx="502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Τα σημαντικότερα όργανα τα οποία προβλέπονται από τον Νόμο και τα οποία εμπλέκονται στην διαδικασία της διαχείρισης-του ελέγχου και της εφαρμογής των αναπτυξιακών παρεμβάσεων της περιόδου 2007-2013 είναι τα εξή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Διυπουργική Επιτροπή Κοινοτικών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= συντονισμός &amp; παρακολούθηση της εφαρμογής κοινοτικών προγραμμάτων &amp; πρωτοβουλιώ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Διαχείριση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πραγματοποιείται απ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θνική Αρχή Συντονισμού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η οποία υποστηρίζεται από την </a:t>
            </a: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Επιτροπή Εμπειρογνωμόν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8 Διαχειριστικές Αρχές για τα Τομεακά  Ε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νδιάμεσοι Φορείς Διαχείρισ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οιπές Ειδικές Υπηρεσίες (συντονισμού ή εφαρμογή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Παρακολούθηση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γίνε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ιάσκεψη Προέδρ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Επ.Πα των ΕΠ του ΕΣΠΑ, του ΠΑΑ και του ΕΠ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πιτροπές Παρακολούθησης Ε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Χρηματορροέ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πραγματοποιούν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ρχή Πιστοποίηση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Έλεγχο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διενεργεί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ρχή Ελέγχο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ιστώνται </a:t>
            </a: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Ανώνυμες Εταιρείες για υποστήριξη του σχεδιασμού, των φορέων, της παρακολούθησης &amp; της εφαρμογή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= και είνα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ΟΠ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Ψηφιακές Ενισχύσεις ΑΕ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ιοικητική Αναδιοργάνωση ΑΕ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ΟΔ ΑΕ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ΗΜΟΣ ΑΕ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FC2-EE7F-4CE3-8795-8C40C490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E35-8CB2-487F-8A8D-53FA2F6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FCC-2CF4-442D-9937-E5D35B6E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5E8-2A23-4280-97B1-0C7714F9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B38-686D-469B-A364-969A6F7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E72-7DA0-45EB-948E-65EED67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BCB-EF1E-401B-957F-C4B77E3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832-B188-49DD-80F3-752B7002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8F5-DB38-4D0F-A9FB-1C6E1BFC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822-5A8D-464D-A9E2-E9EAB02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D7A-2FA4-4598-98A6-536EBDC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282-8D27-4F65-A8F6-B8ADB08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7818-DA5E-4580-B4E8-80C8750D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92360" y="1484280"/>
            <a:ext cx="2808360" cy="312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θνική Αρχή Συντονισμο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907920"/>
            <a:ext cx="5111640" cy="3373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Διυπουργική Επιτροπή Κοινοτικών Προγραμμάτ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6154200" y="2491920"/>
            <a:ext cx="2667240" cy="531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 Διαχειριστικές Αρχές για τα Τομεακά  Ε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800000">
            <a:off x="1186920" y="3788280"/>
            <a:ext cx="1800360" cy="8240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3 Ενδιάμεσες Διαχειριστικές Αρχές για τα ΠΕ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755280" y="5012280"/>
            <a:ext cx="2879640" cy="70308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Διάσκεψη Προέδρω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πιτροπές Παρακολούθηση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463680" y="5949000"/>
            <a:ext cx="3465360" cy="5806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ρχή Πιστοποίηση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ρχή Ελέγχ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800000">
            <a:off x="5722920" y="5082840"/>
            <a:ext cx="3176640" cy="264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ΟΠ                                                                                                 Ψηφιακές Ενισχύσεις ΑΕ                                                                                             Διοικητική Αναδιοργάνωση ΑΕ                                                                                            ΜΟΔ ΑΕ                                                                                           ΔΗΜΟΣ Α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844640"/>
            <a:ext cx="230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1844640"/>
            <a:ext cx="2089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Επιτροπή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Εμπειρογνωμόν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6156360" y="4068360"/>
            <a:ext cx="2378160" cy="3373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Λοιπές Ειδικές Υπηρεσί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95280" y="1844640"/>
            <a:ext cx="2305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 rot="10800000">
            <a:off x="3492360" y="3493800"/>
            <a:ext cx="2159280" cy="337320"/>
          </a:xfrm>
          <a:prstGeom prst="rect">
            <a:avLst/>
          </a:prstGeom>
          <a:solidFill>
            <a:srgbClr val="ff6600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νδιάμεσοι Φορεί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8:33:09Z</dcterms:created>
  <dc:creator>evipapan</dc:creator>
  <dc:description/>
  <dc:language>en-US</dc:language>
  <cp:lastModifiedBy>evipapan</cp:lastModifiedBy>
  <dcterms:modified xsi:type="dcterms:W3CDTF">2008-01-07T13:21:12Z</dcterms:modified>
  <cp:revision>4</cp:revision>
  <dc:subject/>
  <dc:title>Διαφάνεια 1</dc:title>
</cp:coreProperties>
</file>