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73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5400" y="729720"/>
            <a:ext cx="4867200" cy="365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UB-Front"/>
              </a:rPr>
              <a:t>Click to move the slide</a:t>
            </a: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04CA-6C76-4FFC-9DAD-4C97C3593DB7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026A-5739-45DF-B585-968F73EA5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4724280"/>
            <a:ext cx="60199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5480640"/>
            <a:ext cx="60199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E061-BA51-4990-BB0F-B2C0CC64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472428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440" y="472428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548064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313440" y="548064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3385-6F29-44F6-BC12-96CF8574E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4724280"/>
            <a:ext cx="19382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264040" y="4724280"/>
            <a:ext cx="19382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299840" y="4724280"/>
            <a:ext cx="19382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5480640"/>
            <a:ext cx="19382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264040" y="5480640"/>
            <a:ext cx="19382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299840" y="5480640"/>
            <a:ext cx="19382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D7D1-CF73-42DE-ADD4-52802A92F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6535-4FA8-4B17-BB56-C2E885F57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472428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0F72-E40A-4629-9252-77892F23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472428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97E6-0770-490B-B33F-274213A4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4724280"/>
            <a:ext cx="29376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313440" y="4724280"/>
            <a:ext cx="29376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3BCD-C37D-4104-B30E-075701DF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C6FA-CAAF-47FE-8FC2-0A4AD426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3501720"/>
            <a:ext cx="8305920" cy="55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173B-B9A0-4E48-BDC7-6BB396AE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472428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313440" y="4724280"/>
            <a:ext cx="29376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548064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1658-55A3-4A0A-96BC-A1944D59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472428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5327-5227-4450-B891-26E160D2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4724280"/>
            <a:ext cx="29376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313440" y="472428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13440" y="548064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5BF3-CEA8-4BC8-8723-25BA1AFA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472428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13440" y="472428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5480640"/>
            <a:ext cx="60199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7E9D-DA37-4DEF-BD0B-9B30F981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4724280"/>
            <a:ext cx="60199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5480640"/>
            <a:ext cx="60199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44C7-B295-4221-8AF3-2FED19B6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472428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440" y="472428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548064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313440" y="548064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B63A-CE63-483A-87B7-679C78775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4724280"/>
            <a:ext cx="19382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264040" y="4724280"/>
            <a:ext cx="19382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99840" y="4724280"/>
            <a:ext cx="19382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5480640"/>
            <a:ext cx="19382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264040" y="5480640"/>
            <a:ext cx="19382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299840" y="5480640"/>
            <a:ext cx="19382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39E1-6758-4606-9860-B68886F0E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472428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FD8E-5528-4925-9125-1C8EB5D6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4724280"/>
            <a:ext cx="29376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313440" y="4724280"/>
            <a:ext cx="29376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AB46-7AD0-473D-AC37-83867596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3062-9E27-4412-AE0C-AF03D23B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3501720"/>
            <a:ext cx="8305920" cy="55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037E-1D2B-4937-978F-9AC2570D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472428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313440" y="4724280"/>
            <a:ext cx="29376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548064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510A-F782-444F-B917-F808AB4B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4724280"/>
            <a:ext cx="29376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313440" y="472428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313440" y="548064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D8CF-7853-418A-86AA-1E0A9BAF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472428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313440" y="472428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5480640"/>
            <a:ext cx="60199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1088-1B44-4797-9DAA-FB3CDFB9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317520"/>
            <a:ext cx="7848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UB-Front"/>
              </a:rPr>
              <a:t>Click to edit the title text format</a:t>
            </a:r>
            <a:endParaRPr b="1" lang="en-US" sz="44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cc"/>
                </a:solidFill>
                <a:latin typeface="UB-Fron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cc"/>
                </a:solidFill>
                <a:latin typeface="UB-Fron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cc"/>
                </a:solidFill>
                <a:latin typeface="UB-Fron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cc"/>
                </a:solidFill>
                <a:latin typeface="UB-Fron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cc"/>
                </a:solidFill>
                <a:latin typeface="UB-Fron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D872-FA2D-4C5E-9D3A-72D8A906FF6F}" type="slidenum">
              <a:rPr b="0" lang="el-GR" sz="1400" spc="-1" strike="noStrike">
                <a:solidFill>
                  <a:srgbClr val="0000cc"/>
                </a:solidFill>
                <a:latin typeface="UB-Fron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UB-Front"/>
              </a:rPr>
              <a:t>Click to edit the title text format</a:t>
            </a: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cc"/>
                </a:solidFill>
                <a:latin typeface="UB-Fron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cc"/>
                </a:solidFill>
                <a:latin typeface="UB-Fron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cc"/>
                </a:solidFill>
                <a:latin typeface="UB-Fron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cc"/>
                </a:solidFill>
                <a:latin typeface="UB-Fron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cc"/>
                </a:solidFill>
                <a:latin typeface="UB-Fron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E662-CF2F-4C90-B85E-5496EA6D7431}" type="slidenum">
              <a:rPr b="0" lang="el-GR" sz="1400" spc="-1" strike="noStrike">
                <a:solidFill>
                  <a:srgbClr val="0000cc"/>
                </a:solidFill>
                <a:latin typeface="UB-Fron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33160" y="4869000"/>
            <a:ext cx="6019560" cy="16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ΔΡΑΣΕΙΣ ΑΣΤΙΚΗΣ ΑΝΑΠΛΑΣΗΣ ΜΕ ΠΑΡΕΜΒΑΣΕΙΣ ΣΕ ΠΡΟΣΟΨΕΙΣ ΙΔΙΩΤΙΚΩΝ ΚΤΙΡΙ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00"/>
                </a:solidFill>
                <a:latin typeface="Arial"/>
              </a:rPr>
              <a:t>20/12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76640"/>
            <a:ext cx="784872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Γενικοί όροι αποκατάστασης &amp; συντήρησης όψεων κτιρίων (2)</a:t>
            </a:r>
            <a:endParaRPr b="1" lang="en-US" sz="30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Ανάπλαση όψεων σε κτίρια που παρουσιάζουν φθορές λόγω παλαιότητας, κακοτεχνιών και δυσμενών περιβαλλοντικών συνθηκ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Απαραίτητη προϋπόθεση έγκρισης επιχορήγησης: η ρητή δέσμευση των ιδιοκτητών για συγκεκριμένες ενέργει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04E2-10AE-4EF0-B4D0-060091856F50}" type="slidenum">
              <a:t>10</a:t>
            </a:fld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440" y="1905120"/>
            <a:ext cx="3848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9640" y="0"/>
          <a:ext cx="7994160" cy="6021360"/>
        </p:xfrm>
        <a:graphic>
          <a:graphicData uri="http://schemas.openxmlformats.org/drawingml/2006/table">
            <a:tbl>
              <a:tblPr/>
              <a:tblGrid>
                <a:gridCol w="500760"/>
                <a:gridCol w="3963960"/>
                <a:gridCol w="1530360"/>
                <a:gridCol w="1999080"/>
              </a:tblGrid>
              <a:tr h="904320"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Α/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ΕΠΙΔΟΤΟΥΜΕΝΕΣ ΕΡΓΑΣΙΕ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ΜΟΝΑΔΑ ΜΕΤΡΗΣΗ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ΜΕΓΙΣΤΗ ΕΠΙΤΡΕΠΟΜΕΝΗ ΤΙΜΗ ΕΠΙΧΟΡΗΓΗΣΗ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Επισκευή όψης στέγη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7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Επισκευή και χρωματισμός Εξωτερικών Κουφωμάτω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Μ</a:t>
                      </a:r>
                      <a:r>
                        <a:rPr b="1" lang="en-US" sz="1200" spc="-1" strike="noStrike" baseline="30000">
                          <a:solidFill>
                            <a:srgbClr val="0033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Χρωματισμός και Συντήρηση Εξωτ. Όψης Κτιρίο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Μ</a:t>
                      </a:r>
                      <a:r>
                        <a:rPr b="1" lang="en-US" sz="1200" spc="-1" strike="noStrike" baseline="30000">
                          <a:solidFill>
                            <a:srgbClr val="0033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6,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720"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Επισκευή Γύψινων Επιχρισμάτων και Κορωνίδω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520"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Τρίψιμο, Στίλβωση και Επισκευή Ορθρομαρμαρώσεω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Μ</a:t>
                      </a:r>
                      <a:r>
                        <a:rPr b="1" lang="en-US" sz="1200" spc="-1" strike="noStrike" baseline="30000">
                          <a:solidFill>
                            <a:srgbClr val="0033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6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Μετακίνηση Κλιματιστικώ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ΤΕ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8,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Απόκρυψη Κλιματιστικώ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ΤΕ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9,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Μετακίνηση Δορυφορικής Κεραία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ΤΕ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8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Αποξήλωση Παρανόμων Διαφημιστικών και Επαγγελματικών Πινακίδω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ΤΕ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8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600"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Αντικατάσταση Ατομικών Κεραιώ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ΔΙΑΜΕ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8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600"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Φύτευση Δένδρω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ΤΕ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8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600"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Φύτευση Θάμνω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ΤΕ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5E16-C88D-4902-AF54-81D910DF26B5}" type="slidenum">
              <a:t>11</a:t>
            </a:fld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933480"/>
            <a:ext cx="7848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Ποσό επιχορήγησης</a:t>
            </a:r>
            <a:endParaRPr b="1" lang="en-US" sz="30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792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3399"/>
                </a:solidFill>
                <a:latin typeface="Times New Roman"/>
              </a:rPr>
              <a:t>Οι τιμές του πίνακα ισχύουν και για τα διατηρητέα κτίρια προσαυξημένες κατά 3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3399"/>
                </a:solidFill>
                <a:latin typeface="Times New Roman"/>
              </a:rPr>
              <a:t>Το ακριβές ύψος της επιχορήγησης ανά περιοχή, θα αποφασίζεται από το Δημοτικό Συμβούλιο κάθε ΟΤΑ, εντός των ορίων του Πίνακα, δυναμένων να μειωθούν μέχρι 2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FCCE-AF94-4645-BC43-9402C4312C1E}" type="slidenum">
              <a:t>12</a:t>
            </a:fld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01840"/>
            <a:ext cx="7848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Δαπάνες επιχορηγούμενων εργασιών</a:t>
            </a:r>
            <a:endParaRPr b="1" lang="en-US" sz="30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7920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3399"/>
                </a:solidFill>
                <a:latin typeface="Times New Roman"/>
              </a:rPr>
              <a:t>Περαιωμένες οι εργασίες του πίνακα με δαπάνες για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3399"/>
                </a:solidFill>
                <a:latin typeface="Times New Roman"/>
              </a:rPr>
              <a:t>εργασία &amp; εισφορές σε ασφαλιστικά ταμεία &amp; ΦΠ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3399"/>
                </a:solidFill>
                <a:latin typeface="Times New Roman"/>
              </a:rPr>
              <a:t>προμήθεια &amp; μεταφορά υλικ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el-GR" sz="2400" spc="-1" strike="noStrike">
                <a:solidFill>
                  <a:srgbClr val="003399"/>
                </a:solidFill>
                <a:latin typeface="Times New Roman"/>
              </a:rPr>
              <a:t>προεργασίες, βοηθητικές, πρόσθετες ή επακόλουθες εργασίε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3399"/>
                </a:solidFill>
                <a:latin typeface="Times New Roman"/>
              </a:rPr>
              <a:t>απομείωση &amp; φθορά υλικών και εργαλείων ή μηχανημάτ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3399"/>
                </a:solidFill>
                <a:latin typeface="Times New Roman"/>
              </a:rPr>
              <a:t>γενικά έξοδα &amp; εργολαβικό όφελος κα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el-GR" sz="2400" spc="-1" strike="noStrike">
                <a:solidFill>
                  <a:srgbClr val="003399"/>
                </a:solidFill>
                <a:latin typeface="Times New Roman"/>
              </a:rPr>
              <a:t>κάθε εργασία απαραίτητη για την ολοκλήρωσ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2F7A-BD61-4D81-B855-1BEB3C3D98E8}" type="slidenum">
              <a:t>13</a:t>
            </a:fld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49720"/>
            <a:ext cx="784872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Αρμόδιος φορέας τήρησης διαδικασίας επιχορήγησης</a:t>
            </a:r>
            <a:endParaRPr b="1" lang="en-US" sz="30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79200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ΟΤΑ α βαθμού ή άλλο νομικό πρόσωπ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Δυνατότητα υπαγωγής: μετά την οριστική κήρυξη της περιοχής ως «αισθητικής αναβάθμιση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A8B9-F81E-4ABA-9D5A-DAA29EEC2134}" type="slidenum">
              <a:t>14</a:t>
            </a:fld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006560"/>
            <a:ext cx="7848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Ενεργοποίηση διαδικασίας</a:t>
            </a:r>
            <a:endParaRPr b="1" lang="en-US" sz="30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79200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Αποστολή από ΕΥΔ εγγράφου στους 4 Δήμους πρωτευουσών Νομ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Υποβολή πρότασης για χαρακτηρισμό περιοχής τους ως «αισθητικής αναβάθμιση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892B-8E59-4F4C-88E4-081ACBAA91CA}" type="slidenum">
              <a:t>15</a:t>
            </a:fld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30200"/>
            <a:ext cx="7848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0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Προτάσεις ΟΤΑ : Δήμος Ιωαννιτών</a:t>
            </a:r>
            <a:endParaRPr b="1" lang="en-US" sz="30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79200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just">
              <a:lnSpc>
                <a:spcPct val="140000"/>
              </a:lnSpc>
              <a:spcBef>
                <a:spcPts val="550"/>
              </a:spcBef>
              <a:buClr>
                <a:srgbClr val="5f5f5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200" spc="-1" strike="noStrike">
                <a:solidFill>
                  <a:srgbClr val="003399"/>
                </a:solidFill>
                <a:latin typeface="Times New Roman"/>
              </a:rPr>
              <a:t>Το χαρακτηρισμένο παραδοσιακό τμήμα της πόλης των Ιωαννίνω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just">
              <a:lnSpc>
                <a:spcPct val="140000"/>
              </a:lnSpc>
              <a:spcBef>
                <a:spcPts val="550"/>
              </a:spcBef>
              <a:buClr>
                <a:srgbClr val="5f5f5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200" spc="-1" strike="noStrike">
                <a:solidFill>
                  <a:srgbClr val="003399"/>
                </a:solidFill>
                <a:latin typeface="Times New Roman"/>
              </a:rPr>
              <a:t>Ο άξονας εισόδου εξόδου από το πάρκο Πυρσινέλλα – Λεωφόρο Δωδώνης – οδός Αβέρωφ- Λίμν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just">
              <a:lnSpc>
                <a:spcPct val="14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3399"/>
                </a:solidFill>
                <a:latin typeface="Times New Roman"/>
              </a:rPr>
              <a:t>Ο άξονας εισόδου εξόδου από το Αεροδρόμιο- οδό Γράμμου – Βορ. Ηπείρου- Βηλαρά – Βαλαωρίτου- 28ης Οκτωβρίου- Πλατεία- Μπιζανίου –ΚΑ Φεβρουαρί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CC9E-4B86-44C9-9426-7F849E96C9FE}" type="slidenum">
              <a:t>16</a:t>
            </a:fld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30200"/>
            <a:ext cx="7848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0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Προτάσεις ΟΤΑ : Δήμος Αρταίων</a:t>
            </a:r>
            <a:endParaRPr b="1" lang="en-US" sz="30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7920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just">
              <a:lnSpc>
                <a:spcPct val="14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003399"/>
                </a:solidFill>
                <a:latin typeface="Times New Roman"/>
              </a:rPr>
              <a:t>Το ιστορικό κέντρο της πόλης (οδοί Αμβρακίας – Τζαβελλά- Βασ. Πύρρου- Γρίμποβου- Βασ. Κωνσταντίνου- Αγ. Μάρκου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just">
              <a:lnSpc>
                <a:spcPct val="14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el-GR" sz="2000" spc="-1" strike="noStrike">
                <a:solidFill>
                  <a:srgbClr val="003399"/>
                </a:solidFill>
                <a:latin typeface="Times New Roman"/>
              </a:rPr>
              <a:t>Οι περιοχές γύρω από την Παρηγορίτισσα, την Αγία Θεοδώρα και το Κάστρ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just">
              <a:lnSpc>
                <a:spcPct val="14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003399"/>
                </a:solidFill>
                <a:latin typeface="Times New Roman"/>
              </a:rPr>
              <a:t>Οι είσοδοι της πόλης (οδός Αλεξ. Ζάρρα, Ελευθ. Βενιζέλου και Κρυστάλλη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just">
              <a:lnSpc>
                <a:spcPct val="14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003399"/>
                </a:solidFill>
                <a:latin typeface="Times New Roman"/>
              </a:rPr>
              <a:t>Η Περιφερειακή Οδός ως κεντρικός οδικός άξον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just">
              <a:lnSpc>
                <a:spcPct val="14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003399"/>
                </a:solidFill>
                <a:latin typeface="Times New Roman"/>
              </a:rPr>
              <a:t>Η οδός Θειακογιάννη που οδηγεί στην Ιστορική Γέφυρα της Άρτ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3F6B-3F49-4CBA-9406-D68C166D6174}" type="slidenum">
              <a:t>17</a:t>
            </a:fld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30200"/>
            <a:ext cx="7848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Προτάσεις ΟΤΑ : Δήμος Πρέβεζας</a:t>
            </a:r>
            <a:endParaRPr b="1" lang="en-US" sz="30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980640"/>
            <a:ext cx="8064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just">
              <a:lnSpc>
                <a:spcPct val="130000"/>
              </a:lnSpc>
              <a:spcBef>
                <a:spcPts val="400"/>
              </a:spcBef>
              <a:buClr>
                <a:srgbClr val="5f5f5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003399"/>
                </a:solidFill>
                <a:latin typeface="Times New Roman"/>
              </a:rPr>
              <a:t>Ο παραδοσιακός τομέας πόλεως Πρέβεζα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just">
              <a:lnSpc>
                <a:spcPct val="130000"/>
              </a:lnSpc>
              <a:spcBef>
                <a:spcPts val="400"/>
              </a:spcBef>
              <a:buClr>
                <a:srgbClr val="5f5f5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el-GR" sz="1600" spc="-1" strike="noStrike">
                <a:solidFill>
                  <a:srgbClr val="003399"/>
                </a:solidFill>
                <a:latin typeface="Times New Roman"/>
              </a:rPr>
              <a:t>Εκατέρωθεν της οδού Εθνικής Αντίστασης από Κ. Καρυωτάκη έως Στρατόπεδο Σολωμο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just">
              <a:lnSpc>
                <a:spcPct val="130000"/>
              </a:lnSpc>
              <a:spcBef>
                <a:spcPts val="400"/>
              </a:spcBef>
              <a:buClr>
                <a:srgbClr val="5f5f5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003399"/>
                </a:solidFill>
                <a:latin typeface="Times New Roman"/>
              </a:rPr>
              <a:t>Εκατέρωθεν, από συμβολή οδού Εθνικής Αντίστασης και Κύπρου έως Λ. Ειρήνη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just">
              <a:lnSpc>
                <a:spcPct val="130000"/>
              </a:lnSpc>
              <a:spcBef>
                <a:spcPts val="400"/>
              </a:spcBef>
              <a:buClr>
                <a:srgbClr val="5f5f5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003399"/>
                </a:solidFill>
                <a:latin typeface="Times New Roman"/>
              </a:rPr>
              <a:t>Εκατέρωθεν, της Λ. Ειρήνης από συμβολή οδών Γρ. Λαμπράκη και Πολυτεχνείου έως Φόρ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just">
              <a:lnSpc>
                <a:spcPct val="130000"/>
              </a:lnSpc>
              <a:spcBef>
                <a:spcPts val="400"/>
              </a:spcBef>
              <a:buClr>
                <a:srgbClr val="5f5f5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003399"/>
                </a:solidFill>
                <a:latin typeface="Times New Roman"/>
              </a:rPr>
              <a:t>Εκατέρωθεν της Εθνικής Οδού Λ. Ιωαννίνω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just">
              <a:lnSpc>
                <a:spcPct val="130000"/>
              </a:lnSpc>
              <a:spcBef>
                <a:spcPts val="400"/>
              </a:spcBef>
              <a:buClr>
                <a:srgbClr val="5f5f5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el-GR" sz="1600" spc="-1" strike="noStrike">
                <a:solidFill>
                  <a:srgbClr val="003399"/>
                </a:solidFill>
                <a:latin typeface="Times New Roman"/>
              </a:rPr>
              <a:t>Ελ. Βενιζέλου από Κ. Καρυωτάκη έως Μνημείο Ναύτ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just">
              <a:lnSpc>
                <a:spcPct val="130000"/>
              </a:lnSpc>
              <a:spcBef>
                <a:spcPts val="400"/>
              </a:spcBef>
              <a:buClr>
                <a:srgbClr val="5f5f5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el-GR" sz="1600" spc="-1" strike="noStrike">
                <a:solidFill>
                  <a:srgbClr val="003399"/>
                </a:solidFill>
                <a:latin typeface="Times New Roman"/>
              </a:rPr>
              <a:t>Σπηλιάδου από Τάφρο έως Ανθόκηπ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just">
              <a:lnSpc>
                <a:spcPct val="130000"/>
              </a:lnSpc>
              <a:spcBef>
                <a:spcPts val="400"/>
              </a:spcBef>
              <a:buClr>
                <a:srgbClr val="5f5f5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el-GR" sz="1600" spc="-1" strike="noStrike">
                <a:solidFill>
                  <a:srgbClr val="003399"/>
                </a:solidFill>
                <a:latin typeface="Times New Roman"/>
              </a:rPr>
              <a:t>Εκατέρωθεν της οδού Π. Τσαλδάρη από Μ. Μπότσαρη- Τάφρος- Σπηλιάδου- Π. Τσαλδάρη, το οποίο περιβάλλει το Κάστρο του Αγ. Ανδρέ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just">
              <a:lnSpc>
                <a:spcPct val="130000"/>
              </a:lnSpc>
              <a:spcBef>
                <a:spcPts val="400"/>
              </a:spcBef>
              <a:buClr>
                <a:srgbClr val="5f5f5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el-GR" sz="1600" spc="-1" strike="noStrike">
                <a:solidFill>
                  <a:srgbClr val="003399"/>
                </a:solidFill>
                <a:latin typeface="Times New Roman"/>
              </a:rPr>
              <a:t>Π. Ηλία- Δ. Κρόκου – Χαονίας - Νικοπόλεω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83CC-C791-4E89-B65C-7917B66C8108}" type="slidenum">
              <a:t>18</a:t>
            </a:fld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30200"/>
            <a:ext cx="7848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Προτάσεις ΟΤΑ : Δήμος Ηγουμενίτσας</a:t>
            </a:r>
            <a:endParaRPr b="1" lang="en-US" sz="30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000" y="980640"/>
            <a:ext cx="8064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just">
              <a:lnSpc>
                <a:spcPct val="13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3399"/>
                </a:solidFill>
                <a:latin typeface="Times New Roman"/>
              </a:rPr>
              <a:t>Η Παραλιακή Οδός Εθνικής Αντιστάσεως, από το Νέο Λιμένα έως την είσοδο των Τ.Ε.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just">
              <a:lnSpc>
                <a:spcPct val="13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3399"/>
                </a:solidFill>
                <a:latin typeface="Times New Roman"/>
              </a:rPr>
              <a:t>Ένθεν και ένθεν των προσόψεων των κτιρίων στους πεζόδρομους: Γρηγορίου Λαμπράκη, Ελευθερίου Βενιζέλου, 23ης Φεβρουάρι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just">
              <a:lnSpc>
                <a:spcPct val="13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3399"/>
                </a:solidFill>
                <a:latin typeface="Times New Roman"/>
              </a:rPr>
              <a:t>Τα κτίρια που έχουν πρόσοψη στην Πλατεία Δημαρχείου, ήτοι: Κρυστάλη, Ελευθερίας, Σουλίου, Κύπρου, 8ης Δεκεμβρίου έως την πλατεία Δημαρχείου (από 2 πλευρέ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6CF1-CF8E-4EEC-BBFC-435BD5495A68}" type="slidenum">
              <a:t>19</a:t>
            </a:fld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05360"/>
            <a:ext cx="784872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Δράσεις αστικής ανάπλασης με παρεμβάσεις σε προσόψεις ιδιωτικών κτιρίων (1)</a:t>
            </a:r>
            <a:endParaRPr b="1" lang="en-US" sz="30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Μέτρο 2.1 ΠΕΠ Ηπείρ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ΔΡΑΣΗ «Αναβάθμιση δομημένου περιβάλλοντο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Χρηματοδότηση δράσεων αστικής ανάπλασης προσόψεων ιδιωτικών κτιρί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Εξασφάλιση ιδιωτικής συμμετοχή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ΟΤΑ α βαθμού: Φορέας εφαρμογής διαδικασίας επιχορήγησ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4EF6-766D-49EA-B292-048311D83D2C}" type="slidenum">
              <a:t>2</a:t>
            </a:fld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006560"/>
            <a:ext cx="7848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Αίτημα για διευκρινιστικά στοιχεία</a:t>
            </a:r>
            <a:endParaRPr b="1" lang="en-US" sz="30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79200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Σε συνέχεια των προτάσεων των Δήμ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Υποβολή από ΕΥΔ εγγράφου στο ΥΠΕΧΩΔΕ για παροχή διευκρινιστικών στοιχεί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Αναμονή απάντησ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2E48-C949-4946-8ED1-F7D091FB616B}" type="slidenum">
              <a:t>20</a:t>
            </a:fld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533160" y="4797000"/>
            <a:ext cx="601956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ΔΡΑΣΕΙΣ ΑΣΤΙΚΗΣ ΑΝΑΠΛΑΣΗΣ ΜΕ ΠΑΡΕΜΒΑΣΕΙΣ ΣΕ ΠΡΟΣΟΨΕΙΣ ΙΔΙΩΤΙΚΩΝ ΚΤΙΡΙ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00"/>
                </a:solidFill>
                <a:latin typeface="Arial"/>
              </a:rPr>
              <a:t>20/12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837000"/>
            <a:ext cx="784872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Δράσεις αστικής ανάπλασης με παρεμβάσεις σε προσόψεις ιδιωτικών κτιρίων (2)</a:t>
            </a:r>
            <a:endParaRPr b="1" lang="en-US" sz="30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Συνολικά καταρχήν διαθέσιμο ποσό: 3.000.000 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Θεσμικό πλαίσιο: «ΚΥΑ 27124/1.8.2007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Υπαγωγή περιοχών χαρακτηρισμένων ως «περιοχών αισθητικής αναβάθμιση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C091-AD0D-4990-9122-8E4B69CD982D}" type="slidenum">
              <a:t>3</a:t>
            </a:fld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862200"/>
            <a:ext cx="7848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Ορισμός περιοχής αισθητικής αναβάθμισης</a:t>
            </a:r>
            <a:endParaRPr b="1" lang="en-US" sz="30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Περιοχές που εμπίπτουν στα όρια ΟΤΑ α βαθμο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Όροι και προϋποθέσει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Κήρυξη περιοχής, με Απόφαση Υπουργού ΠΕΧΩΔ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AA56-356B-4803-A511-A40922F16903}" type="slidenum">
              <a:t>4</a:t>
            </a:fld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62200"/>
            <a:ext cx="7848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Προϋποθέσεις επιλογής</a:t>
            </a:r>
            <a:endParaRPr b="1" lang="en-US" sz="30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Σημαντικό αστικό κέντρο ή παραδοσιακός οικισμός ή περιοχή τουριστικού ενδιαφέροντ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Συμπληρωματικότητα και συνέργεια με άλλες δράσεις αναβάθμισης αστικού περιβάλλοντ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C74E-2ED9-4C8B-9F75-B48D9036B978}" type="slidenum">
              <a:t>5</a:t>
            </a:fld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74200"/>
            <a:ext cx="7848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Κριτήρια &amp; Προϋποθέσεις επιλογής</a:t>
            </a:r>
            <a:endParaRPr b="1" lang="en-US" sz="30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84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 algn="just">
              <a:lnSpc>
                <a:spcPct val="12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Ιστορικά κέντρα πόλε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 algn="just">
              <a:lnSpc>
                <a:spcPct val="12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Περιοχές κατά μήκος εισόδων πόλεων ή πυλών εισόδου της χώρ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 algn="just">
              <a:lnSpc>
                <a:spcPct val="12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Περιοχές γύρω από αρχαιολογικούς χώρου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 algn="just">
              <a:lnSpc>
                <a:spcPct val="12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Περιοχή που περιλαμβάνει σημαντικό αριθμό κτιρίων κηρυγμένων ως διατηρητέων και κτιρίων ιδιαιτέρου αρχιτεκτονικού ενδιαφέροντ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 algn="just">
              <a:lnSpc>
                <a:spcPct val="12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Κτίρια είτε επί κεντρικών οδικών αξόνων είτε ανάμεσα του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F6FA-DDD4-424C-B26F-9A173BD4BF05}" type="slidenum">
              <a:t>6</a:t>
            </a:fld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74200"/>
            <a:ext cx="7848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Απόφαση επιλογής</a:t>
            </a:r>
            <a:endParaRPr b="1" lang="en-US" sz="30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84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Με ευθύνη των Γ.Γ. Περιφερειών ενημερώνονται οι ΟΤΑ α’ βαθμού για το περιεχόμενο της ΚΥΑ προκειμένου να υποβάλλουν προτάσει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Το Περιφερειακό Συμβούλιο γνωμοδοτεί προς το ΥΠΕΧΩΔΕ για την κήρυξη των περιοχών «αισθητικής αναβάθμισης» και προαιρετικά την κατανομή των ποσ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322A-747C-4F47-851F-1897EF1B4BDD}" type="slidenum">
              <a:t>7</a:t>
            </a:fld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74200"/>
            <a:ext cx="7848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Πεδίο εφαρμογής Απόφασης</a:t>
            </a:r>
            <a:endParaRPr b="1" lang="en-US" sz="30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84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Τα ιδιωτικά κτίρια που συνορεύουν με κοινόχρηστους χώρους, συμπεριλαμβανόμενων αυτών στα οποία στεγάζονται Δημόσιες Υπηρεσίες και φορεί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Εξαιρούνται τα κτίρια ιδιοκτησίας του Δημοσίου και των ΝΠΔΔ και ΝΠΙΔ του ευρύτερου δημόσιου τομέ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FEA1-EB6B-4397-BE3F-07FCC02EF48C}" type="slidenum">
              <a:t>8</a:t>
            </a:fld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76640"/>
            <a:ext cx="784872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Γενικοί όροι αποκατάστασης &amp; συντήρησης όψεων κτιρίων (1)</a:t>
            </a:r>
            <a:endParaRPr b="1" lang="en-US" sz="30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Όψη: και η πλευρά του κτιρίου που εφάπτεται όμορων ιδιοκτησιών &amp; είναι ορατή από κοινόχρηστο χώρ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Επισκευή- ανάπλαση: μόνο στην όψη του κτιρίου και τα δομικά στοιχεία αυτής που επηρεάζουν την εμφάνιση τ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Δικαιούχοι επιχορήγησης: οι ιδιοκτήτες ή οι επικαρπωτές των ακινήτ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Επιχορήγηση: ιδιωτικά κτίρια οιασδήποτε χρήσ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Γωνιακά ακίνητα: η επιχορήγηση καλύπτει την ανάπλαση- επιδιόρθωση όλων των όψεων τους προς τους δημόσιους κοινόχρηστους χώρου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2C88-2C2E-4467-A7B4-B666C459B3AD}" type="slidenum">
              <a:t>9</a:t>
            </a:fld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4T11:39:22Z</dcterms:created>
  <dc:creator>nikobalt</dc:creator>
  <dc:description/>
  <dc:language>en-US</dc:language>
  <cp:lastModifiedBy>evipapan</cp:lastModifiedBy>
  <dcterms:modified xsi:type="dcterms:W3CDTF">2007-12-18T11:31:35Z</dcterms:modified>
  <cp:revision>219</cp:revision>
  <dc:subject/>
  <dc:title>Παρουσίαση του PowerPoint</dc:title>
</cp:coreProperties>
</file>