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7561440" cy="10693440"/>
          </a:xfrm>
          <a:custGeom>
            <a:avLst/>
            <a:gdLst>
              <a:gd name="textAreaLeft" fmla="*/ 360 w 7561440"/>
              <a:gd name="textAreaRight" fmla="*/ 7561080 w 7561440"/>
              <a:gd name="textAreaTop" fmla="*/ 360 h 10693440"/>
              <a:gd name="textAreaBottom" fmla="*/ 10693080 h 10693440"/>
            </a:gdLst>
            <a:ahLst/>
            <a:rect l="textAreaLeft" t="textAreaTop" r="textAreaRight" b="textAreaBottom"/>
            <a:pathLst>
              <a:path w="21600" h="30546">
                <a:moveTo>
                  <a:pt x="5" y="0"/>
                </a:moveTo>
                <a:arcTo wR="5" hR="5" stAng="16200000" swAng="-5400000"/>
                <a:lnTo>
                  <a:pt x="0" y="30541"/>
                </a:lnTo>
                <a:arcTo wR="5" hR="5" stAng="10800000" swAng="-5400000"/>
                <a:lnTo>
                  <a:pt x="21595" y="3054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270240" cy="490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93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1"/>
          </p:nvPr>
        </p:nvSpPr>
        <p:spPr>
          <a:xfrm>
            <a:off x="4324320" y="-360"/>
            <a:ext cx="3184560" cy="490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93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en-GB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Img"/>
          </p:nvPr>
        </p:nvSpPr>
        <p:spPr>
          <a:xfrm>
            <a:off x="1090440" y="825120"/>
            <a:ext cx="541512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body"/>
          </p:nvPr>
        </p:nvSpPr>
        <p:spPr>
          <a:xfrm>
            <a:off x="1038240" y="5121000"/>
            <a:ext cx="5518080" cy="47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4880"/>
            <a:ext cx="3270240" cy="490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93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en-GB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93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324320" y="10154880"/>
            <a:ext cx="3184560" cy="490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93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en-GB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E6DEE-A6BB-479D-9147-BE68BC25E6C6}" type="slidenum"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090440" y="825480"/>
            <a:ext cx="543096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1037880" y="5121360"/>
            <a:ext cx="551988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090440" y="825480"/>
            <a:ext cx="543096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1037880" y="5121360"/>
            <a:ext cx="551988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090440" y="825480"/>
            <a:ext cx="543096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1037880" y="5121360"/>
            <a:ext cx="551988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090440" y="825480"/>
            <a:ext cx="543096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1037880" y="5121360"/>
            <a:ext cx="551988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90440" y="825480"/>
            <a:ext cx="543096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1037880" y="5121360"/>
            <a:ext cx="551988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090440" y="825480"/>
            <a:ext cx="5418360" cy="395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1037880" y="5121360"/>
            <a:ext cx="551988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090440" y="825480"/>
            <a:ext cx="5418360" cy="395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1037880" y="5121360"/>
            <a:ext cx="551988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90440" y="825480"/>
            <a:ext cx="5418360" cy="395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1037880" y="5121360"/>
            <a:ext cx="551988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90440" y="825480"/>
            <a:ext cx="543096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1037880" y="5121360"/>
            <a:ext cx="551988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090440" y="825480"/>
            <a:ext cx="543096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1037880" y="5121360"/>
            <a:ext cx="551988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90440" y="825480"/>
            <a:ext cx="543096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1037880" y="5121360"/>
            <a:ext cx="551988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90440" y="825480"/>
            <a:ext cx="543096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1037880" y="5121360"/>
            <a:ext cx="551988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90440" y="825480"/>
            <a:ext cx="5426280" cy="395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1037880" y="5121360"/>
            <a:ext cx="551988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090440" y="825480"/>
            <a:ext cx="5426280" cy="395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1037880" y="5121360"/>
            <a:ext cx="551988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90440" y="825480"/>
            <a:ext cx="543096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1037880" y="5121360"/>
            <a:ext cx="551988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090440" y="825480"/>
            <a:ext cx="543096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1037880" y="5121360"/>
            <a:ext cx="551988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90440" y="825480"/>
            <a:ext cx="543096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1037880" y="5121360"/>
            <a:ext cx="551988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090440" y="825480"/>
            <a:ext cx="543096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1037880" y="5121360"/>
            <a:ext cx="551988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90440" y="825480"/>
            <a:ext cx="543096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1037880" y="5121360"/>
            <a:ext cx="551988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90440" y="825480"/>
            <a:ext cx="543096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1037880" y="5121360"/>
            <a:ext cx="551988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090440" y="825480"/>
            <a:ext cx="543096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1037880" y="5121360"/>
            <a:ext cx="551988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6560" y="922320"/>
            <a:ext cx="966924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6560" y="1795320"/>
            <a:ext cx="9669240" cy="24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96560" y="4470480"/>
            <a:ext cx="9669240" cy="24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6560" y="922320"/>
            <a:ext cx="966924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6560" y="1795320"/>
            <a:ext cx="4718520" cy="24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1240" y="1795320"/>
            <a:ext cx="4718520" cy="24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96560" y="4470480"/>
            <a:ext cx="4718520" cy="24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1240" y="4470480"/>
            <a:ext cx="4718520" cy="24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6560" y="922320"/>
            <a:ext cx="966924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6560" y="1795320"/>
            <a:ext cx="3113280" cy="24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465720" y="1795320"/>
            <a:ext cx="3113280" cy="24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735240" y="1795320"/>
            <a:ext cx="3113280" cy="24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96560" y="4470480"/>
            <a:ext cx="3113280" cy="24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465720" y="4470480"/>
            <a:ext cx="3113280" cy="24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735240" y="4470480"/>
            <a:ext cx="3113280" cy="24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6560" y="922320"/>
            <a:ext cx="966924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96560" y="1795320"/>
            <a:ext cx="966924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6560" y="922320"/>
            <a:ext cx="966924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6560" y="1795320"/>
            <a:ext cx="966924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6560" y="922320"/>
            <a:ext cx="966924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6560" y="1795320"/>
            <a:ext cx="471852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95320"/>
            <a:ext cx="471852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6560" y="922320"/>
            <a:ext cx="966924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96560" y="922320"/>
            <a:ext cx="966924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6560" y="922320"/>
            <a:ext cx="966924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6560" y="1795320"/>
            <a:ext cx="4718520" cy="24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1240" y="1795320"/>
            <a:ext cx="471852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6560" y="4470480"/>
            <a:ext cx="4718520" cy="24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6560" y="922320"/>
            <a:ext cx="966924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6560" y="1795320"/>
            <a:ext cx="471852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1240" y="1795320"/>
            <a:ext cx="4718520" cy="24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1240" y="4470480"/>
            <a:ext cx="4718520" cy="24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6560" y="922320"/>
            <a:ext cx="966924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6560" y="1795320"/>
            <a:ext cx="4718520" cy="24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1240" y="1795320"/>
            <a:ext cx="4718520" cy="24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6560" y="4470480"/>
            <a:ext cx="9669240" cy="24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jpe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6388200" y="3240"/>
            <a:ext cx="7392960" cy="4849920"/>
          </a:xfrm>
          <a:custGeom>
            <a:avLst/>
            <a:gdLst>
              <a:gd name="textAreaLeft" fmla="*/ 3696480 w 7392960"/>
              <a:gd name="textAreaRight" fmla="*/ 7393320 w 7392960"/>
              <a:gd name="textAreaTop" fmla="*/ 3240 h 4849920"/>
              <a:gd name="textAreaBottom" fmla="*/ 4846320 h 4849920"/>
            </a:gdLst>
            <a:ahLst/>
            <a:rect l="textAreaLeft" t="textAreaTop" r="textAreaRight" b="textAreaBottom"/>
            <a:pathLst>
              <a:path stroke="0" w="21600" h="21600">
                <a:moveTo>
                  <a:pt x="11302" y="12"/>
                </a:moveTo>
                <a:arcTo wR="10800" hR="10800" stAng="-5240301" swAng="10509789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1" swAng="10509789"/>
              </a:path>
            </a:pathLst>
          </a:cu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 flipV="1">
            <a:off x="7521480" y="-2253240"/>
            <a:ext cx="5118120" cy="3338280"/>
          </a:xfrm>
          <a:custGeom>
            <a:avLst/>
            <a:gdLst>
              <a:gd name="textAreaLeft" fmla="*/ 175680 w 5118120"/>
              <a:gd name="textAreaRight" fmla="*/ 2558880 w 5118120"/>
              <a:gd name="textAreaTop" fmla="*/ 360 h 3338280"/>
              <a:gd name="textAreaBottom" fmla="*/ 1669320 h 3338280"/>
            </a:gdLst>
            <a:ahLst/>
            <a:rect l="textAreaLeft" t="textAreaTop" r="textAreaRight" b="textAreaBottom"/>
            <a:pathLst>
              <a:path stroke="0" w="21600" h="21600">
                <a:moveTo>
                  <a:pt x="689" y="7005"/>
                </a:moveTo>
                <a:arcTo wR="10800" hR="10800" stAng="-9565662" swAng="4127954"/>
                <a:lnTo>
                  <a:pt x="10800" y="10800"/>
                </a:lnTo>
                <a:close/>
              </a:path>
              <a:path fill="none" w="21600" h="21600">
                <a:moveTo>
                  <a:pt x="689" y="7005"/>
                </a:moveTo>
                <a:arcTo wR="10800" hR="10800" stAng="-9565662" swAng="4127954"/>
              </a:path>
            </a:pathLst>
          </a:cu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7985160" y="0"/>
            <a:ext cx="1440" cy="481500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54000" y="790560"/>
            <a:ext cx="10026720" cy="6085080"/>
          </a:xfrm>
          <a:prstGeom prst="rtTriangle">
            <a:avLst/>
          </a:prstGeom>
          <a:gradFill rotWithShape="0">
            <a:gsLst>
              <a:gs pos="0">
                <a:srgbClr val="2f4675"/>
              </a:gs>
              <a:gs pos="100000">
                <a:srgbClr val="6699ff">
                  <a:alpha val="3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1783800" y="6888240"/>
            <a:ext cx="910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365040" algn="ctr">
              <a:lnSpc>
                <a:spcPct val="101000"/>
              </a:lnSpc>
              <a:tabLst>
                <a:tab algn="l" pos="0"/>
                <a:tab algn="l" pos="365040"/>
                <a:tab algn="l" pos="725400"/>
                <a:tab algn="l" pos="882720"/>
                <a:tab algn="l" pos="1797120"/>
                <a:tab algn="l" pos="2711520"/>
                <a:tab algn="l" pos="3625920"/>
                <a:tab algn="l" pos="4540320"/>
                <a:tab algn="l" pos="5454720"/>
                <a:tab algn="l" pos="6369120"/>
                <a:tab algn="l" pos="7283520"/>
                <a:tab algn="l" pos="8197920"/>
                <a:tab algn="l" pos="9112320"/>
                <a:tab algn="l" pos="10026720"/>
                <a:tab algn="l" pos="10304640"/>
                <a:tab algn="l" pos="10753560"/>
                <a:tab algn="l" pos="10756800"/>
                <a:tab algn="l" pos="1076004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6560" y="922320"/>
            <a:ext cx="966924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96560" y="1795320"/>
            <a:ext cx="966924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6880" indent="-326880">
              <a:lnSpc>
                <a:spcPct val="11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27200" indent="-270000">
              <a:lnSpc>
                <a:spcPct val="110000"/>
              </a:lnSpc>
              <a:spcBef>
                <a:spcPts val="550"/>
              </a:spcBef>
              <a:buSzPct val="4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SzPct val="112298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550"/>
              </a:spcBef>
              <a:buSzPct val="100000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" name="" descr=""/>
          <p:cNvPicPr/>
          <p:nvPr/>
        </p:nvPicPr>
        <p:blipFill>
          <a:blip r:embed="rId9"/>
          <a:stretch/>
        </p:blipFill>
        <p:spPr>
          <a:xfrm>
            <a:off x="0" y="6746760"/>
            <a:ext cx="992160" cy="8128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 flipH="1">
            <a:off x="6388200" y="3240"/>
            <a:ext cx="7392960" cy="4849920"/>
          </a:xfrm>
          <a:custGeom>
            <a:avLst/>
            <a:gdLst>
              <a:gd name="textAreaLeft" fmla="*/ 3696480 w 7392960"/>
              <a:gd name="textAreaRight" fmla="*/ 7393320 w 7392960"/>
              <a:gd name="textAreaTop" fmla="*/ 3240 h 4849920"/>
              <a:gd name="textAreaBottom" fmla="*/ 4846320 h 4849920"/>
            </a:gdLst>
            <a:ahLst/>
            <a:rect l="textAreaLeft" t="textAreaTop" r="textAreaRight" b="textAreaBottom"/>
            <a:pathLst>
              <a:path stroke="0" w="21600" h="21600">
                <a:moveTo>
                  <a:pt x="11302" y="12"/>
                </a:moveTo>
                <a:arcTo wR="10800" hR="10800" stAng="-5240301" swAng="10509789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1" swAng="10509789"/>
              </a:path>
            </a:pathLst>
          </a:cu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"/>
          <p:cNvSpPr/>
          <p:nvPr/>
        </p:nvSpPr>
        <p:spPr>
          <a:xfrm flipV="1">
            <a:off x="7521480" y="-2253240"/>
            <a:ext cx="5118120" cy="3338280"/>
          </a:xfrm>
          <a:custGeom>
            <a:avLst/>
            <a:gdLst>
              <a:gd name="textAreaLeft" fmla="*/ 175680 w 5118120"/>
              <a:gd name="textAreaRight" fmla="*/ 2558880 w 5118120"/>
              <a:gd name="textAreaTop" fmla="*/ 360 h 3338280"/>
              <a:gd name="textAreaBottom" fmla="*/ 1669320 h 3338280"/>
            </a:gdLst>
            <a:ahLst/>
            <a:rect l="textAreaLeft" t="textAreaTop" r="textAreaRight" b="textAreaBottom"/>
            <a:pathLst>
              <a:path stroke="0" w="21600" h="21600">
                <a:moveTo>
                  <a:pt x="689" y="7005"/>
                </a:moveTo>
                <a:arcTo wR="10800" hR="10800" stAng="-9565662" swAng="4127954"/>
                <a:lnTo>
                  <a:pt x="10800" y="10800"/>
                </a:lnTo>
                <a:close/>
              </a:path>
              <a:path fill="none" w="21600" h="21600">
                <a:moveTo>
                  <a:pt x="689" y="7005"/>
                </a:moveTo>
                <a:arcTo wR="10800" hR="10800" stAng="-9565662" swAng="4127954"/>
              </a:path>
            </a:pathLst>
          </a:cu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"/>
          <p:cNvSpPr/>
          <p:nvPr/>
        </p:nvSpPr>
        <p:spPr>
          <a:xfrm>
            <a:off x="6405480" y="6940440"/>
            <a:ext cx="3654360" cy="484200"/>
          </a:xfrm>
          <a:prstGeom prst="rect">
            <a:avLst/>
          </a:prstGeom>
          <a:gradFill rotWithShape="0">
            <a:gsLst>
              <a:gs pos="0">
                <a:srgbClr val="6699ff">
                  <a:alpha val="30196"/>
                </a:srgbClr>
              </a:gs>
              <a:gs pos="50000">
                <a:srgbClr val="2f4675"/>
              </a:gs>
              <a:gs pos="100000">
                <a:srgbClr val="6699ff">
                  <a:alpha val="3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"/>
          <p:cNvSpPr/>
          <p:nvPr/>
        </p:nvSpPr>
        <p:spPr>
          <a:xfrm>
            <a:off x="54000" y="790560"/>
            <a:ext cx="10026720" cy="6085080"/>
          </a:xfrm>
          <a:prstGeom prst="rtTriangle">
            <a:avLst/>
          </a:prstGeom>
          <a:gradFill rotWithShape="0">
            <a:gsLst>
              <a:gs pos="0">
                <a:srgbClr val="2f4675"/>
              </a:gs>
              <a:gs pos="100000">
                <a:srgbClr val="6699ff">
                  <a:alpha val="3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" name="" descr=""/>
          <p:cNvPicPr/>
          <p:nvPr/>
        </p:nvPicPr>
        <p:blipFill>
          <a:blip r:embed="rId10"/>
          <a:stretch/>
        </p:blipFill>
        <p:spPr>
          <a:xfrm>
            <a:off x="8628120" y="6948360"/>
            <a:ext cx="714240" cy="47628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11"/>
          <a:stretch/>
        </p:blipFill>
        <p:spPr>
          <a:xfrm>
            <a:off x="9344160" y="6948360"/>
            <a:ext cx="71424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55480" y="539640"/>
            <a:ext cx="8967960" cy="60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 algn="ctr">
              <a:lnSpc>
                <a:spcPct val="101000"/>
              </a:lnSpc>
              <a:spcBef>
                <a:spcPts val="499"/>
              </a:spcBef>
              <a:tabLst>
                <a:tab algn="l" pos="0"/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Unicode MS"/>
              </a:rPr>
              <a:t>Κ/Ξ ΒΙΩΣΙΜΗ ΑΝΑΠΤΥΞΗ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6880" indent="-326880" algn="ctr">
              <a:lnSpc>
                <a:spcPct val="101000"/>
              </a:lnSpc>
              <a:spcBef>
                <a:spcPts val="751"/>
              </a:spcBef>
              <a:spcAft>
                <a:spcPts val="249"/>
              </a:spcAft>
              <a:tabLst>
                <a:tab algn="l" pos="0"/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6880" indent="-326880" algn="ctr">
              <a:lnSpc>
                <a:spcPct val="101000"/>
              </a:lnSpc>
              <a:spcBef>
                <a:spcPts val="751"/>
              </a:spcBef>
              <a:spcAft>
                <a:spcPts val="249"/>
              </a:spcAft>
              <a:tabLst>
                <a:tab algn="l" pos="0"/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6880" indent="-326880" algn="ctr">
              <a:lnSpc>
                <a:spcPct val="101000"/>
              </a:lnSpc>
              <a:spcBef>
                <a:spcPts val="751"/>
              </a:spcBef>
              <a:spcAft>
                <a:spcPts val="249"/>
              </a:spcAft>
              <a:tabLst>
                <a:tab algn="l" pos="0"/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6880" indent="-326880" algn="ctr">
              <a:lnSpc>
                <a:spcPct val="101000"/>
              </a:lnSpc>
              <a:spcBef>
                <a:spcPts val="751"/>
              </a:spcBef>
              <a:spcAft>
                <a:spcPts val="249"/>
              </a:spcAft>
              <a:tabLst>
                <a:tab algn="l" pos="0"/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Arial Unicode MS"/>
              </a:rPr>
              <a:t>ΣΥΜΒΟΥΛΟΣ ΥΠΟΣΤΗΡΙΞΗΣ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6880" indent="-326880" algn="ctr">
              <a:lnSpc>
                <a:spcPct val="101000"/>
              </a:lnSpc>
              <a:spcBef>
                <a:spcPts val="825"/>
              </a:spcBef>
              <a:spcAft>
                <a:spcPts val="275"/>
              </a:spcAft>
              <a:tabLst>
                <a:tab algn="l" pos="0"/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Arial Unicode MS"/>
              </a:rPr>
              <a:t>ΤΩΝ ΦΟΡΕΩΝ ΥΛΟΠΟΙΗΣΗΣ ΣΥΓΧΡΗΜΑΤΟΔΟΤΟΥΜΕΝΩΝ ΤΕΧΝΙΚΩΝ ΕΡΓΩΝ ΥΠΟΔΟΜΗΣ ΣΤΗΝ ΠΕΡΙΦΕΡΕΙΑ ΗΠΕΙΡΟΥ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6880" indent="-326880" algn="ctr">
              <a:lnSpc>
                <a:spcPct val="101000"/>
              </a:lnSpc>
              <a:spcBef>
                <a:spcPts val="601"/>
              </a:spcBef>
              <a:tabLst>
                <a:tab algn="l" pos="0"/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6880" indent="-326880" algn="ctr">
              <a:lnSpc>
                <a:spcPct val="101000"/>
              </a:lnSpc>
              <a:spcBef>
                <a:spcPts val="451"/>
              </a:spcBef>
              <a:tabLst>
                <a:tab algn="l" pos="0"/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6880" indent="-326880" algn="ctr">
              <a:lnSpc>
                <a:spcPct val="101000"/>
              </a:lnSpc>
              <a:spcBef>
                <a:spcPts val="451"/>
              </a:spcBef>
              <a:tabLst>
                <a:tab algn="l" pos="0"/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6880" indent="-326880" algn="ctr">
              <a:lnSpc>
                <a:spcPct val="101000"/>
              </a:lnSpc>
              <a:spcBef>
                <a:spcPts val="451"/>
              </a:spcBef>
              <a:tabLst>
                <a:tab algn="l" pos="0"/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6880" indent="-326880" algn="ctr">
              <a:lnSpc>
                <a:spcPct val="101000"/>
              </a:lnSpc>
              <a:spcBef>
                <a:spcPts val="451"/>
              </a:spcBef>
              <a:tabLst>
                <a:tab algn="l" pos="0"/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 Unicode MS"/>
              </a:rPr>
              <a:t>ΔΕΚΕΜΒΡΙΟΣ 200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92000" y="693360"/>
            <a:ext cx="85680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1000"/>
              </a:lnSpc>
              <a:spcBef>
                <a:spcPts val="488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Πλαίσιο εφαρμογής του έργου του Σ.Υ.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76000" y="2123640"/>
            <a:ext cx="91486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Ο Σ.Υ. παρέχει τις υπηρεσίες του με τεκμηρίωση ως προς το </a:t>
            </a:r>
            <a:r>
              <a:rPr b="0" lang="en-GB" sz="2200" spc="-1" strike="noStrike">
                <a:solidFill>
                  <a:srgbClr val="ff9933"/>
                </a:solidFill>
                <a:latin typeface="Verdana"/>
              </a:rPr>
              <a:t>εθνικό και κοινοτικό θεσμικό και κανονιστικό πλαίσιο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 που ισχύει για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1000"/>
              </a:lnSpc>
              <a:spcBef>
                <a:spcPts val="201"/>
              </a:spcBef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Τα </a:t>
            </a:r>
            <a:r>
              <a:rPr b="0" lang="en-GB" sz="2200" spc="-1" strike="noStrike">
                <a:solidFill>
                  <a:srgbClr val="ff9933"/>
                </a:solidFill>
                <a:latin typeface="Verdana"/>
              </a:rPr>
              <a:t>συστήματα διαχείρισης, παρακολούθησης και ελέγχου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 των παρεμβάσεων των κοινοτικών διαρθρωτικών ταμείων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1000"/>
              </a:lnSpc>
              <a:spcBef>
                <a:spcPts val="201"/>
              </a:spcBef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1000"/>
              </a:lnSpc>
              <a:spcBef>
                <a:spcPts val="201"/>
              </a:spcBef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Τη </a:t>
            </a:r>
            <a:r>
              <a:rPr b="0" lang="en-GB" sz="2200" spc="-1" strike="noStrike">
                <a:solidFill>
                  <a:srgbClr val="ff9933"/>
                </a:solidFill>
                <a:latin typeface="Verdana"/>
              </a:rPr>
              <a:t>σύναψη δημοσίων συμβάσεων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, και ειδικότερα τις 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κείμενες διατάξεις της νομοθεσίας δημοσίων έργων, εκπόνησης μελετών και παροχής συναφών υπηρεσιών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18920" y="755640"/>
            <a:ext cx="8567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1000"/>
              </a:lnSpc>
              <a:spcBef>
                <a:spcPts val="488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Η σχέση του Σ.Υ. με τους φορείς των έργων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3760" y="1874520"/>
            <a:ext cx="94917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7680" indent="-517680" algn="just">
              <a:lnSpc>
                <a:spcPct val="101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Ο Σ.Υ. παρέχει </a:t>
            </a:r>
            <a:r>
              <a:rPr b="1" lang="en-US" sz="2200" spc="-1" strike="noStrike">
                <a:solidFill>
                  <a:srgbClr val="ff9933"/>
                </a:solidFill>
                <a:latin typeface="Arial Unicode MS"/>
              </a:rPr>
              <a:t>υποστήριξη</a:t>
            </a: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 στους Φορείς Υλοποίησης/ Τελικούς Δικαιούχους (Φ.Υ./Τ.Δ.) σε όλα τα </a:t>
            </a:r>
            <a:r>
              <a:rPr b="1" lang="en-US" sz="2200" spc="-1" strike="noStrike">
                <a:solidFill>
                  <a:srgbClr val="ff9933"/>
                </a:solidFill>
                <a:latin typeface="Arial Unicode MS"/>
              </a:rPr>
              <a:t>στάδια του κύκλου παραγωγής</a:t>
            </a: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 των έργων τους: πιο συγκεκριμένα </a:t>
            </a:r>
            <a:r>
              <a:rPr b="1" lang="en-US" sz="2200" spc="-1" strike="noStrike">
                <a:solidFill>
                  <a:srgbClr val="ff9933"/>
                </a:solidFill>
                <a:latin typeface="Arial Unicode MS"/>
              </a:rPr>
              <a:t>στην ένταξη των έργων, ανάθεση μελετών, εκπόνηση μελετών, δημοπράτηση κατασκευής, εκτέλεση κατασκευής, ολοκλήρωση έργου</a:t>
            </a: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17680" indent="0" algn="just">
              <a:lnSpc>
                <a:spcPct val="116000"/>
              </a:lnSpc>
              <a:spcBef>
                <a:spcPts val="201"/>
              </a:spcBef>
              <a:buNone/>
              <a:tabLst>
                <a:tab algn="l" pos="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17680" indent="-517680" algn="just">
              <a:lnSpc>
                <a:spcPct val="116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Οι προτάσεις και οι εισηγήσεις του Σ.Υ. υποβάλλονται στους Φ.Υ./Τ.Δ. και στην οικεία Διαχειριστική Αρχή (ΕΥΔ ΠΕΠ ΗΠΕΙΡΟΥ)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17680" indent="0" algn="just">
              <a:lnSpc>
                <a:spcPct val="116000"/>
              </a:lnSpc>
              <a:spcBef>
                <a:spcPts val="201"/>
              </a:spcBef>
              <a:buNone/>
              <a:tabLst>
                <a:tab algn="l" pos="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17680" indent="-517680" algn="just">
              <a:lnSpc>
                <a:spcPct val="116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Η επικοινωνία και συνεργασία του Σ.Υ. με τους Φ.Υ./Τ.Δ. υποστηρίζεται από την Διαχειριστική Αρχή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0360" y="596880"/>
            <a:ext cx="856764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1000"/>
              </a:lnSpc>
              <a:spcBef>
                <a:spcPts val="488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Πεδίο ευθύνης του Σ.Υ.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60000" y="2572920"/>
            <a:ext cx="932508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7680" indent="-517680" algn="just">
              <a:lnSpc>
                <a:spcPct val="101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Ο Σ.Υ. 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φέρει αποκλειστική ευθύνη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για το περιεχόμενο των προτάσεων και εισηγήσεων που υποβάλλει στους Φ.Υ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17680" indent="0" algn="just">
              <a:lnSpc>
                <a:spcPct val="151000"/>
              </a:lnSpc>
              <a:spcBef>
                <a:spcPts val="550"/>
              </a:spcBef>
              <a:buNone/>
              <a:tabLst>
                <a:tab algn="l" pos="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17680" indent="0" algn="just">
              <a:lnSpc>
                <a:spcPct val="151000"/>
              </a:lnSpc>
              <a:spcBef>
                <a:spcPts val="550"/>
              </a:spcBef>
              <a:buNone/>
              <a:tabLst>
                <a:tab algn="l" pos="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17680" indent="-517680" algn="just">
              <a:lnSpc>
                <a:spcPct val="116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Ο Σ.Υ. δεν υποκαθιστά τους Φ.Υ/Τ.Δ., ούτε ενεργεί ως αντιπρόσωπός τους έναντι αντισυμβαλλομένων ή τρίτων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14544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1000"/>
              </a:lnSpc>
              <a:spcBef>
                <a:spcPts val="488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Μεθοδολογία του έργου του Σ.Υ.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3600" y="1447560"/>
            <a:ext cx="924084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7680" indent="-517680" algn="just">
              <a:lnSpc>
                <a:spcPct val="91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Ο Σ.Υ. εφαρμόζει αναλυτικό ετήσιο </a:t>
            </a:r>
            <a:r>
              <a:rPr b="1" lang="en-GB" sz="2200" spc="-1" strike="noStrike">
                <a:solidFill>
                  <a:srgbClr val="ff9933"/>
                </a:solidFill>
                <a:latin typeface="Arial Unicode MS"/>
              </a:rPr>
              <a:t>πρόγραμμα δράσης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, όπως αυτό έχει συμφωνηθεί με την Διαχειριστική Αρχή και παραληφθεί από την Ε.Π.Π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17680" indent="0" algn="just">
              <a:lnSpc>
                <a:spcPct val="91000"/>
              </a:lnSpc>
              <a:spcBef>
                <a:spcPts val="550"/>
              </a:spcBef>
              <a:buNone/>
              <a:tabLst>
                <a:tab algn="l" pos="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17680" indent="-517680" algn="just">
              <a:lnSpc>
                <a:spcPct val="91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Το </a:t>
            </a:r>
            <a:r>
              <a:rPr b="1" lang="en-GB" sz="2200" spc="-1" strike="noStrike">
                <a:solidFill>
                  <a:srgbClr val="ff9933"/>
                </a:solidFill>
                <a:latin typeface="Arial Unicode MS"/>
              </a:rPr>
              <a:t>πρόγραμμα δράσης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περιλαμβάνει σε πινακοποιημένη μορφή όλα τα έργα αρμοδιότητ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ας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του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 Σ.Υ.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, με στοιχεία τόσο του οικονομικού όσο και του φυσικού αντικειμένου των έργων καθώς και 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με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τις δυνητικές ενέργειες-δράσεις για την ολοκληρωμένη συμβουλευτική υποστήριξη των έργων με βάση το “ορόσημό” τους (τρέχουσα φάση έργου)     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17680" indent="0" algn="just">
              <a:lnSpc>
                <a:spcPct val="91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17680" indent="-517680" algn="just">
              <a:lnSpc>
                <a:spcPct val="91000"/>
              </a:lnSpc>
              <a:spcBef>
                <a:spcPts val="550"/>
              </a:spcBef>
              <a:spcAft>
                <a:spcPts val="275"/>
              </a:spcAft>
              <a:buSzPct val="102909"/>
              <a:buBlip>
                <a:blip r:embed="rId3"/>
              </a:buBlip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Η παροχή </a:t>
            </a:r>
            <a:r>
              <a:rPr b="1" lang="en-GB" sz="2200" spc="-1" strike="noStrike">
                <a:solidFill>
                  <a:srgbClr val="ff9933"/>
                </a:solidFill>
                <a:latin typeface="Arial Unicode MS"/>
              </a:rPr>
              <a:t>ολοκληρωμένης συμβουλευτικής υποστήριξης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από τον Σ.Υ. περιλαμβάνει διακριτές δράσεις σε όλες τις κατηγορίες έργων, ανάλογα με το </a:t>
            </a:r>
            <a:r>
              <a:rPr b="1" lang="en-GB" sz="2200" spc="-1" strike="noStrike">
                <a:solidFill>
                  <a:srgbClr val="ff9933"/>
                </a:solidFill>
                <a:latin typeface="Arial Unicode MS"/>
              </a:rPr>
              <a:t>στάδιο υλοποίησης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6000" y="466200"/>
            <a:ext cx="967248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488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Verdana"/>
              </a:rPr>
              <a:t>Καταγραφή δράσεων </a:t>
            </a:r>
            <a:r>
              <a:rPr b="0" lang="el-GR" sz="2600" spc="-1" strike="noStrike">
                <a:solidFill>
                  <a:srgbClr val="ffcc00"/>
                </a:solidFill>
                <a:latin typeface="Verdana"/>
              </a:rPr>
              <a:t>υποστήριξης </a:t>
            </a:r>
            <a:r>
              <a:rPr b="0" lang="en-GB" sz="2600" spc="-1" strike="noStrike">
                <a:solidFill>
                  <a:srgbClr val="ffcc00"/>
                </a:solidFill>
                <a:latin typeface="Verdana"/>
              </a:rPr>
              <a:t>του Συμβούλου ανά στάδιο υλοποίησης έργου 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16000" y="1403280"/>
            <a:ext cx="967248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1860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18600" indent="0">
              <a:lnSpc>
                <a:spcPct val="151000"/>
              </a:lnSpc>
              <a:spcBef>
                <a:spcPts val="5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2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n-GB" sz="2200" spc="-1" strike="noStrike">
                <a:solidFill>
                  <a:srgbClr val="ffcc00"/>
                </a:solidFill>
                <a:latin typeface="Verdana"/>
              </a:rPr>
              <a:t>1.</a:t>
            </a:r>
            <a:r>
              <a:rPr b="1" lang="en-GB" sz="22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n-GB" sz="2200" spc="-1" strike="noStrike">
                <a:solidFill>
                  <a:srgbClr val="ffcc00"/>
                </a:solidFill>
                <a:latin typeface="Verdana"/>
              </a:rPr>
              <a:t>ΈΝΤΑΞΗ ΕΡΓΩΝ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1860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1860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Συνδρομή στον προσδιορισμό των έργων (project definition) 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στ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ην φάση του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γενικού σχεδιασμού και της μελέτης σκοπιμότητας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1860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Έλεγχος μελετών, εφόσον η ένταξη γίνεται μετά από την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εκπόνηση της μελέτης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1860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Εκτίμηση χ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ρονοδι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αγράμματος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έργου (χρονικός προγραμματισμός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 – 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πληρότητα, αλληλουχία δραστηριοτήτων, αξιοπιστία των 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προβλεπόμενων χρόνων για κάθε δραστηριότητα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1860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Εξέταση τ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εχνικ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ού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δελτίο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υ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ένταξης έργου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1860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Εξέταση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φακέλου για ένταξη έργου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18600" indent="0">
              <a:lnSpc>
                <a:spcPct val="151000"/>
              </a:lnSpc>
              <a:spcBef>
                <a:spcPts val="5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178920"/>
            <a:ext cx="967284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488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Καταγραφή δράσεων υποστήριξης του Συμβούλου ανά στάδιο υλοποίησης έργου 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07520" y="1258920"/>
            <a:ext cx="96728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1860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32868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1" lang="el-GR" sz="22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n-GB" sz="2200" spc="-1" strike="noStrike">
                <a:solidFill>
                  <a:srgbClr val="ffcc00"/>
                </a:solidFill>
                <a:latin typeface="Verdana"/>
              </a:rPr>
              <a:t>2.</a:t>
            </a:r>
            <a:r>
              <a:rPr b="1" lang="en-GB" sz="22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n-GB" sz="2200" spc="-1" strike="noStrike">
                <a:solidFill>
                  <a:srgbClr val="ffcc00"/>
                </a:solidFill>
                <a:latin typeface="Verdana"/>
              </a:rPr>
              <a:t>ΑΝΑΘΕΣΗ ΜΕΛΕΤΩΝ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1860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32868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1860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32868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Προετοιμασία και υλοποίηση της διαδικασίας δημοπράτησης και της σύννομης ανάθεσης όλων των αναγκαίων συμβάσεων μελετών και ερευνών του έργου (συνδρομή στην σύνταξη τευχών ή έλεγχος τευχών προκήρυξης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1860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32868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Εκτίμηση χ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ρονοδι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αγράμματος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μελέτης (χρονικός προγραμματισμός φάσεων – σταδίων μελέτης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1860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32868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Νομική υποστήριξη (εφόσον απαιτηθεί)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1860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32868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Εξέταση τε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χνικ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ού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δελτίο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υ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έργου, προσαρμογή διορθώσε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ων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(εφόσον απαιτηθεί) πριν από την προκήρυξη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1860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32868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Εξέταση φακέλου για τον έλεγχο προέγκρισης πριν από την δημοπράτηση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1860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32868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Εξέταση φακέλου για τον έλεγχο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 προέγκρισης πριν από την υπογραφή της σύμβασης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8920" y="178920"/>
            <a:ext cx="967284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488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Καταγραφή δράσεων υποστήριξης του Συμβούλου ανά στάδιο υλοποίησης έργου 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8920" y="1258920"/>
            <a:ext cx="9672840" cy="56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45720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44600"/>
                <a:tab algn="l" pos="85716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1" lang="el-GR" sz="18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n-GB" sz="2200" spc="-1" strike="noStrike">
                <a:solidFill>
                  <a:srgbClr val="ffcc00"/>
                </a:solidFill>
                <a:latin typeface="Verdana"/>
              </a:rPr>
              <a:t>3.</a:t>
            </a:r>
            <a:r>
              <a:rPr b="1" lang="en-GB" sz="22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n-GB" sz="2200" spc="-1" strike="noStrike">
                <a:solidFill>
                  <a:srgbClr val="ffcc00"/>
                </a:solidFill>
                <a:latin typeface="Verdana"/>
              </a:rPr>
              <a:t> ΔΗΜΟΠΡΑΤΗΣΗ ΚΑΤΑΣΚΕΥΗΣ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44600"/>
                <a:tab algn="l" pos="85716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Τεύχη δημοπράτησης και διαδικασία δημοπράτησης (έλεγχος, 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συμπλήρωση, επάρκεια τευχών, επιλογή συστήματος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44600"/>
                <a:tab algn="l" pos="85716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δημοπράτησης, κ.λ.π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44600"/>
                <a:tab algn="l" pos="85716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Υποστήριξη σε ζ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ητήματα απαλλοτριώσεων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44600"/>
                <a:tab algn="l" pos="85716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Υποστήριξη στην δ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ιαδικασία εξασφάλισης αδειοδοτήσεων εάν 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εκκρεμούν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44600"/>
                <a:tab algn="l" pos="85716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Κοστολόγηση έργου εάν χρειασθεί προσαρμογή με νέα τιμολόγια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44600"/>
                <a:tab algn="l" pos="85716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Εκτίμηση χ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ρονοδι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αγράμματος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έργου (χρονικός προγραμματισμός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44600"/>
                <a:tab algn="l" pos="85716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Νομική υποστήριξη (εφόσον απαιτηθεί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44600"/>
                <a:tab algn="l" pos="85716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Εξέταση τ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εχνικ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ού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δελτίο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υ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έργου, προσαρμογή διορθώσεων 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(εφόσον απαιτείται) πριν από την δημοπράτηση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44600"/>
                <a:tab algn="l" pos="85716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Εξέταση φακέλου για τον έλεγχο πριν από την δημοπράτηση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44600"/>
                <a:tab algn="l" pos="85716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Εξέταση φακέλου πριν από την υπογραφή της σύμβασης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78920"/>
            <a:ext cx="967104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488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Καταγραφή δράσεων υποστήριξης του Συμβούλου ανά στάδιο υλοποίησης έργου 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220760"/>
            <a:ext cx="9671040" cy="54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0">
              <a:lnSpc>
                <a:spcPct val="102000"/>
              </a:lnSpc>
              <a:spcBef>
                <a:spcPts val="550"/>
              </a:spcBef>
              <a:buNone/>
              <a:tabLst>
                <a:tab algn="l" pos="0"/>
                <a:tab algn="l" pos="26496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28680" indent="0">
              <a:lnSpc>
                <a:spcPct val="102000"/>
              </a:lnSpc>
              <a:spcBef>
                <a:spcPts val="550"/>
              </a:spcBef>
              <a:buNone/>
              <a:tabLst>
                <a:tab algn="l" pos="0"/>
                <a:tab algn="l" pos="26496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1" lang="el-GR" sz="22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n-GB" sz="2200" spc="-1" strike="noStrike">
                <a:solidFill>
                  <a:srgbClr val="ffcc00"/>
                </a:solidFill>
                <a:latin typeface="Verdana"/>
              </a:rPr>
              <a:t>4.</a:t>
            </a:r>
            <a:r>
              <a:rPr b="1" lang="en-GB" sz="22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n-GB" sz="2200" spc="-1" strike="noStrike">
                <a:solidFill>
                  <a:srgbClr val="ffcc00"/>
                </a:solidFill>
                <a:latin typeface="Verdana"/>
              </a:rPr>
              <a:t> ΕΚΤΕΛΕΣΗ ΚΑΤΑΣΚΕΥΗΣ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28680" indent="0">
              <a:lnSpc>
                <a:spcPct val="102000"/>
              </a:lnSpc>
              <a:spcBef>
                <a:spcPts val="550"/>
              </a:spcBef>
              <a:buNone/>
              <a:tabLst>
                <a:tab algn="l" pos="0"/>
                <a:tab algn="l" pos="26496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Υποστήριξη σε ζητήματα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απαλλοτριώσεων 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και στην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εξασφάλιση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           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αδειοδοτήσεων εάν εκκρεμούν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28680" indent="0">
              <a:lnSpc>
                <a:spcPct val="102000"/>
              </a:lnSpc>
              <a:spcBef>
                <a:spcPts val="550"/>
              </a:spcBef>
              <a:buNone/>
              <a:tabLst>
                <a:tab algn="l" pos="0"/>
                <a:tab algn="l" pos="26496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Διοίκηση έργου, ήτοι υποστήριξη στον Φ.Υ. σχετικά με την γενική</a:t>
            </a: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εξέλιξη της υλοποίησης </a:t>
            </a: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του έργου 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(χρονοδιάγραμμα, ποιότητα, </a:t>
            </a: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οικονομικά στοιχεία, πρόοδος φυσικού αντικειμένου, έγκαιρη λήψη </a:t>
            </a: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μέτρων κ.λ.π.)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28680" indent="0">
              <a:lnSpc>
                <a:spcPct val="102000"/>
              </a:lnSpc>
              <a:spcBef>
                <a:spcPts val="550"/>
              </a:spcBef>
              <a:buNone/>
              <a:tabLst>
                <a:tab algn="l" pos="0"/>
                <a:tab algn="l" pos="26496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Έλεγχος χρονοδιαγράμματος κατασκευής – τροποποίηση εφόσον </a:t>
            </a: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απαιτείται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28680" indent="0">
              <a:lnSpc>
                <a:spcPct val="102000"/>
              </a:lnSpc>
              <a:spcBef>
                <a:spcPts val="550"/>
              </a:spcBef>
              <a:buNone/>
              <a:tabLst>
                <a:tab algn="l" pos="0"/>
                <a:tab algn="l" pos="26496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Έλεγχος επιμετρήσεων και πιστοποιήσεων εάν έχουν γίνει πρόσφατα </a:t>
            </a: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(επιλεξιμότητα, επάρκεια, πληρότητα, συμβατότητα σε σχέση με </a:t>
            </a: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εγκεκριμένες συμβατικές ποσότητες)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28680" indent="0">
              <a:lnSpc>
                <a:spcPct val="102000"/>
              </a:lnSpc>
              <a:spcBef>
                <a:spcPts val="550"/>
              </a:spcBef>
              <a:buNone/>
              <a:tabLst>
                <a:tab algn="l" pos="0"/>
                <a:tab algn="l" pos="26496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Νομική υποστήριξη (εφόσον απαιτηθεί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9671040" cy="12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488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Καταγραφή δράσεων υποστήριξης του Συμβούλου ανά στάδιο υλοποίησης έργου 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6920" y="1794960"/>
            <a:ext cx="967104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40240" indent="0">
              <a:lnSpc>
                <a:spcPct val="102000"/>
              </a:lnSpc>
              <a:spcBef>
                <a:spcPts val="550"/>
              </a:spcBef>
              <a:buNone/>
              <a:tabLst>
                <a:tab algn="l" pos="0"/>
                <a:tab algn="l" pos="32868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1" lang="el-GR" sz="22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n-GB" sz="2200" spc="-1" strike="noStrike">
                <a:solidFill>
                  <a:srgbClr val="ffcc00"/>
                </a:solidFill>
                <a:latin typeface="Verdana"/>
              </a:rPr>
              <a:t>4.</a:t>
            </a:r>
            <a:r>
              <a:rPr b="1" lang="en-GB" sz="22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n-GB" sz="2200" spc="-1" strike="noStrike">
                <a:solidFill>
                  <a:srgbClr val="ffcc00"/>
                </a:solidFill>
                <a:latin typeface="Verdana"/>
              </a:rPr>
              <a:t> ΕΚΤΕΛΕΣΗ ΚΑΤΑΣΚΕΥΗΣ (συνέχεια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40240" indent="0">
              <a:lnSpc>
                <a:spcPct val="102000"/>
              </a:lnSpc>
              <a:spcBef>
                <a:spcPts val="550"/>
              </a:spcBef>
              <a:buNone/>
              <a:tabLst>
                <a:tab algn="l" pos="0"/>
                <a:tab algn="l" pos="32868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40240" indent="0">
              <a:lnSpc>
                <a:spcPct val="102000"/>
              </a:lnSpc>
              <a:spcBef>
                <a:spcPts val="550"/>
              </a:spcBef>
              <a:buNone/>
              <a:tabLst>
                <a:tab algn="l" pos="0"/>
                <a:tab algn="l" pos="32868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Υποστήριξη για τον έλεγχο της π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οιότητα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ς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κατασκευής (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τήρηση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προγράμματος ποιότητας, απαιτούμενοι έλεγχοι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 - δοκιμές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, πιστοποιητικά, κ.λ.π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40240" indent="0">
              <a:lnSpc>
                <a:spcPct val="102000"/>
              </a:lnSpc>
              <a:spcBef>
                <a:spcPts val="550"/>
              </a:spcBef>
              <a:buNone/>
              <a:tabLst>
                <a:tab algn="l" pos="0"/>
                <a:tab algn="l" pos="32868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Υποστήριξη για τον έλεγχο της τ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ήρηση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ς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περιβαλλοντικών όρων και κανόνων ασφαλείας εργοταξίου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40240" indent="0">
              <a:lnSpc>
                <a:spcPct val="102000"/>
              </a:lnSpc>
              <a:spcBef>
                <a:spcPts val="550"/>
              </a:spcBef>
              <a:buNone/>
              <a:tabLst>
                <a:tab algn="l" pos="0"/>
                <a:tab algn="l" pos="32868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Υποστήριξη στις ε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ργασίες συναρμόδιων φορέων εφόσον υπάρχουν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40240" indent="0">
              <a:lnSpc>
                <a:spcPct val="102000"/>
              </a:lnSpc>
              <a:spcBef>
                <a:spcPts val="550"/>
              </a:spcBef>
              <a:buNone/>
              <a:tabLst>
                <a:tab algn="l" pos="0"/>
                <a:tab algn="l" pos="32868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Υποστήριξη στην τ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ροποποίηση μελέτης εάν απαιτείται και κατάρτιση φακέλου υποβολής πρότασης τροποποίησης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40240" indent="0">
              <a:lnSpc>
                <a:spcPct val="102000"/>
              </a:lnSpc>
              <a:spcBef>
                <a:spcPts val="550"/>
              </a:spcBef>
              <a:buNone/>
              <a:tabLst>
                <a:tab algn="l" pos="0"/>
                <a:tab algn="l" pos="32868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Εξέταση τ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εχνικ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ού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δελτίο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υ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έργου, προσαρμογή διορθώσεων εφόσον γίνει 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η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τροπο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π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οίηση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40240" indent="0">
              <a:lnSpc>
                <a:spcPct val="102000"/>
              </a:lnSpc>
              <a:spcBef>
                <a:spcPts val="550"/>
              </a:spcBef>
              <a:buNone/>
              <a:tabLst>
                <a:tab algn="l" pos="0"/>
                <a:tab algn="l" pos="32868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Υποστήριξη στην τ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μηματική παράδοση έργου εφόσον απαιτείται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78920"/>
            <a:ext cx="967104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488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Καταγραφή δράσεων υποστήριξης του Συμβούλου ανά στάδιο υλοποίησης έργου 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7280" y="1979280"/>
            <a:ext cx="9671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93880" indent="0">
              <a:lnSpc>
                <a:spcPct val="102000"/>
              </a:lnSpc>
              <a:spcBef>
                <a:spcPts val="550"/>
              </a:spcBef>
              <a:buNone/>
              <a:tabLst>
                <a:tab algn="l" pos="0"/>
                <a:tab algn="l" pos="444600"/>
                <a:tab algn="l" pos="89388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1" lang="el-GR" sz="22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n-GB" sz="2200" spc="-1" strike="noStrike">
                <a:solidFill>
                  <a:srgbClr val="ffcc00"/>
                </a:solidFill>
                <a:latin typeface="Verdana"/>
              </a:rPr>
              <a:t>5.</a:t>
            </a:r>
            <a:r>
              <a:rPr b="1" lang="en-GB" sz="22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n-GB" sz="2200" spc="-1" strike="noStrike">
                <a:solidFill>
                  <a:srgbClr val="ffcc00"/>
                </a:solidFill>
                <a:latin typeface="Verdana"/>
              </a:rPr>
              <a:t> ΟΛΟΚΛΗΡΩΣΗ ΕΡΓΟΥ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93880" indent="0">
              <a:lnSpc>
                <a:spcPct val="102000"/>
              </a:lnSpc>
              <a:spcBef>
                <a:spcPts val="550"/>
              </a:spcBef>
              <a:buNone/>
              <a:tabLst>
                <a:tab algn="l" pos="0"/>
                <a:tab algn="l" pos="444600"/>
                <a:tab algn="l" pos="89388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93880" indent="0">
              <a:lnSpc>
                <a:spcPct val="102000"/>
              </a:lnSpc>
              <a:spcBef>
                <a:spcPts val="550"/>
              </a:spcBef>
              <a:buNone/>
              <a:tabLst>
                <a:tab algn="l" pos="0"/>
                <a:tab algn="l" pos="444600"/>
                <a:tab algn="l" pos="89388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Υποστήριξη στον έ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λεγχο επιμετρήσεων και πιστοποιήσεων, αφορά στην τελική επιμέτρηση και τελικό λογαριασμό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93880" indent="0">
              <a:lnSpc>
                <a:spcPct val="102000"/>
              </a:lnSpc>
              <a:spcBef>
                <a:spcPts val="550"/>
              </a:spcBef>
              <a:buNone/>
              <a:tabLst>
                <a:tab algn="l" pos="0"/>
                <a:tab algn="l" pos="444600"/>
                <a:tab algn="l" pos="89388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Υποστήριξη στην π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αραλαβή έργου και 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στον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έλεγχο σχεδίων “ως κατασ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κ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ευάσθησαν”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93880" indent="0">
              <a:lnSpc>
                <a:spcPct val="102000"/>
              </a:lnSpc>
              <a:spcBef>
                <a:spcPts val="550"/>
              </a:spcBef>
              <a:buNone/>
              <a:tabLst>
                <a:tab algn="l" pos="0"/>
                <a:tab algn="l" pos="444600"/>
                <a:tab algn="l" pos="89388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Νομική υποστήριξη (εφόσον απαιτηθεί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93880" indent="0">
              <a:lnSpc>
                <a:spcPct val="102000"/>
              </a:lnSpc>
              <a:spcBef>
                <a:spcPts val="550"/>
              </a:spcBef>
              <a:buNone/>
              <a:tabLst>
                <a:tab algn="l" pos="0"/>
                <a:tab algn="l" pos="444600"/>
                <a:tab algn="l" pos="89388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Εξέταση τ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εχνικ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ού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δελτίο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υ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έργου, τροποποίηση με τελικά δεδομένα έργου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93880" indent="0">
              <a:lnSpc>
                <a:spcPct val="102000"/>
              </a:lnSpc>
              <a:spcBef>
                <a:spcPts val="550"/>
              </a:spcBef>
              <a:buNone/>
              <a:tabLst>
                <a:tab algn="l" pos="0"/>
                <a:tab algn="l" pos="444600"/>
                <a:tab algn="l" pos="89388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Δ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ήλωση ολοκλήρωσης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360" y="395280"/>
            <a:ext cx="96854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Πρόσληψη Συμβούλου Υποστήριξης 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15640" y="1332000"/>
            <a:ext cx="968508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just">
              <a:lnSpc>
                <a:spcPts val="2775"/>
              </a:lnSpc>
              <a:spcBef>
                <a:spcPts val="5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 u="sng">
                <a:solidFill>
                  <a:srgbClr val="ffcc00"/>
                </a:solidFill>
                <a:uFillTx/>
                <a:latin typeface="Arial Unicode MS"/>
                <a:ea typeface="Arial Unicode MS"/>
              </a:rPr>
              <a:t>Α.</a:t>
            </a:r>
            <a:r>
              <a:rPr b="1" lang="el-GR" sz="2200" spc="-1" strike="noStrike" u="sng">
                <a:solidFill>
                  <a:srgbClr val="ffcc00"/>
                </a:solidFill>
                <a:uFillTx/>
                <a:latin typeface="Arial Unicode MS"/>
                <a:ea typeface="Arial Unicode MS"/>
              </a:rPr>
              <a:t>Α:</a:t>
            </a: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ΥΠ.ΟΙ.Ο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indent="0" algn="just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indent="0" algn="just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 u="sng">
                <a:solidFill>
                  <a:srgbClr val="ffcc00"/>
                </a:solidFill>
                <a:uFillTx/>
                <a:latin typeface="Arial Unicode MS"/>
                <a:ea typeface="Arial Unicode MS"/>
              </a:rPr>
              <a:t>ΔΙΑΓΩΝΙΣΜΟΣ ΓΙΑ ΤΗΝ ΠΡΟΣΛΗΨΗ</a:t>
            </a: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: Σ.Υ. των Φορέων Υλοποίησης Συγχρηματοδοτούμενων Τεχνικών Έργων Υποδομής </a:t>
            </a: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στις 13 Περιφέρειες κατά την περίοδο 2000-2008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indent="0" algn="just">
              <a:lnSpc>
                <a:spcPct val="102000"/>
              </a:lnSpc>
              <a:spcBef>
                <a:spcPts val="5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indent="0" algn="just">
              <a:lnSpc>
                <a:spcPct val="102000"/>
              </a:lnSpc>
              <a:spcBef>
                <a:spcPts val="5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 u="sng">
                <a:solidFill>
                  <a:srgbClr val="ffcc00"/>
                </a:solidFill>
                <a:uFillTx/>
                <a:latin typeface="Arial Unicode MS"/>
                <a:ea typeface="Arial Unicode MS"/>
              </a:rPr>
              <a:t>ΑΝΑΔΟΧΟΣ Σ.Υ. ΓΙΑ ΤΗΝ ΗΠΕΙΡΟ:</a:t>
            </a: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Κ/Ξ ΒΙΩΣΙΜΗ ΑΝΑΠΤΥΞΗ</a:t>
            </a:r>
            <a:r>
              <a:rPr b="1" lang="el-GR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,</a:t>
            </a: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Τεχνικά Γραφεία ΑΛΦΑ ΣΥΜΒΟΥΛΟΙ ΜΗΧΑΝΙΚΟΙ &amp;  ΣΥΝΘΕΣΗ ΚΑΙ ΕΡΕΥΝΑ, </a:t>
            </a: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με πολύχρονη εμπειρία στην Μελέτη, Επίβλεψη, Διαχείριση Τεχνικών Έργων Υποδομή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indent="0" algn="just">
              <a:lnSpc>
                <a:spcPct val="102000"/>
              </a:lnSpc>
              <a:spcBef>
                <a:spcPts val="5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indent="0" algn="just">
              <a:lnSpc>
                <a:spcPct val="102000"/>
              </a:lnSpc>
              <a:spcBef>
                <a:spcPts val="5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 u="sng">
                <a:solidFill>
                  <a:srgbClr val="ffcc00"/>
                </a:solidFill>
                <a:uFillTx/>
                <a:latin typeface="Arial Unicode MS"/>
                <a:ea typeface="Arial Unicode MS"/>
              </a:rPr>
              <a:t>ΕΚΠΡΟΣΩΠΟΣ ΤΗΣ Κ/Ξ:</a:t>
            </a: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Δ. Αναγνωστόπουλος, Πολ. Μηχανικός Μsc, </a:t>
            </a: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με μεταπτυχιακές σπουδές στο Παρίσι στην διαχείριση συγκοινωνιακών έργων και πολύχρονη εμπειρία στην Ελλάδα και στην Ευρώπη στους τομείς διαχείρισης έργων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0360" y="720360"/>
            <a:ext cx="85676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1000"/>
              </a:lnSpc>
              <a:spcBef>
                <a:spcPts val="488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Πρόοδος υλοποίησης του έργου του Σ.Υ.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60000" y="2160360"/>
            <a:ext cx="9186840" cy="37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7680" indent="0" algn="just">
              <a:lnSpc>
                <a:spcPct val="81000"/>
              </a:lnSpc>
              <a:spcBef>
                <a:spcPts val="201"/>
              </a:spcBef>
              <a:buNone/>
              <a:tabLst>
                <a:tab algn="l" pos="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17680" indent="-517680" algn="just">
              <a:lnSpc>
                <a:spcPct val="106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Ο Σ.Υ. έχει συγκεντρώσει και αξιολογήσει επίκαιρα ποσοτικά και ποιοτικά </a:t>
            </a:r>
            <a:r>
              <a:rPr b="1" lang="en-US" sz="2200" spc="-1" strike="noStrike">
                <a:solidFill>
                  <a:srgbClr val="ff9933"/>
                </a:solidFill>
                <a:latin typeface="Arial Unicode MS"/>
              </a:rPr>
              <a:t>στοιχεία των ενταγμένων έργων</a:t>
            </a: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 του Ε.Π. της προγραμματικής περιόδου 2000-06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17680" indent="0" algn="just">
              <a:lnSpc>
                <a:spcPct val="106000"/>
              </a:lnSpc>
              <a:spcBef>
                <a:spcPts val="201"/>
              </a:spcBef>
              <a:buNone/>
              <a:tabLst>
                <a:tab algn="l" pos="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17680" indent="-517680" algn="just">
              <a:lnSpc>
                <a:spcPct val="106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Ο Σ.Υ. έχει συγκεντρώσει και αξιολογήσει επίκαιρα ποσοτικά και ποιοτικά </a:t>
            </a:r>
            <a:r>
              <a:rPr b="1" lang="en-US" sz="2200" spc="-1" strike="noStrike">
                <a:solidFill>
                  <a:srgbClr val="ff9933"/>
                </a:solidFill>
                <a:latin typeface="Arial Unicode MS"/>
              </a:rPr>
              <a:t>στοιχεία των μελετών του Π.Δ.Ε.,</a:t>
            </a: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 που αφορούν σε τεχνικά έργα εν δυνάμει προς ένταξη στα προγράμματα της νέας προγραμματικής περιόδου 2007-13.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8920" y="900000"/>
            <a:ext cx="856764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1000"/>
              </a:lnSpc>
              <a:spcBef>
                <a:spcPts val="488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Πρόοδος υλοποίησης του έργου του Σ.Υ.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3520" y="1800000"/>
            <a:ext cx="918684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7680" indent="0" algn="just">
              <a:lnSpc>
                <a:spcPct val="81000"/>
              </a:lnSpc>
              <a:spcBef>
                <a:spcPts val="224"/>
              </a:spcBef>
              <a:buNone/>
              <a:tabLst>
                <a:tab algn="l" pos="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GB" sz="9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517680" indent="-517680" algn="just">
              <a:lnSpc>
                <a:spcPct val="10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Ο Σ.Υ. έχει </a:t>
            </a:r>
            <a:r>
              <a:rPr b="1" lang="en-GB" sz="2200" spc="-1" strike="noStrike">
                <a:solidFill>
                  <a:srgbClr val="ff9933"/>
                </a:solidFill>
                <a:latin typeface="Verdana"/>
              </a:rPr>
              <a:t>συντάξει-υποβάλει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17680" indent="0" algn="just">
              <a:lnSpc>
                <a:spcPct val="106000"/>
              </a:lnSpc>
              <a:spcBef>
                <a:spcPts val="499"/>
              </a:spcBef>
              <a:buNone/>
              <a:tabLst>
                <a:tab algn="l" pos="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17680" indent="0" algn="just">
              <a:lnSpc>
                <a:spcPct val="106000"/>
              </a:lnSpc>
              <a:spcBef>
                <a:spcPts val="499"/>
              </a:spcBef>
              <a:buNone/>
              <a:tabLst>
                <a:tab algn="l" pos="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(i)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 Unicode MS"/>
              </a:rPr>
              <a:t>Έκθεση Αξιολόγησης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που αφορά στην πρόοδο του Ε.Π.,  καθώς και στην επάρκεια των Φ.Υ./Τ.Δ. για την υλοποίηση των έργων, </a:t>
            </a:r>
            <a:r>
              <a:rPr b="0" lang="en-GB" sz="2200" spc="-1" strike="noStrike">
                <a:solidFill>
                  <a:srgbClr val="ff9933"/>
                </a:solidFill>
                <a:latin typeface="Arial Unicode MS"/>
              </a:rPr>
              <a:t>η οποία έχει εγκριθεί και παραληφθεί από την Ε.Π.Π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17680" indent="0" algn="just">
              <a:lnSpc>
                <a:spcPct val="106000"/>
              </a:lnSpc>
              <a:spcBef>
                <a:spcPts val="499"/>
              </a:spcBef>
              <a:buNone/>
              <a:tabLst>
                <a:tab algn="l" pos="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(ii)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 Unicode MS"/>
              </a:rPr>
              <a:t>Συνολικό Πρόγραμμα Δράσης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και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17680" indent="0" algn="just">
              <a:lnSpc>
                <a:spcPct val="106000"/>
              </a:lnSpc>
              <a:spcBef>
                <a:spcPts val="499"/>
              </a:spcBef>
              <a:buNone/>
              <a:tabLst>
                <a:tab algn="l" pos="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(iii)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 Unicode MS"/>
              </a:rPr>
              <a:t>Αναλυτικό Πρόγραμμα Δράσης έτους 2007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17680" indent="0" algn="just">
              <a:lnSpc>
                <a:spcPct val="106000"/>
              </a:lnSpc>
              <a:spcBef>
                <a:spcPts val="499"/>
              </a:spcBef>
              <a:buNone/>
              <a:tabLst>
                <a:tab algn="l" pos="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Τα α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νωτέρω προγράμματα έχουν εξεταστεί και παραληφθεί από την Ε.Π.Π.</a:t>
            </a:r>
            <a:r>
              <a:rPr b="0" lang="en-GB" sz="19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517680" indent="0" algn="just">
              <a:lnSpc>
                <a:spcPct val="106000"/>
              </a:lnSpc>
              <a:spcBef>
                <a:spcPts val="601"/>
              </a:spcBef>
              <a:buNone/>
              <a:tabLst>
                <a:tab algn="l" pos="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 Unicode MS"/>
              </a:rPr>
              <a:t>Σ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τα προγράμματα δράσης αποτυπώθηκε η κατάσταση των έργων και οι υπολειπόμενες εργασίες μέχρι την ολοκλήρωσή τους.</a:t>
            </a: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96840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1000"/>
              </a:lnSpc>
              <a:spcBef>
                <a:spcPts val="488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Πρόοδος υλοποίησης του έργου του Σ.Υ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1079640"/>
            <a:ext cx="9684000" cy="57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81000"/>
              </a:lnSpc>
              <a:spcBef>
                <a:spcPts val="74"/>
              </a:spcBef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6000"/>
              </a:lnSpc>
              <a:spcBef>
                <a:spcPts val="499"/>
              </a:spcBef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Ο Σ.Υ. έχει υποβάλει </a:t>
            </a:r>
            <a:r>
              <a:rPr b="0" lang="en-GB" sz="2200" spc="-1" strike="noStrike" u="sng">
                <a:solidFill>
                  <a:srgbClr val="ff9933"/>
                </a:solidFill>
                <a:uFillTx/>
                <a:latin typeface="Arial Unicode MS"/>
              </a:rPr>
              <a:t>Έκθεση Μεθοδολογίας &amp; Οργάνωσης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 Unicode MS"/>
              </a:rPr>
              <a:t>,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που αφορά στο μεθοδολογικό πλαίσιο υλοποίησης του 'Εργου του στην Περιφέρεια Ηπείρου. Η ανάγκη διατύπωσης συγκεκριμένου μεθοδολογικού πλαισίου προκύπτει λόγω του σύνθετου αντικειμένου του Σ.Υ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6000"/>
              </a:lnSpc>
              <a:spcBef>
                <a:spcPts val="499"/>
              </a:spcBef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6000"/>
              </a:lnSpc>
              <a:spcBef>
                <a:spcPts val="499"/>
              </a:spcBef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Ο Σ.Υ. διατηρεί συνεχώς </a:t>
            </a:r>
            <a:r>
              <a:rPr b="1" lang="el-GR" sz="2200" spc="-1" strike="noStrike">
                <a:solidFill>
                  <a:srgbClr val="ff9933"/>
                </a:solidFill>
                <a:latin typeface="Arial Unicode MS"/>
              </a:rPr>
              <a:t>επικαιροποιημένα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 όλα τα </a:t>
            </a:r>
            <a:r>
              <a:rPr b="1" lang="el-GR" sz="2200" spc="-1" strike="noStrike">
                <a:solidFill>
                  <a:srgbClr val="ff9933"/>
                </a:solidFill>
                <a:latin typeface="Arial Unicode MS"/>
              </a:rPr>
              <a:t>στοιχεία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 που απαιτούνται για την </a:t>
            </a:r>
            <a:r>
              <a:rPr b="1" lang="el-GR" sz="2200" spc="-1" strike="noStrike">
                <a:solidFill>
                  <a:srgbClr val="ff9933"/>
                </a:solidFill>
                <a:latin typeface="Arial Unicode MS"/>
              </a:rPr>
              <a:t>παρακολούθηση της εξέλιξης των έργων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, αφού στα πλαίσια της προόδου υλοποίησης του έργου του, επικαιροποιεί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οικονομικό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 και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φυσικό αντικείμενο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 των έργων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, χρόν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ους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υλοποίησης κ.λ.π. στην ήδη δομημένη βάση δεδομένων των έργων αρμοδιότητάς του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. Η επικαιροποίηση αυτή δίδει τις </a:t>
            </a:r>
            <a:r>
              <a:rPr b="1" lang="el-GR" sz="2200" spc="-1" strike="noStrike">
                <a:solidFill>
                  <a:srgbClr val="ff9933"/>
                </a:solidFill>
                <a:latin typeface="Arial Unicode MS"/>
              </a:rPr>
              <a:t>επόμενες ενέργειες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 που θα απαιτηθούν για την ορθή παρακολούθηση και </a:t>
            </a:r>
            <a:r>
              <a:rPr b="1" lang="el-GR" sz="2200" spc="-1" strike="noStrike">
                <a:solidFill>
                  <a:srgbClr val="ff9933"/>
                </a:solidFill>
                <a:latin typeface="Arial Unicode MS"/>
              </a:rPr>
              <a:t>υποστήριξη των έργων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6000"/>
              </a:lnSpc>
              <a:spcBef>
                <a:spcPts val="499"/>
              </a:spcBef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6000"/>
              </a:lnSpc>
              <a:spcBef>
                <a:spcPts val="499"/>
              </a:spcBef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Ο Σ.Υ. 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θ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α συντάξει ετήσια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 Unicode MS"/>
              </a:rPr>
              <a:t>Έκθεση Προόδου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και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 Unicode MS"/>
              </a:rPr>
              <a:t>Τελική Έκθεση</a:t>
            </a:r>
            <a:r>
              <a:rPr b="0" lang="el-GR" sz="2200" spc="-1" strike="noStrike" u="sng">
                <a:solidFill>
                  <a:srgbClr val="ffffff"/>
                </a:solidFill>
                <a:uFillTx/>
                <a:latin typeface="Arial Unicode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178920"/>
            <a:ext cx="968076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488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ffcc00"/>
                </a:solidFill>
                <a:latin typeface="Verdana"/>
              </a:rPr>
              <a:t>Βέλτιστος τ</a:t>
            </a:r>
            <a:r>
              <a:rPr b="0" lang="en-GB" sz="2800" spc="-1" strike="noStrike">
                <a:solidFill>
                  <a:srgbClr val="ffcc00"/>
                </a:solidFill>
                <a:latin typeface="Verdana"/>
              </a:rPr>
              <a:t>ρόπος υλοποίησης του έργου του Σ.Υ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19240" y="1060200"/>
            <a:ext cx="96804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just">
              <a:lnSpc>
                <a:spcPct val="106000"/>
              </a:lnSpc>
              <a:spcBef>
                <a:spcPts val="499"/>
              </a:spcBef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Ο Σ.Υ. παρέχει συστηματική υποστήριξη στους Φ.Υ. σύμφωνα με τις ανάγκες των Φορέων και τις οδηγίες-κατευθύνσεις της Διαχειριστικής Αρχής, κατά έργο και υποέργο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 ανάλογα με το στάδιο υλοποίησης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, στο πλαίσιο του εγκεκριμένου από την Ε.Π.Π. ετήσιου Αναλυτικού Προγράμματος Δράσης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6000"/>
              </a:lnSpc>
              <a:spcBef>
                <a:spcPts val="499"/>
              </a:spcBef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6000"/>
              </a:lnSpc>
              <a:spcBef>
                <a:spcPts val="499"/>
              </a:spcBef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Η επίτευξη του στόχου για την ουσιαστική υποστήριξη των Φορέων, προϋποθέτει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6000"/>
              </a:lnSpc>
              <a:spcBef>
                <a:spcPts val="499"/>
              </a:spcBef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6000"/>
              </a:lnSpc>
              <a:spcBef>
                <a:spcPts val="499"/>
              </a:spcBef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l-GR" sz="2300" spc="-1" strike="noStrike" u="sng">
                <a:solidFill>
                  <a:srgbClr val="ffff66"/>
                </a:solidFill>
                <a:uFillTx/>
                <a:latin typeface="Arial Unicode MS"/>
              </a:rPr>
              <a:t>Καλή και συνεχή συνεργασία των μελών του Συμβούλου με τα αρμόδια στελέχη των Τεχνικών Υπηρεσιών των Φορέων Υλοποίησης - διαμόρφωση συγκεκριμένων αιτημάτων των Φορέων προς τον Συντονιστή και τα εντεταλμένα στελέχη του Συμβούλου, είτε με τηλεφωνική επικοινωνία, είτε με διαμόρφωση γραπτού σχετικού αιτήματος, είτε με επιτόπου επίσκεψη</a:t>
            </a:r>
            <a:r>
              <a:rPr b="0" lang="el-GR" sz="2200" spc="-1" strike="noStrike" u="sng">
                <a:solidFill>
                  <a:srgbClr val="ffffff"/>
                </a:solidFill>
                <a:uFillTx/>
                <a:latin typeface="Arial Unicode MS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6000"/>
              </a:lnSpc>
              <a:spcBef>
                <a:spcPts val="499"/>
              </a:spcBef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000" spc="-1" strike="noStrike" u="sng">
                <a:solidFill>
                  <a:srgbClr val="ffffff"/>
                </a:solidFill>
                <a:uFillTx/>
                <a:latin typeface="Verdan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6920" y="-360"/>
            <a:ext cx="968076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488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ffcc00"/>
                </a:solidFill>
                <a:latin typeface="Verdana"/>
              </a:rPr>
              <a:t>Βέλτιστος τ</a:t>
            </a:r>
            <a:r>
              <a:rPr b="0" lang="en-GB" sz="2800" spc="-1" strike="noStrike">
                <a:solidFill>
                  <a:srgbClr val="ffcc00"/>
                </a:solidFill>
                <a:latin typeface="Verdana"/>
              </a:rPr>
              <a:t>ρόπος υλοποίησης του έργου του Σ.Υ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6920" y="755280"/>
            <a:ext cx="968076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 algn="just">
              <a:lnSpc>
                <a:spcPct val="106000"/>
              </a:lnSpc>
              <a:spcBef>
                <a:spcPts val="499"/>
              </a:spcBef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ff9900"/>
                </a:solidFill>
                <a:latin typeface="Verdana"/>
              </a:rPr>
              <a:t>	</a:t>
            </a:r>
            <a:r>
              <a:rPr b="1" lang="el-GR" sz="2400" spc="-1" strike="noStrike">
                <a:solidFill>
                  <a:srgbClr val="ff9900"/>
                </a:solidFill>
                <a:latin typeface="Verdana"/>
              </a:rPr>
              <a:t>	</a:t>
            </a:r>
            <a:r>
              <a:rPr b="1" i="1" lang="el-GR" sz="2300" spc="-1" strike="noStrike" u="sng">
                <a:solidFill>
                  <a:srgbClr val="ffff66"/>
                </a:solidFill>
                <a:uFillTx/>
                <a:latin typeface="Arial Unicode MS"/>
              </a:rPr>
              <a:t>Άμεση επικοινωνία των Φορέων </a:t>
            </a:r>
            <a:r>
              <a:rPr b="1" i="1" lang="en-GB" sz="2300" spc="-1" strike="noStrike" u="sng">
                <a:solidFill>
                  <a:srgbClr val="ffff66"/>
                </a:solidFill>
                <a:uFillTx/>
                <a:latin typeface="Arial Unicode MS"/>
              </a:rPr>
              <a:t>με τον Σύμβουλο για επείγουσες διαδικασίες που λόγω της απαίτησης για άμεση επίλυση αντιμετωπίζονται ως πρώτης προτεραιότητας θέματα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300" spc="-1" strike="noStrike">
                <a:solidFill>
                  <a:srgbClr val="ffff66"/>
                </a:solidFill>
                <a:latin typeface="Arial Unicode MS"/>
              </a:rPr>
              <a:t>	</a:t>
            </a:r>
            <a:r>
              <a:rPr b="1" i="1" lang="en-GB" sz="2300" spc="-1" strike="noStrike" u="sng">
                <a:solidFill>
                  <a:srgbClr val="ffff66"/>
                </a:solidFill>
                <a:uFillTx/>
                <a:latin typeface="Arial Unicode MS"/>
              </a:rPr>
              <a:t>Τακτικές επισκέψεις του Συμβούλου στους Φορείς Υλοποίησης</a:t>
            </a:r>
            <a:r>
              <a:rPr b="1" i="1" lang="el-GR" sz="2300" spc="-1" strike="noStrike" u="sng">
                <a:solidFill>
                  <a:srgbClr val="ffff66"/>
                </a:solidFill>
                <a:uFillTx/>
                <a:latin typeface="Arial Unicode MS"/>
              </a:rPr>
              <a:t> και επιτόπου των έργων - εκ των προτέρων ενημέρωση των Φορέων από τον Σύμβουλο για τις επικείμενες επισκέψεις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l-GR" sz="2300" spc="-1" strike="noStrike">
                <a:solidFill>
                  <a:srgbClr val="ffff66"/>
                </a:solidFill>
                <a:latin typeface="Arial Unicode MS"/>
              </a:rPr>
              <a:t>	</a:t>
            </a:r>
            <a:r>
              <a:rPr b="1" i="1" lang="el-GR" sz="2300" spc="-1" strike="noStrike">
                <a:solidFill>
                  <a:srgbClr val="ffff66"/>
                </a:solidFill>
                <a:latin typeface="Arial Unicode MS"/>
              </a:rPr>
              <a:t> </a:t>
            </a:r>
            <a:r>
              <a:rPr b="1" i="1" lang="el-GR" sz="2300" spc="-1" strike="noStrike" u="sng">
                <a:solidFill>
                  <a:srgbClr val="ffff66"/>
                </a:solidFill>
                <a:uFillTx/>
                <a:latin typeface="Arial Unicode MS"/>
              </a:rPr>
              <a:t>Ενημέρωση του εντεταλμένου στελέχους του Συμβούλου, κατά την επιτόπου επίσκεψη στον Φορέα, των στοιχείων του έργου από τον Φάκελο αυτού, για την πληρέστερη υποστήριξη επί  σχετικών αιτημάτων του Φορέα 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300" spc="-1" strike="noStrike">
                <a:solidFill>
                  <a:srgbClr val="ffff66"/>
                </a:solidFill>
                <a:latin typeface="Arial Unicode MS"/>
              </a:rPr>
              <a:t>	</a:t>
            </a:r>
            <a:r>
              <a:rPr b="1" lang="el-GR" sz="2300" spc="-1" strike="noStrike">
                <a:solidFill>
                  <a:srgbClr val="ffff66"/>
                </a:solidFill>
                <a:latin typeface="Arial Unicode MS"/>
              </a:rPr>
              <a:t>        </a:t>
            </a:r>
            <a:r>
              <a:rPr b="1" i="1" lang="en-GB" sz="2300" spc="-1" strike="noStrike" u="sng">
                <a:solidFill>
                  <a:srgbClr val="ffff66"/>
                </a:solidFill>
                <a:uFillTx/>
                <a:latin typeface="Arial Unicode MS"/>
              </a:rPr>
              <a:t>Διαβούλευση με Διαχειριστική Αρχή και Ε.Π.Π.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4360" y="971640"/>
            <a:ext cx="968400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1000"/>
              </a:lnSpc>
              <a:spcBef>
                <a:spcPts val="48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Διοίκηση της σύμβασης του Σ.Υ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360360" y="2519280"/>
            <a:ext cx="9180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"/>
          <p:cNvSpPr/>
          <p:nvPr/>
        </p:nvSpPr>
        <p:spPr>
          <a:xfrm>
            <a:off x="1079640" y="1979640"/>
            <a:ext cx="864072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Η παρακολούθηση της εκτέλεσης του έργου του Σ.Υ. και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ο έλεγχος/παραλαβή των παραδοτέων του, γίνεται από την </a:t>
            </a:r>
            <a:r>
              <a:rPr b="1" lang="el-GR" sz="2300" spc="-1" strike="noStrike">
                <a:solidFill>
                  <a:srgbClr val="ff9933"/>
                </a:solidFill>
                <a:latin typeface="Arial Unicode MS"/>
              </a:rPr>
              <a:t>Επιτροπή Παρακολούθησης και Παραλαβής</a:t>
            </a:r>
            <a:r>
              <a:rPr b="0" lang="el-GR" sz="2300" spc="-1" strike="noStrike">
                <a:solidFill>
                  <a:srgbClr val="ff9933"/>
                </a:solidFill>
                <a:latin typeface="Arial Unicode MS"/>
              </a:rPr>
              <a:t> </a:t>
            </a:r>
            <a:r>
              <a:rPr b="1" lang="el-GR" sz="2300" spc="-1" strike="noStrike">
                <a:solidFill>
                  <a:srgbClr val="ff9933"/>
                </a:solidFill>
                <a:latin typeface="Arial Unicode MS"/>
              </a:rPr>
              <a:t>(Ε.Π.Π.)</a:t>
            </a:r>
            <a:r>
              <a:rPr b="0" lang="el-GR" sz="2200" spc="-1" strike="noStrike">
                <a:solidFill>
                  <a:srgbClr val="ff9933"/>
                </a:solidFill>
                <a:latin typeface="Arial Unicode MS"/>
              </a:rPr>
              <a:t>,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 που αποτελείται από δύο (2) μέλη της ΕΥΔ ΠΕΠ ΗΠΕΙΡΟΥ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και ένα (1) μέλος του ΥΠ.ΟΙ.Ο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280" y="1080720"/>
            <a:ext cx="856764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spcBef>
                <a:spcPts val="488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Σκοπός της πρόσληψης του Σ.Υ.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5520" y="2015640"/>
            <a:ext cx="918684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81000"/>
              </a:lnSpc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Ο Σ.Υ. παρέχει </a:t>
            </a:r>
            <a:r>
              <a:rPr b="1" lang="en-US" sz="2300" spc="-1" strike="noStrike">
                <a:solidFill>
                  <a:srgbClr val="ff9933"/>
                </a:solidFill>
                <a:latin typeface="Arial Unicode MS"/>
              </a:rPr>
              <a:t>συστηματική τεχνική υποστήριξη</a:t>
            </a: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 στους φορείς υλοποίησης συγχρηματοδοτούμενων τεχνικών έργων υποδομής, στις διαδικασίες: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1000"/>
              </a:lnSpc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1000"/>
              </a:lnSpc>
              <a:buSzPct val="102909"/>
              <a:buBlip>
                <a:blip r:embed="rId1"/>
              </a:buBlip>
              <a:tabLst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2200" spc="-1" strike="noStrike">
                <a:solidFill>
                  <a:srgbClr val="ff9933"/>
                </a:solidFill>
                <a:latin typeface="Arial Unicode MS"/>
              </a:rPr>
              <a:t>προγραμματισμού / προσδιορισμού / σχεδιασμού των </a:t>
            </a:r>
            <a:r>
              <a:rPr b="0" lang="en-US" sz="2200" spc="-1" strike="noStrike">
                <a:solidFill>
                  <a:srgbClr val="ff9933"/>
                </a:solidFill>
                <a:latin typeface="Arial Unicode MS"/>
              </a:rPr>
              <a:t>	</a:t>
            </a:r>
            <a:r>
              <a:rPr b="0" lang="en-US" sz="2200" spc="-1" strike="noStrike">
                <a:solidFill>
                  <a:srgbClr val="ff9933"/>
                </a:solidFill>
                <a:latin typeface="Arial Unicode MS"/>
              </a:rPr>
              <a:t>έργων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1000"/>
              </a:lnSpc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ff9933"/>
                </a:solidFill>
                <a:latin typeface="Arial Unicode MS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1000"/>
              </a:lnSpc>
              <a:buSzPct val="102909"/>
              <a:buBlip>
                <a:blip r:embed="rId2"/>
              </a:buBlip>
              <a:tabLst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9933"/>
                </a:solidFill>
                <a:latin typeface="Arial Unicode MS"/>
              </a:rPr>
              <a:t> </a:t>
            </a:r>
            <a:r>
              <a:rPr b="0" lang="en-US" sz="2200" spc="-1" strike="noStrike">
                <a:solidFill>
                  <a:srgbClr val="ff9933"/>
                </a:solidFill>
                <a:latin typeface="Arial Unicode MS"/>
              </a:rPr>
              <a:t>μελέτης / ωρίμανσης και δημοπράτησης,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1000"/>
              </a:lnSpc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1000"/>
              </a:lnSpc>
              <a:buSzPct val="102909"/>
              <a:buBlip>
                <a:blip r:embed="rId3"/>
              </a:buBlip>
              <a:tabLst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9933"/>
                </a:solidFill>
                <a:latin typeface="Arial Unicode MS"/>
              </a:rPr>
              <a:t> </a:t>
            </a:r>
            <a:r>
              <a:rPr b="0" lang="en-US" sz="2200" spc="-1" strike="noStrike">
                <a:solidFill>
                  <a:srgbClr val="ff9933"/>
                </a:solidFill>
                <a:latin typeface="Arial Unicode MS"/>
              </a:rPr>
              <a:t>παρακολούθησης / επίβλεψης και διοίκησης αυτών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1000"/>
              </a:lnSpc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81000"/>
              </a:lnSpc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με στόχο την ενίσχυση της παραγωγής και την επιτυχή ολοκλήρωση των έργων στο πλαίσιο των υποχρεώσεων των φορέων ως Τελικών Δικαιούχων των Επιχειρησιακών Προγραμμάτων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63280" y="610920"/>
            <a:ext cx="856764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1000"/>
              </a:lnSpc>
              <a:spcBef>
                <a:spcPts val="488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Σκοπός της πρόσληψης του Σ.Υ.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92000" y="1042560"/>
            <a:ext cx="8732880" cy="57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0" algn="just">
              <a:lnSpc>
                <a:spcPct val="91000"/>
              </a:lnSpc>
              <a:buNone/>
              <a:tabLst>
                <a:tab algn="l" pos="0"/>
                <a:tab algn="l" pos="369720"/>
                <a:tab algn="l" pos="819000"/>
                <a:tab algn="l" pos="1268280"/>
                <a:tab algn="l" pos="1717560"/>
                <a:tab algn="l" pos="2166840"/>
                <a:tab algn="l" pos="2616120"/>
                <a:tab algn="l" pos="3065400"/>
                <a:tab algn="l" pos="351468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0920" indent="0" algn="just">
              <a:lnSpc>
                <a:spcPct val="91000"/>
              </a:lnSpc>
              <a:buNone/>
              <a:tabLst>
                <a:tab algn="l" pos="0"/>
                <a:tab algn="l" pos="369720"/>
                <a:tab algn="l" pos="819000"/>
                <a:tab algn="l" pos="1268280"/>
                <a:tab algn="l" pos="1717560"/>
                <a:tab algn="l" pos="2166840"/>
                <a:tab algn="l" pos="2616120"/>
                <a:tab algn="l" pos="3065400"/>
                <a:tab algn="l" pos="351468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0920" indent="0" algn="just">
              <a:lnSpc>
                <a:spcPct val="91000"/>
              </a:lnSpc>
              <a:buNone/>
              <a:tabLst>
                <a:tab algn="l" pos="0"/>
                <a:tab algn="l" pos="369720"/>
                <a:tab algn="l" pos="819000"/>
                <a:tab algn="l" pos="1268280"/>
                <a:tab algn="l" pos="1717560"/>
                <a:tab algn="l" pos="2166840"/>
                <a:tab algn="l" pos="2616120"/>
                <a:tab algn="l" pos="3065400"/>
                <a:tab algn="l" pos="351468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0920" indent="0" algn="just">
              <a:lnSpc>
                <a:spcPct val="91000"/>
              </a:lnSpc>
              <a:buNone/>
              <a:tabLst>
                <a:tab algn="l" pos="0"/>
                <a:tab algn="l" pos="369720"/>
                <a:tab algn="l" pos="819000"/>
                <a:tab algn="l" pos="1268280"/>
                <a:tab algn="l" pos="1717560"/>
                <a:tab algn="l" pos="2166840"/>
                <a:tab algn="l" pos="2616120"/>
                <a:tab algn="l" pos="3065400"/>
                <a:tab algn="l" pos="351468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Με την τεχνική υποστήριξη, επιδιώκεται η συνδρομή στους Φ.Υ και στην Δ.Α. για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0920" indent="0" algn="just">
              <a:lnSpc>
                <a:spcPct val="91000"/>
              </a:lnSpc>
              <a:buNone/>
              <a:tabLst>
                <a:tab algn="l" pos="0"/>
                <a:tab algn="l" pos="369720"/>
                <a:tab algn="l" pos="819000"/>
                <a:tab algn="l" pos="1268280"/>
                <a:tab algn="l" pos="1717560"/>
                <a:tab algn="l" pos="2166840"/>
                <a:tab algn="l" pos="2616120"/>
                <a:tab algn="l" pos="3065400"/>
                <a:tab algn="l" pos="351468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0920" indent="-250920" algn="just">
              <a:lnSpc>
                <a:spcPct val="91000"/>
              </a:lnSpc>
              <a:buSzPct val="102871"/>
              <a:buBlip>
                <a:blip r:embed="rId1"/>
              </a:buBlip>
              <a:tabLst>
                <a:tab algn="l" pos="369720"/>
                <a:tab algn="l" pos="819000"/>
                <a:tab algn="l" pos="1268280"/>
                <a:tab algn="l" pos="1717560"/>
                <a:tab algn="l" pos="2166840"/>
                <a:tab algn="l" pos="2616120"/>
                <a:tab algn="l" pos="3065400"/>
                <a:tab algn="l" pos="351468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300" spc="-1" strike="noStrike">
                <a:solidFill>
                  <a:srgbClr val="ff9933"/>
                </a:solidFill>
                <a:latin typeface="Arial Unicode MS"/>
              </a:rPr>
              <a:t>Την προώθηση του φυσικού αντικειμένου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των έργων, με την απεμπλοκή τους και την επιτάχυνση της υλοποίησής τους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0920" indent="0" algn="just">
              <a:lnSpc>
                <a:spcPct val="91000"/>
              </a:lnSpc>
              <a:buNone/>
              <a:tabLst>
                <a:tab algn="l" pos="0"/>
                <a:tab algn="l" pos="369720"/>
                <a:tab algn="l" pos="819000"/>
                <a:tab algn="l" pos="1268280"/>
                <a:tab algn="l" pos="1717560"/>
                <a:tab algn="l" pos="2166840"/>
                <a:tab algn="l" pos="2616120"/>
                <a:tab algn="l" pos="3065400"/>
                <a:tab algn="l" pos="351468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0920" indent="-250920" algn="just">
              <a:lnSpc>
                <a:spcPct val="91000"/>
              </a:lnSpc>
              <a:buSzPct val="102909"/>
              <a:buBlip>
                <a:blip r:embed="rId2"/>
              </a:buBlip>
              <a:tabLst>
                <a:tab algn="l" pos="369720"/>
                <a:tab algn="l" pos="819000"/>
                <a:tab algn="l" pos="1268280"/>
                <a:tab algn="l" pos="1717560"/>
                <a:tab algn="l" pos="2166840"/>
                <a:tab algn="l" pos="2616120"/>
                <a:tab algn="l" pos="3065400"/>
                <a:tab algn="l" pos="351468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Arial Unicode MS"/>
              </a:rPr>
              <a:t>Την τήρηση της νομιμότητας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κατά την υλοποίηση των έργων σε σχέση με την κείμενη νομοθεσία δημοσίων έργων, υπηρεσιών και προμηθειών και το βασικό κανονιστικό πλαίσιο του ΚΠΣ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0920" indent="0" algn="just">
              <a:lnSpc>
                <a:spcPct val="91000"/>
              </a:lnSpc>
              <a:buNone/>
              <a:tabLst>
                <a:tab algn="l" pos="0"/>
                <a:tab algn="l" pos="369720"/>
                <a:tab algn="l" pos="819000"/>
                <a:tab algn="l" pos="1268280"/>
                <a:tab algn="l" pos="1717560"/>
                <a:tab algn="l" pos="2166840"/>
                <a:tab algn="l" pos="2616120"/>
                <a:tab algn="l" pos="3065400"/>
                <a:tab algn="l" pos="351468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0920" indent="-250920" algn="just">
              <a:lnSpc>
                <a:spcPct val="91000"/>
              </a:lnSpc>
              <a:buSzPct val="102871"/>
              <a:buBlip>
                <a:blip r:embed="rId3"/>
              </a:buBlip>
              <a:tabLst>
                <a:tab algn="l" pos="369720"/>
                <a:tab algn="l" pos="819000"/>
                <a:tab algn="l" pos="1268280"/>
                <a:tab algn="l" pos="1717560"/>
                <a:tab algn="l" pos="2166840"/>
                <a:tab algn="l" pos="2616120"/>
                <a:tab algn="l" pos="3065400"/>
                <a:tab algn="l" pos="351468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300" spc="-1" strike="noStrike">
                <a:solidFill>
                  <a:srgbClr val="ff9933"/>
                </a:solidFill>
                <a:latin typeface="Arial Unicode MS"/>
              </a:rPr>
              <a:t>Την προετοιμασία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για την εμπρόθεσμη υλοποίηση των παρεμβάσεων του </a:t>
            </a:r>
            <a:r>
              <a:rPr b="1" lang="en-GB" sz="2300" spc="-1" strike="noStrike">
                <a:solidFill>
                  <a:srgbClr val="ffffff"/>
                </a:solidFill>
                <a:latin typeface="Arial Unicode MS"/>
              </a:rPr>
              <a:t>ΕΣΠΑ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(με την προετοιμασία έργων, π.χ. με μελέτες)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0920" indent="0" algn="just">
              <a:lnSpc>
                <a:spcPct val="91000"/>
              </a:lnSpc>
              <a:buNone/>
              <a:tabLst>
                <a:tab algn="l" pos="0"/>
                <a:tab algn="l" pos="369720"/>
                <a:tab algn="l" pos="819000"/>
                <a:tab algn="l" pos="1268280"/>
                <a:tab algn="l" pos="1717560"/>
                <a:tab algn="l" pos="2166840"/>
                <a:tab algn="l" pos="2616120"/>
                <a:tab algn="l" pos="3065400"/>
                <a:tab algn="l" pos="351468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280" y="1080720"/>
            <a:ext cx="856764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1000"/>
              </a:lnSpc>
              <a:spcBef>
                <a:spcPts val="488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Αντικείμενο και διάρκεια των υπηρεσιών Σ.Υ.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5640" y="2195640"/>
            <a:ext cx="92660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5960" indent="-885960" algn="just">
              <a:lnSpc>
                <a:spcPct val="91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5407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Οι υπηρεσίες του Σ.Υ. παρέχονται σε έργα που εκτελούνται στα </a:t>
            </a:r>
            <a:r>
              <a:rPr b="0" lang="en-GB" sz="2200" spc="-1" strike="noStrike">
                <a:solidFill>
                  <a:srgbClr val="ff9933"/>
                </a:solidFill>
                <a:latin typeface="Arial Unicode MS"/>
              </a:rPr>
              <a:t>γεωγραφικά όρια της Περιφέρειας Ηπείρου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, και αφορούν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85960" indent="0" algn="just">
              <a:lnSpc>
                <a:spcPct val="91000"/>
              </a:lnSpc>
              <a:spcBef>
                <a:spcPts val="201"/>
              </a:spcBef>
              <a:buNone/>
              <a:tabLst>
                <a:tab algn="l" pos="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5407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85960" indent="0" algn="just">
              <a:lnSpc>
                <a:spcPct val="91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5407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(i)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στην </a:t>
            </a:r>
            <a:r>
              <a:rPr b="0" lang="en-GB" sz="2200" spc="-1" strike="noStrike">
                <a:solidFill>
                  <a:srgbClr val="ff9933"/>
                </a:solidFill>
                <a:latin typeface="Arial Unicode MS"/>
              </a:rPr>
              <a:t>υποστήριξη υλοποίησης και παραλαβής</a:t>
            </a:r>
            <a:r>
              <a:rPr b="0" lang="en-GB" sz="2200" spc="-1" strike="noStrike">
                <a:solidFill>
                  <a:srgbClr val="ffcc66"/>
                </a:solidFill>
                <a:latin typeface="Arial Unicode MS"/>
              </a:rPr>
              <a:t> </a:t>
            </a:r>
            <a:r>
              <a:rPr b="0" lang="en-GB" sz="2200" spc="-1" strike="noStrike">
                <a:solidFill>
                  <a:srgbClr val="ff9933"/>
                </a:solidFill>
                <a:latin typeface="Arial Unicode MS"/>
              </a:rPr>
              <a:t>των συγχρηματοδοτούμενων έργων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από τα Ε.Π. του Κ.Π.Σ. (με έμφαση στο Π.Ε.Π. ΗΠΕΙΡΟΥ), το Ταμείο Συνοχής και τις Κοινοτικές Πρωτοβουλίες </a:t>
            </a:r>
            <a:r>
              <a:rPr b="0" lang="en-GB" sz="2200" spc="-1" strike="noStrike">
                <a:solidFill>
                  <a:srgbClr val="ff9933"/>
                </a:solidFill>
                <a:latin typeface="Arial Unicode MS"/>
              </a:rPr>
              <a:t>της προγραμματικής περιόδου 2000-06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, και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85960" indent="0" algn="just">
              <a:lnSpc>
                <a:spcPct val="91000"/>
              </a:lnSpc>
              <a:spcBef>
                <a:spcPts val="201"/>
              </a:spcBef>
              <a:buNone/>
              <a:tabLst>
                <a:tab algn="l" pos="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5407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85960" indent="0" algn="just">
              <a:lnSpc>
                <a:spcPct val="91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5407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(ii)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9933"/>
                </a:solidFill>
                <a:latin typeface="Arial Unicode MS"/>
              </a:rPr>
              <a:t>στην τεχνική προετοιμασία των έργων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που αποτελούν δυνητικά ύλη προς συγχρηματοδότηση κατά τη </a:t>
            </a:r>
            <a:r>
              <a:rPr b="0" lang="en-GB" sz="2200" spc="-1" strike="noStrike">
                <a:solidFill>
                  <a:srgbClr val="ff9933"/>
                </a:solidFill>
                <a:latin typeface="Arial Unicode MS"/>
              </a:rPr>
              <a:t>νέα προγραμματική περίοδο 2007-13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85960" indent="0" algn="just">
              <a:lnSpc>
                <a:spcPct val="91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5407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280" y="1135080"/>
            <a:ext cx="856764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1000"/>
              </a:lnSpc>
              <a:spcBef>
                <a:spcPts val="488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Αντικείμενο και διάρκεια των υπηρεσιών Σ.Υ.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6000" y="2700000"/>
            <a:ext cx="9324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08120" indent="-630360" algn="just">
              <a:lnSpc>
                <a:spcPct val="101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768240"/>
                <a:tab algn="l" pos="1035000"/>
                <a:tab algn="l" pos="1301760"/>
                <a:tab algn="l" pos="1568520"/>
                <a:tab algn="l" pos="1851120"/>
                <a:tab algn="l" pos="2101680"/>
                <a:tab algn="l" pos="2368440"/>
                <a:tab algn="l" pos="2635200"/>
                <a:tab algn="l" pos="2901960"/>
                <a:tab algn="l" pos="3168720"/>
                <a:tab algn="l" pos="3451320"/>
                <a:tab algn="l" pos="3701880"/>
                <a:tab algn="l" pos="3968640"/>
                <a:tab algn="l" pos="4235400"/>
                <a:tab algn="l" pos="4502160"/>
                <a:tab algn="l" pos="4768920"/>
                <a:tab algn="l" pos="5051520"/>
                <a:tab algn="l" pos="5302080"/>
                <a:tab algn="l" pos="5568840"/>
                <a:tab algn="l" pos="5835600"/>
                <a:tab algn="l" pos="6486480"/>
                <a:tab algn="l" pos="7210440"/>
                <a:tab algn="l" pos="7934400"/>
                <a:tab algn="l" pos="8058240"/>
                <a:tab algn="l" pos="8507520"/>
                <a:tab algn="l" pos="8956800"/>
                <a:tab algn="l" pos="9406080"/>
                <a:tab algn="l" pos="9855360"/>
                <a:tab algn="l" pos="1030932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Η διάρκεια της σύμβασης καλύπτει, στην παρούσα φάση, την περίοδο από την υπογραφή της (Ιαν. 2007) </a:t>
            </a:r>
            <a:r>
              <a:rPr b="0" lang="en-GB" sz="2200" spc="-1" strike="noStrike">
                <a:solidFill>
                  <a:srgbClr val="ff9933"/>
                </a:solidFill>
                <a:latin typeface="Arial Unicode MS"/>
              </a:rPr>
              <a:t>μέχρι το Δεκ. 2008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708120" indent="0" algn="just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768240"/>
                <a:tab algn="l" pos="1035000"/>
                <a:tab algn="l" pos="1301760"/>
                <a:tab algn="l" pos="1568520"/>
                <a:tab algn="l" pos="1851120"/>
                <a:tab algn="l" pos="2101680"/>
                <a:tab algn="l" pos="2368440"/>
                <a:tab algn="l" pos="2635200"/>
                <a:tab algn="l" pos="2901960"/>
                <a:tab algn="l" pos="3168720"/>
                <a:tab algn="l" pos="3451320"/>
                <a:tab algn="l" pos="3701880"/>
                <a:tab algn="l" pos="3968640"/>
                <a:tab algn="l" pos="4235400"/>
                <a:tab algn="l" pos="4502160"/>
                <a:tab algn="l" pos="4768920"/>
                <a:tab algn="l" pos="5051520"/>
                <a:tab algn="l" pos="5302080"/>
                <a:tab algn="l" pos="5568840"/>
                <a:tab algn="l" pos="5835600"/>
                <a:tab algn="l" pos="6486480"/>
                <a:tab algn="l" pos="7210440"/>
                <a:tab algn="l" pos="7934400"/>
                <a:tab algn="l" pos="8058240"/>
                <a:tab algn="l" pos="8507520"/>
                <a:tab algn="l" pos="8956800"/>
                <a:tab algn="l" pos="9406080"/>
                <a:tab algn="l" pos="9855360"/>
                <a:tab algn="l" pos="1030932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708120" indent="-630360" algn="just">
              <a:lnSpc>
                <a:spcPct val="101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768240"/>
                <a:tab algn="l" pos="1035000"/>
                <a:tab algn="l" pos="1301760"/>
                <a:tab algn="l" pos="1568520"/>
                <a:tab algn="l" pos="1851120"/>
                <a:tab algn="l" pos="2101680"/>
                <a:tab algn="l" pos="2368440"/>
                <a:tab algn="l" pos="2635200"/>
                <a:tab algn="l" pos="2901960"/>
                <a:tab algn="l" pos="3168720"/>
                <a:tab algn="l" pos="3451320"/>
                <a:tab algn="l" pos="3701880"/>
                <a:tab algn="l" pos="3968640"/>
                <a:tab algn="l" pos="4235400"/>
                <a:tab algn="l" pos="4502160"/>
                <a:tab algn="l" pos="4768920"/>
                <a:tab algn="l" pos="5051520"/>
                <a:tab algn="l" pos="5302080"/>
                <a:tab algn="l" pos="5568840"/>
                <a:tab algn="l" pos="5835600"/>
                <a:tab algn="l" pos="6486480"/>
                <a:tab algn="l" pos="7210440"/>
                <a:tab algn="l" pos="7934400"/>
                <a:tab algn="l" pos="8058240"/>
                <a:tab algn="l" pos="8507520"/>
                <a:tab algn="l" pos="8956800"/>
                <a:tab algn="l" pos="9406080"/>
                <a:tab algn="l" pos="9855360"/>
                <a:tab algn="l" pos="1030932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Οι υπηρεσίες του Σ.Υ. αναπτύσσονται κατά τρόπο, ώστε να αντιμετωπίζονται εγκαίρως οι ανάγκες που προκύπτουν από τη μέχρι σήμερα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υλοποίηση των τεχνικών έργων υποδομής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280" y="921960"/>
            <a:ext cx="8567640" cy="71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1000"/>
              </a:lnSpc>
              <a:spcBef>
                <a:spcPts val="488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Εγκατάσταση και Ομάδες Έργου του Σ.Υ.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45760" y="1954080"/>
            <a:ext cx="89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7680" indent="-517680" algn="just">
              <a:lnSpc>
                <a:spcPct val="101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Ο Σ.Υ. έχει εγκατασταθεί σε γραφεία του, στην πόλη των Ιωαννίνων, </a:t>
            </a:r>
            <a:r>
              <a:rPr b="0" lang="en-GB" sz="2200" spc="-1" strike="noStrike">
                <a:solidFill>
                  <a:srgbClr val="ff9933"/>
                </a:solidFill>
                <a:latin typeface="Arial Unicode MS"/>
              </a:rPr>
              <a:t>έδρα της Περιφέρειας Ηπείρου</a:t>
            </a:r>
            <a:r>
              <a:rPr b="0" lang="en-GB" sz="2200" spc="-1" strike="noStrike">
                <a:solidFill>
                  <a:srgbClr val="ffcc66"/>
                </a:solidFill>
                <a:latin typeface="Arial Unicode MS"/>
              </a:rPr>
              <a:t> 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που βρίσκονται στο κτιριακό συγκρότημα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“Ριζάρειος Πολιτεία” εγγύς και έναντι των γραφείων της ΕΥΔ ΠΕΠ ΗΠΕΙΡΟΥ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17680" indent="0" algn="just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17680" indent="-517680" algn="just">
              <a:lnSpc>
                <a:spcPct val="101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Ο Σ.Υ. διαθέτει μία </a:t>
            </a:r>
            <a:r>
              <a:rPr b="0" lang="en-GB" sz="2200" spc="-1" strike="noStrike">
                <a:solidFill>
                  <a:srgbClr val="ff9933"/>
                </a:solidFill>
                <a:latin typeface="Arial Unicode MS"/>
              </a:rPr>
              <a:t>Μόνιμη Ομάδα Έργου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αποτελούμενη από στελέχη υψηλής εμπειρίας σε τεχνικά θέματα και σε διαχείριση έργων του δημοσίου, με πλήρη και αποκλειστική απασχόληση στο έργο του Σ.Υ., εγκαταστημένη μονίμως στα γραφεία των Ιωαννίνων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17680" indent="0" algn="just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18920" y="899640"/>
            <a:ext cx="85676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1000"/>
              </a:lnSpc>
              <a:spcBef>
                <a:spcPts val="488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Εγκατάσταση και Ομάδες Έργου του Σ.Υ.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45760" y="2033640"/>
            <a:ext cx="8986680" cy="39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96800" indent="-496800" algn="just">
              <a:lnSpc>
                <a:spcPct val="101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590400"/>
                <a:tab algn="l" pos="1136520"/>
                <a:tab algn="l" pos="1225440"/>
                <a:tab algn="l" pos="1390680"/>
                <a:tab algn="l" pos="1746360"/>
                <a:tab algn="l" pos="2117880"/>
                <a:tab algn="l" pos="2457360"/>
                <a:tab algn="l" pos="2813040"/>
                <a:tab algn="l" pos="3168720"/>
                <a:tab algn="l" pos="3524400"/>
                <a:tab algn="l" pos="3879720"/>
                <a:tab algn="l" pos="4235400"/>
                <a:tab algn="l" pos="4591080"/>
                <a:tab algn="l" pos="4946760"/>
                <a:tab algn="l" pos="5318280"/>
                <a:tab algn="l" pos="5657760"/>
                <a:tab algn="l" pos="6013440"/>
                <a:tab algn="l" pos="6369120"/>
                <a:tab algn="l" pos="6724800"/>
                <a:tab algn="l" pos="7080120"/>
                <a:tab algn="l" pos="7435800"/>
                <a:tab algn="l" pos="7791480"/>
                <a:tab algn="l" pos="8147160"/>
                <a:tab algn="l" pos="8518680"/>
                <a:tab algn="l" pos="8956800"/>
                <a:tab algn="l" pos="9406080"/>
                <a:tab algn="l" pos="9855360"/>
                <a:tab algn="l" pos="10304640"/>
                <a:tab algn="l" pos="10753560"/>
                <a:tab algn="l" pos="10756800"/>
                <a:tab algn="l" pos="1076004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Ο  Σ.Υ. διαθέτει μία </a:t>
            </a:r>
            <a:r>
              <a:rPr b="0" lang="en-GB" sz="2200" spc="-1" strike="noStrike">
                <a:solidFill>
                  <a:srgbClr val="ff9933"/>
                </a:solidFill>
                <a:latin typeface="Arial Unicode MS"/>
              </a:rPr>
              <a:t>Ομάδα Τεχνικής </a:t>
            </a:r>
            <a:r>
              <a:rPr b="0" lang="en-GB" sz="2200" spc="-1" strike="noStrike">
                <a:solidFill>
                  <a:srgbClr val="ff9933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9933"/>
                </a:solidFill>
                <a:latin typeface="Arial Unicode MS"/>
              </a:rPr>
              <a:t>Υποστήριξης</a:t>
            </a:r>
            <a:r>
              <a:rPr b="0" lang="en-GB" sz="2200" spc="-1" strike="noStrike">
                <a:solidFill>
                  <a:srgbClr val="ffcc66"/>
                </a:solidFill>
                <a:latin typeface="Arial Unicode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στελεχωμένη από στελέχη που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διαθέτουν ακαδημαϊκή και επαγγελματική εξειδίκευση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96800" indent="0" algn="just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590400"/>
                <a:tab algn="l" pos="1136520"/>
                <a:tab algn="l" pos="1225440"/>
                <a:tab algn="l" pos="1390680"/>
                <a:tab algn="l" pos="1746360"/>
                <a:tab algn="l" pos="2117880"/>
                <a:tab algn="l" pos="2457360"/>
                <a:tab algn="l" pos="2813040"/>
                <a:tab algn="l" pos="3168720"/>
                <a:tab algn="l" pos="3524400"/>
                <a:tab algn="l" pos="3879720"/>
                <a:tab algn="l" pos="4235400"/>
                <a:tab algn="l" pos="4591080"/>
                <a:tab algn="l" pos="4946760"/>
                <a:tab algn="l" pos="5318280"/>
                <a:tab algn="l" pos="5657760"/>
                <a:tab algn="l" pos="6013440"/>
                <a:tab algn="l" pos="6369120"/>
                <a:tab algn="l" pos="6724800"/>
                <a:tab algn="l" pos="7080120"/>
                <a:tab algn="l" pos="7435800"/>
                <a:tab algn="l" pos="7791480"/>
                <a:tab algn="l" pos="8147160"/>
                <a:tab algn="l" pos="8518680"/>
                <a:tab algn="l" pos="8956800"/>
                <a:tab algn="l" pos="9406080"/>
                <a:tab algn="l" pos="9855360"/>
                <a:tab algn="l" pos="10304640"/>
                <a:tab algn="l" pos="10753560"/>
                <a:tab algn="l" pos="10756800"/>
                <a:tab algn="l" pos="1076004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96800" indent="0" algn="just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590400"/>
                <a:tab algn="l" pos="1136520"/>
                <a:tab algn="l" pos="1225440"/>
                <a:tab algn="l" pos="1390680"/>
                <a:tab algn="l" pos="1746360"/>
                <a:tab algn="l" pos="2117880"/>
                <a:tab algn="l" pos="2457360"/>
                <a:tab algn="l" pos="2813040"/>
                <a:tab algn="l" pos="3168720"/>
                <a:tab algn="l" pos="3524400"/>
                <a:tab algn="l" pos="3879720"/>
                <a:tab algn="l" pos="4235400"/>
                <a:tab algn="l" pos="4591080"/>
                <a:tab algn="l" pos="4946760"/>
                <a:tab algn="l" pos="5318280"/>
                <a:tab algn="l" pos="5657760"/>
                <a:tab algn="l" pos="6013440"/>
                <a:tab algn="l" pos="6369120"/>
                <a:tab algn="l" pos="6724800"/>
                <a:tab algn="l" pos="7080120"/>
                <a:tab algn="l" pos="7435800"/>
                <a:tab algn="l" pos="7791480"/>
                <a:tab algn="l" pos="8147160"/>
                <a:tab algn="l" pos="8518680"/>
                <a:tab algn="l" pos="8956800"/>
                <a:tab algn="l" pos="9406080"/>
                <a:tab algn="l" pos="9855360"/>
                <a:tab algn="l" pos="10304640"/>
                <a:tab algn="l" pos="10753560"/>
                <a:tab algn="l" pos="10756800"/>
                <a:tab algn="l" pos="1076004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-  σε </a:t>
            </a:r>
            <a:r>
              <a:rPr b="0" lang="en-GB" sz="2200" spc="-1" strike="noStrike">
                <a:solidFill>
                  <a:srgbClr val="ff9933"/>
                </a:solidFill>
                <a:latin typeface="Arial Unicode MS"/>
              </a:rPr>
              <a:t>όλες τις κατηγορίες έργων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(σε σχέση με το 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υλοποιούμενο φυσικό  αντικείμενο), και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96800" indent="0" algn="just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590400"/>
                <a:tab algn="l" pos="1136520"/>
                <a:tab algn="l" pos="1225440"/>
                <a:tab algn="l" pos="1390680"/>
                <a:tab algn="l" pos="1746360"/>
                <a:tab algn="l" pos="2117880"/>
                <a:tab algn="l" pos="2457360"/>
                <a:tab algn="l" pos="2813040"/>
                <a:tab algn="l" pos="3168720"/>
                <a:tab algn="l" pos="3524400"/>
                <a:tab algn="l" pos="3879720"/>
                <a:tab algn="l" pos="4235400"/>
                <a:tab algn="l" pos="4591080"/>
                <a:tab algn="l" pos="4946760"/>
                <a:tab algn="l" pos="5318280"/>
                <a:tab algn="l" pos="5657760"/>
                <a:tab algn="l" pos="6013440"/>
                <a:tab algn="l" pos="6369120"/>
                <a:tab algn="l" pos="6724800"/>
                <a:tab algn="l" pos="7080120"/>
                <a:tab algn="l" pos="7435800"/>
                <a:tab algn="l" pos="7791480"/>
                <a:tab algn="l" pos="8147160"/>
                <a:tab algn="l" pos="8518680"/>
                <a:tab algn="l" pos="8956800"/>
                <a:tab algn="l" pos="9406080"/>
                <a:tab algn="l" pos="9855360"/>
                <a:tab algn="l" pos="10304640"/>
                <a:tab algn="l" pos="10753560"/>
                <a:tab algn="l" pos="10756800"/>
                <a:tab algn="l" pos="1076004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- 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σε </a:t>
            </a:r>
            <a:r>
              <a:rPr b="0" lang="en-GB" sz="2200" spc="-1" strike="noStrike">
                <a:solidFill>
                  <a:srgbClr val="ff9933"/>
                </a:solidFill>
                <a:latin typeface="Arial Unicode MS"/>
              </a:rPr>
              <a:t>όλες τις υποστηρικτικές επιστημονικές εργασίες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,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96800" indent="0">
              <a:lnSpc>
                <a:spcPct val="101000"/>
              </a:lnSpc>
              <a:spcBef>
                <a:spcPts val="176"/>
              </a:spcBef>
              <a:buNone/>
              <a:tabLst>
                <a:tab algn="l" pos="0"/>
                <a:tab algn="l" pos="590400"/>
                <a:tab algn="l" pos="1136520"/>
                <a:tab algn="l" pos="1225440"/>
                <a:tab algn="l" pos="1390680"/>
                <a:tab algn="l" pos="1746360"/>
                <a:tab algn="l" pos="2117880"/>
                <a:tab algn="l" pos="2457360"/>
                <a:tab algn="l" pos="2813040"/>
                <a:tab algn="l" pos="3168720"/>
                <a:tab algn="l" pos="3524400"/>
                <a:tab algn="l" pos="3879720"/>
                <a:tab algn="l" pos="4235400"/>
                <a:tab algn="l" pos="4591080"/>
                <a:tab algn="l" pos="4946760"/>
                <a:tab algn="l" pos="5318280"/>
                <a:tab algn="l" pos="5657760"/>
                <a:tab algn="l" pos="6013440"/>
                <a:tab algn="l" pos="6369120"/>
                <a:tab algn="l" pos="6724800"/>
                <a:tab algn="l" pos="7080120"/>
                <a:tab algn="l" pos="7435800"/>
                <a:tab algn="l" pos="7791480"/>
                <a:tab algn="l" pos="8147160"/>
                <a:tab algn="l" pos="8518680"/>
                <a:tab algn="l" pos="8956800"/>
                <a:tab algn="l" pos="9406080"/>
                <a:tab algn="l" pos="9855360"/>
                <a:tab algn="l" pos="10304640"/>
                <a:tab algn="l" pos="10753560"/>
                <a:tab algn="l" pos="10756800"/>
                <a:tab algn="l" pos="1076004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96800" indent="0" algn="just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590400"/>
                <a:tab algn="l" pos="1136520"/>
                <a:tab algn="l" pos="1225440"/>
                <a:tab algn="l" pos="1390680"/>
                <a:tab algn="l" pos="1746360"/>
                <a:tab algn="l" pos="2117880"/>
                <a:tab algn="l" pos="2457360"/>
                <a:tab algn="l" pos="2813040"/>
                <a:tab algn="l" pos="3168720"/>
                <a:tab algn="l" pos="3524400"/>
                <a:tab algn="l" pos="3879720"/>
                <a:tab algn="l" pos="4235400"/>
                <a:tab algn="l" pos="4591080"/>
                <a:tab algn="l" pos="4946760"/>
                <a:tab algn="l" pos="5318280"/>
                <a:tab algn="l" pos="5657760"/>
                <a:tab algn="l" pos="6013440"/>
                <a:tab algn="l" pos="6369120"/>
                <a:tab algn="l" pos="6724800"/>
                <a:tab algn="l" pos="7080120"/>
                <a:tab algn="l" pos="7435800"/>
                <a:tab algn="l" pos="7791480"/>
                <a:tab algn="l" pos="8147160"/>
                <a:tab algn="l" pos="8518680"/>
                <a:tab algn="l" pos="8956800"/>
                <a:tab algn="l" pos="9406080"/>
                <a:tab algn="l" pos="9855360"/>
                <a:tab algn="l" pos="10304640"/>
                <a:tab algn="l" pos="10753560"/>
                <a:tab algn="l" pos="10756800"/>
                <a:tab algn="l" pos="1076004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καλύπτοντας στο μέγιστο δυνατό βαθμό όλες τις ανάγκες στους τομείς σχεδιασμού, παραγωγής και διοίκησης των υλοποιούμενων στα Ε.Π. έργων υποδομής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Περιφέρεια Ηπείρου</cp:lastModifiedBy>
  <dcterms:modified xsi:type="dcterms:W3CDTF">2007-12-18T12:11:57Z</dcterms:modified>
  <cp:revision>36</cp:revision>
  <dc:subject/>
  <dc:title>Διαφάνεια 1</dc:title>
</cp:coreProperties>
</file>