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7936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360" y="731520"/>
            <a:ext cx="4870440" cy="3652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move the slide</a:t>
            </a:r>
            <a:endParaRPr b="1" lang="en-US" sz="3600" spc="-1" strike="noStrike">
              <a:solidFill>
                <a:srgbClr val="336600"/>
              </a:solidFill>
              <a:latin typeface="UB-Front"/>
            </a:endParaRPr>
          </a:p>
        </p:txBody>
      </p:sp>
      <p:sp>
        <p:nvSpPr>
          <p:cNvPr id="90" name="PlaceHolder 4"/>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258120"/>
            <a:ext cx="2970360" cy="487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79360" y="9258120"/>
            <a:ext cx="2970360" cy="48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1719-33CF-4DFE-AD36-E21CF7C01C6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90720" y="731880"/>
            <a:ext cx="4870440" cy="3652920"/>
          </a:xfrm>
          <a:prstGeom prst="rect">
            <a:avLst/>
          </a:prstGeom>
          <a:ln w="0">
            <a:noFill/>
          </a:ln>
        </p:spPr>
      </p:sp>
      <p:sp>
        <p:nvSpPr>
          <p:cNvPr id="126"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εισήγηση αφορά τις Μελέτες ωρίμανσης και προετοιμασίας της νέας Προγραμματικής περιόδου 2007-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 7</a:t>
            </a:r>
            <a:r>
              <a:rPr b="0" lang="en-US" sz="1200" spc="-1" strike="noStrike" baseline="30000">
                <a:solidFill>
                  <a:srgbClr val="000000"/>
                </a:solidFill>
                <a:latin typeface="Times New Roman"/>
              </a:rPr>
              <a:t>η</a:t>
            </a:r>
            <a:r>
              <a:rPr b="0" lang="en-US" sz="1200" spc="-1" strike="noStrike">
                <a:solidFill>
                  <a:srgbClr val="000000"/>
                </a:solidFill>
                <a:latin typeface="Times New Roman"/>
              </a:rPr>
              <a:t> Επιτροπή Παρακολούθησης του Κ.Π.Σ 2000-2006 αποφασίστηκε μεταξύ άλλων η δυνατότητα προετοιμασίας έργων υποδομής σε εθνικό και περιφερειακό επίπεδο που αναμένεται να υλοποιηθούν στα πλαίσια της τρέχουσας Προγραμματικής περιόδου. Οι προς χρηματοδότηση Πράξεις εντάσσονται στο Μέτρο 6.4. με τίτλο «Μελέτες Ωρίμανσης και Προετοιμασίας» και συνολικό προϋπολογισμό 11,5 εκατ. €.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90720" y="731880"/>
            <a:ext cx="4870440" cy="3652920"/>
          </a:xfrm>
          <a:prstGeom prst="rect">
            <a:avLst/>
          </a:prstGeom>
          <a:ln w="0">
            <a:noFill/>
          </a:ln>
        </p:spPr>
      </p:sp>
      <p:sp>
        <p:nvSpPr>
          <p:cNvPr id="138"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ν Πίνακα 4 παρουσιάζονται όλες οι Προτάσεις που έχουν έρθει έως και σήμερα και ζητούν την έγκριση του Περιφερειακού Συμβουλίου. Οι προτάσεις είναι οι εξής:</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90720" y="731880"/>
            <a:ext cx="4870440" cy="3652920"/>
          </a:xfrm>
          <a:prstGeom prst="rect">
            <a:avLst/>
          </a:prstGeom>
          <a:ln w="0">
            <a:noFill/>
          </a:ln>
        </p:spPr>
      </p:sp>
      <p:sp>
        <p:nvSpPr>
          <p:cNvPr id="140"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Τελειώνοντας την παρουσίαση του Προγράμματος θα θέλαμε να σας επισημάνουμε το μεγάλο ενδιαφέρον που έδειξαν οι φορείς για την υποβολή Προτάσεων αλλά και την χρονική πίεση που υπάρχει για την ολοκλήρωση των Πράξεων, καθώς οι διαδικασίες δημοπράτησης, αξιολόγησης και εκπόνησης είναι αρκετά χρονοβόρες.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90720" y="731880"/>
            <a:ext cx="4870440" cy="3652920"/>
          </a:xfrm>
          <a:prstGeom prst="rect">
            <a:avLst/>
          </a:prstGeom>
          <a:ln w="0">
            <a:noFill/>
          </a:ln>
        </p:spPr>
      </p:sp>
      <p:sp>
        <p:nvSpPr>
          <p:cNvPr id="128"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ύμφωνα με τις Οδηγίες του Υπουργείου Οικονομίας και Οικονομικών για τα Περιφερειακά Προγράμματα προτάθηκε να δοθεί προτεραιότητα στην προετοιμασία νέων έργων που αφορούν σε Οδικές Μεταφορές (για έργα με προϋπολογισμό κατασκευής άνω των 5.000.000€), Περιβάλλον (για την κάλυψη των υποχρεώσεων της χώρας σε παραβιάσεις της Κοινοτικής Περιβαλλοντικής Νομοθεσίας). Η χρηματοδότηση των Πράξεων γίνεται από το Ευρωπαϊκό Ταμείο Περιφερειακής Ανάπτυξης. Με βάση τις Οδηγίες αυτές η ΕΥΔ ΠΕΠ Ηπείρου στις 15/6/2006 εξέδωσε την Πρόσκληση 161 συνολικού Προϋπολογισμού 8.000.000€ με την οποία καλούσε τους Φορείς για την Υποβολή Προτάσεων.</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90720" y="731880"/>
            <a:ext cx="4870440" cy="3652920"/>
          </a:xfrm>
          <a:prstGeom prst="rect">
            <a:avLst/>
          </a:prstGeom>
          <a:ln w="0">
            <a:noFill/>
          </a:ln>
        </p:spPr>
      </p:sp>
      <p:sp>
        <p:nvSpPr>
          <p:cNvPr id="130"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Υποβλήθηκαν συνολικά 8 Προτάσεις που είχαν την έγκριση του προηγούμενου Περιφερειακού Συμβουλίου (Ηγουμενίτσα, 13 Απριλίου 2006). Επισημαίνεται ότι η έγκριση από το Περιφερειακό Συμβούλιο είναι προαπαιτούμενο για την ένταξη των Προτάσεων στο Μέτρο 6.4. Το συνολικό κόστος των αιτημάτων ανέρχεται σε 12.000.000 € περίπου.</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0720" y="731880"/>
            <a:ext cx="4870440" cy="3652920"/>
          </a:xfrm>
          <a:prstGeom prst="rect">
            <a:avLst/>
          </a:prstGeom>
          <a:ln w="0">
            <a:noFill/>
          </a:ln>
        </p:spPr>
      </p:sp>
      <p:sp>
        <p:nvSpPr>
          <p:cNvPr id="132"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Υποβλήθηκαν συνολικά 8 Προτάσεις που είχαν την έγκριση του προηγούμενου Περιφερειακού Συμβουλίου (Ηγουμενίτσα, 13 Απριλίου 2006). Επισημαίνεται ότι η έγκριση από το Περιφερειακό Συμβούλιο είναι προαπαιτούμενο για την ένταξη των Προτάσεων στο Μέτρο 6.4. Το συνολικό κόστος των αιτημάτων ανέρχεται σε 12.000.000 € περίπου.</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0720" y="731880"/>
            <a:ext cx="4870440" cy="3652920"/>
          </a:xfrm>
          <a:prstGeom prst="rect">
            <a:avLst/>
          </a:prstGeom>
          <a:ln w="0">
            <a:noFill/>
          </a:ln>
        </p:spPr>
      </p:sp>
      <p:sp>
        <p:nvSpPr>
          <p:cNvPr id="134"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Υπήρξαν 3 Μελέτες που είχαν την έγκριση του Περιφερειακού Συμβουλίου αλλά δεν υποβλήθηκαν Προτάσεις.</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0720" y="731880"/>
            <a:ext cx="4870440" cy="3652920"/>
          </a:xfrm>
          <a:prstGeom prst="rect">
            <a:avLst/>
          </a:prstGeom>
          <a:ln w="0">
            <a:noFill/>
          </a:ln>
        </p:spPr>
      </p:sp>
      <p:sp>
        <p:nvSpPr>
          <p:cNvPr id="136"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ίσης κατατέθηκαν συνολικά άλλες 16 Προτάσεις, χωρίς την έγκριση του Περιφερειακού Συμβουλίου, συνολικού ποσού 8.700.000€ περίπου, οι οποίες και απορίφθηκαν.</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2EB9A-5CED-427B-8566-078F2FFCA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9"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5BE18-53EE-4146-88C9-49B31A578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2"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9C1FA-C89E-4BC3-9D17-0748D14C7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7"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23BFF-B7DC-491B-BA30-5321ED9C3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37831-6DD6-483D-8014-94FE6DDF9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1"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755FB-7B34-4751-AB16-9FA57BA93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3"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52E8C-9028-486C-86B3-9A6DBC959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5"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2F5A7-619B-44BD-8C11-88844EA91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1BAD4-8452-45BD-86E0-AAEB3812C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C46F8-39E4-427F-AD40-4B707ACAD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0"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61FC3-10D0-4BA0-8FBC-5C8968B1A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8"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2D75E-CCA5-4AE4-8C74-2DB8EC271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4"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47B6A-3B0B-4AC5-A6F7-0A5C4C338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8"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32B9E-2DFE-406D-B311-9CF216E9C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2"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41C6A-F04E-49C6-A0D8-C698999F9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5"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C8897-CD8B-40A4-BD28-9E0B2FEB4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80"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CD0466-0C30-419F-BB2E-A9D369D73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0"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40D24-FDD5-4937-B51E-EC28783A8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2"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24CDD-0F92-4A3F-904E-A183D4EFC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CDD41-68B4-4F5C-AE0B-0DEFF340C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6239E-EA17-4E48-941B-60E52499E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7"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35CE7-D0D9-402A-9704-3DDC6B9F3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1"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818C3-87D7-4243-B147-172AA0EE8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5"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31C32-9827-479F-B6A0-22B661DA2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pic>
        <p:nvPicPr>
          <p:cNvPr id="1" name=""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UB-Front"/>
              </a:rPr>
              <a:t>Click to edit the title text format</a:t>
            </a:r>
            <a:endParaRPr b="1" lang="en-US" sz="4400" spc="-1" strike="noStrike">
              <a:solidFill>
                <a:srgbClr val="336600"/>
              </a:solidFill>
              <a:latin typeface="UB-Front"/>
            </a:endParaRPr>
          </a:p>
        </p:txBody>
      </p:sp>
      <p:sp>
        <p:nvSpPr>
          <p:cNvPr id="3" name="PlaceHolder 2"/>
          <p:cNvSpPr>
            <a:spLocks noGrp="1"/>
          </p:cNvSpPr>
          <p:nvPr>
            <p:ph type="body"/>
          </p:nvPr>
        </p:nvSpPr>
        <p:spPr>
          <a:xfrm>
            <a:off x="685800" y="1905120"/>
            <a:ext cx="7848720" cy="4038480"/>
          </a:xfrm>
          <a:prstGeom prst="rect">
            <a:avLst/>
          </a:prstGeom>
          <a:noFill/>
          <a:ln w="0">
            <a:noFill/>
          </a:ln>
        </p:spPr>
        <p:txBody>
          <a:bodyPr lIns="90000" rIns="90000" tIns="46800" bIns="46800" anchor="t">
            <a:normAutofit fontScale="98000"/>
          </a:bodyPr>
          <a:p>
            <a:pPr marL="335880" indent="-3358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82B4-1146-4474-B2DD-E3D01DBADA70}"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13799" b="0"/>
          <a:stretch/>
        </p:blipFill>
        <p:spPr>
          <a:xfrm>
            <a:off x="6292800" y="-1440"/>
            <a:ext cx="2857680" cy="6868800"/>
          </a:xfrm>
          <a:prstGeom prst="rect">
            <a:avLst/>
          </a:prstGeom>
          <a:ln w="0">
            <a:noFill/>
          </a:ln>
        </p:spPr>
      </p:pic>
      <p:pic>
        <p:nvPicPr>
          <p:cNvPr id="44" name="" descr=""/>
          <p:cNvPicPr/>
          <p:nvPr/>
        </p:nvPicPr>
        <p:blipFill>
          <a:blip r:embed="rId3"/>
          <a:stretch/>
        </p:blipFill>
        <p:spPr>
          <a:xfrm>
            <a:off x="0" y="0"/>
            <a:ext cx="9144000" cy="6858000"/>
          </a:xfrm>
          <a:prstGeom prst="rect">
            <a:avLst/>
          </a:prstGeom>
          <a:ln w="0">
            <a:noFill/>
          </a:ln>
        </p:spPr>
      </p:pic>
      <p:sp>
        <p:nvSpPr>
          <p:cNvPr id="4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edit the title text format</a:t>
            </a:r>
            <a:endParaRPr b="1" lang="en-US" sz="3600" spc="-1" strike="noStrike">
              <a:solidFill>
                <a:srgbClr val="336600"/>
              </a:solidFill>
              <a:latin typeface="UB-Front"/>
            </a:endParaRPr>
          </a:p>
        </p:txBody>
      </p:sp>
      <p:sp>
        <p:nvSpPr>
          <p:cNvPr id="46"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92C8-FCA5-4903-B7F5-315943753F42}"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00"/>
                </a:solidFill>
                <a:latin typeface="Arial"/>
              </a:rPr>
              <a:t>ΜΕΛΕΤΕΣ ΩΡΙΜΑΝΣΗΣ ΚΑΙ ΠΡΟΕΤΟΙΜΑΣΙΑΣ ΝΕΑΣ ΠΡΟΓΡΑΜΜΑΤΙΚΗΣ ΠΕΡΙΟΔΟΥ</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ΣΥΝΕΔΡΙΑΣΗ ΠΕΡΙΦΕΡΕΙΑΚΟΥ ΣΥΜΒΟΥΛΙΟΥ</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ΑΡΤΑ 14 ΜΑΙΟΥ 2007</a:t>
            </a:r>
            <a:endParaRPr b="0" lang="en-US" sz="1600" spc="-1" strike="noStrike">
              <a:solidFill>
                <a:srgbClr val="000000"/>
              </a:solidFill>
              <a:latin typeface="Arial"/>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56736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13" name=""/>
          <p:cNvGraphicFramePr/>
          <p:nvPr/>
        </p:nvGraphicFramePr>
        <p:xfrm>
          <a:off x="755640" y="1484280"/>
          <a:ext cx="7778880" cy="4371840"/>
        </p:xfrm>
        <a:graphic>
          <a:graphicData uri="http://schemas.openxmlformats.org/drawingml/2006/table">
            <a:tbl>
              <a:tblPr/>
              <a:tblGrid>
                <a:gridCol w="576360"/>
                <a:gridCol w="3671640"/>
                <a:gridCol w="1873440"/>
                <a:gridCol w="165744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ΤΙΚΟΥ ΚΡΥΑΣ, ΠΕΡΑΜΑΤΟΣ &amp; ΑΜΦΙΘΕ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ΕΡΑΜΑΤ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25.007,4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ΑΠΟΧΕΤΕΥΣΗ - ΒΙΟΛΟΓΙΚΟΣ ΚΑΘΑΡΙΣΜΟΣ ΠΛΑΤΑΡΙΑΣ - ΣΥΒΟΤΩΝ - ΠΕΡΔΙΚΑΣ Ν. ΘΕΣΠΡΩΤ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ΣΥΒΟ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48.5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ΚΑΙ ΕΓΚΑΤΑΣΤΑΣΗ ΕΠΕΞΕΡΓΑΣΙΑΣ ΛΥΜΑΤΩΝ Δ.Δ. ΔΗΜΟΥ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986.348,9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ΕΠΑΡΧΙΑΚΗΣ ΟΔΟΥ ΑΡΤΑΣ - ΚΑΡΔΙΤΣΑΣ (ΤΜΗΜΑ ΓΡΕΒΙΑ - ΓΕΦΥΡΑ ΚΟΡΑΚ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ΑΡΤ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052.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ΔΙΑΝΟΜΑΡΧΙΑΚΟΥ ΔΡΟΜΟΥ ΑΡΤΑΣ - ΑΙΤΟΛΟΑΚΑΡΝΑΝΙΑΣ (ΤΜΗΜΑ ΜΕΓΑΛΟΧΑΡΗ - ΜΕΣΟΠΥΡΓΟΣ - ΟΡΙΑ ΝΟΜ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ΑΡΤ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5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56736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ΣΥΝΕΧΕΙΑ):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15" name=""/>
          <p:cNvGraphicFramePr/>
          <p:nvPr/>
        </p:nvGraphicFramePr>
        <p:xfrm>
          <a:off x="755640" y="1557360"/>
          <a:ext cx="7778880" cy="4340160"/>
        </p:xfrm>
        <a:graphic>
          <a:graphicData uri="http://schemas.openxmlformats.org/drawingml/2006/table">
            <a:tbl>
              <a:tblPr/>
              <a:tblGrid>
                <a:gridCol w="503280"/>
                <a:gridCol w="3744720"/>
                <a:gridCol w="1702080"/>
                <a:gridCol w="182880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93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ΚΑΤΑΣΚΕΥΗΣ ΤΗΣ Λ. ΙΩΝΙΑΣ ΤΩΝ ΔΥΟ ΠΕΡΙΦΕΡΕΙΑΚΩΝ ΔΑΚΤΥΛΙΩΝ ΚΑΘΩΣ ΚΑΙ ΤΟΥ ΔΡΟΜΟΥ ΣΥΝΔΕΣΗΣ ΤΗΣ ΑΝΑΤΟΛΗΣ ΜΕ ΤΗΝ ΜΠΑΦΡΑ ΚΑΙ ΤΗΝ ΝΕΟΚΑΙΣΑΡΕΙ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7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ΔΙΕΥΘΕΤΗΣΗΣ ΟΜΒΡΙΩΝ ΥΔΑΤΩΝ - ΑΠΟΣΤΡΑΓΓΙΣΤΙΚΩΝ ΤΑΦΡΩΝ ΔΗΜΟΥ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ΟΔΙΚΟΥ ΚΥΚΛΩΜΑΤΟΣ: ΜΥΤΙΚΑΣ- ΒΙ.ΠΕ- ΠΝΕΥΜΑΤΙΚΟΣ ΦΑΡΟΣ- ΝΕΟΧΩΡΙ- ΑΓ. ΘΩΜ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ΠΡΕΒΕΖ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1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ΠΕΡΙΦΕΡΕΙΑΚΗΣ ΟΔΟΥ ΔΗΜΟΥ ΠΑΡΓΑΣ ΚΑΙ ΚΑΘΕΤΩΝ ΑΞΟΝΩΝ ΣΥΝΔΕΣΗΣ ΜΕ ΔΗΜΟΤΙΚΑ ΔΙΑΜΕΡΙΣΜΑΤ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ΠΡΕΒΕΖ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25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56736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ΣΥΝΕΧΕΙΑ):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17" name=""/>
          <p:cNvGraphicFramePr/>
          <p:nvPr/>
        </p:nvGraphicFramePr>
        <p:xfrm>
          <a:off x="755640" y="1628640"/>
          <a:ext cx="7778880" cy="3978360"/>
        </p:xfrm>
        <a:graphic>
          <a:graphicData uri="http://schemas.openxmlformats.org/drawingml/2006/table">
            <a:tbl>
              <a:tblPr/>
              <a:tblGrid>
                <a:gridCol w="576360"/>
                <a:gridCol w="3960720"/>
                <a:gridCol w="1428840"/>
                <a:gridCol w="181296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ΥΠΟΓΕΙΟΠΟΙΗΣΗ ΤΩΝ ΟΔΩΝ ΠΑΡΑΚΑΜΨΗΣ ΑΝΑΤΟΛΙΚΑ- ΝΟΤΙΟΑΝΑΤΟΛΙΚΑ ΤΗΣ ΠΟΛΗΣ ΤΩΝ ΙΩΑΝΝΙΝΩΝ (ΜΕΛΕΤΗ ΥΠΟΓΕΙΑΣ ΣΥΝΔΕΣΗΣ ΛΕΩΦΟΡΩΝ ΠΑΠΑΝΔΡΕΟΥ ΚΑΙ ΜΑΚΑΡ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ΙΩΑΝΝΙ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ΤΙΚΟΥ ΣΥΣΤΗΜΑΤΟΣ ΠΑΡΑΠΟΤΑΜΟΥ ΚΑΙ ΣΥΝΔΕΣΗ ΤΟΥ ΜΕ ΤΟ ΑΠΟΧΕΤΕΥΤΙΚΟ ΣΥΣΤΗΜΑ ΤΗΣ ΗΓΟΥΜΕΝΙΤΣ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ΡΑΠΟΤΑΜ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ΟΡΙΣΤΙΚΗ ΜΕΛΕΤΗ ΕΡΓΟΥ: ΑΠΟΚΑΤΑΣΤΑΣΗ ΧΩΡΟΥ ΑΝΕΞΕΛΕΓΚΤΗΣ ΔΙΑΘΕΣΗΣ ΑΠΟΒΛΗΤΩΝ (ΧΑΔΑ) ΣΤΗ ΘΕΣΗ ΓΥΡΕΣ ΤΟΥ Δ.Δ. ΚΑΛΑΜΙΑΣ ΤΟΥ ΔΗΜΟΥ ΦΙΛΟΘΕ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ΦΙΛΟΘΕ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56736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ΣΥΝΕΧΕΙΑ):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19" name=""/>
          <p:cNvGraphicFramePr/>
          <p:nvPr/>
        </p:nvGraphicFramePr>
        <p:xfrm>
          <a:off x="755640" y="1484280"/>
          <a:ext cx="7778880" cy="4281480"/>
        </p:xfrm>
        <a:graphic>
          <a:graphicData uri="http://schemas.openxmlformats.org/drawingml/2006/table">
            <a:tbl>
              <a:tblPr/>
              <a:tblGrid>
                <a:gridCol w="576360"/>
                <a:gridCol w="3671640"/>
                <a:gridCol w="1717920"/>
                <a:gridCol w="181296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ΚΑΤΑΣΚΕΥΗΣ ΑΠΟΧΕΤΕΥΤΙΚΟΥ ΔΙΚΤΥΟΥ ΚΑΙ ΒΙΟΛΟΓΙΚΟΥ ΚΑΘΑΡΙΣΜΟΥ ΣΤΗΝ ΚΟΙΝΟΤΗΤΑ ΚΑΛΑΡΡΥ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ΚΟΙΝΟΤΗΤΑ ΚΑΛΑΡΡΥ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ΠΕΡΙΒΑΛΛΟΝΤΙΚΗ ΑΠΟΚΑΤΑΣΤΑΣΗ ΤΩΝ ΥΓΡΟΤΟΠΙΚΩΝ ΛΕΙΤΟΥΡΓΙΩΝ ΚΑΙ ΑΞΙΩΝ ΤΟΥ ΤΕΩΣ ΥΓΡΟΤΟΠΟΥ ΒΑΛΤΟΣ Ν.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Ω ΚΑΛΑΜ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3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ΕΣ ΥΛΟΠΟΙΗΣΗΣ ΤΩΝ ΑΝΑΓΚΑΙΩΝ ΕΡΓΩΝ ΥΠΟΔΟΜΗΣ ΓΙΑ ΤΗΝ ΠΡΟΛΗΨΗ ΠΕΡΙΒΑΛΛΟΝΤΙΚΩΝ ΚΙΝΔΥ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ΔΩΔΩΝ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ΚΤΥΟ ΑΠΟΧΕΤΕΥΣΗΣ ΑΚΑΘΑΡΤΩΝ- ΠΡΟΣΤΑΣΙΑ ΠΗΓΗΣ ΥΔΡΕΥΣΗΣ Τ.Δ. ΔΕΡΒΙΖΙΑ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ΛΑΚΚΑΣ ΣΟΥΛ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25920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ΣΥΝΕΧΕΙΑ):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21" name=""/>
          <p:cNvGraphicFramePr/>
          <p:nvPr/>
        </p:nvGraphicFramePr>
        <p:xfrm>
          <a:off x="826920" y="1268280"/>
          <a:ext cx="7778880" cy="3855960"/>
        </p:xfrm>
        <a:graphic>
          <a:graphicData uri="http://schemas.openxmlformats.org/drawingml/2006/table">
            <a:tbl>
              <a:tblPr/>
              <a:tblGrid>
                <a:gridCol w="576360"/>
                <a:gridCol w="3816360"/>
                <a:gridCol w="1800360"/>
                <a:gridCol w="158580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ΑΝΤΙΠΛΗΜΜΥΡΙΚΟΣ ΣΧΕΔΙΑΣΜΟΣ ΑΝΩ ΡΟΥ ΑΧΕΡΟΝΤΑ ΑΠΌ Τ.Δ. ΜΠΕΣΤΙΑΣ ΕΩΣ Τ.Δ. ΣΕΡΖΙΑ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ΛΑΚΚΑΣ ΣΟΥΛ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ΕΥΘΕΤΗΣΗ ΤΩΝ ΧΕΙΜΑΡΡΩΝ "ΑΣΠΡΟΛΑΚΚΟΣ ΚΑΙ ΜΙΣΟΥΛΑΚΙΑ"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ΚΟΙΝΟΤΗΤΑ ΑΕΤΟΜΗΛΙΤΣ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ΟΡΙΣΤΙΚΗ ΜΕΛΕΤΗ ΑΠΟΧΕΤΕΥΣΗΣ ΕΣΩΤΕΡΙΚΟΥ ΔΙΚΤΥΟΥ ΑΚΑΘΑΡΤΩΝ ΚΑΙ ΠΡΟΜΕΛΕΤΗ ΕΓΚΑΤΑΣΤΑΣΗΣ ΕΠΕΞΕΡΓΑΣΙΑΣ ΑΚΑΘΑΡΤΩΝ ΤΩΝ Δ.Δ. ΠΑΡΑΜΥΘΙΑΣ ΚΑΙ ΚΑΡΥΩΤΙΟΥ ΤΟΥ ΔΗΜΟΥ ΠΑΡΑΜΥΘ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ΡΑΜΥΘ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18.428,8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ΕΠΕΚΤΑΣΗΣ Δ.Δ. ΚΑΤΣΙΚ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66.729,3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25920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ΣΥΝΕΧΕΙΑ):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23" name=""/>
          <p:cNvGraphicFramePr/>
          <p:nvPr/>
        </p:nvGraphicFramePr>
        <p:xfrm>
          <a:off x="684360" y="1341360"/>
          <a:ext cx="7778520" cy="3173400"/>
        </p:xfrm>
        <a:graphic>
          <a:graphicData uri="http://schemas.openxmlformats.org/drawingml/2006/table">
            <a:tbl>
              <a:tblPr/>
              <a:tblGrid>
                <a:gridCol w="647640"/>
                <a:gridCol w="3449520"/>
                <a:gridCol w="1868400"/>
                <a:gridCol w="1812960"/>
              </a:tblGrid>
              <a:tr h="1050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76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ΕΚΠΟΝΗΣΗ ΜΕΛΕΤΗΣ ΚΑΙ ΚΑΤΑΣΚΕΥΗ ΕΡΓΩΝ ΑΠΟΚΑΤΑΣΤΑΣΗΣ ΤΟΥ ΟΙΚΟΣΥΣΤΗΜΑΤΟΣ ΛΙΜΝΩΝ ΠΑΜΒΩΤΙΔΟΣ ΙΩΑΝΝΙΝΩΝ- ΛΑΨΙΣΤ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ΣΥΛΛΟΓΟΣ ΠΡΟΣΤΑΣΙΑΣ ΠΕΡΙΒΑΛΛΟΝΤΟΣ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ΚΑΤΑΣΚΕΥΗ ΔΙΚΤΥΟΥ ΣΥΛΛΟΓΗΣ ΑΚΑΘΑΡΤΩΝ ΛΥΜΑΤΩΝ ΚΑΙ ΚΑΤΑΣΚΕΥΗ ΒΙΟΛΟΓΙΚΟΥ ΚΑΘΑΡΙΣΜΟΥ ΔΗΜΟΥ ΕΚΑ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ΕΚΑ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00"/>
                </a:solidFill>
                <a:latin typeface="Arial"/>
              </a:rPr>
              <a:t>ΜΕΛΕΤΕΣ ΩΡΙΜΑΝΣΗΣ ΚΑΙ ΠΡΟΕΤΟΙΜΑΣΙΑΣ ΝΕΑΣ ΠΡΟΓΡΑΜΜΑΤΙΚΗΣ ΠΕΡΙΟΔΟΥ</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ΣΥΝΕΔΡΙΑΣΗ ΠΕΡΙΦΕΡΕΙΑΚΟΥ ΣΥΜΒΟΥΛΙΟΥ</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ΑΡΤΑ 14 ΜΑΙΟΥ 2007</a:t>
            </a:r>
            <a:endParaRPr b="0" lang="en-US" sz="16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0320"/>
            <a:ext cx="7848720" cy="137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Περιεχόμενα Προτάσεων για ένταξη στο Μέτρο 6.4.</a:t>
            </a:r>
            <a:br>
              <a:rPr sz="3000"/>
            </a:br>
            <a:r>
              <a:rPr b="1" lang="en-US" sz="2400" spc="-1" strike="noStrike">
                <a:solidFill>
                  <a:srgbClr val="336600"/>
                </a:solidFill>
                <a:latin typeface="UB-Front"/>
              </a:rPr>
              <a:t>(Σύμφωνα με έγγραφο 7652/ΕΥΣ 1463 του ΥΠ.ΟΙ.Ο)</a:t>
            </a:r>
            <a:endParaRPr b="1" lang="en-US" sz="2400" spc="-1" strike="noStrike">
              <a:solidFill>
                <a:srgbClr val="336600"/>
              </a:solidFill>
              <a:latin typeface="UB-Front"/>
            </a:endParaRPr>
          </a:p>
        </p:txBody>
      </p:sp>
      <p:sp>
        <p:nvSpPr>
          <p:cNvPr id="95" name=""/>
          <p:cNvSpPr/>
          <p:nvPr/>
        </p:nvSpPr>
        <p:spPr>
          <a:xfrm>
            <a:off x="684360" y="2565360"/>
            <a:ext cx="7993080" cy="90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Οδικές Μεταφορές</a:t>
            </a:r>
            <a:endParaRPr b="0" lang="en-US" sz="2400" spc="-1" strike="noStrike">
              <a:solidFill>
                <a:srgbClr val="000000"/>
              </a:solidFill>
              <a:latin typeface="Times New Roman"/>
            </a:endParaRPr>
          </a:p>
          <a:p>
            <a:pPr marL="4572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Περιβάλλον</a:t>
            </a:r>
            <a:endParaRPr b="0" lang="en-US" sz="2400" spc="-1" strike="noStrike">
              <a:solidFill>
                <a:srgbClr val="000000"/>
              </a:solidFill>
              <a:latin typeface="Times New Roman"/>
            </a:endParaRPr>
          </a:p>
        </p:txBody>
      </p:sp>
      <p:sp>
        <p:nvSpPr>
          <p:cNvPr id="96" name=""/>
          <p:cNvSpPr/>
          <p:nvPr/>
        </p:nvSpPr>
        <p:spPr>
          <a:xfrm>
            <a:off x="684360" y="2492280"/>
            <a:ext cx="7559640" cy="1657440"/>
          </a:xfrm>
          <a:prstGeom prst="downArrowCallout">
            <a:avLst>
              <a:gd name="adj1" fmla="val 114036"/>
              <a:gd name="adj2" fmla="val 114026"/>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2000" y="4365720"/>
            <a:ext cx="655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Times New Roman"/>
              </a:rPr>
              <a:t>ΠΡΟΣΚΛΗΣΗ 161/2006 </a:t>
            </a:r>
            <a:endParaRPr b="0" lang="en-US" sz="2800" spc="-1" strike="noStrike">
              <a:solidFill>
                <a:srgbClr val="000000"/>
              </a:solidFill>
              <a:latin typeface="Times New Roman"/>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43400"/>
            <a:ext cx="7848720" cy="100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UB-Front"/>
              </a:rPr>
              <a:t>ΠΙΝΑΚΑΣ 1: ΜΕΛΕΤΕΣ ΠΟΥ ΥΠΟΒΛΗΘΗΚΑΝ ΜΕΤΑ ΑΠΟ ΠΡΟΣΚΛΗΣΗ, ΜΕ ΥΠΟΒΟΛΗ ΤΕΧΝΙΚΟΥ ΔΕΛΤΙΟΥ, ΚΑΙ ΕΙΧΑΝ ΕΓΚΡΙΣΗ ΤΟΥ ΠΕΡΙΦΕΡΕΙΑΚΟΥ ΣΥΜΒΟΥΛΙΟΥ</a:t>
            </a:r>
            <a:endParaRPr b="1" lang="en-US" sz="2000" spc="-1" strike="noStrike">
              <a:solidFill>
                <a:srgbClr val="336600"/>
              </a:solidFill>
              <a:latin typeface="UB-Front"/>
            </a:endParaRPr>
          </a:p>
        </p:txBody>
      </p:sp>
      <p:graphicFrame>
        <p:nvGraphicFramePr>
          <p:cNvPr id="99" name=""/>
          <p:cNvGraphicFramePr/>
          <p:nvPr/>
        </p:nvGraphicFramePr>
        <p:xfrm>
          <a:off x="755640" y="1905120"/>
          <a:ext cx="7778880" cy="3560760"/>
        </p:xfrm>
        <a:graphic>
          <a:graphicData uri="http://schemas.openxmlformats.org/drawingml/2006/table">
            <a:tbl>
              <a:tblPr/>
              <a:tblGrid>
                <a:gridCol w="503280"/>
                <a:gridCol w="3673440"/>
                <a:gridCol w="1944720"/>
                <a:gridCol w="1657440"/>
              </a:tblGrid>
              <a:tr h="840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ΕΛΙΚΟΣ ΔΙΚΑΙΟΥΧΟ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ΠΑΡΑΚΑΜΨΗΣ ΠΟΛΕΩΣ ΗΓΟΥΜΕΝΙΤΣ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ΗΓΟΥΜΕΝΙΤΣΑΣ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582.483,5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ΣΥΝΔΕΣΗ Ε.Ο. ΗΓΟΥΜΕΝΙΤΣΑΣ- ΠΡΕΒΕΖΑΣ ΜΕ ΕΓΝΑΤΙΑ ΟΔΟ (ΤΜΗΜΑ ΚΟΜΒΟΣ ΝΕΟΧΩΡΙΟΥ- ΚΟΜΒΟΣ ΜΕΣΣΟΠΟΤΑΜ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ΕΥΘΥΝΣΗ ΔΗΜΟΣΙΩΝ ΕΡΓ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313.361,2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ΝΑΠΛΑΣΗΣ ΒΙΚ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ΑΣΑΡΧΕΙΟ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19.137,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ΠΟΙΟΤΙΚΗΣ ΣΥΝΘΕΣΗΣ ΑΣΤΙΚΩΝ ΣΤΕΡΕΩΝ ΑΠΟΒΛΗΤΩΝ ΠΕΡΙΦΕΡΕΙΑΣ ΗΠΕΙΡ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ΕΥΘΥΝΣΗ ΠΕΡΙΒΑΛΛΟΝΤΟΣ ΧΩΡΟΤΑΞ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4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43400"/>
            <a:ext cx="7848720" cy="100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00"/>
                </a:solidFill>
                <a:latin typeface="UB-Front"/>
              </a:rPr>
              <a:t>ΠΙΝΑΚΑΣ 1</a:t>
            </a:r>
            <a:r>
              <a:rPr b="1" lang="en-US" sz="2000" spc="-1" strike="noStrike">
                <a:solidFill>
                  <a:srgbClr val="336600"/>
                </a:solidFill>
                <a:latin typeface="UB-Front"/>
              </a:rPr>
              <a:t> </a:t>
            </a:r>
            <a:r>
              <a:rPr b="1" lang="el-GR" sz="2000" spc="-1" strike="noStrike">
                <a:solidFill>
                  <a:srgbClr val="336600"/>
                </a:solidFill>
                <a:latin typeface="UB-Front"/>
              </a:rPr>
              <a:t>(ΣΥΝΕΧΕΙΑ): ΜΕΛΕΤΕΣ ΠΟΥ ΥΠΟΒΛΗΘΗΚΑΝ ΜΕΤΑ ΑΠΟ ΠΡΟΣΚΛΗΣΗ, ΜΕ ΥΠΟΒΟΛΗ ΤΕΧΝΙΚΟΥ ΔΕΛΤΙΟΥ, ΚΑΙ ΕΙΧΑΝ ΕΓΚΡΙΣΗ ΤΟΥ ΠΕΡΙΦΕΡΕΙΑΚΟΥ ΣΥΜΒΟΥΛΙΟΥ</a:t>
            </a:r>
            <a:endParaRPr b="1" lang="en-US" sz="2000" spc="-1" strike="noStrike">
              <a:solidFill>
                <a:srgbClr val="336600"/>
              </a:solidFill>
              <a:latin typeface="UB-Front"/>
            </a:endParaRPr>
          </a:p>
        </p:txBody>
      </p:sp>
      <p:graphicFrame>
        <p:nvGraphicFramePr>
          <p:cNvPr id="101" name=""/>
          <p:cNvGraphicFramePr/>
          <p:nvPr/>
        </p:nvGraphicFramePr>
        <p:xfrm>
          <a:off x="826920" y="1905120"/>
          <a:ext cx="7707600" cy="3643200"/>
        </p:xfrm>
        <a:graphic>
          <a:graphicData uri="http://schemas.openxmlformats.org/drawingml/2006/table">
            <a:tbl>
              <a:tblPr/>
              <a:tblGrid>
                <a:gridCol w="505080"/>
                <a:gridCol w="3671640"/>
                <a:gridCol w="1944720"/>
                <a:gridCol w="158616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ΕΛΙΚΟΣ ΔΙΚΑΙΟΥΧΟ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ΑΓΝΗΤΙΚΕΣ ΔΙΑΣΚΟΠΗΣΕΙΣ ΚΑΙ ΜΕΛΕΤΗ ΣΥΝΟΛΙΚΗΣ ΑΝΑΔΕΙΞΗΣ ΑΡΧΑΙΟΛΟΓΙΚΟΥ ΧΩΡΟΥ ΝΙΚΟΠ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Τ.Δ.Π.Ε.Α.Ε. ΥΠΟΥΡΓΕΙΟΥ ΠΟΛΙΤΙΣΜΟΥ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416.691,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ΣΥΓΚΟΙΝΩΝΙΑΚΩΝ ΕΡΓΩΝ ΑΝΑΔΕΙΞΗΣ ΑΡΧΑΙΟΛΟΓΙΚΟΥ ΧΩΡΟΥ ΝΙΚΟΠ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ΕΥΘΥΝΣΗ ΔΗΜΟΣΙΩΝ ΕΡΓ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ΕΣ ΑΠΟΧΕΤΕΥΣΗΣ ΚΑΙ ΕΠΕΞΕΡΓΑΣΙΑΣ ΥΓΡΩΝ ΑΠΟΒΛΗΤΩΝ ΔΗΜΩΝ, ΑΜΒΡΑΚΙΚΟΥ, ΑΡΑΧΘΟΥ,  ΖΑΛΟΓΓΟΥ ΚΑΙ ΦΙΛΟΘΕ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ΕΥΘΥΝΣΗ ΔΗΜΟΣΙΩΝ ΕΡΓ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731.624,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ΕΣ ΟΔΙΚΟΥ ΚΥΚΛΩΜΑΤΟΣ ΤΖΟΥΜΕΡΚ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5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43400"/>
            <a:ext cx="7848720" cy="100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00"/>
                </a:solidFill>
                <a:latin typeface="UB-Front"/>
              </a:rPr>
              <a:t>ΠΙΝΑΚΑΣ </a:t>
            </a:r>
            <a:r>
              <a:rPr b="1" lang="en-US" sz="2000" spc="-1" strike="noStrike">
                <a:solidFill>
                  <a:srgbClr val="336600"/>
                </a:solidFill>
                <a:latin typeface="UB-Front"/>
              </a:rPr>
              <a:t>2</a:t>
            </a:r>
            <a:r>
              <a:rPr b="1" lang="el-GR" sz="2000" spc="-1" strike="noStrike">
                <a:solidFill>
                  <a:srgbClr val="336600"/>
                </a:solidFill>
                <a:latin typeface="UB-Front"/>
              </a:rPr>
              <a:t>: ΜΕΛΕΤΕΣ ΠΟΥ ΕΝΩ ΕΧΟΥΝ ΤΗΝ ΕΓΚΡΙΣΗ ΤΟΥ ΠΕΡΙΦΕΡΕΙΑΚΟΥ ΣΥΜΒΟΥΛΙΟΥ ΔΕΝ ΥΠΟΒΛΗΘΗΚΑΝ ΠΡΟΤΑΣΕΙΣ</a:t>
            </a:r>
            <a:endParaRPr b="1" lang="en-US" sz="2000" spc="-1" strike="noStrike">
              <a:solidFill>
                <a:srgbClr val="336600"/>
              </a:solidFill>
              <a:latin typeface="UB-Front"/>
            </a:endParaRPr>
          </a:p>
        </p:txBody>
      </p:sp>
      <p:graphicFrame>
        <p:nvGraphicFramePr>
          <p:cNvPr id="103" name=""/>
          <p:cNvGraphicFramePr/>
          <p:nvPr/>
        </p:nvGraphicFramePr>
        <p:xfrm>
          <a:off x="900000" y="1905120"/>
          <a:ext cx="7634520" cy="1425600"/>
        </p:xfrm>
        <a:graphic>
          <a:graphicData uri="http://schemas.openxmlformats.org/drawingml/2006/table">
            <a:tbl>
              <a:tblPr/>
              <a:tblGrid>
                <a:gridCol w="792360"/>
                <a:gridCol w="684216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ΚΑΤΑΣΚΕΥΗ ΑΝΙΣΟΠΕΔΩΝ ΚΟΜΒΩΝ ΣΤΙΣ ΕΙΣΟΔΟΥΣ ΤΗΣ ΠΟΛΗΣ ΤΩΝ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ΔΙΑΧΕΙΡΙΣΗΣ ΖΩΙΚΩΝ ΑΠΟΒΛΗ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ΣΥΝΟΛΙΚΗ ΑΝΑΔΕΙΞΗ ΚΑΣΤΡΟΥ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403560"/>
            <a:ext cx="88930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00"/>
                </a:solidFill>
                <a:latin typeface="UB-Front"/>
              </a:rPr>
              <a:t>ΠΙΝΑΚΑΣ </a:t>
            </a:r>
            <a:r>
              <a:rPr b="1" lang="en-US" sz="1800" spc="-1" strike="noStrike">
                <a:solidFill>
                  <a:srgbClr val="336600"/>
                </a:solidFill>
                <a:latin typeface="UB-Front"/>
              </a:rPr>
              <a:t>3</a:t>
            </a:r>
            <a:r>
              <a:rPr b="1" lang="el-GR" sz="1800" spc="-1" strike="noStrike">
                <a:solidFill>
                  <a:srgbClr val="336600"/>
                </a:solidFill>
                <a:latin typeface="UB-Front"/>
              </a:rPr>
              <a:t>: ΜΕΛΕΤΕΣ ΠΟΥ ΥΠΟΒΛΗΘΗΚΑΝ ΜΕΤΑ ΑΠΌ ΠΡΟΣΚΛΗΣΗ, ΜΕ ΥΠΟΒΟΛΗ ΤΕΧΝΙΚΟΥ ΔΕΛΤΙΟΥ, ΟΙ ΟΠΟΙΕΣ ΑΠΟΡΡΙΠΤΟΝΤΑΙ ΛΟΓΩ ΜΗ ΕΓΚΡΙΣΗΣ ΤΟΥ ΠΕΡΙΦΕΡΕΙΑΚΟΥ ΣΥΜΒΟΥΛΙΟΥ</a:t>
            </a:r>
            <a:endParaRPr b="1" lang="en-US" sz="1800" spc="-1" strike="noStrike">
              <a:solidFill>
                <a:srgbClr val="336600"/>
              </a:solidFill>
              <a:latin typeface="UB-Front"/>
            </a:endParaRPr>
          </a:p>
        </p:txBody>
      </p:sp>
      <p:graphicFrame>
        <p:nvGraphicFramePr>
          <p:cNvPr id="105" name=""/>
          <p:cNvGraphicFramePr/>
          <p:nvPr/>
        </p:nvGraphicFramePr>
        <p:xfrm>
          <a:off x="755640" y="1413000"/>
          <a:ext cx="7778880" cy="4371840"/>
        </p:xfrm>
        <a:graphic>
          <a:graphicData uri="http://schemas.openxmlformats.org/drawingml/2006/table">
            <a:tbl>
              <a:tblPr/>
              <a:tblGrid>
                <a:gridCol w="644400"/>
                <a:gridCol w="3970440"/>
                <a:gridCol w="1765440"/>
                <a:gridCol w="139860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 ΠΡΟΤΑΣ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ΑΠΟΧΕΤΕΥΣΗ - ΒΙΟΛΟΓΙΚΟΣ ΚΑΘΑΡΙΣΜΟΣ ΠΛΑΤΑΡΙΑΣ - ΣΥΒΟΤΩΝ - ΠΕΡΔΙΚΑΣ Ν. ΘΕΣΠΡΩΤ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ΣΥΒΟ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48.5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ΟΙΚΙΣΜΩΝ ΔΗΜΟΥ ΑΡΤΑΙ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ΡΤΑΙ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72.011,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ΚΑΙ ΕΓΚΑΤΑΣΤΑΣΗ ΕΠΕΞΕΡΓΑΣΙΑΣ ΛΥΜΑΤΩΝ Δ.Δ. ΔΗΜΟΥ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986.348,9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ΕΠΑΡΧΙΑΚΗΣ ΟΔΟΥ ΑΡΤΑΣ - ΚΑΡΔΙΤΣΑΣ (ΤΜΗΜΑ ΓΡΕΒΙΑ - ΓΕΦΥΡΑ ΚΟΡΑΚ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ΑΡΤ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052.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ΔΙΑΝΟΜΑΡΧΙΑΚΟΥ ΔΡΟΜΟΥ ΑΡΤΑΣ - ΑΙΤΟΛΟΑΚΑΡΝΑΝΙΑΣ (ΤΜΗΜΑ ΜΕΓΑΛΟΧΑΡΗ - ΜΕΣΟΠΥΡΓΟΣ - ΟΡΙΑ ΝΟΜ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ΑΡΤ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5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292680"/>
            <a:ext cx="79912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00"/>
                </a:solidFill>
                <a:latin typeface="UB-Front"/>
              </a:rPr>
              <a:t>ΠΙΝΑΚΑΣ </a:t>
            </a:r>
            <a:r>
              <a:rPr b="1" lang="en-US" sz="1800" spc="-1" strike="noStrike">
                <a:solidFill>
                  <a:srgbClr val="336600"/>
                </a:solidFill>
                <a:latin typeface="UB-Front"/>
              </a:rPr>
              <a:t>3 </a:t>
            </a:r>
            <a:r>
              <a:rPr b="1" lang="el-GR" sz="1800" spc="-1" strike="noStrike">
                <a:solidFill>
                  <a:srgbClr val="336600"/>
                </a:solidFill>
                <a:latin typeface="UB-Front"/>
              </a:rPr>
              <a:t>(ΣΥΝΕΧΕΙΑ): ΜΕΛΕΤΕΣ ΠΟΥ ΥΠΟΒΛΗΘΗΚΑΝ ΜΕΤΑ ΑΠΌ ΠΡΟΣΚΛΗΣΗ, ΜΕ ΥΠΟΒΟΛΗ ΤΕΧΝΙΚΟΥ ΔΕΛΤΙΟΥ, ΟΙ ΟΠΟΙΕΣ ΑΠΟΡΡΙΠΤΟΝΤΑΙ ΛΟΓΩ ΜΗ ΕΓΚΡΙΣΗΣ ΤΟΥ ΠΕΡΙΦΕΡΕΙΑΚΟΥ ΣΥΜΒΟΥΛΙΟΥ</a:t>
            </a:r>
            <a:endParaRPr b="1" lang="en-US" sz="1800" spc="-1" strike="noStrike">
              <a:solidFill>
                <a:srgbClr val="336600"/>
              </a:solidFill>
              <a:latin typeface="UB-Front"/>
            </a:endParaRPr>
          </a:p>
        </p:txBody>
      </p:sp>
      <p:graphicFrame>
        <p:nvGraphicFramePr>
          <p:cNvPr id="107" name=""/>
          <p:cNvGraphicFramePr/>
          <p:nvPr/>
        </p:nvGraphicFramePr>
        <p:xfrm>
          <a:off x="755640" y="1557360"/>
          <a:ext cx="7778880" cy="4317840"/>
        </p:xfrm>
        <a:graphic>
          <a:graphicData uri="http://schemas.openxmlformats.org/drawingml/2006/table">
            <a:tbl>
              <a:tblPr/>
              <a:tblGrid>
                <a:gridCol w="503280"/>
                <a:gridCol w="4321080"/>
                <a:gridCol w="1555920"/>
                <a:gridCol w="1398600"/>
              </a:tblGrid>
              <a:tr h="745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 ΠΡΟΤΑΣ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ΚΑΤΑΣΚΕΥΗΣ ΤΗΣ Λ. ΙΩΝΙΑΣ ΤΩΝ ΔΥΟ ΠΕΡΙΦΕΡΕΙΑΚΩΝ ΔΑΚΤΥΛΙΩΝ ΚΑΘΩΣ ΚΑΙ ΤΟΥ ΔΡΟΜΟΥ ΣΥΝΔΕΣΗΣ ΤΗΣ ΑΝΑΤΟΛΗΣ ΜΕ ΤΗΝ ΜΠΑΦΡΑ ΚΑΙ ΤΗΝ ΝΕΟΚΑΙΣΑΡΕΙ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7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ΔΙΕΥΘΕΤΗΣΗΣ ΟΜΒΡΙΩΝ ΥΔΑΤΩΝ - ΑΠΟΣΤΡΑΓΓΙΣΤΙΚΩΝ ΤΑΦΡΩΝ ΔΗΜΟΥ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ΟΡΙΣΤΙΚΗ ΜΕΛΕΤΗ ΔΙΚΤΥΩΝ ΑΠΟΧΕΤΕΥΣΗΣ ΚΑΙ ΕΓΚΑΤΑΣΤΑΣΗΣ ΕΠΕΞΕΡΓΑΣΙΑΣ ΛΥΜΑΤΩΝ ΣΤΟΝ ΟΙΚΙΣΜΟ ΑΓΝΑΝ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ΓΝΑΝ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5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ΟΡΙΣΤΙΚΗ ΜΕΛΕΤΗ ΑΠΟΧΕΤΕΥΣΗΣ ΕΣΩΤΕΡΙΚΟΥ ΔΙΚΤΥΟΥ ΑΚΑΘΑΡΤΩΝ ΚΑΙ ΠΡΟΜΕΛΕΤΗ ΕΓΚΑΤΑΣΤΑΣΗΣ ΕΠΕΞΕΡΓΑΣΙΑΣ ΑΚΑΘΑΡΤΩΝ ΤΩΝ Δ.Δ. ΠΑΡΑΜΥΘΙΑΣ ΚΑΙ ΚΑΡΥΩΤΙΟΥ ΤΟΥ ΔΗΜΟΥ ΠΑΡΑΜΥΘ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ΡΑΜΥΘ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18.428,8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292680"/>
            <a:ext cx="79912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00"/>
                </a:solidFill>
                <a:latin typeface="UB-Front"/>
              </a:rPr>
              <a:t>ΠΙΝΑΚΑΣ </a:t>
            </a:r>
            <a:r>
              <a:rPr b="1" lang="en-US" sz="1800" spc="-1" strike="noStrike">
                <a:solidFill>
                  <a:srgbClr val="336600"/>
                </a:solidFill>
                <a:latin typeface="UB-Front"/>
              </a:rPr>
              <a:t>3 </a:t>
            </a:r>
            <a:r>
              <a:rPr b="1" lang="el-GR" sz="1800" spc="-1" strike="noStrike">
                <a:solidFill>
                  <a:srgbClr val="336600"/>
                </a:solidFill>
                <a:latin typeface="UB-Front"/>
              </a:rPr>
              <a:t>(ΣΥΝΕΧΕΙΑ): ΜΕΛΕΤΕΣ ΠΟΥ ΥΠΟΒΛΗΘΗΚΑΝ ΜΕΤΑ ΑΠΌ ΠΡΟΣΚΛΗΣΗ, ΜΕ ΥΠΟΒΟΛΗ ΤΕΧΝΙΚΟΥ ΔΕΛΤΙΟΥ, ΟΙ ΟΠΟΙΕΣ ΑΠΟΡΡΙΠΤΟΝΤΑΙ ΛΟΓΩ ΜΗ ΕΓΚΡΙΣΗΣ ΤΟΥ ΠΕΡΙΦΕΡΕΙΑΚΟΥ ΣΥΜΒΟΥΛΙΟΥ</a:t>
            </a:r>
            <a:endParaRPr b="1" lang="en-US" sz="1800" spc="-1" strike="noStrike">
              <a:solidFill>
                <a:srgbClr val="336600"/>
              </a:solidFill>
              <a:latin typeface="UB-Front"/>
            </a:endParaRPr>
          </a:p>
        </p:txBody>
      </p:sp>
      <p:graphicFrame>
        <p:nvGraphicFramePr>
          <p:cNvPr id="109" name=""/>
          <p:cNvGraphicFramePr/>
          <p:nvPr/>
        </p:nvGraphicFramePr>
        <p:xfrm>
          <a:off x="684360" y="1989000"/>
          <a:ext cx="7778520" cy="3430800"/>
        </p:xfrm>
        <a:graphic>
          <a:graphicData uri="http://schemas.openxmlformats.org/drawingml/2006/table">
            <a:tbl>
              <a:tblPr/>
              <a:tblGrid>
                <a:gridCol w="644400"/>
                <a:gridCol w="4251240"/>
                <a:gridCol w="1484280"/>
                <a:gridCol w="139860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 ΠΡΟΤΑΣ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ΛΥΜΑΤΩΝ ΚΑΙ ΟΜΒΡΙΩΝ Δ.Δ. ΠΕΔΙΝ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ΕΔΙΝ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ΑΝΤΙΜΕΤΩΠΙΣΗ ΠΛΗΜΜΥΡΙΚΩΝ ΚΑΤΑΣΤΑΣΕΩΝ ΣΤΟ ΠΕΔΙΝΟ ΜΕΡΟΣ ΤΟΥ ΔΗΜΟΥ ΜΠΙΖΑΝ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ΜΠΙΖΑΝ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ΥΠΟΓΕΙΟΠΟΙΗΣΗ ΤΩΝ ΟΔΩΝ ΠΑΡΑΚΑΜΨΗΣ ΑΝΑΤΟΛΙΚΑ- ΝΟΤΙΟΑΝΑΤΟΛΙΚΑ ΤΗΣ ΠΟΛΗΣ ΤΩΝ ΙΩΑΝΝΙΝΩΝ (ΜΕΛΕΤΗ ΥΠΟΓΕΙΑΣ ΣΥΝΔΕΣΗΣ ΛΕΩΦΟΡΩΝ ΠΑΠΑΝΔΡΕΟΥ ΚΑΙ ΜΑΚΑΡ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ΙΩΑΝΝΙ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ΕΠΕΚΤΑΣΗΣ Δ.Δ. ΚΑΤΣΙΚ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66.729,3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292680"/>
            <a:ext cx="79912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00"/>
                </a:solidFill>
                <a:latin typeface="UB-Front"/>
              </a:rPr>
              <a:t>ΠΙΝΑΚΑΣ </a:t>
            </a:r>
            <a:r>
              <a:rPr b="1" lang="en-US" sz="1800" spc="-1" strike="noStrike">
                <a:solidFill>
                  <a:srgbClr val="336600"/>
                </a:solidFill>
                <a:latin typeface="UB-Front"/>
              </a:rPr>
              <a:t>3 </a:t>
            </a:r>
            <a:r>
              <a:rPr b="1" lang="el-GR" sz="1800" spc="-1" strike="noStrike">
                <a:solidFill>
                  <a:srgbClr val="336600"/>
                </a:solidFill>
                <a:latin typeface="UB-Front"/>
              </a:rPr>
              <a:t>(ΣΥΝΕΧΕΙΑ): ΜΕΛΕΤΕΣ ΠΟΥ ΥΠΟΒΛΗΘΗΚΑΝ ΜΕΤΑ ΑΠΌ ΠΡΟΣΚΛΗΣΗ, ΜΕ ΥΠΟΒΟΛΗ ΤΕΧΝΙΚΟΥ ΔΕΛΤΙΟΥ, ΟΙ ΟΠΟΙΕΣ ΑΠΟΡΡΙΠΤΟΝΤΑΙ ΛΟΓΩ ΜΗ ΕΓΚΡΙΣΗΣ ΤΟΥ ΠΕΡΙΦΕΡΕΙΑΚΟΥ ΣΥΜΒΟΥΛΙΟΥ</a:t>
            </a:r>
            <a:endParaRPr b="1" lang="en-US" sz="1800" spc="-1" strike="noStrike">
              <a:solidFill>
                <a:srgbClr val="336600"/>
              </a:solidFill>
              <a:latin typeface="UB-Front"/>
            </a:endParaRPr>
          </a:p>
        </p:txBody>
      </p:sp>
      <p:graphicFrame>
        <p:nvGraphicFramePr>
          <p:cNvPr id="111" name=""/>
          <p:cNvGraphicFramePr/>
          <p:nvPr/>
        </p:nvGraphicFramePr>
        <p:xfrm>
          <a:off x="755640" y="1557360"/>
          <a:ext cx="7778880" cy="3394080"/>
        </p:xfrm>
        <a:graphic>
          <a:graphicData uri="http://schemas.openxmlformats.org/drawingml/2006/table">
            <a:tbl>
              <a:tblPr/>
              <a:tblGrid>
                <a:gridCol w="646200"/>
                <a:gridCol w="3970440"/>
                <a:gridCol w="1761840"/>
                <a:gridCol w="140040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 ΠΡΟΤΑΣ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ΕΣ ΠΡΟΕΤΟΙΜΑΣΙΑΣ ΓΙΑ ΤΗΝ ΟΛΟΚΛΗΡΩΣΗ ΕΡΓΩΝ ΔΙΑΧΕΙΡΙΣΗΣ ΣΤΕΡΕΩΝ ΑΠΟΒΛΗΤΩΝ 4ης ΔΙΑΧΕΙΡΙΣΤΙΚΗΣ ΕΝΟΤΗΤΑΣ ΠΕΡΙΦΕΡΕΙΑΣ ΗΠΕΙΡ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ΗΓΟΥΜΕΝΙΤΣ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79.719,6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ΠΕΡΙΒΑΛΛΟΝΤΙΚΗ ΑΠΟΚΑΤΑΣΤΑΣΗ ΤΩΝ ΥΓΡΟΤΟΠΙΚΩΝ ΛΕΙΤΟΥΡΓΙΩΝ ΚΑΙ ΑΞΙΩΝ ΤΟΥ ΤΕΩΣ ΥΓΡΟΤΟΠΟΥ ΒΑΛΤΟΣ Ν.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Ω ΚΑΛΑΜ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3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ΑΠΟΚΑΤΑΣΤΑΣΗ ΧΩΡΟΥ ΑΝΕΞΕΛΕΓΚΤΗΣ ΔΙΑΘΕΣΗΣ ΑΠΟΒΛΗΤΩΝ ΣΤΗ ΘΕΣΗ ΓΥΡΕΣ ΤΟΥ Δ.Δ. ΚΑΛΑΜ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ΦΙΛΟΘΕ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39:22Z</dcterms:created>
  <dc:creator>nikobalt</dc:creator>
  <dc:description/>
  <dc:language>en-US</dc:language>
  <cp:lastModifiedBy>cmilonis</cp:lastModifiedBy>
  <dcterms:modified xsi:type="dcterms:W3CDTF">2007-05-09T11:39:59Z</dcterms:modified>
  <cp:revision>514</cp:revision>
  <dc:subject/>
  <dc:title>Παρουσίαση του PowerPoint</dc:title>
</cp:coreProperties>
</file>