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43FA-D35D-4DF0-93F7-BB6CA5BB8BC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76240" y="779400"/>
            <a:ext cx="4889520" cy="3667320"/>
          </a:xfrm>
          <a:prstGeom prst="rect">
            <a:avLst/>
          </a:prstGeom>
          <a:ln w="0">
            <a:noFill/>
          </a:ln>
        </p:spPr>
      </p:sp>
      <p:sp>
        <p:nvSpPr>
          <p:cNvPr id="16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Α) Άξονας 3 «Υποδομές &amp; υπηρεσίες προσπελασιμότητας Ηπείρου»:</a:t>
            </a:r>
            <a:r>
              <a:rPr b="0" lang="el-GR" sz="1200" spc="-1" strike="noStrike">
                <a:solidFill>
                  <a:srgbClr val="000000"/>
                </a:solidFill>
                <a:latin typeface="Times New Roman"/>
              </a:rPr>
              <a:t> Στόχο του Άξονα αποτελεί η βελτίωση της προσπελασιμότητας των υποδομών και υπηρεσιών στην Περιφέρεια που συνδέονται τόσο με την ενίσχυση της ανταγωνιστικότητας της όσο και με την βελτίωση ζωής των κατοίκων.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κορμοί παρέμβασης &amp; οι δράσεις του Άξονα είναι:</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Ολοκλήρωση των συστημάτων συγκοινωνίας και μεταφορών»</a:t>
            </a:r>
            <a:r>
              <a:rPr b="0" lang="el-GR" sz="1200" spc="-1" strike="noStrike">
                <a:solidFill>
                  <a:srgbClr val="000000"/>
                </a:solidFill>
                <a:latin typeface="Times New Roman"/>
              </a:rPr>
              <a:t> με δράσεις «Εθνικές, περιφερειακές/τοπικές οδοί, Αστικές μεταφορές,  Ποδηλατοδρόμοι,  Πολύτροπες μεταφορές, Υποδομές εμπορευματικών κέντρων, Αερολιμένες, Βελτίωση Οδικής Ασφάλεια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Ενίσχυση των συστημάτων τηλεπικοινωνιών – πρόσβαση σε ευρυζωνικές υποδομές»</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Ανάπτυξη ενεργειακών υποδομών»</a:t>
            </a:r>
            <a:r>
              <a:rPr b="0" lang="el-GR" sz="1200" spc="-1" strike="noStrike">
                <a:solidFill>
                  <a:srgbClr val="000000"/>
                </a:solidFill>
                <a:latin typeface="Times New Roman"/>
              </a:rPr>
              <a:t> με δράσεις «Ανανεώσιμες πηγές ενέργειας, βιομάζα – Γεωθερμία/υδροηλεκτρική ενέργεια»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76240" y="779400"/>
            <a:ext cx="4889520" cy="3667320"/>
          </a:xfrm>
          <a:prstGeom prst="rect">
            <a:avLst/>
          </a:prstGeom>
          <a:ln w="0">
            <a:noFill/>
          </a:ln>
        </p:spPr>
      </p:sp>
      <p:sp>
        <p:nvSpPr>
          <p:cNvPr id="16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Β) Άξονας 6 «Αειφόρος ανάπτυξη &amp; ποιότητα ζωής Ηπείρου»:</a:t>
            </a:r>
            <a:r>
              <a:rPr b="0" lang="el-GR" sz="1000" spc="-1" strike="noStrike">
                <a:solidFill>
                  <a:srgbClr val="000000"/>
                </a:solidFill>
                <a:latin typeface="Times New Roman"/>
              </a:rPr>
              <a:t> Στόχο του Άξονα αποτελεί η προστασία του περιβάλλοντος, η  βελτίωση της ποιότητας ζωής των κατοίκων, η αξιοποίηση των συγκριτικών πλεονεκτημάτων της  περιοχής και η  συνέχιση της εφαρμογής ολοκληρωμένων παρεμβάσεων για την αστική και αγροτική αναγέννηση.</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κορμοί παρέμβασης &amp; οι δράσεις του Άξονα είναι:</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Times New Roman"/>
              </a:rPr>
              <a:t>«Κοινωνικές υποδομές και υπηρεσίες»</a:t>
            </a:r>
            <a:r>
              <a:rPr b="0" lang="el-GR" sz="1000" spc="-1" strike="noStrike">
                <a:solidFill>
                  <a:srgbClr val="000000"/>
                </a:solidFill>
                <a:latin typeface="Times New Roman"/>
              </a:rPr>
              <a:t> με δράσεις «Αναβάθμιση υποδομών και εξοπλισμών για τη βελτίωση της ποιότητας της εκπαίδευσης και της έρευνας. (Τριτοβάθμια εκπαίδευση), Ενίσχυση και Δημιουργία Υποδομών πρωτοβάθμιας και δευτεροβάθμια εκπαίδευσης, Εργαστήρια και βιβλιοθήκες των σχολείων, Υποδομές σχολείων εκπαίδευσης ενηλίκων, σχολείων γονέων και σχολείων Β’ευκαιρίας»</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Times New Roman"/>
              </a:rPr>
              <a:t>«Υγεία και κοινωνική αλληλεγγύη»</a:t>
            </a:r>
            <a:r>
              <a:rPr b="0" lang="el-GR" sz="1000" spc="-1" strike="noStrike">
                <a:solidFill>
                  <a:srgbClr val="000000"/>
                </a:solidFill>
                <a:latin typeface="Times New Roman"/>
              </a:rPr>
              <a:t> με δράσεις «Ανάπτυξη υποδομών στην Β’ Βάθμια και Γ’ Βάθμια περίθαλψη. Συμπλήρωση &amp; εκσυγχρονισμός υποδομών νοσοκομείων / δημιουργία ειδικών μονάδων και εξειδικευμένων εξοπλισμών αυτών, Υποδομές δομών κοινωνικής φροντίδας, Ενίσχυση δομών πρωτοβάθμιας υγείας, Ανάπτυξη και προστασία της δημόσιας Υγείας»</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Times New Roman"/>
              </a:rPr>
              <a:t>«Παρεμβάσεις περιβάλλοντος»</a:t>
            </a:r>
            <a:r>
              <a:rPr b="0" lang="el-GR" sz="1000" spc="-1" strike="noStrike">
                <a:solidFill>
                  <a:srgbClr val="000000"/>
                </a:solidFill>
                <a:latin typeface="Times New Roman"/>
              </a:rPr>
              <a:t> με δράσεις «Έργα διαχείρισης στερεών και επικινδύνων αποβλήτων – Έργα διαχείρισης υγρών αποβλήτων, Αποκατάσταση μολυσμένης γης, Ορθολογική διαχείριση υδατικών πόρων - Διαχείριση και διανομή νερού, Διαχείριση φυσικού περιβάλλοντος – Κατάρτιση και εφαρμογή σχεδίων ολοκληρωμένης διαχείρισης προστατευόμενων περιοχών και οικοσυστημάτων- Περιοχές </a:t>
            </a:r>
            <a:r>
              <a:rPr b="0" lang="en-US" sz="1000" spc="-1" strike="noStrike">
                <a:solidFill>
                  <a:srgbClr val="000000"/>
                </a:solidFill>
                <a:latin typeface="Times New Roman"/>
              </a:rPr>
              <a:t>NATURA</a:t>
            </a:r>
            <a:r>
              <a:rPr b="0" lang="el-GR" sz="1000" spc="-1" strike="noStrike">
                <a:solidFill>
                  <a:srgbClr val="000000"/>
                </a:solidFill>
                <a:latin typeface="Times New Roman"/>
              </a:rPr>
              <a:t> 2000, Εφαρμογή σχεδίων και μέτρων για την διατήρηση της κατάστασης του περιβάλλοντος και την πρόληψη κινδύνων – αντιπλημμυρικά, Δράσεις στο δομημένο περιβάλλον – Χωροταξία – Πολεοδομία – Αστικές αναπλάσεις.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6240" y="779400"/>
            <a:ext cx="4889520" cy="3667320"/>
          </a:xfrm>
          <a:prstGeom prst="rect">
            <a:avLst/>
          </a:prstGeom>
          <a:ln w="0">
            <a:noFill/>
          </a:ln>
        </p:spPr>
      </p:sp>
      <p:sp>
        <p:nvSpPr>
          <p:cNvPr id="16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Παρεμβάσεις πολιτισμού»</a:t>
            </a:r>
            <a:r>
              <a:rPr b="0" lang="en-US" sz="1000" spc="-1" strike="noStrike">
                <a:solidFill>
                  <a:srgbClr val="000000"/>
                </a:solidFill>
                <a:latin typeface="Times New Roman"/>
              </a:rPr>
              <a:t> με δράσεις «Προστασία και ανάδειξη της πολιτιστικής κληρονομιάς - ανάπτυξη πολιτιστικών υποδομών και υπηρεσιών, Ανάπτυξη σύγχρονου πολιτισμού, Ενοποίηση αρχαιολογικών χώρων – Δημιουργία πολιτιστικών διαδρομών»</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Παρεμβάσεις τουρισμού»</a:t>
            </a:r>
            <a:r>
              <a:rPr b="0" lang="en-US" sz="1000" spc="-1" strike="noStrike">
                <a:solidFill>
                  <a:srgbClr val="000000"/>
                </a:solidFill>
                <a:latin typeface="Times New Roman"/>
              </a:rPr>
              <a:t> με δράσεις «Ολοκληρωμένες παρεμβάσεις τουριστικής ανάπτυξης περιοχών, Συμπλήρωση αναβάθμιση υποδομών για την ανάπτυξη παραδοσιακών και ειδικών –εναλλακτικών μορφών τουρισμού, με αξιοποίηση της φυσικής και πολιτιστικής κληρονομιάς»</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Ολοκληρωμένες παρεμβάσεις  αστικής και αγροτικής αναγέννησης»</a:t>
            </a:r>
            <a:r>
              <a:rPr b="0" lang="en-US" sz="1000" spc="-1" strike="noStrike">
                <a:solidFill>
                  <a:srgbClr val="000000"/>
                </a:solidFill>
                <a:latin typeface="Times New Roman"/>
              </a:rPr>
              <a:t> με δράσεις «που αφορούν τη βελτίωση της ποιότητας ζωής των κατοίκων, που συμβάλλουν στην ανάπτυξη εναλλακτικών μορφών τουρισμού (υποδομές πολιτισμού – τουρισμού), Δημιουργία και ενίσχυση νέων μορφών και υπηρεσιών σε τοπικό επίπεδο, Λειτουργία εργαστηρίων καινοτομικής παραγωγής, Υπηρεσίες προς ΜΜΕ, Περιβαλλοντικές διαστάσεις (χρήση εναλλακτικών πηγών ενέργειας, βιοκλιματικός σχεδιασμός, εξοικονόμηση ενέργειας), Χρήση της ΕΤΠ στην παραγωγική διαδικασία στα ζητήματα περιβάλλοντος και στη Διοίκηση»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76240" y="779400"/>
            <a:ext cx="4889520" cy="3667320"/>
          </a:xfrm>
          <a:prstGeom prst="rect">
            <a:avLst/>
          </a:prstGeom>
          <a:ln w="0">
            <a:noFill/>
          </a:ln>
        </p:spPr>
      </p:sp>
      <p:sp>
        <p:nvSpPr>
          <p:cNvPr id="17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Γ) Άξονας προτεραιότητας 9 «Ψηφιακή σύγκλιση &amp; επιχειρηματικότητα Ηπείρου»</a:t>
            </a:r>
            <a:r>
              <a:rPr b="0" lang="en-US" sz="1000" spc="-1" strike="noStrike">
                <a:solidFill>
                  <a:srgbClr val="000000"/>
                </a:solidFill>
                <a:latin typeface="Times New Roman"/>
              </a:rPr>
              <a:t> περιλαμβάνει κατηγορίες παρεμβάσεων που αναμένεται να βελτιώσουν την περιφερειακή ανταγωνιστικότητα, μέσω προώθησης της ψηφιακής σύγκλισης και βελτίωσης της παραγωγικότητας των επιχειρήσεων.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Βελτίωση της περιφερειακής ανταγωνιστικότητας και της ποιότητας ζωής με αξιοποίηση των ΤΠΕ»</a:t>
            </a:r>
            <a:r>
              <a:rPr b="0" lang="en-US" sz="1000" spc="-1" strike="noStrike">
                <a:solidFill>
                  <a:srgbClr val="000000"/>
                </a:solidFill>
                <a:latin typeface="Times New Roman"/>
              </a:rPr>
              <a:t> με δράσεις «Εισαγωγή, χρήση και αξιοποίηση των ΤΠΕ από επιχειρήσεις, Ανάπτυξη εφαρμογών και δημιουργία υπηρεσιών μέσω αξιοποίησης των ΤΠΕ σε τομείς προτεραιότητας για την Ήπειρο, Ψηφιακός εκσυγχρονισμός της Περιφερειακής Δημόσιας Διοίκησης, Βελτίωση της καθημερινής ζωής μέσω ΤΠΕ-ισότιμη συμμετοχή των πολιτών της Περιφέρειας στην ψηφιακή Ελλάδα, Ανάπτυξη ψηφιακών υπηρεσιών τοπικής αυτοδιοίκησης για τον πολίτη»</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 Ενίσχυση της καινοτομικής ικανότητας της Περιφέρειας για την ανάπτυξη νέων ή βελτιωμένων προϊόντων και υπηρεσιών»</a:t>
            </a:r>
            <a:r>
              <a:rPr b="0" lang="en-US" sz="1000" spc="-1" strike="noStrike">
                <a:solidFill>
                  <a:srgbClr val="000000"/>
                </a:solidFill>
                <a:latin typeface="Times New Roman"/>
              </a:rPr>
              <a:t> με δράσεις «Δημιουργία – ανάπτυξη  περιφερειακών πόλων καινοτομίας σε τομείς προτεραιότητας για την Ήπειρο, Ενίσχυση των υποδομών Ε&amp;ΤΑ σε τομείς προτεραιότητας για την περιφερειακή οικονομία, Ενίσχυση ΜΜΕ για την ανάπτυξη ή βελτίωση προϊόντων και υπηρεσιών, Ανάπτυξη δικτύων για τη μεταφορά τεχνογνωσίας και τη διερεύνηση των τεχνολογικών προοπτικών σε επιλεγμένους κλάδους της περιφερειακής οικονομίας»</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76240" y="779400"/>
            <a:ext cx="4889520" cy="3667320"/>
          </a:xfrm>
          <a:prstGeom prst="rect">
            <a:avLst/>
          </a:prstGeom>
          <a:ln w="0">
            <a:noFill/>
          </a:ln>
        </p:spPr>
      </p:sp>
      <p:sp>
        <p:nvSpPr>
          <p:cNvPr id="17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Προώθηση της επιχειρηματικότητας – Βελτίωση του επιχειρηματικού περιβάλλοντος»</a:t>
            </a:r>
            <a:r>
              <a:rPr b="0" lang="en-US" sz="1000" spc="-1" strike="noStrike">
                <a:solidFill>
                  <a:srgbClr val="000000"/>
                </a:solidFill>
                <a:latin typeface="Times New Roman"/>
              </a:rPr>
              <a:t> με δράσεις «Ενίσχυση συλλογικών ή κλαδικών φορέων για την ανάπτυξη δράσεων επιχειρηματικής εξωστρέφειας για επιλεγμένους κλάδους της περιφερειακής οικονομίας, Δημιουργία ή βελτίωση οργανωμένων χώρων επιχειρηματικών δραστηριοτήτων, Ενίσχυση επιχειρηματικών σχεδίων στους τομείς των υπηρεσιών, του εμπορίου και της μεταποίησης, Ενίσχυση μηχανισμών ή κέντρων παροχής ολοκληρωμένων υπηρεσιών υποστήριξης στις ΜΜΕ»</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6240" y="779400"/>
            <a:ext cx="4889520" cy="3667320"/>
          </a:xfrm>
          <a:prstGeom prst="rect">
            <a:avLst/>
          </a:prstGeom>
          <a:ln w="0">
            <a:noFill/>
          </a:ln>
        </p:spPr>
      </p:sp>
      <p:sp>
        <p:nvSpPr>
          <p:cNvPr id="17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Δ) Άξονας 12 «Τεχνική υποστήριξη εφαρμογής Ηπείρου»</a:t>
            </a:r>
            <a:r>
              <a:rPr b="0" lang="en-US" sz="1200" spc="-1" strike="noStrike">
                <a:solidFill>
                  <a:srgbClr val="000000"/>
                </a:solidFill>
                <a:latin typeface="Times New Roman"/>
              </a:rPr>
              <a:t> ο οποίος αφορά στην υλοποίηση παρεμβάσεων για την υποστήριξη της αποτελεσματικής εφαρμογής του Επιχειρησιακού Προγράμματο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Τεχνική υποστήριξη του προγράμματος»</a:t>
            </a:r>
            <a:r>
              <a:rPr b="0" lang="en-US" sz="1200" spc="-1" strike="noStrike">
                <a:solidFill>
                  <a:srgbClr val="000000"/>
                </a:solidFill>
                <a:latin typeface="Times New Roman"/>
              </a:rPr>
              <a:t> με δράσεις «Χρηματοδότηση παρεμβάσεων που σχετίζονται με την προετοιμασία, εφαρμογή, παρακολούθηση και έλεγχο του προγράμματος, Χρηματοδότηση παρεμβάσεων για την αξιολόγηση του προγράμματος, Χρηματοδότηση των δράσεων Πληροφόρησης – Δημοσιότητας του Προγράμματος»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76240" y="779400"/>
            <a:ext cx="4889520" cy="3667320"/>
          </a:xfrm>
          <a:prstGeom prst="rect">
            <a:avLst/>
          </a:prstGeom>
          <a:ln w="0">
            <a:noFill/>
          </a:ln>
        </p:spPr>
      </p:sp>
      <p:sp>
        <p:nvSpPr>
          <p:cNvPr id="17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χετικά με τα χρηματοδοτικά στοιχεία για την Ήπειρ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οινοτική συνδρομή μέσω του ΕΤΠΑ είναι 315.000.000 € και η συνολική Δημόσια Δαπάνη 485.000.000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ατανομή τους ανά Άξονα έχει ως εξή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Άξονας 3 «Υποδομές και υπηρεσίες προσπελασιμότητας Ηπείρου»</a:t>
            </a:r>
            <a:r>
              <a:rPr b="0" lang="el-GR" sz="1200" spc="-1" strike="noStrike">
                <a:solidFill>
                  <a:srgbClr val="000000"/>
                </a:solidFill>
                <a:latin typeface="Times New Roman"/>
              </a:rPr>
              <a:t> 84.080.000 € με συνολική ΔΔ 129.456.5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Άξονας 6 «Αειφόρος ανάπτυξη και ποιότητα ζωής Ηπείρου»</a:t>
            </a:r>
            <a:r>
              <a:rPr b="0" lang="el-GR" sz="1200" spc="-1" strike="noStrike">
                <a:solidFill>
                  <a:srgbClr val="000000"/>
                </a:solidFill>
                <a:latin typeface="Times New Roman"/>
              </a:rPr>
              <a:t>    161.620.000 €, με συνολική ΔΔ 248.843.49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Άξονας 9 «Ψηφιακή σύγκλιση και επιχειρηματικότητα Ηπείρου»</a:t>
            </a:r>
            <a:r>
              <a:rPr b="0" lang="el-GR" sz="1200" spc="-1" strike="noStrike">
                <a:solidFill>
                  <a:srgbClr val="000000"/>
                </a:solidFill>
                <a:latin typeface="Times New Roman"/>
              </a:rPr>
              <a:t>    63.000.000 €, με συνολική ΔΔ 97.00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Άξονας 12 «Τεχνική υποστήριξη εφαρμογής Ηπείρου»</a:t>
            </a:r>
            <a:r>
              <a:rPr b="0" lang="el-GR" sz="1200" spc="-1" strike="noStrike">
                <a:solidFill>
                  <a:srgbClr val="000000"/>
                </a:solidFill>
                <a:latin typeface="Times New Roman"/>
              </a:rPr>
              <a:t>     6.300.000 €, με συνολική ΔΔ 9.700.000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76240" y="779400"/>
            <a:ext cx="4889520" cy="3667320"/>
          </a:xfrm>
          <a:prstGeom prst="rect">
            <a:avLst/>
          </a:prstGeom>
          <a:ln w="0">
            <a:noFill/>
          </a:ln>
        </p:spPr>
      </p:sp>
      <p:sp>
        <p:nvSpPr>
          <p:cNvPr id="17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Στην Ενότητα 4 του Επιχειρησιακού Προγράμματος περιγράφονται οι Διατάξεις εφαρμογής του.</a:t>
            </a:r>
            <a:endParaRPr b="0" lang="en-US" sz="1000" spc="-1" strike="noStrike">
              <a:solidFill>
                <a:srgbClr val="000000"/>
              </a:solidFill>
              <a:latin typeface="Times New Roman"/>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rPr>
              <a:t>1. ΑΡΧΕΣ ΚΑΙ ΦΟΡΕΙΣ ΣΥΝΤΟΝΙΣΜΟΥ, ΔΙΑΧΕΙΡΙΣΗΣ ΚΑΙ ΕΛΕΓΧΟΥ</a:t>
            </a:r>
            <a:endParaRPr b="0" lang="en-US" sz="10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ύμφωνα με τις απαιτήσεις του γενικού Κανονισμού 1083/2006, για κάθε επιχειρησιακό πρόγραμμα ορίζονται: </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1" lang="en-US" sz="1200" spc="-1" strike="noStrike">
                <a:solidFill>
                  <a:srgbClr val="000000"/>
                </a:solidFill>
                <a:latin typeface="Times New Roman"/>
              </a:rPr>
              <a:t>διαχειριστική αρχή</a:t>
            </a:r>
            <a:r>
              <a:rPr b="0" lang="en-US" sz="1200" spc="-1" strike="noStrike">
                <a:solidFill>
                  <a:srgbClr val="000000"/>
                </a:solidFill>
                <a:latin typeface="Times New Roman"/>
              </a:rPr>
              <a:t>, η </a:t>
            </a:r>
            <a:r>
              <a:rPr b="1" lang="en-US" sz="1200" spc="-1" strike="noStrike">
                <a:solidFill>
                  <a:srgbClr val="000000"/>
                </a:solidFill>
                <a:latin typeface="Times New Roman"/>
              </a:rPr>
              <a:t>αρχή πιστοποίησης,</a:t>
            </a:r>
            <a:r>
              <a:rPr b="0" lang="en-US" sz="1200" spc="-1" strike="noStrike">
                <a:solidFill>
                  <a:srgbClr val="000000"/>
                </a:solidFill>
                <a:latin typeface="Times New Roman"/>
              </a:rPr>
              <a:t> η </a:t>
            </a:r>
            <a:r>
              <a:rPr b="1" lang="en-US" sz="1200" spc="-1" strike="noStrike">
                <a:solidFill>
                  <a:srgbClr val="000000"/>
                </a:solidFill>
                <a:latin typeface="Times New Roman"/>
              </a:rPr>
              <a:t>αρχή ελέγχου</a:t>
            </a:r>
            <a:r>
              <a:rPr b="0" lang="en-US" sz="1200" spc="-1" strike="noStrike">
                <a:solidFill>
                  <a:srgbClr val="000000"/>
                </a:solidFill>
                <a:latin typeface="Times New Roman"/>
              </a:rPr>
              <a:t> και προσδιορίζονται οι </a:t>
            </a:r>
            <a:r>
              <a:rPr b="1" lang="en-US" sz="1200" spc="-1" strike="noStrike">
                <a:solidFill>
                  <a:srgbClr val="000000"/>
                </a:solidFill>
                <a:latin typeface="Times New Roman"/>
              </a:rPr>
              <a:t>ενδιάμεσοι φορείς</a:t>
            </a:r>
            <a:r>
              <a:rPr b="0" lang="en-US" sz="1200" spc="-1" strike="noStrike">
                <a:solidFill>
                  <a:srgbClr val="000000"/>
                </a:solidFill>
                <a:latin typeface="Times New Roman"/>
              </a:rPr>
              <a:t> που θα οριστούν για τη διαχείρισή του. </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 κοινό σύστημα διαχείρισης και ελέγχου των ΕΠ του Εθνικού Στρατηγικού Πλαισίου Αναφοράς, ορίζεται μια </a:t>
            </a:r>
            <a:r>
              <a:rPr b="1" lang="en-US" sz="1200" spc="-1" strike="noStrike">
                <a:solidFill>
                  <a:srgbClr val="000000"/>
                </a:solidFill>
                <a:latin typeface="Times New Roman"/>
              </a:rPr>
              <a:t>εθνική αρχή συντονισμού</a:t>
            </a:r>
            <a:r>
              <a:rPr b="0" lang="en-US" sz="1200" spc="-1" strike="noStrike">
                <a:solidFill>
                  <a:srgbClr val="000000"/>
                </a:solidFill>
                <a:latin typeface="Times New Roman"/>
              </a:rPr>
              <a:t> για τη διασφάλιση του απαραίτητου συντονισμού της εφαρμογής των ΕΠ και την επίτευξη των στόχων του ΕΣΠ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εθνική αρχή συντονισμού και οι διαχειριστικές αρχές των ΕΠ συνιστούν δίκτυο με στόχο τη στενή συνεργασία, την άμεση ενημέρωση και τη μεταφορά των καλών πρακτικών που αναπτύσσονται.</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6240" y="779400"/>
            <a:ext cx="4889520" cy="3667320"/>
          </a:xfrm>
          <a:prstGeom prst="rect">
            <a:avLst/>
          </a:prstGeom>
          <a:ln w="0">
            <a:noFill/>
          </a:ln>
        </p:spPr>
      </p:sp>
      <p:sp>
        <p:nvSpPr>
          <p:cNvPr id="18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0" lang="en-US" sz="1200" spc="-1" strike="noStrike" u="sng">
                <a:solidFill>
                  <a:srgbClr val="000000"/>
                </a:solidFill>
                <a:uFillTx/>
                <a:latin typeface="Times New Roman"/>
              </a:rPr>
              <a:t>Εθνική Αρχή Συντονισμού Αναπτυξιακών Προγραμμάτων</a:t>
            </a:r>
            <a:r>
              <a:rPr b="0" lang="en-US" sz="1200" spc="-1" strike="noStrike">
                <a:solidFill>
                  <a:srgbClr val="000000"/>
                </a:solidFill>
                <a:latin typeface="Times New Roman"/>
              </a:rPr>
              <a:t> έχει την ευθύνη του συντονισμού του προγραμματισμού και της εφαρμογής των ΕΠ στο πλαίσιο του ΕΣΠΑ και της καθοδήγησης των διαχειριστικών αρχών, με στόχο την εξασφάλιση της αποτελεσματικότητας της διαχείρισης και της εφαρμογής του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έραν της εθνικής αρχής συντονισμού προσδιορίζονται οι ακόλουθοι </a:t>
            </a:r>
            <a:r>
              <a:rPr b="0" lang="en-US" sz="1200" spc="-1" strike="noStrike" u="sng">
                <a:solidFill>
                  <a:srgbClr val="000000"/>
                </a:solidFill>
                <a:uFillTx/>
                <a:latin typeface="Times New Roman"/>
              </a:rPr>
              <a:t>βασικοί μηχανισμοί συντονισμού</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76240" y="779400"/>
            <a:ext cx="4889520" cy="3667320"/>
          </a:xfrm>
          <a:prstGeom prst="rect">
            <a:avLst/>
          </a:prstGeom>
          <a:ln w="0">
            <a:noFill/>
          </a:ln>
        </p:spPr>
      </p:sp>
      <p:sp>
        <p:nvSpPr>
          <p:cNvPr id="18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των </a:t>
            </a:r>
            <a:r>
              <a:rPr b="0" lang="en-US" sz="1200" spc="-1" strike="noStrike" u="sng">
                <a:solidFill>
                  <a:srgbClr val="000000"/>
                </a:solidFill>
                <a:uFillTx/>
                <a:latin typeface="Times New Roman"/>
              </a:rPr>
              <a:t>δράσεων που συγχρηματοδοτούνται από το ΕΚΤ</a:t>
            </a:r>
            <a:r>
              <a:rPr b="0" lang="en-US" sz="1200" spc="-1" strike="noStrike">
                <a:solidFill>
                  <a:srgbClr val="000000"/>
                </a:solidFill>
                <a:latin typeface="Times New Roman"/>
              </a:rPr>
              <a:t> ασκείται από την Ειδική Υπηρεσία Συντονισμού και Παρακολούθησης Δράσεων ΕΚΤ (ΕΥΣΕΚΤ) του Υπουργείου Απασχόλησης &amp; Κοινωνικής Προστασίας σε συνεργασία με την εθνική αρχή συντονισμού και τις αρμόδιες εθνικές αρχές.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των </a:t>
            </a:r>
            <a:r>
              <a:rPr b="0" lang="en-US" sz="1200" spc="-1" strike="noStrike" u="sng">
                <a:solidFill>
                  <a:srgbClr val="000000"/>
                </a:solidFill>
                <a:uFillTx/>
                <a:latin typeface="Times New Roman"/>
              </a:rPr>
              <a:t>δράσεων στον τομέα του περιβάλλοντος</a:t>
            </a:r>
            <a:r>
              <a:rPr b="0" lang="en-US" sz="1200" spc="-1" strike="noStrike">
                <a:solidFill>
                  <a:srgbClr val="000000"/>
                </a:solidFill>
                <a:latin typeface="Times New Roman"/>
              </a:rPr>
              <a:t> ασκείται μέσω Ειδικής Υπηρεσίας στο ΥΠΕΧΩΔΕ</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των </a:t>
            </a:r>
            <a:r>
              <a:rPr b="0" lang="en-US" sz="1200" spc="-1" strike="noStrike" u="sng">
                <a:solidFill>
                  <a:srgbClr val="000000"/>
                </a:solidFill>
                <a:uFillTx/>
                <a:latin typeface="Times New Roman"/>
              </a:rPr>
              <a:t>δράσεων του τομέα της υγείας</a:t>
            </a:r>
            <a:r>
              <a:rPr b="0" lang="en-US" sz="1200" spc="-1" strike="noStrike">
                <a:solidFill>
                  <a:srgbClr val="000000"/>
                </a:solidFill>
                <a:latin typeface="Times New Roman"/>
              </a:rPr>
              <a:t> θα διασφαλιστεί (α) σε στρατηγικό, επιτελικό επίπεδο, από ένα διυπουργικό όργανο υπό την προεδρία του Γενικού Γραμματέα του Υπουργείου Υγείας &amp; Κοινωνικής Αλληλεγγύης, και (β) σε επιχειρησιακό επίπεδο, από  ειδική δομή</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Για την υποστήριξη της εθνικής αρχής συντονισμού στο συντονισμό του προγραμματισμού και της εφαρμογής των </a:t>
            </a:r>
            <a:r>
              <a:rPr b="0" lang="en-US" sz="1200" spc="-1" strike="noStrike" u="sng">
                <a:solidFill>
                  <a:srgbClr val="000000"/>
                </a:solidFill>
                <a:uFillTx/>
                <a:latin typeface="Times New Roman"/>
              </a:rPr>
              <a:t>συγχρηματοδοτούμενων δράσεων κρατικών ενισχύσεων</a:t>
            </a:r>
            <a:r>
              <a:rPr b="0" lang="en-US" sz="1200" spc="-1" strike="noStrike">
                <a:solidFill>
                  <a:srgbClr val="000000"/>
                </a:solidFill>
                <a:latin typeface="Times New Roman"/>
              </a:rPr>
              <a:t> συνιστάται ειδική επιτροπή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οβλέπεται συντονισμός και εποπτεία των </a:t>
            </a:r>
            <a:r>
              <a:rPr b="0" lang="en-US" sz="1200" spc="-1" strike="noStrike" u="sng">
                <a:solidFill>
                  <a:srgbClr val="000000"/>
                </a:solidFill>
                <a:uFillTx/>
                <a:latin typeface="Times New Roman"/>
              </a:rPr>
              <a:t>δράσεων και παρεμβάσεων Ε&amp;Τ</a:t>
            </a:r>
            <a:r>
              <a:rPr b="0" lang="en-US" sz="1200" spc="-1" strike="noStrike">
                <a:solidFill>
                  <a:srgbClr val="000000"/>
                </a:solidFill>
                <a:latin typeface="Times New Roman"/>
              </a:rPr>
              <a:t>, καθώς για το σκοπό αυτό πρόκειται να ιδρυθούν ο Εθνικός Οργανισμός Έρευνας, η Διυπουργική  Επιτροπή Έρευνας και Τεχνολογίας και το Εθνικό Συμβούλιο Έρευνας και Τεχνολογίας.</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των </a:t>
            </a:r>
            <a:r>
              <a:rPr b="0" lang="en-US" sz="1200" spc="-1" strike="noStrike" u="sng">
                <a:solidFill>
                  <a:srgbClr val="000000"/>
                </a:solidFill>
                <a:uFillTx/>
                <a:latin typeface="Times New Roman"/>
              </a:rPr>
              <a:t>δράσεων στον τομέα του πολιτισμού</a:t>
            </a:r>
            <a:r>
              <a:rPr b="0" lang="en-US" sz="1200" spc="-1" strike="noStrike">
                <a:solidFill>
                  <a:srgbClr val="000000"/>
                </a:solidFill>
                <a:latin typeface="Times New Roman"/>
              </a:rPr>
              <a:t> θα διασφαλιστεί από την ειδική υπηρεσία του ΕΠ «Πολιτισμός» η οποία λειτουργεί στο πλαίσιο του ΚΠΣ 2000-2006 στο Υπουργείο Πολιτισμού, η οποία θα αναλάβει και αρμοδιότητες συντονισμού της εφαρμογής των δράσεων του τομέα πολιτισμού που υλοποιούνται από τα ΕΠ του ΕΣΠΑ.</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a:t>
            </a:r>
            <a:r>
              <a:rPr b="0" lang="en-US" sz="1200" spc="-1" strike="noStrike" u="sng">
                <a:solidFill>
                  <a:srgbClr val="000000"/>
                </a:solidFill>
                <a:uFillTx/>
                <a:latin typeface="Times New Roman"/>
              </a:rPr>
              <a:t>μεταξύ των ΕΠ του ΕΣΠΑ και των προγραμμάτων που χρηματοδοτούνται από το ΕΓΤΑΑ και το ΕΤΑ</a:t>
            </a:r>
            <a:r>
              <a:rPr b="0" lang="en-US" sz="1200" spc="-1" strike="noStrike">
                <a:solidFill>
                  <a:srgbClr val="000000"/>
                </a:solidFill>
                <a:latin typeface="Times New Roman"/>
              </a:rPr>
              <a:t>, ασκείται από την εθνική αρχή συντονισμού και τις αντίστοιχες ειδικές υπηρεσίες διαχείρισης των προγραμμάτων.</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76240" y="779400"/>
            <a:ext cx="4889520" cy="3667320"/>
          </a:xfrm>
          <a:prstGeom prst="rect">
            <a:avLst/>
          </a:prstGeom>
          <a:ln w="0">
            <a:noFill/>
          </a:ln>
        </p:spPr>
      </p:sp>
      <p:sp>
        <p:nvSpPr>
          <p:cNvPr id="14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ε συνέχεια της δέσμης των Κανονισμών της Ευρωπαικής Επιτροπής για την μεταρρύθμιση της πολιτικής συνοχής της περιόδου 2007-2013 και των Εγκυκλίων (1</a:t>
            </a:r>
            <a:r>
              <a:rPr b="0" lang="el-GR" sz="1200" spc="-1" strike="noStrike" baseline="30000">
                <a:solidFill>
                  <a:srgbClr val="000000"/>
                </a:solidFill>
                <a:latin typeface="Times New Roman"/>
              </a:rPr>
              <a:t>η</a:t>
            </a:r>
            <a:r>
              <a:rPr b="0" lang="el-GR" sz="1200" spc="-1" strike="noStrike">
                <a:solidFill>
                  <a:srgbClr val="000000"/>
                </a:solidFill>
                <a:latin typeface="Times New Roman"/>
              </a:rPr>
              <a:t> &amp; 2</a:t>
            </a:r>
            <a:r>
              <a:rPr b="0" lang="el-GR" sz="1200" spc="-1" strike="noStrike" baseline="30000">
                <a:solidFill>
                  <a:srgbClr val="000000"/>
                </a:solidFill>
                <a:latin typeface="Times New Roman"/>
              </a:rPr>
              <a:t>η</a:t>
            </a:r>
            <a:r>
              <a:rPr b="0" lang="el-GR" sz="1200" spc="-1" strike="noStrike">
                <a:solidFill>
                  <a:srgbClr val="000000"/>
                </a:solidFill>
                <a:latin typeface="Times New Roman"/>
              </a:rPr>
              <a:t>) του ΥπΟιΟ για την κατάρτιση του Εθνικού Στρατηγικού Σχεδίου Ανάπτυξης της νέας προγραμματικής περιόδου, εκπονήθηκε και υπεβλήθη τον Φεβρουάριο 2005 το «Στρατηγικό Σχέδιο Ανάπτυξης Περιφέρειας Ηπείρου», στο οποίο διατυπώνονται βασικά ζητήματα που μπορούν να οδηγήσουν στην διαμόρφωση βασικών αναπτυξιακών προτεραιοτήτων για την περιοχή. Το Στρατηγικό Σχέδιο παρουσιάσθηκε στο Περιφερειακό Συμβούλιο τον Ιούνιο 2005 (7.6.200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76240" y="779400"/>
            <a:ext cx="4889520" cy="3667320"/>
          </a:xfrm>
          <a:prstGeom prst="rect">
            <a:avLst/>
          </a:prstGeom>
          <a:ln w="0">
            <a:noFill/>
          </a:ln>
        </p:spPr>
      </p:sp>
      <p:sp>
        <p:nvSpPr>
          <p:cNvPr id="18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u="sng">
                <a:solidFill>
                  <a:srgbClr val="000000"/>
                </a:solidFill>
                <a:uFillTx/>
                <a:latin typeface="Times New Roman"/>
              </a:rPr>
              <a:t>διαχειριστική αρχή του Επιχειρησιακού Προγράμματος</a:t>
            </a:r>
            <a:r>
              <a:rPr b="0" lang="el-GR" sz="1000" spc="-1" strike="noStrike">
                <a:solidFill>
                  <a:srgbClr val="000000"/>
                </a:solidFill>
                <a:latin typeface="Times New Roman"/>
              </a:rPr>
              <a:t> είναι υπεύθυνη για τη διαχείριση και την υλοποίηση του. Ειδικότερα είναι υπεύθυνη για: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της επιλογής των προς χρηματοδότηση πράξεων</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επαλήθευση της παράδοσης των προϊόντων και υπηρεσιών καθώς και της πραγματικής πραγματοποίησης των δαπανών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της συλλογής, καταχώρησης και αποθήκευσης, στο ΟΠΣ  λογιστικών εγγραφών για κάθε πράξη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ότι οι δικαιούχοι και οι άλλοι φορείς που εμπλέκονται στην υλοποίηση πράξεων τηρούν είτε χωριστό λογιστικό σύστημα είτε επαρκή λογιστική κωδικοποίηση</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ότι οι αξιολογήσεις των ΕΠ εκτελούνται σύμφωνα με τα προβλεπόμενα στον Κανονισμό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ον καθορισμό διαδικασιών για τη διασφάλιση της τήρησης όλων των εγγράφων σχετικά με τις δαπάνες και τους λογιστικούς ελέγχους</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ότι η αρχή πιστοποίησης λαμβάνει όλες τις αναγκαίες πληροφορίες για κάθε δαπάνη που πραγματοποιείται</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υποστήριξη των εργασιών της επιτροπής παρακολούθησης</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σύνταξη και την υποβολή στην Επιτροπή των ετήσιων και τελικών εκθέσεων</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της συμμόρφωσης προς τις απαιτήσεις ενημέρωσης και δημοσιότητας</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υποβολή, στην Επιτροπή, των αναγκαίων πληροφοριών προκειμένου να αξιολογήσει τα μεγάλα έργα και να προσδιορίσει τη συνδρομή των Ταμείων</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παρακολούθηση της ποιότητας και της αποτελεσματικότητας της υλοποίησης του ΕΠ, τη σύνταξη και υποβολή στην επιτροπή παρακολούθησης του ΕΠ προτάσεων για αναθεώρησή του</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παρακολούθηση των εσόδων που προκύπτουν από έργα που παράγουν έσοδα</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από κοινού με την Επιτροπή ετήσια εξέταση της υλοποίησης του ΕΠ</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ακύρωση μέρους ή του συνόλου της κοινοτικής συνεισφοράς της πράξης</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εισήγηση στον αρμόδιο υπουργό για την έκδοση απόφασης ανάκτησης αχρεωστήτως καταβληθέντων ποσών</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Ως διαχειριστική αρχή του Ε Π Θεσσαλίας -Στερεάς Ελλάδας – Ηπείρου, ορίζεται, με κοινή απόφαση των Υπουργών Οικονομίας &amp; Οικονομικών ,Εσωτερικών- Δημόσιας Διοίκησης &amp; Αποκέντρωσης, η Ειδική Υπηρεσία Διαχείρισης ΠΕΠ, η οποία συστήνεται για τους σκοπούς αυτούς στο ΥπΟιΟ και υπάγεται στη Γενική Γραμματεία Επενδύσεων και Ανάπτυξης.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6240" y="779400"/>
            <a:ext cx="4889520" cy="3667320"/>
          </a:xfrm>
          <a:prstGeom prst="rect">
            <a:avLst/>
          </a:prstGeom>
          <a:ln w="0">
            <a:noFill/>
          </a:ln>
        </p:spPr>
      </p:sp>
      <p:sp>
        <p:nvSpPr>
          <p:cNvPr id="18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Με κοινή απόφαση του Υπουργού Οικονομίας και Οικονομικών και του εκάστοτε αρμόδιου Υπουργού δύναται να ορίζονται ένας ή περισσότεροι </a:t>
            </a:r>
            <a:r>
              <a:rPr b="0" lang="el-GR" sz="1000" spc="-1" strike="noStrike" u="sng">
                <a:solidFill>
                  <a:srgbClr val="000000"/>
                </a:solidFill>
                <a:uFillTx/>
                <a:latin typeface="Times New Roman"/>
              </a:rPr>
              <a:t>ενδιάμεσοι φορείς διαχείρισης</a:t>
            </a:r>
            <a:r>
              <a:rPr b="0" lang="el-GR" sz="1000" spc="-1" strike="noStrike">
                <a:solidFill>
                  <a:srgbClr val="000000"/>
                </a:solidFill>
                <a:latin typeface="Times New Roman"/>
              </a:rPr>
              <a:t>, οι οποίοι αναλαμβάνουν την άσκηση μέρους των αρμοδιοτήτων της διαχειριστικής αρχής του ΕΠ σε σχέση με δικαιούχους που εκτελούν πράξεις για λογαριασμό και υπό την ευθύνη τη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Ως ενδιάμεσος φορέας διαχείρισης δύναται να οριστεί δημόσια υπηρεσία ή άλλο νομικό πρόσωπο του δημόσιου τομέα, το οποίο ασκεί τις αρμοδιότητες διαχείρισης βάσει αποκλειστικού δικαιώματος που του  παρέχεται δυνάμει νομοθετικής ή κανονιστικής ρυθμίσεως. Σε κάθε άλλη περίπτωση ο ενδιάμεσος φορέας διαχείρισης επιλέγεται μετά από διαγωνιστική διαδικασία ή μετά από πρόσκληση εκδήλωσης ενδιαφέροντο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αρμοδιότητες της διαχειριστικής αρχής που δύνανται να αναληφθούν από τους ενδιάμεσους φορείς διαχείρισης στο πλαίσιο του ΕΠ είναι όλες οι αρμοδιότητες της ΔΑ πλην των διαδικασιών αξιολόγησης, αιτημάτων πληρωμής, ετησίων &amp; τελικών εκθέσεων, αναθεωρήσεων του Προγράμματο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διαχειριστική αρχή του ΕΠ συντονίζει και εποπτεύει την άσκηση των αρμοδιοτήτων των ενδιάμεσων φορέων και έχει την τελική ευθύνη έναντι της Επιτροπή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ο πλαίσιο του Επιχειρησιακού Προγράμματος Θεσσαλίας -Στερεάς Ελλάδας – Ηπείρου ορίζονται ως ενδιάμεσοι φορείς διαχείρισης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υφιστάμενες ΕΥΔ για κατηγορίες πράξεων περιφερειακής εμβέλειας που υλοποιούνται στην αντίστοιχη Περιφέρεια.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ΥΔ του ΕΠ «Σιδηρόδρομοι-Αεροδρόμια-Αστικές Συγκοινωνίες», για πράξεις υποδομών, προμηθειών και υπηρεσιών εθνικής εμβέλειας, αρμοδιότητας Υπουργείου Μεταφορών και Επικοινωνιών, που υλοποιούνται στις τρεις Περιφέρειες.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ΥΔ του ΕΠ «Ανταγωνιστικότητα και Επιχειρηματικότητα», για πράξεις ενεργειακής υποδομής καθώς και για πράξεις εθνικής εμβέλειας, αρμοδιότητας Υπουργείου Ανάπτυξης, που υλοποιούνται στις τρεις Περιφέρειες.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ΥΔ του ΕΠ «Ψηφιακή Σύγκλιση», για πράξεις ψηφιακής σύγκλισης εθνικής εμβέλειας που υλοποιούνται στις τρεις Περιφέρειες. </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ανωτέρω Ενδιάμεσοι Φορείς Διαχείρισης συνεργάζονται επίσης με την οικεία διαχειριστική αρχή στην άσκηση των λοιπών αρμοδιοτήτων τη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Γενική Διεύθυνση Ιδιωτικών Επενδύσεων του ΥπΟιΟ, ορίζεται ενδιάμεσος φορέας διαχείρισης δράσεων κρατικών ενισχύσεων του επενδυτικού νόμου, αρμοδιότητάς τη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Ως ενδιάμεσοι φορείς διαχείρισης δράσεων κρατικών ενισχύσεων για τις Μικρομεσαίες Επιχειρήσεις ορίζονται τα χρηματοπιστωτικά ιδρύματα</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76240" y="779400"/>
            <a:ext cx="4889520" cy="3667320"/>
          </a:xfrm>
          <a:prstGeom prst="rect">
            <a:avLst/>
          </a:prstGeom>
          <a:ln w="0">
            <a:noFill/>
          </a:ln>
        </p:spPr>
      </p:sp>
      <p:sp>
        <p:nvSpPr>
          <p:cNvPr id="18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κοινή απόφαση του Υπουργού Οικονομίας και Οικονομικών και του εκάστοτε αρμόδιου Υπουργού, η διαχειριστική αρχή δύναται να αναθέτει σε ενδιάμεσους φορείς, αρμοδιότητες διαχείρισης και υλοποίησης συνολικών επιχορηγήσεων.</a:t>
            </a: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0" lang="en-US" sz="1200" spc="-1" strike="noStrike" u="sng">
                <a:solidFill>
                  <a:srgbClr val="000000"/>
                </a:solidFill>
                <a:uFillTx/>
                <a:latin typeface="Times New Roman"/>
              </a:rPr>
              <a:t>αρχή πιστοποίησης</a:t>
            </a:r>
            <a:r>
              <a:rPr b="0" lang="en-US" sz="1200" spc="-1" strike="noStrike">
                <a:solidFill>
                  <a:srgbClr val="000000"/>
                </a:solidFill>
                <a:latin typeface="Times New Roman"/>
              </a:rPr>
              <a:t> είναι υπεύθυνη για την πιστοποίηση των καταστάσεων δαπανών και αιτήσεων πληρωμών πριν αυτές διαβιβαστούν στην Επιτροπή.</a:t>
            </a: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Ως αρχή πιστοποίησης των ΕΠ του ΕΣΠΑ, ορίζεται η Ειδική Υπηρεσία Αρχή Πληρωμής του Γ ΚΠΣ, </a:t>
            </a: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0" lang="en-US" sz="1200" spc="-1" strike="noStrike" u="sng">
                <a:solidFill>
                  <a:srgbClr val="000000"/>
                </a:solidFill>
                <a:uFillTx/>
                <a:latin typeface="Times New Roman"/>
              </a:rPr>
              <a:t>αρχή ελέγχου</a:t>
            </a:r>
            <a:r>
              <a:rPr b="0" lang="en-US" sz="1200" spc="-1" strike="noStrike">
                <a:solidFill>
                  <a:srgbClr val="000000"/>
                </a:solidFill>
                <a:latin typeface="Times New Roman"/>
              </a:rPr>
              <a:t> έχει την ευθύνη για την επαλήθευση της αποτελεσματικής λειτουργίας του συστήματος διαχείρισης και ελέγχου του ΕΠ.</a:t>
            </a: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Ως αρχή ελέγχου, κοινή για όλα τα ΕΠ του ΕΣΠΑ, ορίζεται η Επιτροπή Δημοσιονομικού Ελέγχου (ΕΔΕΛ)</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76240" y="779400"/>
            <a:ext cx="4889520" cy="3667320"/>
          </a:xfrm>
          <a:prstGeom prst="rect">
            <a:avLst/>
          </a:prstGeom>
          <a:ln w="0">
            <a:noFill/>
          </a:ln>
        </p:spPr>
      </p:sp>
      <p:sp>
        <p:nvSpPr>
          <p:cNvPr id="19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2. ΑΡΧΕΣ ΠΑΡΑΚΟΛΟΥΘΗΣΗΣ</a:t>
            </a:r>
            <a:endParaRPr b="0" lang="en-US" sz="1000" spc="-1" strike="noStrike">
              <a:solidFill>
                <a:srgbClr val="000000"/>
              </a:solidFill>
              <a:latin typeface="Times New Roman"/>
            </a:endParaRPr>
          </a:p>
          <a:p>
            <a:pPr marL="304920" indent="-3049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Έχει συσταθεί </a:t>
            </a:r>
            <a:r>
              <a:rPr b="0" lang="el-GR" sz="1000" spc="-1" strike="noStrike" u="sng">
                <a:solidFill>
                  <a:srgbClr val="000000"/>
                </a:solidFill>
                <a:uFillTx/>
                <a:latin typeface="Times New Roman"/>
              </a:rPr>
              <a:t>Διυπουργική Επιτροπή κοινοτικών προγραμμάτων</a:t>
            </a:r>
            <a:r>
              <a:rPr b="0" lang="el-GR" sz="1000" spc="-1" strike="noStrike">
                <a:solidFill>
                  <a:srgbClr val="000000"/>
                </a:solidFill>
                <a:latin typeface="Times New Roman"/>
              </a:rPr>
              <a:t>, έργο της οποίας είναι ο συντονισμός και η παρακολούθηση της εφαρμογής των συγχρηματοδοτούμενων προγραμμάτων. Συμμετέχουν ο Υπουργός Οικονομίας και Οικονομικών ως πρόεδρος και οι υπουργοί Ανάπτυξης, Περιβάλλοντος-Χωροταξίας και Δημοσίων Έργων, Απασχόλησης και Κοινωνικής Προστασίας, ως μέλη. Ως εισηγητής συμμετέχει επιπλέον ο υφυπουργός Οικονομίας &amp; Οικονομικών, αρμόδιος για θέματα κοινοτικών προγραμμάτων.</a:t>
            </a:r>
            <a:endParaRPr b="0" lang="en-US" sz="1000" spc="-1" strike="noStrike">
              <a:solidFill>
                <a:srgbClr val="000000"/>
              </a:solidFill>
              <a:latin typeface="Times New Roman"/>
            </a:endParaRPr>
          </a:p>
          <a:p>
            <a:pPr marL="304920" indent="-3049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u="sng">
                <a:solidFill>
                  <a:srgbClr val="000000"/>
                </a:solidFill>
                <a:uFillTx/>
                <a:latin typeface="Times New Roman"/>
              </a:rPr>
              <a:t>διάσκεψη των Προέδρων των επιτροπών παρακολούθησης</a:t>
            </a:r>
            <a:r>
              <a:rPr b="0" lang="el-GR" sz="1000" spc="-1" strike="noStrike">
                <a:solidFill>
                  <a:srgbClr val="000000"/>
                </a:solidFill>
                <a:latin typeface="Times New Roman"/>
              </a:rPr>
              <a:t> η οποία συγκροτείται εντός 3 μηνών από τη συγκρότηση των επιτροπών παρακολούθησης του συνόλου των ΕΠ. στην οποία προεδρεύει ο υφυπουργός Οικονομίας &amp; Οικονομικών, αρμόδιος για θέματα κοινοτικών προγραμμάτων</a:t>
            </a:r>
            <a:endParaRPr b="0" lang="en-US" sz="1000" spc="-1" strike="noStrike">
              <a:solidFill>
                <a:srgbClr val="000000"/>
              </a:solidFill>
              <a:latin typeface="Times New Roman"/>
            </a:endParaRPr>
          </a:p>
          <a:p>
            <a:pPr marL="304920" indent="-3049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ια κάθε ΕΠ συστήνεται </a:t>
            </a:r>
            <a:r>
              <a:rPr b="0" lang="el-GR" sz="1000" spc="-1" strike="noStrike" u="sng">
                <a:solidFill>
                  <a:srgbClr val="000000"/>
                </a:solidFill>
                <a:uFillTx/>
                <a:latin typeface="Times New Roman"/>
              </a:rPr>
              <a:t>επιτροπή παρακολούθησης του ΕΠ</a:t>
            </a:r>
            <a:r>
              <a:rPr b="0" lang="el-GR" sz="1000" spc="-1" strike="noStrike">
                <a:solidFill>
                  <a:srgbClr val="000000"/>
                </a:solidFill>
                <a:latin typeface="Times New Roman"/>
              </a:rPr>
              <a:t> με αποστολή την παρακολούθηση της αποτελεσματικότητας και της ποιότητας υλοποίησης του, η οποία συστήνεται εντός 3 μηνών από την ημερομηνία κοινοποίησης από την Επιτροπή της απόφασης έγκρισης του ΕΠ. Συμμετέχουν ως μέλη εκπρόσωποι από την ΔΑ, την Αρχή πιστοποίησης, την Αρχή ελέγχου, τους Ενδιάμεσους Φορείς Διαχείρισης, Υπουργείων, Δημόσιων Αρχών, Νομαρχιών, ΤΕΔΚ, Οικονομικών &amp; Κοινωνικών εταίρων, Ευρωπαικής Επιτροπής, αντιπροσωπευτικών μη κυβερνητικών οργανώσεων.</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ην επιτροπή παρακολούθησης του ΕΠ Θεσσαλίας -Στερεάς Ελλάδας – Ηπείρου, προεδρεύουν εκ περιτροπής οι Γενικοί Γραμματείς των Περιφερειών που καλύπτει γεωγραφικά το ΕΠ. Πρόεδρος της πρώτης συνεδρίασης της Επιτροπής Παρακολούθησης είναι ο γενικός γραμματέας της μικρότερης πληθυσμιακά Περιφέρειας. Σε κάθε συνεδρίαση της επιτροπής παρακολούθησης ορίζεται ο πρόεδρος της επόμενης συνεδρίασης</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6240" y="779400"/>
            <a:ext cx="4889520" cy="3667320"/>
          </a:xfrm>
          <a:prstGeom prst="rect">
            <a:avLst/>
          </a:prstGeom>
          <a:ln w="0">
            <a:noFill/>
          </a:ln>
        </p:spPr>
      </p:sp>
      <p:sp>
        <p:nvSpPr>
          <p:cNvPr id="19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3. ΑΞΙΟΛΟΓΗΣΗ</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ροβλέπεται η διεξαγωγή αξιολογήσεων πριν, κατά τη διάρκεια και μετά την υλοποίηση του ΕΠ, που πραγματοποιούνται με ευθύνη του κράτους μέλους ή της Επιτροπής και διεξάγονται από ανεξάρτητους εμπειρογνώμονες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4. ΠΛΗΡΟΦΟΡΗΣΗ ΚΑΙ ΔΗΜΟΣΙΟΤΗΤΑ</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Αναλαμβάνονται καθ’ όλη τη διάρκεια υλοποίησης του προγράμματος μέτρα δημοσιότητας και πληροφόρησης τα οποία αποτυπώνονται με δομημένο τρόπο στο επικοινωνιακό σχέδιο του ΕΠ, απευθύνονται στους πολίτες και στους δικαιούχους µε στόχο την προβολή του ρόλου της Κοινότητας και τη διασφάλιση της διαφάνειας της συνδρομής των Ταμείων. Τα ποσά για την πληροφόρηση και τη δημοσιότητα περιλαμβάνονται στη χρηματοδότηση του ΕΠ στo πλαίσιο της Τεχνικής Υποστήριξης Εφαρμογής.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5. ΧΡΗΜΑΤΟΔΟΤΙΚΕΣ ΡΟΕΣ</a:t>
            </a:r>
            <a:r>
              <a:rPr b="1" lang="el-GR" sz="1000" spc="-1" strike="noStrike">
                <a:solidFill>
                  <a:srgbClr val="000000"/>
                </a:solidFill>
                <a:latin typeface="Times New Roman"/>
              </a:rPr>
              <a:t>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θνική και κοινοτική συμμετοχή για όλες τις πράξεις που εντάσσονται στα ΕΠ του ΕΣΠΑ αποτελούν δημόσιες επενδύσεις και μπορούν να χρηματοδοτούνται από τον Κρατικό Προϋπολογισμό μέσω του Προγράμματος Δημοσίων Επενδύσεων (ΠΔΕ).</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6. ΑΝΤΑΛΛΑΓΗ ΗΛΕΚΤΡΟΝΙΚΩΝ ΔΕΔΟΜΕΝΩΝ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διαχειριστική αρχή του Ε.Π., ενημερώνει το σύστημα πληροφορικής στην Ευρωπαϊκή Επιτροπή για την ανταλλαγή στοιχείων που αφορούν το ΕΠ.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7. ΔΙΑΣΦΑΛΙΣΗ ΤΗΣ ΕΤΑΙΡΙΚΗΣ ΣΧΕΣΗΣ</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πίτευξη των στόχων των Ταμείων στο πλαίσιο της </a:t>
            </a:r>
            <a:r>
              <a:rPr b="0" i="1" lang="el-GR" sz="1000" spc="-1" strike="noStrike">
                <a:solidFill>
                  <a:srgbClr val="000000"/>
                </a:solidFill>
                <a:latin typeface="Times New Roman"/>
              </a:rPr>
              <a:t>εταιρικής σχέσης,</a:t>
            </a:r>
            <a:r>
              <a:rPr b="0" lang="el-GR" sz="1000" spc="-1" strike="noStrike">
                <a:solidFill>
                  <a:srgbClr val="000000"/>
                </a:solidFill>
                <a:latin typeface="Times New Roman"/>
              </a:rPr>
              <a:t> επιτυγχάνεται τόσο μεταξύ της Επιτροπής και του κράτους μέλους, όσο και μεταξύ του κράτους μέλους και των ενδιαφερόμενων φορέων σε τοπικό, περιφερειακό και εθνικό επίπεδο (κάθετη και οριζόντια διάσταση της εταιρικής σχέσης).</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8. ΡΗΤΡΑ ΕΥΕΛΙΞΙΑΣ</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α ΕΠ λαμβάνουν χρηματοδότηση μόνο από ένα Ταμείο, με εξαίρεση ΕΠ που συγχρηματοδοτούνται από το ΕΤΠΑ και το Ταμείο Συνοχής. Ωστόσο μπορούν, με την επιφύλαξη των παρεκκλίσεων που προβλέπονται στους ειδικούς κανονισμούς των Ταμείων, να χρηματοδοτούν, κατά συμπληρωματικό τρόπο και εντός του ορίου του 10% της κοινοτικής χρηματοδότησης του κάθε άξονα προτεραιότητας (ρήτρα ευελιξίας), δράσεις που εμπίπτουν στο πεδίο συνδρομής του άλλου Ταμείου, εφόσον οι δράσεις αυτές απαιτούνται για την ικανοποιητική υλοποίηση της πράξης και συνδέονται άμεσα με αυτή.</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6240" y="779400"/>
            <a:ext cx="4889520" cy="3667320"/>
          </a:xfrm>
          <a:prstGeom prst="rect">
            <a:avLst/>
          </a:prstGeom>
          <a:ln w="0">
            <a:noFill/>
          </a:ln>
        </p:spPr>
      </p:sp>
      <p:sp>
        <p:nvSpPr>
          <p:cNvPr id="15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λαίσιο των Οδηγιών της 3</a:t>
            </a:r>
            <a:r>
              <a:rPr b="0" lang="el-GR" sz="1200" spc="-1" strike="noStrike" baseline="30000">
                <a:solidFill>
                  <a:srgbClr val="000000"/>
                </a:solidFill>
                <a:latin typeface="Times New Roman"/>
              </a:rPr>
              <a:t>ης</a:t>
            </a:r>
            <a:r>
              <a:rPr b="0" lang="el-GR" sz="1200" spc="-1" strike="noStrike">
                <a:solidFill>
                  <a:srgbClr val="000000"/>
                </a:solidFill>
                <a:latin typeface="Times New Roman"/>
              </a:rPr>
              <a:t> Εγκυκλίου, η Διαχειριστική αρχή, με βάση τους στόχους και τις προτεραιότητες που καθόρισε η Ομάδα Σχεδιασμού Προγράμματος Ηπείρου, προχώρησε στην εκπόνηση του Επιχειρησιακού προγράμματος περιόδου 2007-2013,το οποίο επίσης παρουσιάσθηκε στο Περιφερειακό Συμβούλιο τον Αύγουστο 2006 (1.8.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όκειται για ένα «συναινετικό» κείμενο που προέκυψε από τη συνεργασία της Ομάδας Σχεδιασμού Προγράμματος και την ενσωμάτωση απόψεων τοπικών φορέων η οποία επιτεύχθηκε μέσα από δράσεις διαβούλευσης και δημοσιοποίησης, στο οποίο αναλύονται και τεκμηριώνονται οι τάσεις &amp; οι αναγκαιότητες που προσδιορίζουν το γενικό αναπτυξιακό πλαίσιο η οποία πρέπει να υιοθετήσει η Περιφέρεια Ηπείρου κατά την προγραμματική περίοδο 2007-2013, έτσι ώστε να διασφαλισθεί η συνέχεια και να προαχθεί η συμπληρωματικότητα με τις έως τώρα πραγματοποιηθείσες αναπτυξιακές παρεμβάσει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Επιχειρησιακό Σχέδιο υποβλήθηκε στο ΥπΟιΟ τον Σεπτέμβριο 200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76240" y="779400"/>
            <a:ext cx="4889520" cy="3667320"/>
          </a:xfrm>
          <a:prstGeom prst="rect">
            <a:avLst/>
          </a:prstGeom>
          <a:ln w="0">
            <a:noFill/>
          </a:ln>
        </p:spPr>
      </p:sp>
      <p:sp>
        <p:nvSpPr>
          <p:cNvPr id="15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κολουθώντας τις υποδείξειες της Κεντρικής Διαχειριστικής Αρχής</a:t>
            </a:r>
            <a:r>
              <a:rPr b="0" lang="en-US" sz="1200" spc="-1" strike="noStrike">
                <a:solidFill>
                  <a:srgbClr val="000000"/>
                </a:solidFill>
                <a:latin typeface="Times New Roman"/>
              </a:rPr>
              <a:t> </a:t>
            </a:r>
            <a:r>
              <a:rPr b="0" lang="fr-FR" sz="1200" spc="-1" strike="noStrike">
                <a:solidFill>
                  <a:srgbClr val="000000"/>
                </a:solidFill>
                <a:latin typeface="Times New Roman"/>
              </a:rPr>
              <a:t>σχετικά με την διαδικασία κια τον τρόπο υποβολής των Επιχειρησιακών </a:t>
            </a:r>
            <a:r>
              <a:rPr b="0" lang="el-GR" sz="1200" spc="-1" strike="noStrike">
                <a:solidFill>
                  <a:srgbClr val="000000"/>
                </a:solidFill>
                <a:latin typeface="Times New Roman"/>
              </a:rPr>
              <a:t>Προγραμμάτων, στις 5 Μαρτίου 2007, μετά από την συνεργασία των 3 Περιφερειών για την εκπόνησή του, υποβλήθηκε επίσημα στο ΥπΟιΟ το «Επιχειρησιακό Πρόγραμμα Θεσσαλίας-Στερεάς Ελλάδας-Ηπείρου 2007-2013», το οποίο στις 6 Μαρτίου 2007 απεστάλη επίσημα και στην Ευρωπαϊκή Επιτροπ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Επιχειρησιακό αυτό Πρόγραμμα ενσωματώνονται τα επι μέρους Προγράμματα των εμπλεκομένων Περιφερειών με την μορφή ενιαίου κειμένου.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76240" y="779400"/>
            <a:ext cx="4889520" cy="3667320"/>
          </a:xfrm>
          <a:prstGeom prst="rect">
            <a:avLst/>
          </a:prstGeom>
          <a:ln w="0">
            <a:noFill/>
          </a:ln>
        </p:spPr>
      </p:sp>
      <p:sp>
        <p:nvSpPr>
          <p:cNvPr id="15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ιάρθρωση του Επιχειρησιακού Προγράμματος Θεσσαλίας-Στερεάς Ελλάδας-Ηπείρου, όπως αυτό επίσημα υποβλήθηκε, έχει ως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1: Ανάλυση της κατάστασης κατά την έναρξη της προγραμματικής περιόδ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2: Αναπτυξιακή στρατηγική της χωρικής ενότητας Θεσσαλίας-Στερεάς Ελλάδας-Ηπείρου για την περίοδο 2007-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3: Άξονες προτεραι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4: Διατάξεις εφαρμογ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5: Χρηματοδοτικοί πίνακ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76240" y="779400"/>
            <a:ext cx="4889520" cy="3667320"/>
          </a:xfrm>
          <a:prstGeom prst="rect">
            <a:avLst/>
          </a:prstGeom>
          <a:ln w="0">
            <a:noFill/>
          </a:ln>
        </p:spPr>
      </p:sp>
      <p:sp>
        <p:nvSpPr>
          <p:cNvPr id="15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ιδικότερ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1,γίνεται αναφορά σε στοιχεία γεωγραφικά, δημογραφικά, αναπτυξιακών εξελίξεων, δομής οικονομίας, αγοράς εργασίας &amp; απασχόλησης, υποδομών &amp; υπηρεσιών μεταφορών, ενέργειας, περιβάλλοντος, πολιτισμού, κοινωνικών υποδομών &amp; υπηρεσιών, διοικητικής ικανότητας, χωρικής συνεργασίας, περιφερειακής ανάλυσης, χωρικής διάρθρωσης, αποτίμησης επιτευγμάτων παρεμβάσε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ίσης περιλαμβάνεται ανάλυση (</a:t>
            </a:r>
            <a:r>
              <a:rPr b="0" lang="en-US" sz="1200" spc="-1" strike="noStrike">
                <a:solidFill>
                  <a:srgbClr val="000000"/>
                </a:solidFill>
                <a:latin typeface="Times New Roman"/>
              </a:rPr>
              <a:t>SWOTT) </a:t>
            </a:r>
            <a:r>
              <a:rPr b="0" lang="el-GR" sz="1200" spc="-1" strike="noStrike">
                <a:solidFill>
                  <a:srgbClr val="000000"/>
                </a:solidFill>
                <a:latin typeface="Times New Roman"/>
              </a:rPr>
              <a:t>ισχυρών σημείων-αδυναμιών-ευκαιριών-απειλών για τις 3 Περιφέρειες.</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76240" y="779400"/>
            <a:ext cx="4889520" cy="3667320"/>
          </a:xfrm>
          <a:prstGeom prst="rect">
            <a:avLst/>
          </a:prstGeom>
          <a:ln w="0">
            <a:noFill/>
          </a:ln>
        </p:spPr>
      </p:sp>
      <p:sp>
        <p:nvSpPr>
          <p:cNvPr id="15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2,γίνεται αναφορά στην γενική αναπτυξιακή στρατηγική της χωρικής ενότητας Θεσσαλίας-Στερεάς Ελλάδας-Ηπείρου καθώς και στην επι μέρους αναπτυξιακή στρατηγική των Περιφερειών με ανάλυση των στρατηγικών τους στόχων, του αναπτυξιακού οράματος, των γενικών και ειδικών στόχων του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αυτή αναλύεται επίσης η τεκμηρίωση της συνάφειας των στρατηγικών στόχων του Επιχειρησιακού Προγράμματος με τις εθνικές και ευρωπαϊκές προτεραιότητες, καθώς και ενσωματώνεται η εκ των προτέρον αξιολόγηση του Προγράμματος. Όσον αφορά στην Στρατηγική Περιβαλλοντική Εκτίμηση, η οποία αποτελεί μέρος της εν λόγω Ενότητας, θα ενσωματωθεί μετά την δημόσια διαβούλευση και πριν την οριστική του έγκριση.</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76240" y="779400"/>
            <a:ext cx="4889520" cy="3667320"/>
          </a:xfrm>
          <a:prstGeom prst="rect">
            <a:avLst/>
          </a:prstGeom>
          <a:ln w="0">
            <a:noFill/>
          </a:ln>
        </p:spPr>
      </p:sp>
      <p:sp>
        <p:nvSpPr>
          <p:cNvPr id="16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3,περιγράφονται οι 12 άξονες προτεραιότητας του Επιχειρησιακού Προγράμματος (πρόκειται για 4 δέσμες Αξόνων με επι μέρους ίδιους Άξονες για κάθε μια από τις 3 Περιφέρειες),  η συνάφεια των προτεραιοτήτων με τις εθνικές και ευρωπαϊκές πολιτικές καθώς και η συμπληρωματικότητα των παρεμβάσεων με αυτές που χρηματοδοτούνται από τα υπόλοιπα Ευρωπαϊκά Ταμεί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ιδικότερα οι δέσμες των Αξόνων Προτεραιότητας είναι οι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 Υποδομές και υπηρεσίες προσπελασιμ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 Αειφόρος ανάπτυξη και ποιότητα ζω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 Ψηφιακή σύγκλιση και επιχειρηματικότη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 Τεχνική υποστήριξη εφαρμογ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4 περιγράφονται οι διατάξεις εφαρμογής του Προγράμματος και στην ενότητα 5 εμφανίζονται οι χρηματοδοτικοί πίνακ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6240" y="779400"/>
            <a:ext cx="4889520" cy="3667320"/>
          </a:xfrm>
          <a:prstGeom prst="rect">
            <a:avLst/>
          </a:prstGeom>
          <a:ln w="0">
            <a:noFill/>
          </a:ln>
        </p:spPr>
      </p:sp>
      <p:sp>
        <p:nvSpPr>
          <p:cNvPr id="16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συνέχεια της παρουσίασης θα επικεντρωθεί στα τμήματα του Επιχειρησιακού Προγράμματος τα οποία αφορούν στην Περιφέρεια της Ηπείρου και ειδικότερα: στην αναπτυξιακή στρατηγική &amp; το όραμα – τους αναπτυξιακούς στόχους - τους Άξονες προτεραιότητας και το χρηματοδοτικό σχέδιο καθώς και στην Διατάξεις εφαρμογής του Επιχειρησιακού Προγράμματος.</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Times New Roman"/>
              </a:rPr>
              <a:t>Αναπτυξιακή στρατηγική και το όραμα της Περιφέρειας Ηπείρου</a:t>
            </a:r>
            <a:r>
              <a:rPr b="0" lang="el-GR" sz="1000" spc="-1" strike="noStrike">
                <a:solidFill>
                  <a:srgbClr val="000000"/>
                </a:solidFill>
                <a:latin typeface="Times New Roman"/>
              </a:rPr>
              <a:t>: Η κύρια αναπτυξιακή επιλογή είναι η αξιοποίηση των συγκριτικών πλεονεκτημάτων για την βελτίωση της ελκυστικότητάς της Περιφέρειας και την ανάδειξη της σε κόμβο συνδυασμένων μεταφορών.Η φιλοσοφία και το όραμα που διέπει το αναπτυξιακό μοντέλο εντοπίζεται στο τρίπτυχο: </a:t>
            </a:r>
            <a:r>
              <a:rPr b="0" i="1" lang="el-GR" sz="1000" spc="-1" strike="noStrike">
                <a:solidFill>
                  <a:srgbClr val="000000"/>
                </a:solidFill>
                <a:latin typeface="Times New Roman"/>
              </a:rPr>
              <a:t>Ποιότητα –Γνώση/Καινοτομία – Εξωστρέφεια</a:t>
            </a:r>
            <a:r>
              <a:rPr b="1" i="1" lang="el-GR" sz="1000" spc="-1" strike="noStrike">
                <a:solidFill>
                  <a:srgbClr val="000000"/>
                </a:solidFill>
                <a:latin typeface="Times New Roman"/>
              </a:rPr>
              <a:t> </a:t>
            </a:r>
            <a:r>
              <a:rPr b="0" lang="el-GR" sz="1000" spc="-1" strike="noStrike">
                <a:solidFill>
                  <a:srgbClr val="000000"/>
                </a:solidFill>
                <a:latin typeface="Times New Roman"/>
              </a:rPr>
              <a:t>το οποίο προδιαγράφει τους πυλώνες ανάπτυξης για το σχεδιασμό της στρατηγικής της.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2. </a:t>
            </a:r>
            <a:r>
              <a:rPr b="0" lang="el-GR" sz="1000" spc="-1" strike="noStrike" u="sng">
                <a:solidFill>
                  <a:srgbClr val="000000"/>
                </a:solidFill>
                <a:uFillTx/>
                <a:latin typeface="Times New Roman"/>
              </a:rPr>
              <a:t>Αναπτυξιακοί στόχοι Περιφέρειας Ηπείρου: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νίσχυση της επιχειρηματικής ανταγωνιστικότητας και καινοτομικής ικανότητας</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Βελτίωση προσπελασιμότητας υποδομών και υπηρεσιών</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Αειφορική διαχείριση φυσικού και δομημένου περιβάλλοντος – Διαχείριση προστατευόμενων περιοχών</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πένδυση στο ανθρώπινο κεφάλαιο</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Ανάδειξη τουριστικής και πολιτιστικής ταυτότητας Ηπείρου</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νίσχυση της ενδοπεριφερειακής συνοχής και ισόρροπη ανάπτυξη</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ροώθηση της ψηφιακής σύγκλισης και εκσυγχρονισμός και αναβάθμιση της Δημόσιας Διοίκησης</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ροώθηση της συνεργασίας και των δικτύων μεταξύ χωρών και Περιφερειών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3. </a:t>
            </a:r>
            <a:r>
              <a:rPr b="0" lang="el-GR" sz="1000" spc="-1" strike="noStrike" u="sng">
                <a:solidFill>
                  <a:srgbClr val="000000"/>
                </a:solidFill>
                <a:uFillTx/>
                <a:latin typeface="Times New Roman"/>
              </a:rPr>
              <a:t>Άξονες Προτεραιότητας:</a:t>
            </a:r>
            <a:r>
              <a:rPr b="0" lang="el-GR" sz="1000" spc="-1" strike="noStrike">
                <a:solidFill>
                  <a:srgbClr val="000000"/>
                </a:solidFill>
                <a:latin typeface="Times New Roman"/>
              </a:rPr>
              <a:t> Οι άξονες δομούνται με περιγραφή κορμών παρέμβασης και δράσεων</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77FAA-4A8C-4528-A420-2816B16B1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E0762-FC13-41FB-B3C6-3E0FA1813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21853-65B0-499F-85C1-DA0604BA1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AE7C4-F159-4848-BAAD-482AE78C8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44C2E-DFAB-4EE8-B241-E664CD255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F6613-2783-4276-89DE-80A3E002B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3EFEB-5EAB-46A3-81BE-29360EE08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DDDAD-935A-42B4-8323-8AEA835EB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EFBD2-20ED-4F4F-9151-19E3E4111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7BFD1-24C8-4C6F-B9ED-32B329EF3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06C6B-0BA6-4597-A911-3F0506058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7DB4E-2059-4C5D-A51C-FD0405650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9B343-2630-4FA5-9547-F96BEB6E0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13522-5FAD-470B-A6C5-61442D65B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39BD8-8107-42AC-B046-3A98EB25B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950B2-B6EA-4A3F-B522-E5A206DD8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3CB56-79A3-411E-8F22-8A80ECBB7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4BD12-7A11-4255-A9EF-EA6CE373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FE0DC-3C61-4D84-973A-22FA1B68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56755-BF9B-440F-B35D-5AE9CFAF8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45D25-4216-46C6-8858-D78DC06A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DBEF-FEA9-4F19-A376-2B82C6DC1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3AD74-6E11-4167-9D78-FCBAFEF59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E0307-D791-4520-8D2C-E0A29AA41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BED3-6D6A-473A-B4BF-9E658F641514}"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BF8A-1656-4ACC-A7DF-C2BF8E7A9377}"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0000"/>
          </a:bodyPr>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ΕΠΙΧΕΙΡΗΣΙΑΚΟ ΠΡΟΓΡΑΜΜΑ </a:t>
            </a:r>
            <a:r>
              <a:rPr b="1" i="1" lang="el-GR" sz="3200" spc="-1" strike="noStrike" u="sng">
                <a:solidFill>
                  <a:srgbClr val="2a3d7a"/>
                </a:solidFill>
                <a:uFillTx/>
                <a:latin typeface="Times New Roman"/>
              </a:rPr>
              <a:t> </a:t>
            </a: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ΘΕΣΣΑΛΙΑΣ-ΣΤΕΡΕΑΣ ΕΛΛΑΔΑΣ-</a:t>
            </a:r>
            <a:r>
              <a:rPr b="1" i="1" lang="el-GR" sz="3200" spc="-1" strike="noStrike" u="sng">
                <a:solidFill>
                  <a:srgbClr val="2a3d7a"/>
                </a:solidFill>
                <a:uFillTx/>
                <a:latin typeface="Times New Roman"/>
              </a:rPr>
              <a:t> ΗΠΕΙΡΟΥ 2007-2013</a:t>
            </a: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371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9000"/>
          </a:bodyPr>
          <a:p>
            <a:pPr marL="452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2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2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3 «Υποδομές &amp; υπηρεσίες προσπελασιμότητας Ηπείρου»</a:t>
            </a:r>
            <a:endParaRPr b="0" lang="en-US" sz="2400" spc="-1" strike="noStrike">
              <a:solidFill>
                <a:srgbClr val="5b5249"/>
              </a:solidFill>
              <a:latin typeface="Times New Roman"/>
            </a:endParaRPr>
          </a:p>
          <a:p>
            <a:pPr marL="452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a:t>
            </a:r>
            <a:endParaRPr b="0" lang="en-US" sz="2400" spc="-1" strike="noStrike">
              <a:solidFill>
                <a:srgbClr val="5b5249"/>
              </a:solidFill>
              <a:latin typeface="Times New Roman"/>
            </a:endParaRPr>
          </a:p>
          <a:p>
            <a:pPr marL="452520" indent="-45252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Ολοκλήρωση των συστημάτων συγκοινωνίας και μεταφορών</a:t>
            </a:r>
            <a:endParaRPr b="0" lang="en-US" sz="2400" spc="-1" strike="noStrike">
              <a:solidFill>
                <a:srgbClr val="5b5249"/>
              </a:solidFill>
              <a:latin typeface="Times New Roman"/>
            </a:endParaRPr>
          </a:p>
          <a:p>
            <a:pPr marL="452520" indent="-45252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ων συστημάτων τηλεπικοινωνιών – πρόσβαση σε ευρυζωνικές υποδομές</a:t>
            </a:r>
            <a:endParaRPr b="0" lang="en-US" sz="2400" spc="-1" strike="noStrike">
              <a:solidFill>
                <a:srgbClr val="5b5249"/>
              </a:solidFill>
              <a:latin typeface="Times New Roman"/>
            </a:endParaRPr>
          </a:p>
          <a:p>
            <a:pPr marL="452520" indent="-45252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άπτυξη ενεργειακών υποδομών</a:t>
            </a:r>
            <a:endParaRPr b="0" lang="en-US" sz="2400" spc="-1" strike="noStrike">
              <a:solidFill>
                <a:srgbClr val="5b5249"/>
              </a:solidFill>
              <a:latin typeface="Times New Roman"/>
            </a:endParaRPr>
          </a:p>
          <a:p>
            <a:pPr marL="452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6 «Αειφόρος ανάπτυξη &amp; ποιότητα ζωής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1)</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ωνικές υποδομές και υπηρεσίες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Υγεία και κοινωνική αλληλεγγύη </a:t>
            </a:r>
            <a:endParaRPr b="0" lang="en-US" sz="2400" spc="-1" strike="noStrike">
              <a:solidFill>
                <a:srgbClr val="5b5249"/>
              </a:solidFill>
              <a:latin typeface="Times New Roman"/>
            </a:endParaRPr>
          </a:p>
          <a:p>
            <a:pPr marL="457200" indent="-457200" algn="ctr">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αρεμβάσεις περιβάλλοντος τοπικής κλίμακας</a:t>
            </a:r>
            <a:r>
              <a:rPr b="1" i="1" lang="el-GR" sz="3200" spc="-1" strike="noStrike">
                <a:solidFill>
                  <a:srgbClr val="2a3d7a"/>
                </a:solidFill>
                <a:latin typeface="Times New Roman"/>
              </a:rPr>
              <a:t> </a:t>
            </a: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6 «Αειφόρος ανάπτυξη &amp; ποιότητα ζωής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2)</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αρεμβάσεις πολιτισμού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αρεμβάσεις τουρισμού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Ολοκληρωμένες παρεμβάσεις  αστικής και αγροτικής αναγέννησης </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9 «Ψηφιακή σύγκλιση &amp; επιχειρηματικότητα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1)</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ελτίωση της περιφερειακής ανταγωνιστικότητας και της ποιότητας ζωής με αξιοποίηση των ΤΠΕ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ης καινοτομικής ικανότητας της Περιφέρειας για την ανάπτυξη νέων ή βελτιωμένων προϊόντων και υπηρεσιών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9 «Ψηφιακή σύγκλιση &amp; επιχειρηματικότητα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2)</a:t>
            </a:r>
            <a:endParaRPr b="0" lang="en-US" sz="2400" spc="-1" strike="noStrike">
              <a:solidFill>
                <a:srgbClr val="5b5249"/>
              </a:solidFill>
              <a:latin typeface="Times New Roman"/>
            </a:endParaRPr>
          </a:p>
          <a:p>
            <a:pPr marL="457200" indent="-457200" algn="ctr">
              <a:spcBef>
                <a:spcPts val="700"/>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ροώθηση της επιχειρηματικότητας – Βελτίωση του επιχειρηματικού περιβάλλοντος</a:t>
            </a:r>
            <a:r>
              <a:rPr b="1" i="1" lang="el-GR" sz="2800" spc="-1" strike="noStrike">
                <a:solidFill>
                  <a:srgbClr val="2a3d7a"/>
                </a:solidFill>
                <a:latin typeface="Times New Roman"/>
              </a:rPr>
              <a:t> </a:t>
            </a: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12 «Τεχνική υποστήριξη εφαρμογής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ός Παρέμβαση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εχνική υποστήριξη του προγράμματος</a:t>
            </a:r>
            <a:endParaRPr b="0" lang="en-US" sz="24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62120" y="1628640"/>
            <a:ext cx="7772400" cy="36720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8" name="Logo Perif550" descr=""/>
          <p:cNvPicPr/>
          <p:nvPr/>
        </p:nvPicPr>
        <p:blipFill>
          <a:blip r:embed="rId1"/>
          <a:stretch/>
        </p:blipFill>
        <p:spPr>
          <a:xfrm>
            <a:off x="7162920" y="5486400"/>
            <a:ext cx="1752480" cy="1066680"/>
          </a:xfrm>
          <a:prstGeom prst="rect">
            <a:avLst/>
          </a:prstGeom>
          <a:ln w="0">
            <a:noFill/>
          </a:ln>
        </p:spPr>
      </p:pic>
      <p:graphicFrame>
        <p:nvGraphicFramePr>
          <p:cNvPr id="129" name=""/>
          <p:cNvGraphicFramePr/>
          <p:nvPr/>
        </p:nvGraphicFramePr>
        <p:xfrm>
          <a:off x="1547640" y="2708280"/>
          <a:ext cx="6912000" cy="2949480"/>
        </p:xfrm>
        <a:graphic>
          <a:graphicData uri="http://schemas.openxmlformats.org/drawingml/2006/table">
            <a:tbl>
              <a:tblPr/>
              <a:tblGrid>
                <a:gridCol w="2737080"/>
                <a:gridCol w="2087640"/>
                <a:gridCol w="2087280"/>
              </a:tblGrid>
              <a:tr h="955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ες Προτεραιότητας</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Κοινοτική Συνδρομή ΕΤΠΑ</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Συνολική Δημόσια Δαπάνη</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39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ας 3</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84.08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129.456.508</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ας 6</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161.62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248.843.492</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ας 9</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63.0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97.000.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ας 12</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6.3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9.700.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Σύνολο</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315.0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485.000.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980640"/>
            <a:ext cx="7772400" cy="458172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1)</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1. ΑΡΧΕΣ ΚΑΙ ΦΟΡΕΙΣ ΣΥΝΤΟΝΙΣΜΟΥ, ΔΙΑΧΕΙΡΙΣΗΣ ΚΑΙ ΕΛΕΓΧΟΥ </a:t>
            </a:r>
            <a:endParaRPr b="0" lang="en-US" sz="24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θνική Αρχή Συντονισμού </a:t>
            </a:r>
            <a:endParaRPr b="0" lang="en-US" sz="20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ιαχειριστική Αρχή</a:t>
            </a:r>
            <a:endParaRPr b="0" lang="en-US" sz="20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ρχή Πιστοποίησης</a:t>
            </a:r>
            <a:endParaRPr b="0" lang="en-US" sz="20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ρχή Ελέγχου</a:t>
            </a:r>
            <a:endParaRPr b="0" lang="en-US" sz="20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διάμεσοι Φορείς Διαχείρισης</a:t>
            </a:r>
            <a:endParaRPr b="0" lang="en-US" sz="20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31"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2)</a:t>
            </a: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θνική Αρχή Συντονισμού Αναπτυξιακών Προγραμμάτων</a:t>
            </a: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6094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6094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33"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3)</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ασικοί μηχανισμοί συντονισμού</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 Δράσεων ΕΚΤ</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 Δράσεων περιβάλλοντο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Γ) Δράσεων υγεία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 Δράσεων κρατικών ενισχύσεων</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 Δράσεων έρευνας &amp; καινοτομία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Ζ) Δράσεων πολιτισμού</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Η) Δράσεων ΕΠ του ΕΣΠΑ με ΕΓΤΑΑ &amp; ΕΤΑ</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35"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τρατηγικό Σχέδιο Ανάπτυξης </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εριφέρειας Ηπείρου</a:t>
            </a:r>
            <a:r>
              <a:rPr b="1" i="1" lang="fr-F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είμενο όπου διατυπώνονται βασικά ζητήματα που μπορούν να οδηγήσουν στην διαμόρφωση βασικών αναπτυξιακών προτεραιοτήτων</a:t>
            </a: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4)</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χειριστική Αρχή Επιχειρησιακού Προγράμματο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37"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5)</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διάμεσοι Φορείς Διαχείρι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39"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a:t>
            </a:r>
            <a:r>
              <a:rPr b="1" i="1" lang="en-US" sz="2400" spc="-1" strike="noStrike" u="sng">
                <a:solidFill>
                  <a:srgbClr val="2a3d7a"/>
                </a:solidFill>
                <a:uFillTx/>
                <a:latin typeface="Times New Roman"/>
              </a:rPr>
              <a:t>7</a:t>
            </a:r>
            <a:r>
              <a:rPr b="1" i="1" lang="el-GR" sz="2400" spc="-1" strike="noStrike" u="sng">
                <a:solidFill>
                  <a:srgbClr val="2a3d7a"/>
                </a:solidFill>
                <a:uFillTx/>
                <a:latin typeface="Times New Roman"/>
              </a:rPr>
              <a:t>)</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διάμεσοι Φορείς Διαχείρισης</a:t>
            </a:r>
            <a:r>
              <a:rPr b="1" i="1" lang="en-US" sz="2400" spc="-1" strike="noStrike">
                <a:solidFill>
                  <a:srgbClr val="2a3d7a"/>
                </a:solidFill>
                <a:latin typeface="Times New Roman"/>
              </a:rPr>
              <a:t> &amp;</a:t>
            </a:r>
            <a:r>
              <a:rPr b="1" i="1" lang="el-GR" sz="2400" spc="-1" strike="noStrike">
                <a:solidFill>
                  <a:srgbClr val="2a3d7a"/>
                </a:solidFill>
                <a:latin typeface="Times New Roman"/>
              </a:rPr>
              <a:t> υλοποίησης συνολικών επιχορηγήσεων</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ρχή Πιστοποίη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ρχή Ελέγχου</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41"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8)</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2. ΑΡΧΕΣ ΠΑΡΑΚΟΛΟΥΘΗΣΗΣ</a:t>
            </a:r>
            <a:endParaRPr b="0" lang="en-US" sz="2400" spc="-1" strike="noStrike">
              <a:solidFill>
                <a:srgbClr val="5b5249"/>
              </a:solidFill>
              <a:latin typeface="Times New Roman"/>
            </a:endParaRPr>
          </a:p>
          <a:p>
            <a:pPr marL="457200" indent="-45720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υπουργική Επιτροπή Κοινοτικών Προγραμμάτων</a:t>
            </a:r>
            <a:endParaRPr b="0" lang="en-US" sz="2400" spc="-1" strike="noStrike">
              <a:solidFill>
                <a:srgbClr val="5b5249"/>
              </a:solidFill>
              <a:latin typeface="Times New Roman"/>
            </a:endParaRPr>
          </a:p>
          <a:p>
            <a:pPr marL="457200" indent="-45720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τήσια διάσκεψη Προέδρων Επιτροπών Παρακολούθησης ΕΠ</a:t>
            </a:r>
            <a:endParaRPr b="0" lang="en-US" sz="2400" spc="-1" strike="noStrike">
              <a:solidFill>
                <a:srgbClr val="5b5249"/>
              </a:solidFill>
              <a:latin typeface="Times New Roman"/>
            </a:endParaRPr>
          </a:p>
          <a:p>
            <a:pPr marL="457200" indent="-45720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τροπή Παρακολούθησης ΕΠ</a:t>
            </a:r>
            <a:endParaRPr b="0" lang="en-US" sz="2400" spc="-1" strike="noStrike">
              <a:solidFill>
                <a:srgbClr val="5b5249"/>
              </a:solidFill>
              <a:latin typeface="Times New Roman"/>
            </a:endParaRPr>
          </a:p>
          <a:p>
            <a:pPr marL="45720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43"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πιχειρησιακό Πρόγραμμα Θεσσαλίας-Στερεάς Ελλάδας-Ηπείρου 2007-2013</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9)</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3. ΑΞΙΟΛΟΓΗΣΗ</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4. ΠΛΗΡΟΦΟΡΗΣΗ &amp; ΔΗΜΟΣΙΟΤΗΤΑ</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5. ΧΡΗΜΑΤΟΔΟΤΙΚΕΣ ΡΟΕ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6.ΑΝΤΑΛΛΑΓΗ ΗΛΕΚΤΡΟΝΙΚΩΝ ΔΕΔΟΜΕΝΩΝ</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7. ΔΙΑΣΦΑΛΙΣΗ ΤΗΣ ΕΤΑΙΡΙΚΗΣ ΣΧΕΣΗ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8. ΡΗΤΡΑ ΕΥΕΛΙΞΙΑ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5"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0000"/>
          </a:bodyPr>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ΕΠΙΧΕΙΡΗΣΙΑΚΟ ΠΡΟΓΡΑΜΜΑ </a:t>
            </a:r>
            <a:r>
              <a:rPr b="1" i="1" lang="el-GR" sz="3200" spc="-1" strike="noStrike" u="sng">
                <a:solidFill>
                  <a:srgbClr val="2a3d7a"/>
                </a:solidFill>
                <a:uFillTx/>
                <a:latin typeface="Times New Roman"/>
              </a:rPr>
              <a:t> </a:t>
            </a: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ΘΕΣΣΑΛΙΑΣ-ΣΤΕΡΕΑΣ ΕΛΛΑΔΑΣ-</a:t>
            </a:r>
            <a:r>
              <a:rPr b="1" i="1" lang="el-GR" sz="3200" spc="-1" strike="noStrike" u="sng">
                <a:solidFill>
                  <a:srgbClr val="2a3d7a"/>
                </a:solidFill>
                <a:uFillTx/>
                <a:latin typeface="Times New Roman"/>
              </a:rPr>
              <a:t> ΗΠΕΙΡΟΥ 2007-2013</a:t>
            </a: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371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47"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Περιφέρειας 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αινετικό κείμενο που εκπονήθηκε από την ΕΥΔ ΠΕΠ Ηπείρου, βάσει των Οδηγιών της 3</a:t>
            </a:r>
            <a:r>
              <a:rPr b="1" i="1" lang="el-GR" sz="2400" spc="-1" strike="noStrike" baseline="30000">
                <a:solidFill>
                  <a:srgbClr val="2a3d7a"/>
                </a:solidFill>
                <a:latin typeface="Times New Roman"/>
              </a:rPr>
              <a:t>ης</a:t>
            </a:r>
            <a:r>
              <a:rPr b="1" i="1" lang="el-GR" sz="2400" spc="-1" strike="noStrike">
                <a:solidFill>
                  <a:srgbClr val="2a3d7a"/>
                </a:solidFill>
                <a:latin typeface="Times New Roman"/>
              </a:rPr>
              <a:t> Εγκυκλίου, των στόχων και προτεραιοτήτων που τέθηκαν από την ΟΣΠ, με την ενσωμάτωση απόψεων τοπικών φορέων μετά από δράσεις διαβούλευσης &amp; δημοσιοποίη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σωματώνονται τα επι μέρους </a:t>
            </a:r>
            <a:r>
              <a:rPr b="1" i="1" lang="el-GR" sz="2400" spc="-1" strike="noStrike">
                <a:solidFill>
                  <a:srgbClr val="2a3d7a"/>
                </a:solidFill>
                <a:latin typeface="Times New Roman"/>
              </a:rPr>
              <a:t>	</a:t>
            </a:r>
            <a:r>
              <a:rPr b="1" i="1" lang="el-GR" sz="2400" spc="-1" strike="noStrike">
                <a:solidFill>
                  <a:srgbClr val="2a3d7a"/>
                </a:solidFill>
                <a:latin typeface="Times New Roman"/>
              </a:rPr>
              <a:t>Επιχειρησιακά Προγράμματα των Περιφερειών Θεσσαλίας-Στερεάς Ελλάδας &amp; Ηπείρου, με την μορφή ενιαίου κειμένου</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εργασία των Περιφερειών &amp; τελική εκπόνηση από Σύμβουλο εμπειρογνώμονα</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Υποβλήθηκε στο ΥπΟιΟ &amp; στην ΕΕ</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1000"/>
          </a:bodyPr>
          <a:p>
            <a:pPr marL="41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1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1: Ανάλυση της κατάστασης κατά την έναρξη της προγραμματικής περιόδου</a:t>
            </a:r>
            <a:endParaRPr b="0" lang="en-US" sz="24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2: Αναπτυξιακή στρατηγική της χωρικής ενότητας Θεσσαλίας-Στερεάς Ελλάδας-Ηπείρου για την περίοδο 2007-2013</a:t>
            </a:r>
            <a:endParaRPr b="0" lang="en-US" sz="24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3: Άξονες προτεραιότητας</a:t>
            </a:r>
            <a:endParaRPr b="0" lang="en-US" sz="24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4: Διατάξεις εφαρμογής</a:t>
            </a:r>
            <a:endParaRPr b="0" lang="en-US" sz="24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5: Χρηματοδοτικοί πίνακες</a:t>
            </a:r>
            <a:endParaRPr b="0" lang="en-US" sz="2400" spc="-1" strike="noStrike">
              <a:solidFill>
                <a:srgbClr val="5b5249"/>
              </a:solidFill>
              <a:latin typeface="Times New Roman"/>
            </a:endParaRPr>
          </a:p>
          <a:p>
            <a:pPr marL="41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1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158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158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1: Ανάλυση της κατάστασης κατά την έναρξη της προγραμματικής περιόδου</a:t>
            </a:r>
            <a:endParaRPr b="0" lang="en-US" sz="24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2: Αναπτυξιακή στρατηγική της χωρικής ενότητας Θεσσαλίας-Στερεάς Ελλάδας-Ηπείρου για την περίοδο 2007-2013</a:t>
            </a:r>
            <a:endParaRPr b="0" lang="en-US" sz="24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3: Άξονες προτεραιότητα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4: Διατάξεις εφαρμογή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5: Χρηματοδοτικοί πίνακες</a:t>
            </a:r>
            <a:endParaRPr b="0" lang="en-US" sz="2400" spc="-1" strike="noStrike">
              <a:solidFill>
                <a:srgbClr val="5b5249"/>
              </a:solidFill>
              <a:latin typeface="Times New Roman"/>
            </a:endParaRPr>
          </a:p>
        </p:txBody>
      </p:sp>
      <p:pic>
        <p:nvPicPr>
          <p:cNvPr id="11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απτυξιακή στρατηγική &amp; όραμα Περιφέρειας Ηπείρου</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απτυξιακοί στόχοι Περιφέρειας Ηπείρου</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ες προτεραιότητας Ηπείρου</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τάξεις εφαρμογής Επιχειρησιακού Προγράμματος</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11T08:43:56Z</dcterms:modified>
  <cp:revision>318</cp:revision>
  <dc:subject/>
  <dc:title>Παρουσίαση του PowerPoint</dc:title>
</cp:coreProperties>
</file>