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95400" y="729720"/>
            <a:ext cx="4867200" cy="3651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1"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2487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92487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3A70-470F-4657-8AAE-1306E256525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95400" y="730080"/>
            <a:ext cx="4867200" cy="3651480"/>
          </a:xfrm>
          <a:prstGeom prst="rect">
            <a:avLst/>
          </a:prstGeom>
          <a:ln w="0">
            <a:noFill/>
          </a:ln>
        </p:spPr>
      </p:sp>
      <p:sp>
        <p:nvSpPr>
          <p:cNvPr id="133"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έργα και υποέργα κρατικών ενισχύσεων (επενδυτικά σχέδια) που έχουν ενταχθεί ή προγραμματίζεται να ενταχθούν στο Γ’ ΚΠΣ, αλλά λόγω της σταδιακής μείωσης του ύψους των υπερδεσμεύσεων των Ε.Π. του Γ’ ΚΠΣ, θα μετακινηθούν εξ’ ολοκλήρου σε Ε.Π. του ΕΣΠ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λοιπά έργα εγγεγραμμένα  στην ΣΑ09 που  ικανοποιούν και τα νέα κριτήρια επιλογ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95400" y="730080"/>
            <a:ext cx="4867200" cy="3651480"/>
          </a:xfrm>
          <a:prstGeom prst="rect">
            <a:avLst/>
          </a:prstGeom>
          <a:ln w="0">
            <a:noFill/>
          </a:ln>
        </p:spPr>
      </p:sp>
      <p:sp>
        <p:nvSpPr>
          <p:cNvPr id="117"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Για την ομαλή έναρξη των Ε.Π. του ΕΣΠΑ, δηλαδή από την έναρξη επιλεξιμότητας (01.01.2007) έως την έγκριση και ενεργοποίηση των νέων Ε.Π., είναι δυνατόν να εγγραφούν στο ΠΔΕ έργα </a:t>
            </a:r>
            <a:r>
              <a:rPr b="1" i="1" lang="el-GR" sz="1200" spc="-1" strike="noStrike">
                <a:solidFill>
                  <a:srgbClr val="000000"/>
                </a:solidFill>
                <a:latin typeface="Times New Roman"/>
              </a:rPr>
              <a:t>προϋπολογισμού άνω των 3 εκ. Ευρώ (με εξαίρεση έργα περιβάλλοντος), ώριμα προς υλοποίηση.</a:t>
            </a:r>
            <a:r>
              <a:rPr b="0" i="1" lang="el-GR" sz="1200" spc="-1" strike="noStrike">
                <a:solidFill>
                  <a:srgbClr val="000000"/>
                </a:solidFill>
                <a:latin typeface="Times New Roman"/>
              </a:rPr>
              <a:t> Για το σκοπό αυτό έχουν ήδη προβλεφθεί στο ΠΔΕ του 2007, οι ΣΑ/8 και </a:t>
            </a:r>
            <a:r>
              <a:rPr b="1" i="1" lang="el-GR" sz="1200" spc="-1" strike="noStrike">
                <a:solidFill>
                  <a:srgbClr val="000000"/>
                </a:solidFill>
                <a:latin typeface="Times New Roman"/>
              </a:rPr>
              <a:t>ΣΑ/9 (</a:t>
            </a:r>
            <a:r>
              <a:rPr b="0" i="1" lang="el-GR" sz="1200" spc="-1" strike="noStrike">
                <a:solidFill>
                  <a:srgbClr val="000000"/>
                </a:solidFill>
                <a:latin typeface="Times New Roman"/>
              </a:rPr>
              <a:t>Εγκύκλιος 4570/ΔΕ 696 σχετικά με τις Οδηγίες για την Κατάρτιση του Π.Δ.Ε.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5400" y="730080"/>
            <a:ext cx="4867200" cy="3651480"/>
          </a:xfrm>
          <a:prstGeom prst="rect">
            <a:avLst/>
          </a:prstGeom>
          <a:ln w="0">
            <a:noFill/>
          </a:ln>
        </p:spPr>
      </p:sp>
      <p:sp>
        <p:nvSpPr>
          <p:cNvPr id="119"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 Έργα, για τα οποία εκπονήθηκαν οι απαραίτητες μελέτες προετοιμασίας / ωρίμανσης στο πλαίσιο του Μέτρου «Μελέτες Ωρίμανσης και Προετοιμασίας» του Άξονα Προτεραιότητας «Τεχνική Βοήθεια» των Ε.Π. του Γ’ ΚΠΣ. </a:t>
            </a:r>
            <a:r>
              <a:rPr b="1" lang="en-US" sz="1200" spc="-1" strike="noStrike">
                <a:solidFill>
                  <a:srgbClr val="000000"/>
                </a:solidFill>
                <a:latin typeface="Times New Roman"/>
              </a:rPr>
              <a:t>Δηλαδή ώριμα έργα για τα οποία έχει εκπονηθεί το σύνολο των αναγκαίων μελετών, έως και τα τεύχη δημοπράτησης ή έχουν αναληφθεί όλες οι απαραίτητες ενέργειες για την άμεση προκήρυξή τους, ανάλογα με την κατηγορία</a:t>
            </a:r>
            <a:r>
              <a:rPr b="1" lang="en-US" sz="1200" spc="-1" strike="noStrike">
                <a:solidFill>
                  <a:srgbClr val="000000"/>
                </a:solidFill>
                <a:latin typeface="Arial Black"/>
              </a:rPr>
              <a:t> </a:t>
            </a:r>
            <a:r>
              <a:rPr b="1" lang="en-US" sz="1200" spc="-1" strike="noStrike">
                <a:solidFill>
                  <a:srgbClr val="000000"/>
                </a:solidFill>
                <a:latin typeface="Times New Roman"/>
              </a:rPr>
              <a:t>του έργ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5400" y="730080"/>
            <a:ext cx="4867200" cy="3651480"/>
          </a:xfrm>
          <a:prstGeom prst="rect">
            <a:avLst/>
          </a:prstGeom>
          <a:ln w="0">
            <a:noFill/>
          </a:ln>
        </p:spPr>
      </p:sp>
      <p:sp>
        <p:nvSpPr>
          <p:cNvPr id="121"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Β) Έργα ενισχύσεων </a:t>
            </a:r>
            <a:r>
              <a:rPr b="1" lang="el-GR" sz="1200" spc="-1" strike="noStrike">
                <a:solidFill>
                  <a:srgbClr val="000000"/>
                </a:solidFill>
                <a:latin typeface="Times New Roman"/>
              </a:rPr>
              <a:t>ΜΜΕ</a:t>
            </a:r>
            <a:r>
              <a:rPr b="0" lang="el-GR" sz="1200" spc="-1" strike="noStrike">
                <a:solidFill>
                  <a:srgbClr val="000000"/>
                </a:solidFill>
                <a:latin typeface="Times New Roman"/>
              </a:rPr>
              <a:t> και </a:t>
            </a:r>
            <a:r>
              <a:rPr b="1" lang="el-GR" sz="1200" spc="-1" strike="noStrike">
                <a:solidFill>
                  <a:srgbClr val="000000"/>
                </a:solidFill>
                <a:latin typeface="Times New Roman"/>
              </a:rPr>
              <a:t>Επενδυτικού Νόμου Ν.3299/04</a:t>
            </a:r>
            <a:r>
              <a:rPr b="0" lang="el-GR" sz="1200" spc="-1" strike="noStrike">
                <a:solidFill>
                  <a:srgbClr val="000000"/>
                </a:solidFill>
                <a:latin typeface="Times New Roman"/>
              </a:rPr>
              <a:t> όπως τροποποιήθηκ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Γ) Έργα υποδομής, για τα οποία έχουν εκπονηθεί οι αναγκαίες μελέτες προετοιμασίας/ ωρίμανσης με χρηματοδότηση από εθνικούς πόρους, </a:t>
            </a:r>
            <a:r>
              <a:rPr b="1" lang="el-GR" sz="1200" spc="-1" strike="noStrike">
                <a:solidFill>
                  <a:srgbClr val="000000"/>
                </a:solidFill>
                <a:latin typeface="Times New Roman"/>
              </a:rPr>
              <a:t>υπό την      προϋπόθεση ότι οι μελέτες και τα τεύχη δημοπράτησης είναι επικαιροποιημένα, σύμφωνα με την Εγκύκλιο 38/05 και τις σχετικές εγκυκλίους για τα νέα τιμολόγια του ΥΠΕΧΩΔ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5400" y="730080"/>
            <a:ext cx="4867200" cy="3651480"/>
          </a:xfrm>
          <a:prstGeom prst="rect">
            <a:avLst/>
          </a:prstGeom>
          <a:ln w="0">
            <a:noFill/>
          </a:ln>
        </p:spPr>
      </p:sp>
      <p:sp>
        <p:nvSpPr>
          <p:cNvPr id="123"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Δ) Μελέτες προετοιμασίας/ωρίμανσης, κατά προτεραιότητα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έργων περιβάλλοντος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βελτίωσης ποιότητας ζωής και</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αστικής ανάπτυξης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σε τομείς όπου παρουσιάζονται ελλείψεις ώριμ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95400" y="730080"/>
            <a:ext cx="4867200" cy="3651480"/>
          </a:xfrm>
          <a:prstGeom prst="rect">
            <a:avLst/>
          </a:prstGeom>
          <a:ln w="0">
            <a:noFill/>
          </a:ln>
        </p:spPr>
      </p:sp>
      <p:sp>
        <p:nvSpPr>
          <p:cNvPr id="125"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1200" spc="-1" strike="noStrike" u="sng">
                <a:solidFill>
                  <a:srgbClr val="000000"/>
                </a:solidFill>
                <a:uFillTx/>
                <a:latin typeface="Times New Roman"/>
              </a:rPr>
              <a:t>1</a:t>
            </a:r>
            <a:r>
              <a:rPr b="1" lang="el-GR" sz="1200" spc="-1" strike="noStrike" u="sng" baseline="30000">
                <a:solidFill>
                  <a:srgbClr val="000000"/>
                </a:solidFill>
                <a:uFillTx/>
                <a:latin typeface="Times New Roman"/>
              </a:rPr>
              <a:t>ο</a:t>
            </a:r>
            <a:r>
              <a:rPr b="1" lang="el-GR" sz="1200" spc="-1" strike="noStrike" u="sng">
                <a:solidFill>
                  <a:srgbClr val="000000"/>
                </a:solidFill>
                <a:uFillTx/>
                <a:latin typeface="Times New Roman"/>
              </a:rPr>
              <a:t> στάδιο</a:t>
            </a:r>
            <a:r>
              <a:rPr b="0" lang="el-GR" sz="1200" spc="-1" strike="noStrike" u="sng">
                <a:solidFill>
                  <a:srgbClr val="000000"/>
                </a:solidFill>
                <a:uFillTx/>
                <a:latin typeface="Times New Roman"/>
              </a:rPr>
              <a:t> </a:t>
            </a:r>
            <a:r>
              <a:rPr b="0" lang="el-GR" sz="1200" spc="-1" strike="noStrike">
                <a:solidFill>
                  <a:srgbClr val="000000"/>
                </a:solidFill>
                <a:latin typeface="Times New Roman"/>
              </a:rPr>
              <a:t>Υποβολή προτάσεων από τους φορείς, με χρήση των ΤΔΕ του Γ’ ΚΠΣ, στην αρμόδια Δ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1200" spc="-1" strike="noStrike" u="sng">
                <a:solidFill>
                  <a:srgbClr val="000000"/>
                </a:solidFill>
                <a:uFillTx/>
                <a:latin typeface="Times New Roman"/>
              </a:rPr>
              <a:t>2</a:t>
            </a:r>
            <a:r>
              <a:rPr b="1" lang="el-GR" sz="1200" spc="-1" strike="noStrike" u="sng" baseline="30000">
                <a:solidFill>
                  <a:srgbClr val="000000"/>
                </a:solidFill>
                <a:uFillTx/>
                <a:latin typeface="Times New Roman"/>
              </a:rPr>
              <a:t>ο</a:t>
            </a:r>
            <a:r>
              <a:rPr b="1" lang="el-GR" sz="1200" spc="-1" strike="noStrike" u="sng">
                <a:solidFill>
                  <a:srgbClr val="000000"/>
                </a:solidFill>
                <a:uFillTx/>
                <a:latin typeface="Times New Roman"/>
              </a:rPr>
              <a:t> στάδιο</a:t>
            </a:r>
            <a:r>
              <a:rPr b="0" lang="el-GR" sz="1200" spc="-1" strike="noStrike" u="sng">
                <a:solidFill>
                  <a:srgbClr val="000000"/>
                </a:solidFill>
                <a:uFillTx/>
                <a:latin typeface="Times New Roman"/>
              </a:rPr>
              <a:t> </a:t>
            </a:r>
            <a:r>
              <a:rPr b="0" lang="el-GR" sz="1200" spc="-1" strike="noStrike">
                <a:solidFill>
                  <a:srgbClr val="000000"/>
                </a:solidFill>
                <a:latin typeface="Times New Roman"/>
              </a:rPr>
              <a:t>Αξιολόγηση των προτάσεων εγγραφής στις ΣΑ από την Ομάδα Σχεδιασμού του Προγράμματος (ΟΣΠ) ως προς τη συμβατότητα α) με το στρατηγικό σχεδιασμό του Τομέα ή της Περιφέρειας, όπως αποτυπώνεται στο εγκεκριμένο ΕΣΠΑ και στα αντίστοιχα σχέδια Ε.Π. που έχουν υποβληθεί στην Ε.Ε., β) με τους χρηματοδοτικούς πίνακες των Ε.Π., γ) με τις ποιοτικές και ποσοτικές παραμέτρους που απορρέουν από τη Στρατηγική της Λισσαβόνας και δ) με τους όρους επιλεξιμότητας που θέτουν οι νέοι κανονισμοί των Διαρθρωτικών Ταμείων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ολοκλήρωση της αξιολόγησης των προτεινόμενων προτάσεων ως προς τα 4 ανωτέρω κριτήρια συμβατότητας, οι ΟΣΠ διατυπώνουν εγγράφως τη γνώμη τους για κάθε έργο ξεχωριστά και την κοινοποιούν στην υφιστάμενη αρμόδια Δ.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95400" y="730080"/>
            <a:ext cx="4867200" cy="3651480"/>
          </a:xfrm>
          <a:prstGeom prst="rect">
            <a:avLst/>
          </a:prstGeom>
          <a:ln w="0">
            <a:noFill/>
          </a:ln>
        </p:spPr>
      </p:sp>
      <p:sp>
        <p:nvSpPr>
          <p:cNvPr id="127"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900" spc="-1" strike="noStrike" u="sng">
                <a:solidFill>
                  <a:srgbClr val="000000"/>
                </a:solidFill>
                <a:uFillTx/>
                <a:latin typeface="Arial Narrow"/>
              </a:rPr>
              <a:t>3</a:t>
            </a:r>
            <a:r>
              <a:rPr b="1" lang="el-GR" sz="900" spc="-1" strike="noStrike" u="sng" baseline="30000">
                <a:solidFill>
                  <a:srgbClr val="000000"/>
                </a:solidFill>
                <a:uFillTx/>
                <a:latin typeface="Arial Narrow"/>
              </a:rPr>
              <a:t>ο</a:t>
            </a:r>
            <a:r>
              <a:rPr b="1" lang="el-GR" sz="900" spc="-1" strike="noStrike" u="sng">
                <a:solidFill>
                  <a:srgbClr val="000000"/>
                </a:solidFill>
                <a:uFillTx/>
                <a:latin typeface="Arial Narrow"/>
              </a:rPr>
              <a:t> στάδιο</a:t>
            </a:r>
            <a:r>
              <a:rPr b="0" lang="el-GR" sz="900" spc="-1" strike="noStrike" u="sng">
                <a:solidFill>
                  <a:srgbClr val="000000"/>
                </a:solidFill>
                <a:uFillTx/>
                <a:latin typeface="Arial Narrow"/>
              </a:rPr>
              <a:t> </a:t>
            </a:r>
            <a:r>
              <a:rPr b="0" lang="el-GR" sz="900" spc="-1" strike="noStrike">
                <a:solidFill>
                  <a:srgbClr val="000000"/>
                </a:solidFill>
                <a:latin typeface="Arial Narrow"/>
              </a:rPr>
              <a:t>Στη συνέχεια οι προτάσεις για τις οποίες οι ΟΣΠ έχουν διατυπώσει σύμφωνη γνώμη, αξιολογούνται από τις Δ.Α., βάσει των κριτηρίων επιλογής των πράξεων του Γ’ ΚΠΣ, με ιδιαίτερη έμφαση στα κριτήρια που αφορούν την:</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α) Πληρότητα, ποιότητα, σαφήνεια του περιεχομένου της πρότασης ( θα πρέπει να υπάρχει σαφής αποτύπωση της εικόνας του έργου στο ΤΔΕ και καθορισμός των παραδοτέων του έργου τόσο ως προς το περιεχόμενό τους όσο και ως προς το χρόνο παράδοσής του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β) Ωριμότητα του προτεινόμενου έργου ( θα πρέπει να έχουν εκπονηθεί όλες οι  αναγκαίες μελέτες ωρίμανσης,να υπάρχει το  αναγκαίο θεσμικό και διοικητικό πλαίσιο για την υλοποίηση του έργου, να υπάρχουν οι προαπαιτούμενες αποφάσεις συλλογικών οργάνων του δικαιούχου), η οποία θα επιτρέπει την άμεση δημοπράτηση/προκήρυξη του έργου,</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γ) ρεαλιστικότητα του προϋπολογισμού του προτεινόμενου έργου ως προς το φυσικό αντικείμενο, καθώς και του χρονοδιαγράμματος εκτέλεσής του και δ) επάρκεια του Δικαιούχου να διοικεί, παρακολουθεί και ελέγχει το έργο κατά την εκτέλεσή του, λαμβάνοντας υπόψη την εμπειρία υλοποίησης από το Γ’ΚΠ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u="sng">
                <a:solidFill>
                  <a:srgbClr val="000000"/>
                </a:solidFill>
                <a:uFillTx/>
                <a:latin typeface="Arial Narrow"/>
              </a:rPr>
              <a:t>Σημειώνεται ότι για να ενταχθούν όλα τα έργα σε Ε.Π. του ΕΣΠΑ θα πρέπει να ικανοποιηθούν και τα </a:t>
            </a:r>
            <a:r>
              <a:rPr b="1" lang="el-GR" sz="900" spc="-1" strike="noStrike" u="sng">
                <a:solidFill>
                  <a:srgbClr val="000000"/>
                </a:solidFill>
                <a:uFillTx/>
                <a:latin typeface="Arial Narrow"/>
              </a:rPr>
              <a:t>νέα κριτήρια επιλογής</a:t>
            </a:r>
            <a:r>
              <a:rPr b="0" lang="el-GR" sz="900" spc="-1" strike="noStrike" u="sng">
                <a:solidFill>
                  <a:srgbClr val="000000"/>
                </a:solidFill>
                <a:uFillTx/>
                <a:latin typeface="Arial Narrow"/>
              </a:rPr>
              <a:t> που θα αποφασιστούν από τις Επ. Παρακολούθησης των αντίστοιχων Ε.Π. του ΕΣΠΑ δεδομένου ότι η διαδικασία αξιολόγησης και επιλογής τους θα επαναληφθεί στη βάση των νέων αυτών κριτηρίων.</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u="sng">
                <a:solidFill>
                  <a:srgbClr val="000000"/>
                </a:solidFill>
                <a:uFillTx/>
                <a:latin typeface="Arial Narrow"/>
              </a:rPr>
              <a:t> </a:t>
            </a:r>
            <a:r>
              <a:rPr b="0" lang="el-GR" sz="900" spc="-1" strike="noStrike">
                <a:solidFill>
                  <a:srgbClr val="000000"/>
                </a:solidFill>
                <a:latin typeface="Arial Narrow"/>
              </a:rPr>
              <a:t>Για το σκοπό αυτό οι Δ.Α. κατά την αξιολόγηση των ανωτέρω έργων θα πρέπει να λάβουν υπόψη τους, πέραν των κριτηρίων επιλογής πράξεων του Γ’ ΚΠΣ και ενδεχόμενες αλλαγές και προσθήκες νέων κριτηρίων που ήδη προβλέπονται π.χ. τήρηση του κριτηρίου της μη διάκρισης και της προσβασιμότητας ατόμων με αναπηρίες, κριτήριο που απορρέει στο πλαίσιο εφαρμογής του άρθρου 16 του Καν. 1083/2006.</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Narrow"/>
              </a:rPr>
              <a:t>4</a:t>
            </a:r>
            <a:r>
              <a:rPr b="1" lang="el-GR" sz="900" spc="-1" strike="noStrike" baseline="30000">
                <a:solidFill>
                  <a:srgbClr val="000000"/>
                </a:solidFill>
                <a:latin typeface="Arial Narrow"/>
              </a:rPr>
              <a:t>ο</a:t>
            </a:r>
            <a:r>
              <a:rPr b="1" lang="el-GR" sz="900" spc="-1" strike="noStrike">
                <a:solidFill>
                  <a:srgbClr val="000000"/>
                </a:solidFill>
                <a:latin typeface="Arial Narrow"/>
              </a:rPr>
              <a:t> στάδιο</a:t>
            </a:r>
            <a:r>
              <a:rPr b="0" lang="el-GR" sz="900" spc="-1" strike="noStrike">
                <a:solidFill>
                  <a:srgbClr val="000000"/>
                </a:solidFill>
                <a:latin typeface="Arial Narrow"/>
              </a:rPr>
              <a:t> Με την ολοκλήρωση της αξιολόγησης των υποβληθεισών προτάσεων οι Δ.Α. θα διατυπώνουν εγγράφως τη σύμφωνη γνώμη τους για την εγγραφή των θετικά αξιολογημένων προτάσεων στο ΠΔΕ, την οποία θα κοινοποιούν στους Δικαιούχους αλλά και στο Φορέα Χρηματοδότησης.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Narrow"/>
              </a:rPr>
              <a:t>5</a:t>
            </a:r>
            <a:r>
              <a:rPr b="1" lang="el-GR" sz="900" spc="-1" strike="noStrike" baseline="30000">
                <a:solidFill>
                  <a:srgbClr val="000000"/>
                </a:solidFill>
                <a:latin typeface="Arial Narrow"/>
              </a:rPr>
              <a:t>ο</a:t>
            </a:r>
            <a:r>
              <a:rPr b="1" lang="el-GR" sz="900" spc="-1" strike="noStrike">
                <a:solidFill>
                  <a:srgbClr val="000000"/>
                </a:solidFill>
                <a:latin typeface="Arial Narrow"/>
              </a:rPr>
              <a:t> στάδιο</a:t>
            </a:r>
            <a:r>
              <a:rPr b="1" lang="en-US" sz="900" spc="-1" strike="noStrike">
                <a:solidFill>
                  <a:srgbClr val="000000"/>
                </a:solidFill>
                <a:latin typeface="Arial Narrow"/>
              </a:rPr>
              <a:t> </a:t>
            </a:r>
            <a:r>
              <a:rPr b="0" lang="el-GR" sz="900" spc="-1" strike="noStrike">
                <a:solidFill>
                  <a:srgbClr val="000000"/>
                </a:solidFill>
                <a:latin typeface="Arial Narrow"/>
              </a:rPr>
              <a:t>Εξασφάλιση σύμφωνης γνώμης της ΔΑ του ΚΠ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Αντίγραφα των ΤΔΕ των προτεινόμενων προτάσεων, των φύλλων αξιολόγησης, της σύμφωνης γνώμης των ΟΣΠ και της σύμφωνης γνώμης των Δ.Α. αποστέλλονται ταυτόχρονα στην ΚΔΑ προκειμένου να διατυπώσει γνώμη σχετικά με:</a:t>
            </a:r>
            <a:endParaRPr b="0" lang="en-US" sz="900" spc="-1" strike="noStrike">
              <a:solidFill>
                <a:srgbClr val="000000"/>
              </a:solidFill>
              <a:latin typeface="Times New Roman"/>
            </a:endParaRPr>
          </a:p>
          <a:p>
            <a:pPr lvl="1" marL="457200">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αδυναμία χρηματοδότησης του έργου από το Γ’ ΚΠΣ είτε εξαιτίας έλλειψης διαθέσιμων πόρων είτε εξαιτίας χρονοδιαγράμματος υλοποίησης,</a:t>
            </a:r>
            <a:endParaRPr b="0" lang="en-US" sz="900" spc="-1" strike="noStrike">
              <a:solidFill>
                <a:srgbClr val="000000"/>
              </a:solidFill>
              <a:latin typeface="Times New Roman"/>
            </a:endParaRPr>
          </a:p>
          <a:p>
            <a:pPr>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συμβατότητά τους με τους στόχους του ΕΣΠΑ και των νέων Επ. Προγραμμάτων της περιόδου 2007-2013 και </a:t>
            </a:r>
            <a:endParaRPr b="0" lang="en-US" sz="900" spc="-1" strike="noStrike">
              <a:solidFill>
                <a:srgbClr val="000000"/>
              </a:solidFill>
              <a:latin typeface="Times New Roman"/>
            </a:endParaRPr>
          </a:p>
          <a:p>
            <a:pPr lvl="1" marL="457200">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επιλεξιμότητα του έργου βάσει των νέων Κανονισμώντης περιόδου 2007-2013.</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Η σύμφωνη γνώμη της Δ.Α. του ΚΠΣ</a:t>
            </a:r>
            <a:r>
              <a:rPr b="0" lang="el-GR" sz="900" spc="-1" strike="noStrike" u="sng">
                <a:solidFill>
                  <a:srgbClr val="000000"/>
                </a:solidFill>
                <a:uFillTx/>
                <a:latin typeface="Arial Narrow"/>
              </a:rPr>
              <a:t>ΚΔΑ</a:t>
            </a:r>
            <a:r>
              <a:rPr b="0" lang="el-GR" sz="900" spc="-1" strike="noStrike">
                <a:solidFill>
                  <a:srgbClr val="000000"/>
                </a:solidFill>
                <a:latin typeface="Arial Narrow"/>
              </a:rPr>
              <a:t> θα κοινοποιείται στη Δ/νση του Προγράμματος Δημοσίων Επενδύσεων, αρμόδια διεύθυνση για την ένταξη των προτεινόμενων έργων στη ΣΑ/8 και </a:t>
            </a:r>
            <a:r>
              <a:rPr b="1" lang="el-GR" sz="900" spc="-1" strike="noStrike">
                <a:solidFill>
                  <a:srgbClr val="000000"/>
                </a:solidFill>
                <a:latin typeface="Arial Narrow"/>
              </a:rPr>
              <a:t>ΣΑ/9.</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5400" y="730080"/>
            <a:ext cx="4867200" cy="3651480"/>
          </a:xfrm>
          <a:prstGeom prst="rect">
            <a:avLst/>
          </a:prstGeom>
          <a:ln w="0">
            <a:noFill/>
          </a:ln>
        </p:spPr>
      </p:sp>
      <p:sp>
        <p:nvSpPr>
          <p:cNvPr id="129"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6</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Μετά τις ενέργειες αυτές τα έργα εγγράφονται στην ΣΑ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7</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Οι υφιστάμενες Δ.Α., μετά την εγγραφή των έργων στο Π.Δ.Ε., θα πρέπει να προβούν στους απαραίτητους προληπτικούς ελέγχους των σταδίων εξέλιξης των έργων (έλεγχος των τευχών δημοπράτησης πριν τη διενέργεια του διαγωνισμού και το σχέδιο της σύμβασης πριν την υπογραφή της), καθώς και των ενδεχόμενων μεταβολών των συμβάσεων, προκειμένου να διασφαλιστεί η νομιμότητα και κανονικότητα των δαπανών των εν λόγω έργων.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8</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η τελική ένταξη των έργων θα γίνει μετά την έγκριση των νέων Ε.Π ΚΑΙ όπως προηγούμενα είπαμε θα πρέπει να ικανοποιηθούν και τα </a:t>
            </a:r>
            <a:r>
              <a:rPr b="1" lang="el-GR" sz="1200" spc="-1" strike="noStrike">
                <a:solidFill>
                  <a:srgbClr val="000000"/>
                </a:solidFill>
                <a:latin typeface="Times New Roman"/>
              </a:rPr>
              <a:t>νέα κριτήρια επιλογής</a:t>
            </a:r>
            <a:r>
              <a:rPr b="0" lang="el-GR" sz="1200" spc="-1" strike="noStrike">
                <a:solidFill>
                  <a:srgbClr val="000000"/>
                </a:solidFill>
                <a:latin typeface="Times New Roman"/>
              </a:rPr>
              <a:t> που θα αποφασιστούν από τις Επ. Παρακολούθησης των αντίστοιχων Ε.Π. του ΕΣΠΑ δεδομένου ότι η διαδικασία αξιολόγησης και επιλογής τους θα επαναληφθεί στη βάση των νέων αυτών κριτηρίων. οπότε και  οι Δ.Α. θα ακολουθούν τις διαδικασίες που προβλέπονται στο νέο Σύστημα Διαχείρισης και Ελέγχου της νέας περιόδου.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5400" y="730080"/>
            <a:ext cx="4867200" cy="3651480"/>
          </a:xfrm>
          <a:prstGeom prst="rect">
            <a:avLst/>
          </a:prstGeom>
          <a:ln w="0">
            <a:noFill/>
          </a:ln>
        </p:spPr>
      </p:sp>
      <p:sp>
        <p:nvSpPr>
          <p:cNvPr id="131"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Τέλος, σημειώνεται ότι μετά την έγκριση των νέων Ε.Π. θα χρηματοδοτηθούν κατά προτεραι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τα έργα – γέφυρες που έχουν ήδη συμφωνηθεί με την Ε.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0" lang="el-GR" sz="1200" spc="-1" strike="noStrike" u="sng">
                <a:solidFill>
                  <a:srgbClr val="000000"/>
                </a:solidFill>
                <a:uFillTx/>
                <a:latin typeface="Times New Roman"/>
              </a:rPr>
              <a:t>τα έργα που αντιστοιχούν στις μελέτες ωρίμανσης που πληρώθηκαν από το Γ΄ΚΠ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88F83-D976-4B49-A4D9-96CC6AD1B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0"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3D6C5-3A41-4EE5-B5E6-2C40A9C6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3"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54264-FC9C-4C8D-B460-5797F03D1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8"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8AC57-7A82-42BF-B1D9-28F62F5F4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E2C76-D3C4-4DC9-BF34-2CF9D7047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2"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92453-C0A0-404A-9768-7E333EE93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4"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2F1F9-0BF3-4ECE-83CA-1D80ABF81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6"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C4334-21DD-4E2B-B0B5-A90759871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59F5-3AD4-4EDD-8A43-B31CF3461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5351B-2102-412E-A891-8493566DF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1"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E822-F018-4522-8DE8-D73470C9F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9"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3031-06E9-45C7-B37D-BA7F8AB7F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EEDE-0E17-4BBC-BD96-715B9AEE3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9"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44495-E6A5-463A-8667-D7E0C9DB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3"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B9EC-47B1-458E-B58B-5AE133F21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6"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985B2-0D3D-418E-8A84-5634ED14C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1"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CE6ED-8965-4E74-AD88-0E8C6D6B8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1"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B522-0DD1-419F-B9FD-3B9FA104C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3"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A33FD-1A69-4C14-B7ED-B3FAC25D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1E28-AEE0-42DB-A052-91E35EF60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7E45-DB3B-4E8A-9390-94BE0BEE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AC88C-40F1-4519-B2CB-9DCCB301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8260-ECC1-46BC-B1A1-4CB6ED5A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6"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0239-C32E-4CDD-848B-2939D70E2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8BCD-2F00-4515-A6AD-D70BC1B4B0A3}"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0" t="0" r="13799" b="0"/>
          <a:stretch/>
        </p:blipFill>
        <p:spPr>
          <a:xfrm>
            <a:off x="6292800" y="-1440"/>
            <a:ext cx="2857680" cy="6868800"/>
          </a:xfrm>
          <a:prstGeom prst="rect">
            <a:avLst/>
          </a:prstGeom>
          <a:ln w="0">
            <a:noFill/>
          </a:ln>
        </p:spPr>
      </p:pic>
      <p:pic>
        <p:nvPicPr>
          <p:cNvPr id="45" name="" descr=""/>
          <p:cNvPicPr/>
          <p:nvPr/>
        </p:nvPicPr>
        <p:blipFill>
          <a:blip r:embed="rId3"/>
          <a:stretch/>
        </p:blipFill>
        <p:spPr>
          <a:xfrm>
            <a:off x="0" y="0"/>
            <a:ext cx="9144000" cy="6858000"/>
          </a:xfrm>
          <a:prstGeom prst="rect">
            <a:avLst/>
          </a:prstGeom>
          <a:ln w="0">
            <a:noFill/>
          </a:ln>
        </p:spPr>
      </p:pic>
      <p:sp>
        <p:nvSpPr>
          <p:cNvPr id="4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7"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6112-A241-41CA-B65D-9A6F3A54F312}"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8600" y="4724280"/>
            <a:ext cx="6400800" cy="1905120"/>
          </a:xfrm>
          <a:prstGeom prst="rect">
            <a:avLst/>
          </a:prstGeom>
          <a:noFill/>
          <a:ln w="0">
            <a:noFill/>
          </a:ln>
        </p:spPr>
        <p:txBody>
          <a:bodyPr lIns="90000" rIns="90000" tIns="46800" bIns="46800" anchor="t">
            <a:noAutofit/>
          </a:bodyPr>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Μεταβατικό διάστημα</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από την Γ’ στην  Δ’</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ρογραμματική Περίοδο</a:t>
            </a:r>
            <a:endParaRPr b="0" lang="en-US" sz="3200" spc="-1" strike="noStrike">
              <a:solidFill>
                <a:srgbClr val="000000"/>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3192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ΓΕΝΙΚΕΣ ΠΑΡΑΤΗΡΗΣΕΙΣ (2)</a:t>
            </a:r>
            <a:endParaRPr b="1" lang="en-US" sz="2800" spc="-1" strike="noStrike">
              <a:solidFill>
                <a:srgbClr val="336600"/>
              </a:solidFill>
              <a:latin typeface="UB-Front"/>
            </a:endParaRPr>
          </a:p>
        </p:txBody>
      </p:sp>
      <p:sp>
        <p:nvSpPr>
          <p:cNvPr id="114" name="PlaceHolder 2"/>
          <p:cNvSpPr>
            <a:spLocks noGrp="1"/>
          </p:cNvSpPr>
          <p:nvPr>
            <p:ph/>
          </p:nvPr>
        </p:nvSpPr>
        <p:spPr>
          <a:xfrm>
            <a:off x="684000" y="1916280"/>
            <a:ext cx="784836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α έργα και υποέργα των κρατικών ενισχύσεων (επενδυτικά σχέδια) που έχουν ενταχθεί ή προγραμματίζεται να ενταχθούν στο Γ’ ΚΠΣ, αλλά, λόγω της σταδιακής μείωσης του ύψους των υπερδεσμεύσεων των ΕΠ του Γ’ ΚΠΣ, θα μετακινηθούν εξ’ ολοκλήρου σε ΕΠ του ΕΣΠΑ. </a:t>
            </a:r>
            <a:endParaRPr b="0" lang="en-US" sz="2400" spc="-1" strike="noStrike">
              <a:solidFill>
                <a:srgbClr val="000000"/>
              </a:solidFill>
              <a:latin typeface="Arial"/>
            </a:endParaRPr>
          </a:p>
          <a:p>
            <a:pPr marL="343080" indent="-343080" algn="ctr">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ιπά έργα εγγεγραμμένα  στην ΣΑ09 που  ικανοποιούν και τα νέα κριτήρια επιλογής.</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4724280"/>
            <a:ext cx="6400800" cy="1905120"/>
          </a:xfrm>
          <a:prstGeom prst="rect">
            <a:avLst/>
          </a:prstGeom>
          <a:noFill/>
          <a:ln w="0">
            <a:noFill/>
          </a:ln>
        </p:spPr>
        <p:txBody>
          <a:bodyPr lIns="90000" rIns="90000" tIns="46800" bIns="46800" anchor="t">
            <a:noAutofit/>
          </a:bodyPr>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Μεταβατικό διάστημα</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από την Γ’ στην  Δ’</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ρογραμματική Περίοδο</a:t>
            </a:r>
            <a:endParaRPr b="0" lang="en-US" sz="32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632880"/>
            <a:ext cx="784872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ΟΜΑΛΗ ΕΝΑΡΞΗ ΕΠΙΧΕΙΡΗΣΙΑΚΩΝ ΠΡΟΓΡΑΜΜΑΤΩΝ</a:t>
            </a:r>
            <a:r>
              <a:rPr b="1" lang="en-US" sz="4400" spc="-1" strike="noStrike">
                <a:solidFill>
                  <a:srgbClr val="336600"/>
                </a:solidFill>
                <a:latin typeface="UB-Front"/>
              </a:rPr>
              <a:t> </a:t>
            </a:r>
            <a:endParaRPr b="1" lang="en-US" sz="4400" spc="-1" strike="noStrike">
              <a:solidFill>
                <a:srgbClr val="336600"/>
              </a:solidFill>
              <a:latin typeface="UB-Front"/>
            </a:endParaRPr>
          </a:p>
        </p:txBody>
      </p:sp>
      <p:sp>
        <p:nvSpPr>
          <p:cNvPr id="96" name="PlaceHolder 2"/>
          <p:cNvSpPr>
            <a:spLocks noGrp="1"/>
          </p:cNvSpPr>
          <p:nvPr>
            <p:ph/>
          </p:nvPr>
        </p:nvSpPr>
        <p:spPr>
          <a:xfrm>
            <a:off x="900000" y="1904760"/>
            <a:ext cx="7632720" cy="353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400" spc="-1" strike="noStrike">
                <a:solidFill>
                  <a:srgbClr val="000000"/>
                </a:solidFill>
                <a:latin typeface="Times New Roman"/>
              </a:rPr>
              <a:t>Από 1/1/2007 έως την έγκριση των Επιχειρησιακών Προγραμμάτων της νέας προγραμματικής περιόδου</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υνατότητα εγγραφής στο ΠΔΕ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ώριμων έργων προϋπολογισμού </a:t>
            </a:r>
            <a:r>
              <a:rPr b="1" lang="en-US" sz="2400" spc="-1" strike="noStrike">
                <a:solidFill>
                  <a:srgbClr val="000000"/>
                </a:solidFill>
                <a:latin typeface="Times New Roman"/>
              </a:rPr>
              <a:t>(</a:t>
            </a:r>
            <a:r>
              <a:rPr b="1" lang="el-GR" sz="2400" spc="-1" strike="noStrike">
                <a:solidFill>
                  <a:srgbClr val="000000"/>
                </a:solidFill>
                <a:latin typeface="Times New Roman"/>
              </a:rPr>
              <a:t>με εξαίρεση τα έργα περιβάλλοντος) άνω των 3 εκ. €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txBox="1"/>
          <p:nvPr/>
        </p:nvSpPr>
        <p:spPr>
          <a:xfrm>
            <a:off x="611280" y="2492280"/>
            <a:ext cx="8532720" cy="316872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920" y="87696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1)</a:t>
            </a:r>
            <a:endParaRPr b="1" lang="en-US" sz="2800" spc="-1" strike="noStrike">
              <a:solidFill>
                <a:srgbClr val="336600"/>
              </a:solidFill>
              <a:latin typeface="UB-Front"/>
            </a:endParaRPr>
          </a:p>
        </p:txBody>
      </p:sp>
      <p:sp>
        <p:nvSpPr>
          <p:cNvPr id="99" name="PlaceHolder 2"/>
          <p:cNvSpPr>
            <a:spLocks noGrp="1"/>
          </p:cNvSpPr>
          <p:nvPr>
            <p:ph/>
          </p:nvPr>
        </p:nvSpPr>
        <p:spPr>
          <a:xfrm>
            <a:off x="610920" y="2133720"/>
            <a:ext cx="7846920" cy="280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Α)</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Έργα, για τα οποία εκπονήθηκαν οι απαραίτητες μελέτες προετοιμασίας / ωρίμανσης στο πλαίσιο του Μέτρου «Μελέτες Ωρίμανσης και Προετοιμασίας» των Ε.Π. του Γ’ ΚΠΣ. </a:t>
            </a:r>
            <a:endParaRPr b="0" lang="en-US" sz="24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532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2)</a:t>
            </a:r>
            <a:endParaRPr b="1" lang="en-US" sz="2800" spc="-1" strike="noStrike">
              <a:solidFill>
                <a:srgbClr val="336600"/>
              </a:solidFill>
              <a:latin typeface="UB-Front"/>
            </a:endParaRPr>
          </a:p>
        </p:txBody>
      </p:sp>
      <p:sp>
        <p:nvSpPr>
          <p:cNvPr id="101" name="PlaceHolder 2"/>
          <p:cNvSpPr>
            <a:spLocks noGrp="1"/>
          </p:cNvSpPr>
          <p:nvPr>
            <p:ph/>
          </p:nvPr>
        </p:nvSpPr>
        <p:spPr>
          <a:xfrm>
            <a:off x="685800" y="1915920"/>
            <a:ext cx="7848720" cy="40273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 Έργα ενισχύσεων ΜΜΕ και Επενδυτικού Νόμου 3299/04, όπως τροποποιήθηκε.</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Γ) Έργα υποδομής, για τα οποία έχουν εκπονηθεί οι αναγκαίες μελέτες προετοιμασίας/ωρίμανσης με χρηματοδότηση από εθνικούς πόρους</a:t>
            </a:r>
            <a:endParaRPr b="0" lang="en-US" sz="24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0532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3)</a:t>
            </a:r>
            <a:endParaRPr b="1" lang="en-US" sz="2800" spc="-1" strike="noStrike">
              <a:solidFill>
                <a:srgbClr val="336600"/>
              </a:solidFill>
              <a:latin typeface="UB-Front"/>
            </a:endParaRPr>
          </a:p>
        </p:txBody>
      </p:sp>
      <p:sp>
        <p:nvSpPr>
          <p:cNvPr id="103"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Δ) Μελέτες προετοιμασίας/ωρίμανσης, κατά προτεραιότητα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έργων περιβάλλοντος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ελτίωσης ποιότητας ζωής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στικής ανάπτυξης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σε τομείς όπου παρουσιάζονται ελλείψεις ώριμων έργων.</a:t>
            </a:r>
            <a:endParaRPr b="0" lang="en-US" sz="24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871560"/>
            <a:ext cx="784836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1)</a:t>
            </a:r>
            <a:endParaRPr b="1" lang="en-US" sz="2800" spc="-1" strike="noStrike">
              <a:solidFill>
                <a:srgbClr val="336600"/>
              </a:solidFill>
              <a:latin typeface="UB-Front"/>
            </a:endParaRPr>
          </a:p>
        </p:txBody>
      </p:sp>
      <p:sp>
        <p:nvSpPr>
          <p:cNvPr id="105" name="PlaceHolder 2"/>
          <p:cNvSpPr>
            <a:spLocks noGrp="1"/>
          </p:cNvSpPr>
          <p:nvPr>
            <p:ph/>
          </p:nvPr>
        </p:nvSpPr>
        <p:spPr>
          <a:xfrm>
            <a:off x="755280" y="1557360"/>
            <a:ext cx="7126200" cy="876240"/>
          </a:xfrm>
          <a:prstGeom prst="rect">
            <a:avLst/>
          </a:prstGeom>
          <a:noFill/>
          <a:ln w="0">
            <a:noFill/>
          </a:ln>
        </p:spPr>
        <p:txBody>
          <a:bodyPr lIns="90000" rIns="90000" tIns="46800" bIns="46800" anchor="t">
            <a:normAutofit fontScale="35000"/>
          </a:bodyPr>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Υποβολή προτάσεων από τους φορείς, με χρήση των ΤΔΕ του Γ’ ΚΠΣ, στην αρμόδια ΔΑ</a:t>
            </a: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Αξιολόγηση των προτάσεων εγγραφής στις ΣΑ από την Ομάδα Σχεδιασμού του Προγράμματος &amp; έγγραφη κοινοποίηση της γνώμης στην ΔΑ</a:t>
            </a: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6" name=""/>
          <p:cNvGraphicFramePr/>
          <p:nvPr/>
        </p:nvGraphicFramePr>
        <p:xfrm>
          <a:off x="755640" y="4149720"/>
          <a:ext cx="7488360" cy="1008000"/>
        </p:xfrm>
        <a:graphic>
          <a:graphicData uri="http://schemas.openxmlformats.org/drawingml/2006/table">
            <a:tbl>
              <a:tblPr/>
              <a:tblGrid>
                <a:gridCol w="1069920"/>
                <a:gridCol w="1069920"/>
                <a:gridCol w="1069920"/>
                <a:gridCol w="1068480"/>
                <a:gridCol w="1069920"/>
                <a:gridCol w="1070280"/>
                <a:gridCol w="1069920"/>
              </a:tblGrid>
              <a:tr h="5047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03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5640" y="1773360"/>
            <a:ext cx="7632720" cy="374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3. Αξιολόγηση από την ΔΑ των θετικά αξιολογημένων από την ΟΣΠ προτάσεων, βάσει των κριτηρίων επιλογής των πράξεων του Γ’ ΚΠΣ &amp; όσων επιπλέον απαιτούνται από το Δ 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Έγγραφη διατύπωση της σύμφωνης γνώμης Δ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για την εγγραφή των προτάσεων στο ΠΔΕ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Εξασφάλιση σύμφωνης γνώμης της ΔΑ του 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title"/>
          </p:nvPr>
        </p:nvSpPr>
        <p:spPr>
          <a:xfrm>
            <a:off x="539640" y="103680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2)</a:t>
            </a:r>
            <a:endParaRPr b="1" lang="en-US" sz="2800" spc="-1" strike="noStrike">
              <a:solidFill>
                <a:srgbClr val="336600"/>
              </a:solidFill>
              <a:latin typeface="UB-Front"/>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871560"/>
            <a:ext cx="784836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3)</a:t>
            </a:r>
            <a:endParaRPr b="1" lang="en-US" sz="2800" spc="-1" strike="noStrike">
              <a:solidFill>
                <a:srgbClr val="336600"/>
              </a:solidFill>
              <a:latin typeface="UB-Front"/>
            </a:endParaRPr>
          </a:p>
        </p:txBody>
      </p:sp>
      <p:sp>
        <p:nvSpPr>
          <p:cNvPr id="110" name="PlaceHolder 2"/>
          <p:cNvSpPr>
            <a:spLocks noGrp="1"/>
          </p:cNvSpPr>
          <p:nvPr>
            <p:ph/>
          </p:nvPr>
        </p:nvSpPr>
        <p:spPr>
          <a:xfrm>
            <a:off x="684360" y="1916280"/>
            <a:ext cx="7775280" cy="396216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Εγγραφή στο ΠΔΕ</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Διενέργεια προληπτικών  ελέγχων από την ΔΑ του Επιχειρησιακού Προγράμματος για τα στάδια εξέλιξης των έργων, προκειμένου να διασφαλιστεί η νομιμότητα &amp; κανονικότητα των δαπανών τους </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Ένταξη έργων στο εγκεκριμένο Επιχειρησιακό Πρόγραμμα </a:t>
            </a:r>
            <a:endParaRPr b="0" lang="en-US" sz="2400" spc="-1" strike="noStrike">
              <a:solidFill>
                <a:srgbClr val="000000"/>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3192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ΓΕΝΙΚΕΣ ΠΑΡΑΤΗΡΗΣΕΙΣ (1)</a:t>
            </a:r>
            <a:endParaRPr b="1" lang="en-US" sz="2800" spc="-1" strike="noStrike">
              <a:solidFill>
                <a:srgbClr val="336600"/>
              </a:solidFill>
              <a:latin typeface="UB-Front"/>
            </a:endParaRPr>
          </a:p>
        </p:txBody>
      </p:sp>
      <p:sp>
        <p:nvSpPr>
          <p:cNvPr id="112" name="PlaceHolder 2"/>
          <p:cNvSpPr>
            <a:spLocks noGrp="1"/>
          </p:cNvSpPr>
          <p:nvPr>
            <p:ph/>
          </p:nvPr>
        </p:nvSpPr>
        <p:spPr>
          <a:xfrm>
            <a:off x="610920" y="1916280"/>
            <a:ext cx="784836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Μετά την έγκριση των νέων Επιχειρησιακών Προγραμμάτων, θα χρηματοδοτηθούν κατά προτεραιότητα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τα «έργα γέφυρες» που έχουν ήδη συμφωνηθεί με Ε.Ε. </a:t>
            </a:r>
            <a:endParaRPr b="0" lang="en-US" sz="2400" spc="-1" strike="noStrike">
              <a:solidFill>
                <a:srgbClr val="000000"/>
              </a:solidFill>
              <a:latin typeface="Arial"/>
            </a:endParaRPr>
          </a:p>
          <a:p>
            <a:pPr marL="343080" indent="-343080" algn="ctr">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τα αντίστοιχα έργα των μελετών ωρίμανσης, που χρηματοδοτήθηκαν από το Γ΄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ROKKOU ELENI</cp:lastModifiedBy>
  <dcterms:modified xsi:type="dcterms:W3CDTF">2007-05-10T11:31:31Z</dcterms:modified>
  <cp:revision>166</cp:revision>
  <dc:subject/>
  <dc:title>Παρουσίαση του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erokkou@mou.gr</vt:lpwstr>
  </property>
  <property fmtid="{D5CDD505-2E9C-101B-9397-08002B2CF9AE}" pid="3" name="_AuthorEmailDisplayName">
    <vt:lpwstr>ΡΟΚΚΟΥ ΕΛΕΝΗ</vt:lpwstr>
  </property>
  <property fmtid="{D5CDD505-2E9C-101B-9397-08002B2CF9AE}" pid="4" name="_EmailEntryID">
    <vt:lpwstr>0000000080A0718C773BF0439C37C246440082F004E4B200</vt:lpwstr>
  </property>
  <property fmtid="{D5CDD505-2E9C-101B-9397-08002B2CF9AE}" pid="5" name="_EmailSubject">
    <vt:lpwstr>Αναθεωρήστε το 'foto Εleni'</vt:lpwstr>
  </property>
  <property fmtid="{D5CDD505-2E9C-101B-9397-08002B2CF9AE}" pid="6" name="_NewReviewCycle">
    <vt:lpwstr/>
  </property>
  <property fmtid="{D5CDD505-2E9C-101B-9397-08002B2CF9AE}" pid="7" name="_ReviewCycleID">
    <vt:r8>1515400842</vt:r8>
  </property>
  <property fmtid="{D5CDD505-2E9C-101B-9397-08002B2CF9AE}" pid="8" name="_TentativeReviewCycleID">
    <vt:r8>1515400842</vt:r8>
  </property>
</Properties>
</file>