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DDE2-3E6B-4BDC-8514-3F32C21EBA9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76240" y="779400"/>
            <a:ext cx="4889520" cy="3667320"/>
          </a:xfrm>
          <a:prstGeom prst="rect">
            <a:avLst/>
          </a:prstGeom>
          <a:ln w="0">
            <a:noFill/>
          </a:ln>
        </p:spPr>
      </p:sp>
      <p:sp>
        <p:nvSpPr>
          <p:cNvPr id="12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επόμενη προγραμματική περίοδο, 2007-2013 οι νέοι στόχοι που έχουν τεθεί στο πλαίσιο της Πολιτικής Συνοχής, είναι οι εξής τρει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σύγκλι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τοπικής ανταγωνιστικότητας και της απασχόλη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εδαφικής  συνεργασί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χετικά με το πλαίσιο βοήθειας και στήριξης, ο στόχος της Ευρωπαϊκής Εδαφικής Συνεργασίας της περιόδου 2007-2013 επικεντρώνεται, ως προς τις επιδιώξεις του Ε.Τ.Π.Α.  στους κάτωθι τομεί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πτυξη διασυνοριακών οικονομικών, κοινωνικών, περιβαλλοντικών και πολιτιστικών δραστηριοτήτων, μέσω συνεργασιών για την αειφόρο χωρική ανάπτυξη (Διασυνοριακά προγράμμα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υνάμωση των διεθνικών συνεργασιών, διαμέσου της ανάπτυξης δράσεων που σχετίζονται με Κοινοτικές προτεραιότητες και της προώθησης της χωρικής συνεργασίας και ενσωμάτωσης (διακρατικά προγράμμα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ανατοποθέτηση της αποδοτικότητας της περιφερειακής πολιτικής μέσα από την προώθηση της διαπεριφερειακής συνεργασίας, και την ανταλλαγή εμπειριών στο αρμόζον χωρικό επίπεδο. (διαπεριφερειακά προγράμματα)</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76240" y="779400"/>
            <a:ext cx="4889520" cy="3667320"/>
          </a:xfrm>
          <a:prstGeom prst="rect">
            <a:avLst/>
          </a:prstGeom>
          <a:ln w="0">
            <a:noFill/>
          </a:ln>
        </p:spPr>
      </p:sp>
      <p:sp>
        <p:nvSpPr>
          <p:cNvPr id="12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προς τις επιδιώξεις του Ε.Τ.Π.Α, ο στόχος της 3 της περιόδου 2007-2013 επικεντρώνεται,  σε βασικούς τομείς οικονομικής, κοινωνικής και περιβαλλοντικής ανάπτυξης και πιο αναλυτικά στα εξής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άπτυξη διασυνοριακών οικονομικών, κοινωνικών, περιβαλλοντικών και πολιτιστικών δραστηριοτήτων, μέσω συνεργασιών για την αειφόρο χωρική ανάπτυξη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δυνάμωση των διεθνικών συνεργασιών, διαμέσου της ανάπτυξης δράσεων που σχετίζονται με Κοινοτικές προτεραιότητες και της προώθησης της χωρικής συνεργασίας και ενσωμάτω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ανατοποθέτηση της αποδοτικότητας της περιφερειακής πολιτικής μέσα από την προώθηση της διαπεριφερειακής συνεργασίας, και την ανταλλαγή εμπειριών στο αρμόζον χωρικό επίπεδο.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Διασυνοριακά Προγράμματα του Στόχου 3 θα προσφέρουν βοήθεια στους τομείς της οικονομικής, κοινωνικής και περιβαλλοντικής ανάπτυξης και πιο αναλυτικά: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ενθάρρυνση της επιχειρηματικότητας, κυρίως των ΜΜΕ, στον τουρισμό, τον πολιτισμό και το διασυνοριακό εμπόριο.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ενθάρρυνση και τη βελτίωση της κοινής προστασίας και διαχείρισης του περιβάλλοντο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ανάπτυξη δεσμών ανάμεσα στις αστικές και τις αγροτικές περιοχέ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 μείωση της απομόνωσης μέσω βελτίωσης στη πρόσβαση στις μεταφορές, την πληροφορία και τις επικοινωνίε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συνεργασία, για την ανάπτυξη και κοινή χρήσης υποδομών, ειδικά στους τομείς της υγείας, του πολιτισμού, του τουρισμού και της εκπαίδευση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 διασυνοριακή συνεργασία σε θέματα διαχείρισης υδάτων και συστημάτων ενέργε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ιπλέον, το Ε.Τ.Π.Α. δύναται να χρηματοδοτεί δράσεις που σχετίζονται με την προώθηση της νομικής και διοικητικής συνεργασίας, με την ενσωμάτωση των διασυνοριακών αγορών εργασίας, με τις πρωτοβουλίες τοπικής απασχόλησης, τις ίσες ευκαιρίες, την κατάρτιση, με την κοινωνική ενσωμάτωση και την κοινή αξιοποίηση υποδομών και ανθρώπινων πόρων στην έρευνα και την ανάπτυξη.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εριοχή συνεργασίας του Διασυνοριακού Προγράμματος Ελλάδα – Ιταλία περιλαμβάνει τρεις χωρικές ενότητες </a:t>
            </a:r>
            <a:r>
              <a:rPr b="0" lang="en-US" sz="1200" spc="-1" strike="noStrike">
                <a:solidFill>
                  <a:srgbClr val="000000"/>
                </a:solidFill>
                <a:latin typeface="Times New Roman"/>
              </a:rPr>
              <a:t>NUTS II</a:t>
            </a:r>
            <a:r>
              <a:rPr b="0" lang="el-GR" sz="1200" spc="-1" strike="noStrike">
                <a:solidFill>
                  <a:srgbClr val="000000"/>
                </a:solidFill>
                <a:latin typeface="Times New Roman"/>
              </a:rPr>
              <a:t> (Ιόνια Νησιά, Ήπειρος και Δυτική Ελλάδα) και τρεις χωρικές ενότητες Ν</a:t>
            </a:r>
            <a:r>
              <a:rPr b="0" lang="en-US" sz="1200" spc="-1" strike="noStrike">
                <a:solidFill>
                  <a:srgbClr val="000000"/>
                </a:solidFill>
                <a:latin typeface="Times New Roman"/>
              </a:rPr>
              <a:t>UTS II</a:t>
            </a:r>
            <a:r>
              <a:rPr b="0" lang="el-GR" sz="1200" spc="-1" strike="noStrike">
                <a:solidFill>
                  <a:srgbClr val="000000"/>
                </a:solidFill>
                <a:latin typeface="Times New Roman"/>
              </a:rPr>
              <a:t> (Περιφέρεια Απουλίας με επιλέξιμες επαρχίες Λέτσε., Μπάρι, Μπρίντεζι). Οι τρείς επιλέξιμες περιφέρειες από την ελληνική πλευρά, αλλά  και η ευρύτερη περιφέρεια της Απουλίας στην οποία ανήκουν οι επιλέξιμες ιταλικές περιοχές , αποτελούν περιφέρειες αμιγούς στόχου 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a:t>
            </a:r>
            <a:r>
              <a:rPr b="0" lang="el-GR" sz="900" spc="-1" strike="noStrike" u="sng">
                <a:solidFill>
                  <a:srgbClr val="000000"/>
                </a:solidFill>
                <a:uFillTx/>
                <a:latin typeface="Times New Roman"/>
              </a:rPr>
              <a:t>αναπτυξιακό όραμα</a:t>
            </a:r>
            <a:r>
              <a:rPr b="0" lang="el-GR" sz="900" spc="-1" strike="noStrike">
                <a:solidFill>
                  <a:srgbClr val="000000"/>
                </a:solidFill>
                <a:latin typeface="Times New Roman"/>
              </a:rPr>
              <a:t> για την περιοχή συνεργασίας κατά την προγραμματική περίοδο 2007-2013 είναι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 ενίσχυση της ανταγωνιστικότητας της περιοχής, της εδαφικής συνοχής και της αειφόρου ανάπτυξης  μέσω της σύζευξης του δυναμικού εκατέρωθεν της διασυνοριακής γραμμ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ρόγραμμα υπό την έννοια αυτή φιλοδοξεί να αποτελέσει τον καταλύτη για την ενεργοποίηση του κοινωνικο-οικονομικού κεφαλαίου των επιμέρους περιφερειών και επαρχιών της περιοχής συνεργασίας παρέχοντας ένα πλαίσιο σύζευξης του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αναπτυξιακό όραμα εξειδικεύεται σε 5 </a:t>
            </a:r>
            <a:r>
              <a:rPr b="1" lang="el-GR" sz="900" spc="-1" strike="noStrike">
                <a:solidFill>
                  <a:srgbClr val="000000"/>
                </a:solidFill>
                <a:latin typeface="Times New Roman"/>
              </a:rPr>
              <a:t>γενικούς στόχους</a:t>
            </a:r>
            <a:r>
              <a:rPr b="0" lang="el-GR" sz="900" spc="-1" strike="noStrike">
                <a:solidFill>
                  <a:srgbClr val="000000"/>
                </a:solidFill>
                <a:latin typeface="Times New Roman"/>
              </a:rPr>
              <a:t>, οι οποίοι αποτελούν το μίγμα πολιτικής για την προσπάθεια σύγκλισης της επιλέξιμων περιοχών της διασυνοριακής περιοχής:</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προσβασιμότητας σε δίκτυα και υπηρεσίες στην περιοχή συνεργασίας με στόχο τη διευκόλυνση της κινητικότητας αγαθών και ανθρώπων</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διαθεσιμότητας και διάχυσης πληροφορίας για ευκαιρίες κοινών δράσεων στη διασυνοριακή περιοχή συνεργασίας</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ποιότητας ζωής των κατοίκων των επιλέξιμων περιοχών μέσω της διατήρησης των φυσικών πόρων με διακριτική ανάπτυξη και αποτελεσματική προστασία του περιβάλλοντος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ειφόρος οικονομική ανάπτυξη με κοινές παρεμβάσεις που εντοπίζουν και αναδεικνύουν συγκριτικά πλεονεκτήματα και περιορίζουν μειονεκτήματα</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Κοινωνική και πολιτιστική συνοχή μέσω συνεργατικών παρεμβάσεων</a:t>
            </a:r>
            <a:endParaRPr b="0" lang="en-US" sz="900" spc="-1" strike="noStrike">
              <a:solidFill>
                <a:srgbClr val="000000"/>
              </a:solidFill>
              <a:latin typeface="Times New Roman"/>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πέντε στρατηγικοί στόχοι συναρθρώνονται σε τέσσερις άξονες προτεραιότητας, που είναι οι ακόλουθοι:</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1</a:t>
            </a:r>
            <a:r>
              <a:rPr b="0" lang="el-GR" sz="900" spc="-1" strike="noStrike">
                <a:solidFill>
                  <a:srgbClr val="000000"/>
                </a:solidFill>
                <a:latin typeface="Times New Roman"/>
              </a:rPr>
              <a:t>:   Ενίσχυση της ανταγωνιστικότητας και καινοτομία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2</a:t>
            </a:r>
            <a:r>
              <a:rPr b="0" lang="el-GR" sz="900" spc="-1" strike="noStrike">
                <a:solidFill>
                  <a:srgbClr val="000000"/>
                </a:solidFill>
                <a:latin typeface="Times New Roman"/>
              </a:rPr>
              <a:t>:  Βελτίωση προσβασιμότητας. Προστασία των φυσικών πόρων και της ποιότητας ζω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3</a:t>
            </a:r>
            <a:r>
              <a:rPr b="0" lang="el-GR" sz="900" spc="-1" strike="noStrike">
                <a:solidFill>
                  <a:srgbClr val="000000"/>
                </a:solidFill>
                <a:latin typeface="Times New Roman"/>
              </a:rPr>
              <a:t>:  Προώθηση δικτύων και υπηρεσι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4</a:t>
            </a:r>
            <a:r>
              <a:rPr b="0" lang="el-GR" sz="900" spc="-1" strike="noStrike">
                <a:solidFill>
                  <a:srgbClr val="000000"/>
                </a:solidFill>
                <a:latin typeface="Times New Roman"/>
              </a:rPr>
              <a:t>:  Τεχνική Υποστήριξη Εφαρμογής</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πως αναφέρθηκε και στην αρχή της παρουσίασης στην περιοχή συνεργασίας  δεσμεύονται συνολικοί πόροι (δημόσιας δαπάνης) ύψους 118.606.893€ με κοινοτική συνδρομή ύψους 88.955.171€.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ιεράρχηση των αξόνων προτεραιότητας καταδεικνύεται από την κατανομή των πόρων δηλαδή από τη χρηματοδοτική τους βαρύτητα στο σύνολο του προγράμματος:</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ημαντικότερος σε όρους χρηματοδοτικής βαρύτητας αναδεικνύεται ο Άξονας Προτεραιότητας 2 «Βελτίωση προσβασιμότητας. Προστασία των φυσικών πόρων και της ποιότητας ζωής», ο οποίος δεσμεύει περίπου το 40% των συνολικών πόρων</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υπόλοιποι δύο άξονες έχουν σχεδόν ισοδύναμη σημαντικότητα με κάποια υπεροχή του Άξονα Προτεραιότητας 1, «Ενίσχυση ανταγωνιστικότητας», ο οποίος δεσμεύει το 30% της συνολικής δημόσιας δαπάνης, ενώ ο Άξονας Προτεραιότητας 3 «Προώθηση δικτύων –υπηρεσιών», δεσμεύει το 24% της συνολικής δημόσιας δαπάνη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η μικρότερη χρηματοδοτική βαρύτητα σημειώνει ο άξονας Τεχνικής Υποστήριξης ο οποίος δεσμεύσει περίπου το 6% της ΄συνολικής δημόσιας δαπάνης</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0EFE5-5FCA-49FF-99EF-31C64FD4D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22B68-000D-4B02-AB7F-FDE3E0BC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00787-1792-4D89-B797-C62D6FA47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C6024-D130-4B00-BB98-A87EBE4E3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95222-75EE-4DBF-8754-9EDE86FFC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D2F88-A762-4A6A-B25D-72DC1314B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E8A89-F848-425F-B5E2-0C56FF7C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4072F-673E-4CF5-A155-72A3AF6A1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4DC1D-2DC8-44C0-AC4C-546FA754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2F483-2B60-4C11-B6DC-C9542D026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26A84-0B5C-4FBD-BB51-878405539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2AE09-826C-4E70-91E6-32FACE000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F375-B368-49B8-98CA-25951F89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D174A-145D-41CD-9C88-3F858592C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E1B05-9610-4AD2-A424-8BF1933FC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89A20-C0B4-45C6-B82B-D6D9108DC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1942E-0268-4BE4-B9D8-716964D65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21137-7108-4788-B2C3-BCD96D21C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B6DC-E28A-4AB3-BB37-02D697E2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BC771-87F4-47FF-A327-5C3A3F74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A0D5-A8A2-414D-9A3E-EC167DDD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C188-23F7-41B6-84B2-D5B73AA7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F396-C89A-48A9-8B8F-629931A0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6A8D9-92D6-4256-9F01-9B49F992C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50EE-3B4C-4375-A0F4-17C49F52D9F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F890-F403-44CB-BD9B-13E37180446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5280" y="2060280"/>
            <a:ext cx="8748720" cy="1143000"/>
          </a:xfrm>
          <a:prstGeom prst="rect">
            <a:avLst/>
          </a:prstGeom>
          <a:noFill/>
          <a:ln w="0">
            <a:noFill/>
          </a:ln>
        </p:spPr>
        <p:txBody>
          <a:bodyPr lIns="90000" rIns="90000" tIns="46800" bIns="46800" anchor="t">
            <a:normAutofit/>
          </a:bodyPr>
          <a:p>
            <a:pPr marL="4572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rPr>
              <a:t>Πρόγραμμα Ευρωπαϊκής Εδαφικής Συνεργασίας </a:t>
            </a:r>
            <a:br>
              <a:rPr sz="3200"/>
            </a:br>
            <a:br>
              <a:rPr sz="3200"/>
            </a:br>
            <a:r>
              <a:rPr b="1" i="1" lang="en-US" sz="3200" spc="-1" strike="noStrike">
                <a:solidFill>
                  <a:srgbClr val="ff9900"/>
                </a:solidFill>
                <a:latin typeface="Times New Roman"/>
              </a:rPr>
              <a:t>ΕΛΛΑΔΑ – ΙΤΑΛΙΑ 2007-2013</a:t>
            </a:r>
            <a:endParaRPr b="0" lang="en-US" sz="32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
        <p:nvSpPr>
          <p:cNvPr id="99" name=""/>
          <p:cNvSpPr/>
          <p:nvPr/>
        </p:nvSpPr>
        <p:spPr>
          <a:xfrm>
            <a:off x="539640" y="5734080"/>
            <a:ext cx="3456000" cy="9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2523" t="16026" r="26208" b="45133"/>
          <a:stretch/>
        </p:blipFill>
        <p:spPr>
          <a:xfrm>
            <a:off x="684360" y="1700280"/>
            <a:ext cx="7993080" cy="32670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838080"/>
            <a:ext cx="807732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Διαχείριση και Παρακολούθηση του Προγράμματος</a:t>
            </a:r>
            <a:r>
              <a:rPr b="1"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116" name="PlaceHolder 2"/>
          <p:cNvSpPr>
            <a:spLocks noGrp="1"/>
          </p:cNvSpPr>
          <p:nvPr>
            <p:ph/>
          </p:nvPr>
        </p:nvSpPr>
        <p:spPr>
          <a:xfrm>
            <a:off x="1066680" y="1699920"/>
            <a:ext cx="7772400" cy="4516200"/>
          </a:xfrm>
          <a:prstGeom prst="rect">
            <a:avLst/>
          </a:prstGeom>
          <a:noFill/>
          <a:ln w="0">
            <a:noFill/>
          </a:ln>
        </p:spPr>
        <p:txBody>
          <a:bodyPr lIns="90000" rIns="90000" tIns="46800" bIns="46800" anchor="t">
            <a:normAutofit/>
          </a:bodyPr>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Επιτροπή Παρακολούθησης</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Διαχειριστική Αρχή</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Αρχή Πιστοποίησης</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Αρχή Ελέγχου</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Δημοσιονομική Ομάδα Ελεγκτών</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Κοινή Τεχνική Γραμματεία</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Ενδιάμεσος Φορές Διαχείρισης της Τεχνικής Υποστήριξης Εφαρμογής του Προγράμματος</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060280"/>
            <a:ext cx="8748720" cy="1143000"/>
          </a:xfrm>
          <a:prstGeom prst="rect">
            <a:avLst/>
          </a:prstGeom>
          <a:noFill/>
          <a:ln w="0">
            <a:noFill/>
          </a:ln>
        </p:spPr>
        <p:txBody>
          <a:bodyPr lIns="90000" rIns="90000" tIns="46800" bIns="46800" anchor="t">
            <a:normAutofit/>
          </a:bodyPr>
          <a:p>
            <a:pPr marL="4572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rPr>
              <a:t>Πρόγραμμα Ευρωπαϊκής Εδαφικής Συνεργασίας </a:t>
            </a:r>
            <a:br>
              <a:rPr sz="3200"/>
            </a:br>
            <a:br>
              <a:rPr sz="3200"/>
            </a:br>
            <a:r>
              <a:rPr b="1" i="1" lang="en-US" sz="3200" spc="-1" strike="noStrike">
                <a:solidFill>
                  <a:srgbClr val="ff9900"/>
                </a:solidFill>
                <a:latin typeface="Times New Roman"/>
              </a:rPr>
              <a:t>ΕΛΛΑΔΑ – ΙΤΑΛΙΑ 2007-2013</a:t>
            </a:r>
            <a:endParaRPr b="0" lang="en-US" sz="3200" spc="-1" strike="noStrike">
              <a:solidFill>
                <a:srgbClr val="5b5249"/>
              </a:solidFill>
              <a:latin typeface="Times New Roman"/>
            </a:endParaRPr>
          </a:p>
        </p:txBody>
      </p:sp>
      <p:pic>
        <p:nvPicPr>
          <p:cNvPr id="118" name="Logo Perif550" descr=""/>
          <p:cNvPicPr/>
          <p:nvPr/>
        </p:nvPicPr>
        <p:blipFill>
          <a:blip r:embed="rId1"/>
          <a:stretch/>
        </p:blipFill>
        <p:spPr>
          <a:xfrm>
            <a:off x="6400800" y="5181480"/>
            <a:ext cx="2286000" cy="1195560"/>
          </a:xfrm>
          <a:prstGeom prst="rect">
            <a:avLst/>
          </a:prstGeom>
          <a:ln w="0">
            <a:noFill/>
          </a:ln>
        </p:spPr>
      </p:pic>
      <p:sp>
        <p:nvSpPr>
          <p:cNvPr id="119" name=""/>
          <p:cNvSpPr/>
          <p:nvPr/>
        </p:nvSpPr>
        <p:spPr>
          <a:xfrm>
            <a:off x="539640" y="5734080"/>
            <a:ext cx="3456000" cy="9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1267920"/>
            <a:ext cx="7772400" cy="4948200"/>
          </a:xfrm>
          <a:prstGeom prst="rect">
            <a:avLst/>
          </a:prstGeom>
          <a:noFill/>
          <a:ln w="0">
            <a:noFill/>
          </a:ln>
        </p:spPr>
        <p:txBody>
          <a:bodyPr lIns="90000" rIns="90000" tIns="46800" bIns="46800" anchor="t">
            <a:normAutofit/>
          </a:bodyPr>
          <a:p>
            <a:pPr marL="457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ff9900"/>
                </a:solidFill>
                <a:uFillTx/>
                <a:latin typeface="Times New Roman"/>
              </a:rPr>
              <a:t>Στόχος 3</a:t>
            </a:r>
            <a:r>
              <a:rPr b="1" i="1" lang="el-GR" sz="3200" spc="-1" strike="noStrike">
                <a:solidFill>
                  <a:srgbClr val="ff9900"/>
                </a:solidFill>
                <a:latin typeface="Times New Roman"/>
              </a:rPr>
              <a:t>: Ευρωπαϊκή Εδαφική Συνεργασία</a:t>
            </a:r>
            <a:endParaRPr b="0" lang="en-US" sz="32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5b5249"/>
                </a:solidFill>
                <a:uFillTx/>
                <a:latin typeface="Times New Roman"/>
              </a:rPr>
              <a:t>Διασυνοριακές</a:t>
            </a:r>
            <a:r>
              <a:rPr b="1" i="1" lang="el-GR" sz="2400" spc="-1" strike="noStrike">
                <a:solidFill>
                  <a:srgbClr val="5b5249"/>
                </a:solidFill>
                <a:latin typeface="Times New Roman"/>
              </a:rPr>
              <a:t> οικονομικές, κοινωνικές, περιβαλλοντικές και πολιτιστικές δραστηριότητες, μέσω συνεργασιών για την αειφόρο χωρική ανάπτυξη </a:t>
            </a:r>
            <a:endParaRPr b="0" lang="en-US" sz="24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νδυνάμωση των </a:t>
            </a:r>
            <a:r>
              <a:rPr b="1" i="1" lang="el-GR" sz="2400" spc="-1" strike="noStrike" u="sng">
                <a:solidFill>
                  <a:srgbClr val="5b5249"/>
                </a:solidFill>
                <a:uFillTx/>
                <a:latin typeface="Times New Roman"/>
              </a:rPr>
              <a:t>διεθνικών συνεργασιών</a:t>
            </a:r>
            <a:r>
              <a:rPr b="1" i="1" lang="el-GR" sz="2400" spc="-1" strike="noStrike">
                <a:solidFill>
                  <a:srgbClr val="5b5249"/>
                </a:solidFill>
                <a:latin typeface="Times New Roman"/>
              </a:rPr>
              <a:t>, μέσω δράσεων που σχετίζονται με Κοινοτικές προτεραιότητες και της προώθησης της χωρικής συνεργασίας και ενσωμάτωσης</a:t>
            </a:r>
            <a:endParaRPr b="0" lang="en-US" sz="24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πανατοποθέτηση της αποδοτικότητας της περιφερειακής πολιτικής μέσα από την προώθηση της </a:t>
            </a:r>
            <a:r>
              <a:rPr b="1" i="1" lang="el-GR" sz="2400" spc="-1" strike="noStrike" u="sng">
                <a:solidFill>
                  <a:srgbClr val="5b5249"/>
                </a:solidFill>
                <a:uFillTx/>
                <a:latin typeface="Times New Roman"/>
              </a:rPr>
              <a:t>διαπεριφερειακής συνεργασίας</a:t>
            </a:r>
            <a:r>
              <a:rPr b="1" i="1" lang="el-GR" sz="2400" spc="-1" strike="noStrike">
                <a:solidFill>
                  <a:srgbClr val="5b5249"/>
                </a:solidFill>
                <a:latin typeface="Times New Roman"/>
              </a:rPr>
              <a:t>, και την ανταλλαγή εμπειριών στο αρμόζον χωρικό επίπεδο.</a:t>
            </a:r>
            <a:r>
              <a:rPr b="0" lang="el-GR" sz="2400" spc="-1" strike="noStrike">
                <a:solidFill>
                  <a:srgbClr val="5b5249"/>
                </a:solidFill>
                <a:latin typeface="Times New Roman"/>
              </a:rPr>
              <a:t> </a:t>
            </a:r>
            <a:endParaRPr b="0" lang="en-US" sz="2400" spc="-1" strike="noStrike">
              <a:solidFill>
                <a:srgbClr val="5b5249"/>
              </a:solidFill>
              <a:latin typeface="Times New Roman"/>
            </a:endParaRPr>
          </a:p>
        </p:txBody>
      </p:sp>
      <p:pic>
        <p:nvPicPr>
          <p:cNvPr id="101" name="Logo Perif550" descr=""/>
          <p:cNvPicPr/>
          <p:nvPr/>
        </p:nvPicPr>
        <p:blipFill>
          <a:blip r:embed="rId1"/>
          <a:stretch/>
        </p:blipFill>
        <p:spPr>
          <a:xfrm>
            <a:off x="7596360" y="5916600"/>
            <a:ext cx="1547640" cy="941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ogo Perif550" descr=""/>
          <p:cNvPicPr/>
          <p:nvPr/>
        </p:nvPicPr>
        <p:blipFill>
          <a:blip r:embed="rId1"/>
          <a:stretch/>
        </p:blipFill>
        <p:spPr>
          <a:xfrm>
            <a:off x="7667640" y="5716440"/>
            <a:ext cx="1476360" cy="1141560"/>
          </a:xfrm>
          <a:prstGeom prst="rect">
            <a:avLst/>
          </a:prstGeom>
          <a:ln w="0">
            <a:noFill/>
          </a:ln>
        </p:spPr>
      </p:pic>
      <p:sp>
        <p:nvSpPr>
          <p:cNvPr id="103" name="PlaceHolder 1"/>
          <p:cNvSpPr>
            <a:spLocks noGrp="1"/>
          </p:cNvSpPr>
          <p:nvPr>
            <p:ph/>
          </p:nvPr>
        </p:nvSpPr>
        <p:spPr>
          <a:xfrm>
            <a:off x="755640" y="981000"/>
            <a:ext cx="7772400" cy="5378400"/>
          </a:xfrm>
          <a:prstGeom prst="rect">
            <a:avLst/>
          </a:prstGeom>
          <a:noFill/>
          <a:ln w="0">
            <a:noFill/>
          </a:ln>
        </p:spPr>
        <p:txBody>
          <a:bodyPr lIns="90000" rIns="90000" tIns="46800" bIns="46800" anchor="t">
            <a:normAutofit fontScale="97000"/>
          </a:bodyPr>
          <a:p>
            <a:pPr marL="4431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9900"/>
                </a:solidFill>
                <a:uFillTx/>
                <a:latin typeface="Times New Roman"/>
              </a:rPr>
              <a:t>Διασυνοριακά Προγράμματα</a:t>
            </a:r>
            <a:br>
              <a:rPr sz="2800"/>
            </a:br>
            <a:endParaRPr b="0" lang="en-US" sz="28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Ενθάρρυνση της </a:t>
            </a:r>
            <a:r>
              <a:rPr b="1" i="1" lang="el-GR" sz="2200" spc="-1" strike="noStrike">
                <a:solidFill>
                  <a:srgbClr val="ff9900"/>
                </a:solidFill>
                <a:latin typeface="Times New Roman"/>
              </a:rPr>
              <a:t>επιχειρηματικότητας</a:t>
            </a:r>
            <a:r>
              <a:rPr b="1" i="1" lang="el-GR" sz="2200" spc="-1" strike="noStrike">
                <a:solidFill>
                  <a:srgbClr val="5b5249"/>
                </a:solidFill>
                <a:latin typeface="Times New Roman"/>
              </a:rPr>
              <a:t>, κυρίως των ΜΜΕ, στον τουρισμό, τον πολιτισμό και το διασυνοριακό εμπόριο.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Ενθάρρυνση και τη βελτίωση της κοινής προστασίας και </a:t>
            </a:r>
            <a:r>
              <a:rPr b="1" i="1" lang="el-GR" sz="2200" spc="-1" strike="noStrike">
                <a:solidFill>
                  <a:srgbClr val="ff9900"/>
                </a:solidFill>
                <a:latin typeface="Times New Roman"/>
              </a:rPr>
              <a:t>διαχείρισης του περιβάλλοντος</a:t>
            </a:r>
            <a:r>
              <a:rPr b="1" i="1" lang="el-GR" sz="2200" spc="-1" strike="noStrike">
                <a:solidFill>
                  <a:srgbClr val="5b5249"/>
                </a:solidFill>
                <a:latin typeface="Times New Roman"/>
              </a:rPr>
              <a:t>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Ανάπτυξη δεσμών ανάμεσα στις </a:t>
            </a:r>
            <a:r>
              <a:rPr b="1" i="1" lang="el-GR" sz="2200" spc="-1" strike="noStrike">
                <a:solidFill>
                  <a:srgbClr val="ff9900"/>
                </a:solidFill>
                <a:latin typeface="Times New Roman"/>
              </a:rPr>
              <a:t>αστικές και τις αγροτικές περιοχές</a:t>
            </a:r>
            <a:r>
              <a:rPr b="1" i="1" lang="el-GR" sz="2200" spc="-1" strike="noStrike">
                <a:solidFill>
                  <a:srgbClr val="5b5249"/>
                </a:solidFill>
                <a:latin typeface="Times New Roman"/>
              </a:rPr>
              <a:t>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Μείωση της απομόνωσης μέσω βελτίωσης στη</a:t>
            </a:r>
            <a:r>
              <a:rPr b="1" i="1" lang="el-GR" sz="2200" spc="-1" strike="noStrike">
                <a:solidFill>
                  <a:srgbClr val="ff9900"/>
                </a:solidFill>
                <a:latin typeface="Times New Roman"/>
              </a:rPr>
              <a:t> </a:t>
            </a:r>
            <a:r>
              <a:rPr b="1" i="1" lang="el-GR" sz="2200" spc="-1" strike="noStrike">
                <a:solidFill>
                  <a:srgbClr val="5b5249"/>
                </a:solidFill>
                <a:latin typeface="Times New Roman"/>
              </a:rPr>
              <a:t>πρόσβαση στις </a:t>
            </a:r>
            <a:r>
              <a:rPr b="1" i="1" lang="el-GR" sz="2200" spc="-1" strike="noStrike">
                <a:solidFill>
                  <a:srgbClr val="ff9900"/>
                </a:solidFill>
                <a:latin typeface="Times New Roman"/>
              </a:rPr>
              <a:t>μεταφορές, την πληροφορία και τις επικοινωνίες</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Συνεργασία, για την ανάπτυξη και κοινή χρήσης υποδομών, ειδικά στους τομείς της </a:t>
            </a:r>
            <a:r>
              <a:rPr b="1" i="1" lang="el-GR" sz="2200" spc="-1" strike="noStrike">
                <a:solidFill>
                  <a:srgbClr val="ff9900"/>
                </a:solidFill>
                <a:latin typeface="Times New Roman"/>
              </a:rPr>
              <a:t>υγείας, του πολιτισμού, του τουρισμού και της εκπαίδευσης.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Διασυνοριακή συνεργασία σε θέματα </a:t>
            </a:r>
            <a:r>
              <a:rPr b="1" i="1" lang="el-GR" sz="2200" spc="-1" strike="noStrike">
                <a:solidFill>
                  <a:srgbClr val="ff9900"/>
                </a:solidFill>
                <a:latin typeface="Times New Roman"/>
              </a:rPr>
              <a:t>διαχείρισης υδάτων</a:t>
            </a:r>
            <a:r>
              <a:rPr b="1" i="1" lang="el-GR" sz="2200" spc="-1" strike="noStrike">
                <a:solidFill>
                  <a:srgbClr val="5b5249"/>
                </a:solidFill>
                <a:latin typeface="Times New Roman"/>
              </a:rPr>
              <a:t> και </a:t>
            </a:r>
            <a:r>
              <a:rPr b="1" i="1" lang="el-GR" sz="2200" spc="-1" strike="noStrike">
                <a:solidFill>
                  <a:srgbClr val="ff9900"/>
                </a:solidFill>
                <a:latin typeface="Times New Roman"/>
              </a:rPr>
              <a:t>συστημάτων ενέργειας</a:t>
            </a:r>
            <a:r>
              <a:rPr b="1" i="1" lang="el-GR" sz="2200" spc="-1" strike="noStrike">
                <a:solidFill>
                  <a:srgbClr val="5b5249"/>
                </a:solidFill>
                <a:latin typeface="Times New Roman"/>
              </a:rPr>
              <a:t>.</a:t>
            </a:r>
            <a:endParaRPr b="0" lang="en-US" sz="22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196640"/>
            <a:ext cx="7772400" cy="50194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 name=""/>
          <p:cNvSpPr/>
          <p:nvPr/>
        </p:nvSpPr>
        <p:spPr>
          <a:xfrm>
            <a:off x="755640" y="1628640"/>
            <a:ext cx="7488360" cy="353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imes New Roman"/>
              </a:rPr>
              <a:t>Πρόγραμμα Ευρωπαϊκής Εδαφικής Συνεργασίας</a:t>
            </a:r>
            <a:r>
              <a:rPr b="1" lang="en-US" sz="2400" spc="-1" strike="noStrike">
                <a:solidFill>
                  <a:srgbClr val="ff9900"/>
                </a:solidFill>
                <a:latin typeface="Times New Roman"/>
              </a:rPr>
              <a:t>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ΕΛΛΑΔΑ – ΙΤΑΛΙΑ 2007-2013</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Δημόσια Δαπάνη:</a:t>
            </a:r>
            <a:r>
              <a:rPr b="1" i="1" lang="en-US" sz="2400" spc="-1" strike="noStrike">
                <a:solidFill>
                  <a:srgbClr val="5b5249"/>
                </a:solidFill>
                <a:latin typeface="Times New Roman"/>
              </a:rPr>
              <a:t> 118.606.893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Κοινοτική Συμμετοχή (ΕΤΠΑ):</a:t>
            </a:r>
            <a:r>
              <a:rPr b="1" i="1" lang="en-US" sz="2400" spc="-1" strike="noStrike">
                <a:solidFill>
                  <a:srgbClr val="5b5249"/>
                </a:solidFill>
                <a:latin typeface="Times New Roman"/>
              </a:rPr>
              <a:t> 88.955.171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596360" y="5373720"/>
            <a:ext cx="1547640" cy="1197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343080"/>
            <a:ext cx="7777440" cy="1739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8648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r>
              <a:rPr b="1" i="1" lang="en-US" sz="2800" spc="-1" strike="noStrike">
                <a:solidFill>
                  <a:srgbClr val="ff9900"/>
                </a:solidFill>
                <a:latin typeface="Times New Roman"/>
                <a:ea typeface="Times New Roman"/>
              </a:rPr>
              <a:t>Επιλέξιμες περιοχές</a:t>
            </a:r>
            <a:r>
              <a:rPr b="1" i="1" lang="en-US" sz="2800" spc="-1" strike="noStrike">
                <a:solidFill>
                  <a:srgbClr val="ff9900"/>
                </a:solidFill>
                <a:latin typeface="Times New Roman"/>
                <a:ea typeface="Arial"/>
              </a:rPr>
              <a:t> </a:t>
            </a:r>
            <a:r>
              <a:rPr b="1" i="1" lang="en-US" sz="2800" spc="-1" strike="noStrike">
                <a:solidFill>
                  <a:srgbClr val="ff9900"/>
                </a:solidFill>
                <a:latin typeface="Times New Roman"/>
                <a:ea typeface="Times New Roman"/>
              </a:rPr>
              <a:t> </a:t>
            </a:r>
            <a:endParaRPr b="0" lang="en-US" sz="28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aphicFrame>
        <p:nvGraphicFramePr>
          <p:cNvPr id="108" name=""/>
          <p:cNvGraphicFramePr/>
          <p:nvPr/>
        </p:nvGraphicFramePr>
        <p:xfrm>
          <a:off x="1619280" y="1557360"/>
          <a:ext cx="6697800" cy="4902120"/>
        </p:xfrm>
        <a:graphic>
          <a:graphicData uri="http://schemas.openxmlformats.org/drawingml/2006/table">
            <a:tbl>
              <a:tblPr/>
              <a:tblGrid>
                <a:gridCol w="1674720"/>
                <a:gridCol w="1349280"/>
                <a:gridCol w="1686240"/>
                <a:gridCol w="1987560"/>
              </a:tblGrid>
              <a:tr h="38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0</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a:t>
                      </a:r>
                      <a:r>
                        <a:rPr b="1" lang="el-GR" sz="1800" spc="-1" strike="noStrike">
                          <a:solidFill>
                            <a:srgbClr val="ff9900"/>
                          </a:solidFill>
                          <a:latin typeface="Times New Roman"/>
                          <a:ea typeface="Times New Roman"/>
                        </a:rPr>
                        <a:t>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Ι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ΙΙ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520200">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ΕΛΛΑΔ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Κεντρική Ελλάδ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Περιφέρεια Δυτικής Ελλάδας</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όμος Αιτωλοακαρναν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Ηλε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Αχαΐας </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Ιονίων Νήσων</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Κερκύρ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Λευκάδ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Κεφαλονιά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Ζακύνθου</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Ηπείρου </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Ιωαννίνων</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Πρέβεζ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Θεσπρωτ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Άρτας </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ΙΤΑΛΙ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바탕"/>
                          <a:ea typeface="Times New Roman"/>
                        </a:rPr>
                        <a:t>Sud (IT)</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Απουλίας</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Επαρχία Μπάρι</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ea typeface="Times New Roman"/>
                        </a:rPr>
                        <a:t>Επαρχία Μπρίντεζι</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Επαρχία Λέτσε</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bl>
          </a:graphicData>
        </a:graphic>
      </p:graphicFrame>
      <p:sp>
        <p:nvSpPr>
          <p:cNvPr id="109" name=""/>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58920" y="1052640"/>
            <a:ext cx="7273800" cy="53323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547640" y="981000"/>
            <a:ext cx="5832720" cy="5310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2359" t="16261" r="38549" b="46816"/>
          <a:stretch/>
        </p:blipFill>
        <p:spPr>
          <a:xfrm>
            <a:off x="611280" y="1413000"/>
            <a:ext cx="8351640" cy="4176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2359" t="16243" r="31484" b="52021"/>
          <a:stretch/>
        </p:blipFill>
        <p:spPr>
          <a:xfrm>
            <a:off x="611280" y="1628640"/>
            <a:ext cx="8532720" cy="3275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cp:lastModifiedBy>
  <dcterms:modified xsi:type="dcterms:W3CDTF">2007-05-13T23:02:13Z</dcterms:modified>
  <cp:revision>287</cp:revision>
  <dc:subject/>
  <dc:title>Παρουσίαση του PowerPoint</dc:title>
</cp:coreProperties>
</file>