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92203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92203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909A-BC1F-4623-8F61-990FFA6B6195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Οι βασικοί περιφερειακοί δείκτες για την Ήπειρο, όπως αυτοί απεικονίζονται στην 2</a:t>
            </a:r>
            <a:r>
              <a:rPr b="0" lang="el-GR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και 3</a:t>
            </a:r>
            <a:r>
              <a:rPr b="0" lang="el-GR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Έκθεση της Ευρωπαϊκής Επιτροπής για την οικονομική και κοινωνική συνοχή, δείχνουν την </a:t>
            </a:r>
            <a:r>
              <a:rPr b="0" i="1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ετική εξέλιξη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η οποία επήλθε τα τελευταία χρόνια σαν συνέπεια και των παρεμβάσεων των Διαρθρωτικών Ταμείων στους τομείς της οικονομίας, αγοράς εργασίας και εκπαίδευση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Όσον αφορά την αποτίμηση των αποτελεσμάτων των παρεμβάσεων, σύμφωνα με τους άξονες προτεραιότητας της νέας προγραμματικής περιόδου, παρατηρούνται τα εξή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ημαντικ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ή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υσχέρεια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σ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ην ανάπτυξη της επιχειρηματικότητα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ημαντική υστέρηση όσον αφορά στην προσπελασιμότητα και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στις υπηρεσίες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γενικού οικονομικού ενδιαφέροντο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ημαντική επιβάρυνση του φυσικού περιβάλλοντο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Ο τομέας της εκπαίδευσης εμφανίζεται ικανοποιητικός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 ανεργία παραμένει αρκετά υψηλ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(5)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 ικανότητα της δημόσιας διοίκησης στην διαχείριση και στην υλοποίηση προγραμμάτων και έργων υπολείπεται αρκετά ακόμη ώστε να φθάσει σε ικανοποιητικό επίπεδ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(6)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όσον αφορά την διασυνοριακή και διαπεριφερειακή συνεργασία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υπήρξαν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οφέλη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Από το κεφάλαιο του Στρατηγικού Σχεδίου, όπου γίνει η αναφορά των δυνατών σημείων, των αδυναμιών, των ευκαιριών και των κινδύνων, θα αναφερθώ μόνον στις ευκαιρίες για την Ήπειρο, οι οποίες αντιστοιχούν σε κάθε άξονα προτεραιότητα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Για τον άξονα «ενίσχυση της ανταγωνιστικότητας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Αποτελεί ελκυστικό χώρο προσέλκυσης επενδύσεων, λόγω του ότι αποτελεί την δυτική πύλη της χώρας στην ΕΕ και την Βαλκανικ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Έχει την δυνατότητα να αναδειχθεί σε κόμβο μεταφορικών δικτύω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Διαθέτει τις βασικές προυποθέσεις για παραγωγή επώνυμων και ποιοτικών αγροτικών προιόντω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Έχει δυνατότητες διαφοροποίησης της οικονομικής δραστηριότητας και της απασχόλησης των περιοχών της υπαίθρου, με την αξιοποίηση των φυσικών και πολιτιστικών πόρω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Για τον δεύτερο άξονα «βελτίωση της προσπελασιμότητας και των υπηρεσιών οικονομικού ενδιαφέροντος»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Η Ήπειρος μπορεί να είναι ο ενδιάμεσος κόμβος μεταφορικών και άλλων διευρωπαϊκών δικτύω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Η ένταξη του δυτικού σιδηροδρομικού άξονα στα διευρωπαικά δίκτυα θα είναι μια ευκαιρία για αυτ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Η πόλη των Ιωαννίνων μπορεί να αναδειχθεί σε κέντρο εκπαίδευσης και υπηρεσιών με διαπεριφερειακή και υπερεθνική εμβέλει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Σχετικά με τον άξονα «αναβάθμιση και προστασία του περιβάλλοντος» διαφαίνετα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αυξανόμενη ευαισθητοποίηση των πολιτών σε θέματα προστασίας &amp; διατήρησης περιβάλλοντο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υιοθέτηση μιας αειφόρου ανάπτυξης, διαχείρισης των φυσικών πόρων και προστασίας περιβάλλοντο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Που συνδυάζονται μ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τις  κοινοτικές χρηματοδοτήσεις και την νέα ΚΑΠ , οι οποίες μπορούν να συμβάλλουν στην προώθηση της αειφόρου διαχείρισης στην γεωργί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Όσον αφορά στον άξονα «ανθρώπινο δυναμικό και προώθηση στην απασχόληση»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Η ανάδειξή της Ηπείρου σε δυτική πύλη της χώρας προς την ΕΕ την καθιστά ελκυστικό χώρο προσέλκυσης επενδύσεων ο οποίος δημιουργεί ευνοικές συνθήκες αύξησης της απασχόληση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Για τον άξονα «βελτίωση της διοικητικής ικανότητας της δημόσιας διοίκησης»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αποτελεί ευκαιρία η κατεύθυνση της ΕΕ για ενίσχυση του διοικητικού-αναπτυξιακού-προγραμματικού ρόλου των Περιφερειών καθώς και η ανάπτυξη -αξιοποίηση των έργων της κοινωνίας της πληροφορία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Σχετικά με την «διασυνοριακή-διακρατική-διαπεριφερειακή συνεργασία», οι ευκαιρίες εντοπίζοντα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Στην ύπαρξη εθνικών &amp; κοινοτικών πρωτοβουλιών διασυνοριακής συνεργασία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Στην ενίσχυση της διασυνοριακής επιχειρηματικότητα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Στην ανάπτυξη διασυνοριακών δικτύων συνεργασίας μεταξύ φορέω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Καθώς και στην διεύρυνση του ενιαίου οικονομικού χώρου προς τον χώρο των Βαλκανίω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Στο κεφάλαιο 4 του Στρατηγικού Σχεδίου παρουσιάζονται οι βασικές προτεραιότητες ανάπτυξης για την Ήπειρο κατά τη νέα προγραμματική περίοδ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Για να αναπτυχθεί περαιτέρω η Ήπειρος θα πρέπει να αυξηθούν οι επενδύσεις σε υλικό &amp; ανθρώπινο κεφάλαιο, να αναπτυχθεί η καινοτομία και να διευρυνθεί η χρήση των νέων τεχνολογιών, οι οποίες μπορούν να ενταχθούν στους 6 στρατηγικούς στόχους-άξονες ανάπτυξη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Μια από τις προτεραιότητες είναι η «βελτίωση της υφιστάμενης υποδομής» με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Την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ολοκλήρωση των συστημάτων μεταφορώ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Την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νίσχυση των τηλεπικοινωνιών με την ταυτόχρονη πρόσβαση σε ευρυζωνικές γραμμές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Την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ροώθηση και εφαρμογή προγραμμάτων ανανεώσιμων πηγών ενέργεια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Την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νίσχυση–συμπλήρωση υποδομής σε τομείς παιδείας και υγείας καθώς και διαφόρων μορφών υπηρεσιών κοινωνικής στήριξη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Και την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νάπτυξη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βελτίωση των δικτύων ύδρευση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Σε μια οικονομία που βασίζεται στην γνώση, η καινοτομία κατέχει το κλειδί για την περιφερειακή ανάπτυξη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Στόχος της Ηπείρου θα πρέπει να είναι η «ενίσχυση της καινοτομικής ικανότητας και της αποτελεσματικής επιχειρηματικής ενίσχυσης», δηλαδή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ελτίωση και αναβάθμιση των τεχνικών υποδομών στους χώρους των βιομηχανικών συγκεντρώσεων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ελτίωση της επιχειρηματικής ανταγωνιστικότητα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νίσχυση της καινοτομίας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νίσχυση δράσεων της Κοινωνίας της Πληροφορίας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νάπτυξη διαπεριφερειακών και διασυνοριακών συνεργασιώ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νίσχυση της ανταγωνιστικότητας των γεωργικών εκμεταλλεύσεω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Η ανάγκη για επενδύσεις στον τομέα του περιβάλλοντος παραμένει σημαντική και πρέπει να εναρμονίζεται με την ορθολογική διαχείριση φυσικών και πολιτισμικών πόρω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Στο πρόγραμμα της νέας περιόδου, πρωταρχική θέση κατέχει η «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ελτίωση της υποδομής του περιβάλλοντος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»,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στην οποία περιλαμβάνοντα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ολοκλήρωση των υποδομών επεξεργασίας λυμάτων, διαχείρισης απορριμμάτων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Δράσεις π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ριορισμ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ού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των κλιματολογικών αλλαγών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Δράσεις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ροστασία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ς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ου φυσικού περιβάλλοντος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ι της βιοποικιλότητας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Αντιμετώπιση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ωροταξικ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ών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και πολεοδομικ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ών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προβλ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ημάτων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του αστικού χώρου, συγκρούσε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ων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στις χρήσεις γης του υπαίθριου χώρου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και κατάρτιση σχεδίων διαχείρισης προστατευόμενων περιοχώ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Η αναθεώρηση της πολιτικής για την συνοχή της Ευρωπαικής Ένωσης  που αφορά την περίοδο 2007-2013  αποτυπώνεται σε σχέδια Κανονισμών, σύμφωνα με τα οποία οι τρείς στόχοι προτεραιότητας των διαρθρωτικών ταμείων είνα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Η σύγκλιση, (οικονομική σύγκλιση των λιγότερο αναπτυγμένων περιφερειών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η περιφερειακή ανταγωνιστικότητα και απασχόληση, (ενίσχυση της ανταγωνιστικότητας και ελκυστικότητας των περιφερειών, προβλέποντας οικονομικές και κοινωνικές αλλαγέ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η ευρωπαική εδαφική συνεργασία (ενδυνάμωση της συνεργασίας σε τρία επίπεδα –διακρατική,διασυνοριακή,διαπεριφερειακή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Με την προτεραιότητα «ενίσχυση του ανθρώπινου κεφαλαίου» θα αποτραπεί η ανεργία και θα ενισχυθεί η ένταξη των ανέργων στην απασχόληση. Προκύπτει επομένως η ανάγκ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νίσχυσης της υποδομής σ’ όλες τις βαθμίδες εκπαίδευση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ημιουργίας δικτύου για την έρευνα, τη ζήτηση της απασχόλησης και τον προσανατολισμό της προσφοράς εργασία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ειτουργίας ειδικών προγραμμάτων σύνδεσης της κατάρτισης με την απασχόληση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ειτουργίας ειδικών προγραμμάτων ενσωμάτωσης των οικονομικών μεταναστών και των παλιννοστούντω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ημιουργίας συμφώνων απασχόλησης και συμφώνων κατάρτιση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ενίκευσης του θεσμού της πρακτικής άσκησης και σύνδεσης της με τα προγράμματα απόκτησης εργασιακής εμπειρία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ξιοποίησης των νέων τεχνολογιών και της κοινωνίας της πληροφορία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Η προτεραιότητα «Βελτίωση της διοικητικής ικανότητας τη δημόσιας διοίκησης», επιτυγχάνεται με την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ναβάθμιση της επιτόπου διοίκησης και με την δημιουργία νέων υπηρεσιακών μονάδω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τάρτιση  του προσωπικού και ανάπτυξη αποτελεσματικών μέσων για την διαχείριση, συντονισμ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παρακολούθηση και αξιολόγηση των Περιφερειακών Προγραμμάτω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ημιουργία μόνιμων φορέων και δικτύων συνεργασία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ανάμεσα σε Περιφέρεια, ΑΕΙ,ΤΕΙ,επιχειρηματικούς φορείς, κοινωνικούς εταίρου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πόνηση και εφαρμογή μικρών ολοκληρωμένων επιχειρησιακών σχεδίων σε διάφορους τομεί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ξιοποίηση των νέων τεχνολογιών και της κοινωνίας της πληροφορία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ασικές επιλογές για την νέα προγραμματική περίοδο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στην προτεραιότητα «προώθηση της συνεργασίας και των δικτύων μεταξύ χωρών και περιφερειών»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ποτελού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 ενθάρρυνση δικτύωσης μεταξύ των χωρών της Ε.Ε.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 ανάληψη πρωτοβουλιών συνεργασίας με τις χώρες των Βαλκανίων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 ενίσχυση διασυνοριακών διαπεριφερειακών επιχειρηματικών δραστηριοτήτων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 ανάπτυξη δικτύων, διοργάνωση εκθέσεων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προώθηση νέων επιχειρήσεων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 δημιουργία δικτύ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ω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υνεργασία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μεταξύ ερευνητικών κέντρων-εκπαιδευτικών ιδρυμάτων-κέντρων καινοτομία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 ανάπτυξη θεσμών συνεργασίας με τις νέες χώρες της Ε.Ε.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ξαιρετικά υψηλή και άμεση προτεραιότητα είναι η διαμόρφωση ενός ποιοτικού μοντέλου βιώσιμης αγροτικής ανάπτυξης. Θα μπορούσε να ενταχθεί σε ένα έβδομο Άξονα «Αγροτικής Ανάπτυξης»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, το οποίο θα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τηρίζεται στις εξής συνιστώσες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ναβάθμιση της ανταγωνιστικότητας των γεωργικών εκμεταλλεύσεων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υνέχιση της στήριξης πρωτοβουλιών για ανάληψη από ειδικές κοινωνικές ομάδες αγροτικών δραστηριοτήτω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υνέχιση εφαρμογής προγραμμάτων ολοκληρωμένου χαρακτήρα με την ανάπτυξη νέων προϊόντων &amp; υπηρεσιώ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ροώθηση θεματικών προγραμμάτων ανάπτυξη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ιατήρηση και βελτίωση του περιβάλλοντος του αγροτικού τοπίου και των φυσικών πόρων της υπαίθρο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φαρμογή ολοκληρωμένων γεωργοπεριβαλλοντικών προγραμμάτων και φιλοπεριβαλλοντικών τεχνικών παραγωγή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λοποίηση μικρών δημόσιων επενδύσεων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ια την Ήπειρο προτεραιότητα αποτελεί και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ουριστική Ανάπτυξη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ης, η οποία μπορεί να καταγραφεί ως ένας όγδοος Άξονας «Ανάπτυξη Τουρισμού – Πολιτισμού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με στόχο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ην ανάδειξη μιας άγνωστης για πολλούς, ανέπαφης περιοχής που συνδυάζει όλες τις μορφές ενός βιώσιμου ποιοτικού τουρισμού όλες τις εποχές του χρόνου και που αναδεικνύει παράλληλα τους πολιτιστικούς πόρους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Αυτή )στηρίζετα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Στον 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οσδιορισμό της ταυτότητας της Περιφέρειας κα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στη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ροβολή τη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Στην 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μιουργία συνεργασιών σε τοπικό επίπεδο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Στην 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έκταση του τουριστικού προϊόντο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Στην 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λτίωση της ποιότητας και ανταγωνιστικότητας των παρεχομένων τουριστικών υπηρεσιώ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Στην 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οστασία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αξιοποίησ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και ανάδειξη της πολιτιστικής κληρονομιά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Και στην ανάπτυξ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ι προώθηση του θεματικού τουρισμού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Το Στρατηγικό Σχέδιο Ανάπτυξης περιλαμβάνει ένα σημαντικό κεφάλαιο σχετικά με την «επισήμανση των πιθανών ενδοπεριφερειακών διαφοροποιήσεων και επιδράσεων στο πλαίσιο των περιφερειακών προτεραιοτήτων ανάπτυξης» από το οποίο προκύπτει ότι σ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όχο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για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την νέα προγραμματική περίοδο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είναι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α αυξηθεί ο πληθυσμός της Περιφέρεια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συνολικά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ι κατά Νομ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Και όσον αφορά στο ΑΕΠ, η Περιφέρεια να συγκλίνει μ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ο μέσο όρο της χώρα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οι Νομοί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να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προσεγγίσουν αυτό τη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Περιφέρεια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Στο τελευταίο κεφάλαιο του Στρατηγικού Σχεδίου επισημαίνεται ότι η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νέα προγραμματική περίοδος 2007-2013 χαρακτηρίζεται από μονοτομεακά προγράμματα, μη ύπαρξη του Γεωργικού Ταμείου στα Περιφερειακά και ενσωμάτωση του Ταμείου Συνοχής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σε αυτά, σ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οιχεία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που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προϋποθέτουν να γίνουν θεσμικές και οργανωτικές προσαρμογές, οι οποίες θα συμβάλλουν στην αποτελεσματική προώθηση των περιφερειακών προτεραιοτήτων ανάπτυξης, στο πλαίσιο τόσο της αποκέντρωσης όσο και της επιτάχυνσης των απαιτούμενων παρεμβάσεων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Με βάση τα κατευθυντήρια κείμενα της Ευρωπαικής Ένωσης (δηλαδή τα σχέδια των Κανονισμών και την 3η Έκθεση για την συνοχή) διαφαίνεται να αναδεικνύονται 6 στρατηγικοί στόχοι – άξονες ανάπτυξης  ως κατεύθυνση για την διαμόρφωση της εθνικής στρατηγική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Αυτοί οι άξονες ανάπτυξης είνα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Ενίσχυση της ανταγωνιστικότητα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Βελτίωση της προσπελασιμότητας και των υπηρεσιών γενικού οικονομικού ενδιαφέροντο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Αναβάθμιση και προστασία του περιβάλλοντος και πρόληψη κινδύνω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Ανάπτυξη του ανθρώπινου δυναμικού και προώθηση της απασχόληση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Βελτίωση της διοικητικής ικανότητας της δημόσιας διοίκηση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Ενίσχυση της διασυνοριακής, της διακρατικής και διαπεριφερειακής συνεργασία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Η νέα προγραμματική διαδικασία για την διαμόρφωση των εγγράφων προγραμματισμού της περιόδου 2007-2013 περιλαμβάνει την διαδοχική διατύπωση των εξής κειμένων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Α)Κατευθύνσεις εθνικής στρατηγικής ανάπτυξης 2007-2013 (που ετοιμάζονται από το ΥπΟιΟ με βάση τις προτάσεις των φορέων ευθύνης τομεακών και περιφερειακών πολιτικών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Β)Στρατηγικές κατευθύνσεις για την οικονομική-κοινωνική-περιφερειακή συνοχή σε επίπεδο ΕΕ (που συγγράφονται σε επίπεδο Ευρωπαϊκής Επιτροπή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Γ)Εθνικό Στρατηγικό Σχέδιο Ανάπτυξης (το οποίο παρουσιάζεται από το κράτος και τυγχάνει διαπραγμάτευσης με την Ε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Δ)Επιχειρησιακά Προγράμματ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Σε αυτά τα πλαίσια, εκπονήθηκε το «Στρατηγικό Σχέδιο Ανάπτυξης Περιφέρειας Ηπείρου» τον Φεβρουάριο 20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Πρόκειται για ένα κείμενο στο οποίο διατυπώνονται βασικά ζητήματα που μπορούν να οδηγήσουν στην διαμόρφωση βασικών αναπτυξιακών προτεραιοτήτω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Η δομή του κειμένου αυτού έχει ως εξή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θέση της Περιφέρειας Ηπείρου στο ευρωπαϊκό και διεθνές περιβάλλο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οτίμηση των αποτελεσμάτων των παρεμβάσεων στην Περιφέρεια κατά τη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ρέχουσα και τις προηγούμενες προγραμματικές περιόδου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Τα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υνα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σημεί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ο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δυνα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ίε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ο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υκαι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ίε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κα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οι κίνδυνο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αφορά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τω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ασικών προτεραιοτήτων ανάπτυξης της Περιφέρειας 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ισήμανση πιθανών ενδοπεριφερειακών διαφοροποιήσεων και επιδράσεων στ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λαίσιο των περιφερειακών προτεραιοτήτων ανάπτυξη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αγκαίες θεσμικές και οργανωτικές προσαρμογέ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Σύμφωνα με τα στοιχεία του πρώτου κεφαλαίου, η Ήπειρος είναι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μια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εριφερειακ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ή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και απομακρυσμέν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η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εριοχ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ή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της Ελλάδας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, με γεωγραφική θέση που αποτελεί στρατηγικό πλεονέκτημα ανάπτυξης, η οποία διαθέτει εξαιρετικά συγκριτικά πλεονεκτήματα όσον αφορά το φυσικό και ανθρωπογενές περιβάλλο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από τις πλέον περιφερειακές περιοχές της Ευρωπαϊκής Ένωσης, με κομβική θέση, αδύναμη όμως όσον αφορά τους περιφερειακούς της δείκτε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Στόχος για την νέα προγραμματική περίοδο είναι η επιτάχυνση της αναπτυξιακής της πορεία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Όσον αφορά στην αποτίμηση των αποτελεσμάτων των παρεμβάσεων της τρέχουσας και των προηγούμενων προγραμματικών περιόδων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Α) κατά την περίοδο 1986-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χρηματοδοτήθηκαν έργα από τα διαρθρωτικά ταμεία και από εθνικούς πόρους, ύψους κατ εκτίμηση 1,9 δις ευρ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Οι συνολικές επιπτώσεις στα αναπτυξιακά χαρακτηριστικά της, ήταν θετικές (κυρίως στους τομείς των δημόσιων τεχνικών και κοινωνικών υποδομών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ο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ροσανατολισμός των Ταμείων δεν θεωρείται επιτυχής σε ότι αφορά την έμφαση στην εισοδηματική ενίσχυση του πρωτογενή τομέα σε συνδυασμό με την απουσία μέτρων εκσυγχρονισμού και αναδιάρθρωσης της γεωργικής δραστηριότητα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οι πόροι που διατέθηκαν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ήταν κυρίως σ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μικρής κλίμακας έργα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με χαμηλή σχέση κόστους-οφέλους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Απουσίαζε ο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ολοκληρωμένος σχεδιασμός και η συνέργεια μεταξύ των επιχειρησιακών προγραμμάτων δεν ήταν επαρκή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Β)για την τρέχουσα περίοδο 2000-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οι πόροι των Διαρθρωτικών Ταμείων είναι υπερδιπλάσιοι των πόρων της προηγούμενης περιόδου και περισσότερο προσανατολισμένο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ρος δράσεις άμεσα αναπτυξιακέ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που υποστηρίζουν την επιχειρηματικότητα, την καινοτομία και τις νέες τεχνολογίε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Οι επενδύσεις αναφέροντα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ερισσότερο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σ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ποδομές, λιγότερο στους ανθρώπινους πόρους και αρκετά λιγότερο στους παραγωγικούς τομεί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Εμφανίζεται προσπάθεια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να διασφα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ισθεί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ένα επίπεδο υποδομών, προαπαιτούμενο τόσο για την αύξηση της παραγωγικότητας όσο και για την κινητοποίηση του ιδιωτικού κεφαλαίου σε μεταγενέστερο στάδι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Όσον αφορά στη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πίτευξη των στόχων, έτσι όπως τέθηκαν στην τρέχουσα προγραμματική περίοδο, δεν είναι δυνατόν να εκτιμηθεί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τώρα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καθόσο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δεν έχουν ακόμη ολοκληρωθεί τα προγράμματα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01BC-45DA-4DE1-BFE5-7BBA0DFDC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D576-96C7-4247-ACC7-3AB49481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EFE2-1862-458C-949B-F903B8927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7D13-BAF1-48E0-9DA2-07731A34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82E5-9FCC-4D15-A31D-1B9FDC17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EF92-1CBD-4081-BDB6-84351C3A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410B-69A1-4A69-9CDB-B3088D62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E38F-1F90-4C0A-8219-1122CBE8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256E-BD05-41CD-8606-D27C69CB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A67A-6E67-49D3-B4C3-B7BBD589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6F1E-797D-446B-8D15-83EACCCC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3828-082A-44A3-A16F-7ED066FD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6545-D4BF-42AC-A825-F68637D4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3735-A209-4B41-860D-D9541B81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34F4-A822-44F5-9CB6-0E384264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614A-6EB1-4905-BD1F-31F52F74C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01D7-AAFF-4EC1-9467-463110907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9BC9-9A61-4347-87E5-F9084C6C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F941-AF8C-49FA-B006-680A6C38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777C-4A45-4159-B55D-A3354FA6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E6B7-50F6-4842-8EA8-E0583FDC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C170-C17A-4886-AC16-07DD2692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9137-BE38-440E-83B3-41E556FD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DA4E-C3B5-4DD7-83EF-36ED6E54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A0DC-CAFB-4260-B8A3-455AC0161CE0}" type="slidenum"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C380-4AE3-48DE-9F1D-82676D1E7C92}" type="slidenum">
              <a:rPr b="0" lang="el-GR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marL="118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2a3d7a"/>
                </a:solidFill>
                <a:uFillTx/>
                <a:latin typeface="Times New Roman"/>
              </a:rPr>
              <a:t>ΣΤΡΑΤΗΓΙΚΟ ΣΧΕΔΙΟ ΑΝΑΠΤΥΞΗΣ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2a3d7a"/>
                </a:solidFill>
                <a:uFillTx/>
                <a:latin typeface="Times New Roman"/>
              </a:rPr>
              <a:t>ΠΕΡΙΦΕΡΕΙΑΣ ΗΠΕΙΡΟΥ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2a3d7a"/>
                </a:solidFill>
                <a:uFillTx/>
                <a:latin typeface="Times New Roman"/>
              </a:rPr>
              <a:t>2007-2013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a3d7a"/>
                </a:solidFill>
                <a:latin typeface="Times New Roman"/>
              </a:rPr>
              <a:t>Περιφερειακό Συμβούλιο Ηπείρου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a3d7a"/>
                </a:solidFill>
                <a:latin typeface="Times New Roman"/>
              </a:rPr>
              <a:t>                  </a:t>
            </a:r>
            <a:r>
              <a:rPr b="1" i="1" lang="en-US" sz="1600" spc="-1" strike="noStrike">
                <a:solidFill>
                  <a:srgbClr val="2a3d7a"/>
                </a:solidFill>
                <a:latin typeface="Times New Roman"/>
              </a:rPr>
              <a:t>7/6/2005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8" name="Logo Perif550" descr=""/>
          <p:cNvPicPr/>
          <p:nvPr/>
        </p:nvPicPr>
        <p:blipFill>
          <a:blip r:embed="rId1"/>
          <a:stretch/>
        </p:blipFill>
        <p:spPr>
          <a:xfrm>
            <a:off x="6400800" y="5181480"/>
            <a:ext cx="228600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Αποτίμηση αποτελεσμάτων παρεμβάσεων τρέχουσας &amp; προηγούμενων προγραμματικών περιόδων (3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90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90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Θετική εξέλιξη βάσει των βασικών περιφερειακών δεικτών (2η &amp; 3η Έκθεση της ΕΕ για την οικονομική και κοινωνική συνοχή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90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90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1. Δυσχέρεια στην ανάπτυξη επιχειρηματικότητα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90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2. Σημαντική υστέρηση στην βελτίωση προσπελασιμότητας &amp; των υπηρεσιών οικονομικού ενδιαφέροντο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90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3. Σημαντική επιβάρυνση του φυσικού περιβάλλοντο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90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4. Ικανοποιητικός ο τομέας εκπαίδευσης, υψηλή ανεργία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90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5. Μη ικανότητα της δημόσιας διοίκησης στην διαχείριση &amp; υλοποίηση προγραμμάτων – έργων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90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6. Οφέλη από διασυνοριακή-διαπεριφερειακή συνεργασία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90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6" name="Logo Perif55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Αναφορά δυνατών σημείων, αδυναμιών,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ευκαιριών, κινδύνων (1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ΕΥΚΑΙΡΙΕΣ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 u="sng">
                <a:solidFill>
                  <a:srgbClr val="0099ff"/>
                </a:solidFill>
                <a:uFillTx/>
                <a:latin typeface="Times New Roman"/>
              </a:rPr>
              <a:t>Ενίσχυση της ανταγωνιστικότητα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Ελκυστικός χώρος προσέλκυσης επενδύσεων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Ανάδειξη σε κόμβο μεταφορικών δικτύων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Παραγωγή επώνυμων &amp; ποιοτικών αγροτικών προϊόντων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Δυνατότητες διαφοροποίησης της οικονομικής δραστηριότητας &amp; της απασχόληση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8" name="Logo Perif55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Αναφορά δυνατών σημείων, αδυναμιών,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ευκαιριών, κινδύνων (2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ΕΥΚΑΙΡΙΕΣ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 u="sng">
                <a:solidFill>
                  <a:srgbClr val="0099ff"/>
                </a:solidFill>
                <a:uFillTx/>
                <a:latin typeface="Times New Roman"/>
              </a:rPr>
              <a:t>Βελτίωση της προσπελασιμότητας &amp; των υπηρεσιών οικονομικού ενδιαφέροντο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Κόμβος μεταφορικών και διευρωπαϊκών δικτύων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Ένταξη δυτικού σιδηροδρομικού άξονα στα διευρωπαϊκά δίκτυα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Ανάδειξη Ιωαννίνων σε κέντρο εκπαίδευσης και υπηρεσιών με διαπεριφερειακή &amp; υπερεθνική εμβέλεια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0" name="Logo Perif55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Αναφορά δυνατών σημείων, αδυναμιών,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ευκαιριών, κινδύνων (3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 algn="ctr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2a3d7a"/>
                </a:solidFill>
                <a:latin typeface="Times New Roman"/>
              </a:rPr>
              <a:t>ΕΥΚΑΙΡΙΕΣ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0099ff"/>
                </a:solidFill>
                <a:uFillTx/>
                <a:latin typeface="Times New Roman"/>
              </a:rPr>
              <a:t>Αναβάθμιση &amp; προστασία του περιβάλλοντος-πρόληψη κινδύνων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Ευαισθητοποίηση πολιτών σε θέματα προστασίας &amp; διατήρησης περιβάλλοντο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Υιοθέτηση της αειφόρου ανάπτυξης, διαχείρισης φυσικών πόρων &amp; προστασίας περιβάλλοντος ως πλαίσιο της περιφερειακής ανάπτυξη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Αξιοποίηση κοινοτικών χρηματοδοτήσεων &amp; νέας ΚΑΠ για προώθηση αειφόρου διαχείρισης στην γεωργία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Logo Perif55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Αναφορά δυνατών σημείων, αδυναμιών,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ευκαιριών, κινδύνων (4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2a3d7a"/>
                </a:solidFill>
                <a:latin typeface="Times New Roman"/>
              </a:rPr>
              <a:t>ΕΥΚΑΙΡΙΕΣ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0099ff"/>
                </a:solidFill>
                <a:uFillTx/>
                <a:latin typeface="Times New Roman"/>
              </a:rPr>
              <a:t>Ανάπτυξη ανθρώπινου δυναμικού-προώθηση στην απασχόληση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2a3d7a"/>
                </a:solidFill>
                <a:latin typeface="Times New Roman"/>
              </a:rPr>
              <a:t>Ελκυστικός χώρος προσέλκυσης επενδύσεων που δημιουργεί ευνοϊκές συνθήκες αύξησης της απασχόληση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4" name="Logo Perif55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Αναφορά δυνατών σημείων, αδυναμιών,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ευκαιριών, κινδύνων (5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2a3d7a"/>
                </a:solidFill>
                <a:latin typeface="Times New Roman"/>
              </a:rPr>
              <a:t>ΕΥΚΑΙΡΙΕΣ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0099ff"/>
                </a:solidFill>
                <a:uFillTx/>
                <a:latin typeface="Times New Roman"/>
              </a:rPr>
              <a:t>Βελτίωση της διοικητικής ικανότητας της δημόσιας διοίκηση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2a3d7a"/>
                </a:solidFill>
                <a:latin typeface="Times New Roman"/>
              </a:rPr>
              <a:t>Κατεύθυνση της ΕΕ για ενίσχυση διοικητικού-αναπτυξιακού-προγραμματικού ρόλου Περιφερειών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2a3d7a"/>
                </a:solidFill>
                <a:latin typeface="Times New Roman"/>
              </a:rPr>
              <a:t>Ανάπτυξη &amp; αξιοποίηση έργων ΚτΠ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6" name="Logo Perif55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Αναφορά δυνατών σημείων, αδυναμιών,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ευκαιριών, κινδύνων (6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ΕΥΚΑΙΡΙΕΣ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 u="sng">
                <a:solidFill>
                  <a:srgbClr val="0099ff"/>
                </a:solidFill>
                <a:uFillTx/>
                <a:latin typeface="Times New Roman"/>
              </a:rPr>
              <a:t>Ενίσχυση διασυνοριακής-διακρατικής-διαπεριφερειακής συνεργασία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Ύπαρξη εθνικών &amp; κοινοτικών πρωτοβουλιών διασυνοριακής συνεργασία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Ενίσχυση διασυνοριακής επιχειρηματικότητα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Ανάπτυξη διασυνοριακών δικτύων συνεργασίας μεταξύ φορέων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Διεύρυνση ενιαίου οικονομικού χώρου προς τον χώρο των Βαλκανίων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8" name="Logo Perif55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Βασικές προτεραιότητες ανάπτυξης (1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0099ff"/>
                </a:solidFill>
                <a:uFillTx/>
                <a:latin typeface="Times New Roman"/>
              </a:rPr>
              <a:t>Βελτίωση της υφιστάμενης υποδομή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2a3d7a"/>
                </a:solidFill>
                <a:latin typeface="Times New Roman"/>
              </a:rPr>
              <a:t>Ολοκλήρωση των συστημάτων μεταφορών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2a3d7a"/>
                </a:solidFill>
                <a:latin typeface="Times New Roman"/>
              </a:rPr>
              <a:t>Ενίσχυση των τηλεπικοινωνιών με ταυτόχρονη πρόσβαση σε ευρυζωνικές γραμμέ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2a3d7a"/>
                </a:solidFill>
                <a:latin typeface="Times New Roman"/>
              </a:rPr>
              <a:t>Προώθηση &amp; εφαρμογή προγραμμάτων ανανεώσιμων πηγών ενέργεια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2a3d7a"/>
                </a:solidFill>
                <a:latin typeface="Times New Roman"/>
              </a:rPr>
              <a:t>Ενίσχυση-συμπλήρωση υποδομής στην παιδεία-υγεία-κοινωνική στήριξη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2a3d7a"/>
                </a:solidFill>
                <a:latin typeface="Times New Roman"/>
              </a:rPr>
              <a:t>Ανάπτυξη &amp; βελτίωση δικτύων ύδρευση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0" name="Logo Perif55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Βασικές προτεραιότητες ανάπτυξης (2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 u="sng">
                <a:solidFill>
                  <a:srgbClr val="0099ff"/>
                </a:solidFill>
                <a:uFillTx/>
                <a:latin typeface="Times New Roman"/>
              </a:rPr>
              <a:t>Ενίσχυση της καινοτομικής ικανότητας &amp; αποτελεσματικής επιχειρηματικής ενίσχυση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Βελτίωση &amp; αναβάθμιση τεχνικών υποδομών στους χώρους βιομηχανικών συγκεντρώσεων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Βελτίωση επιχειρηματικής ανταγωνιστικότητα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Ενίσχυση της καινοτομία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Ενίσχυση δράσεων ΚτΠ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Ανάπτυξη διαπεριφερειακών-διασυνοριακών συνεργασιών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Ενίσχυση ανταγωνιστικότητας γεωργικών εκμεταλλεύσεων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2" name="Logo Perif55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Βασικές προτεραιότητες ανάπτυξης (3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0099ff"/>
                </a:solidFill>
                <a:uFillTx/>
                <a:latin typeface="Times New Roman"/>
              </a:rPr>
              <a:t>Βελτίωση της υποδομής του περιβάλλοντο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2a3d7a"/>
                </a:solidFill>
                <a:latin typeface="Times New Roman"/>
              </a:rPr>
              <a:t>Ολοκλήρωση υποδομών επεξεργασίας λυμάτων, διαχείρισης απορριμμάτων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2a3d7a"/>
                </a:solidFill>
                <a:latin typeface="Times New Roman"/>
              </a:rPr>
              <a:t>Δράσεις περιορισμού κλιματολογικών αλλαγών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2a3d7a"/>
                </a:solidFill>
                <a:latin typeface="Times New Roman"/>
              </a:rPr>
              <a:t>Δράσεις προστασίας φυσικού περιβάλλοντος &amp; βιοπικοιλότητα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2a3d7a"/>
                </a:solidFill>
                <a:latin typeface="Times New Roman"/>
              </a:rPr>
              <a:t>Αντιμετώπιση χωροταξικών &amp; πολεοδομικών προβλημάτων – συγκρούσεων στις χρήσεις γη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4" name="Logo Perif55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 u="sng">
                <a:solidFill>
                  <a:srgbClr val="fac164"/>
                </a:solidFill>
                <a:uFillTx/>
                <a:latin typeface="Times New Roman"/>
              </a:rPr>
              <a:t>Αναθεώρηση της πολιτικής για την συνοχή της Ευρωπαϊκής Ένωση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2a3d7a"/>
                </a:solidFill>
                <a:latin typeface="Times New Roman"/>
              </a:rPr>
              <a:t>Στόχοι προτεραιότητας 2007-2013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2a3d7a"/>
                </a:solidFill>
                <a:latin typeface="Times New Roman"/>
              </a:rPr>
              <a:t>των Διαρθρωτικών Ταμείων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2a3d7a"/>
                </a:solidFill>
                <a:latin typeface="Times New Roman"/>
              </a:rPr>
              <a:t>Σύγκλιση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2a3d7a"/>
                </a:solidFill>
                <a:latin typeface="Times New Roman"/>
              </a:rPr>
              <a:t>Περιφερειακή ανταγωνιστικότητα &amp; απασχόληση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2a3d7a"/>
                </a:solidFill>
                <a:latin typeface="Times New Roman"/>
              </a:rPr>
              <a:t>Ευρωπαϊκή εδαφική συνεργασί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Logo Perif55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Βασικές προτεραιότητες ανάπτυξης (4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 u="sng">
                <a:solidFill>
                  <a:srgbClr val="0099ff"/>
                </a:solidFill>
                <a:uFillTx/>
                <a:latin typeface="Times New Roman"/>
              </a:rPr>
              <a:t>Ενίσχυση του ανθρώπινου κεφαλαίου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Ενίσχυση υποδομής όλων των βαθμίδων εκπαίδευση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Δημιουργία δικτύου έρευνας-ζήτησης απασχόλησης-προσανατολισμός προσφοράς εργασία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Προγράμματα σύνδεσης κατάρτισης με απασχόληση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Ειδικά προγράμματα ενσωμάτωσης μεταναστών &amp; παλιννοστούντων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Δημιουργία συμφώνων απασχόλησης &amp; κατάρτιση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Πρακτική άσκηση &amp; εργασιακή εμπειρία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Αξιοποίηση νέων τεχνολογιών &amp; ΚτΠ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6" name="Logo Perif55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Βασικές προτεραιότητες ανάπτυξης (5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 u="sng">
                <a:solidFill>
                  <a:srgbClr val="0099ff"/>
                </a:solidFill>
                <a:uFillTx/>
                <a:latin typeface="Times New Roman"/>
              </a:rPr>
              <a:t>Βελτίωση της διοικητικής ικανότητας της δημόσιας διοίκηση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Ενίσχυση &amp; αναβάθμιση της επιτόπου διοίκηση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Κατάρτιση του προσωπικού &amp; ανάπτυξη αποτελεσματικών μέσων διαχείρισης-παρακολούθησης-αξιολόγηση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Δημιουργία μόνιμων φορέων &amp; δικτύων συνεργασία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Δυνατότητα εκπόνησης &amp; εφαρμογής μικρών ολοκληρωμένων επιχειρησιακών σχεδίων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Αξιοποίηση νέων τεχνολογιών &amp; ΚτΠ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8" name="Logo Perif55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Βασικές προτεραιότητες ανάπτυξης (6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 u="sng">
                <a:solidFill>
                  <a:srgbClr val="0099ff"/>
                </a:solidFill>
                <a:uFillTx/>
                <a:latin typeface="Times New Roman"/>
              </a:rPr>
              <a:t>Προώθηση της συνεργασίας &amp; των δικτύων μεταξύ χωρών και Περιφερειών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Ενθάρρυνση δικτύωσης μεταξύ χωρών της ΕΕ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Ανάληψη πρωτοβουλιών συνεργασίας με Βαλκανικές χώρε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Ενίσχυση διασυνοριακών διαπεριφερειακών επιχειρηματικών δραστηριοτήτων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Ανάπτυξη δικτύων, διοργάνωση εκθέσεων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Δημιουργία δικτύου συνεργασίας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Ανάπτυξη θεσμών συνεργασίας με τις νέες χώρες της ΕΕ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0" name="Logo Perif55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Βασικές προτεραιότητες ανάπτυξης (7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 algn="ctr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 u="sng">
                <a:solidFill>
                  <a:srgbClr val="0099ff"/>
                </a:solidFill>
                <a:uFillTx/>
                <a:latin typeface="Times New Roman"/>
              </a:rPr>
              <a:t>Αγροτική ανάπτυξη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 algn="ctr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Αναβάθμιση της ανταγωνιστικότητας των γεωργικών εκμεταλλεύσεων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 algn="ctr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Συνέχιση της στήριξης πρωτοβουλιών ανάληψης δραστηριοτήτων από ειδικές κοινωνικές ομάδε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 algn="ctr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Συνέχιση εφαρμογής προγραμμάτων ολοκληρωμένου χαρακτήρα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 algn="ctr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Προώθηση θεματικών προγραμμάτων ανάπτυξη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 algn="ctr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Διατήρηση &amp; βελτίωση του περιβάλλοντος του αγροτικού τοπίου και των φυσικών πόρων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 algn="ctr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Εφαρμογή ολοκληρωμένων γεωργοπεριβαλλοντικών προγραμμάτων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 algn="ctr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Υλοποίηση μικρών δημόσιων επενδύσεων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2" name="Logo Perif55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Βασικές προτεραιότητες ανάπτυξης (8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 u="sng">
                <a:solidFill>
                  <a:srgbClr val="0099ff"/>
                </a:solidFill>
                <a:uFillTx/>
                <a:latin typeface="Times New Roman"/>
              </a:rPr>
              <a:t>Ανάπτυξη τουρισμού-πολιτισμού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Προσδιορισμός της ταυτότητας της Περιφέρειας &amp; προβολή τη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Δημιουργία συνεργασιών σε τοπικό επίπεδο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Επέκταση του τουριστικού προϊόντο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Βελτίωση της ποιότητας &amp; ανταγωνιστικότητας των τουριστικών υπηρεσιών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Προστασία, ανάδειξη &amp; αξιοποίηση της πολιτιστικής κληρονομιά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Ανάπτυξη &amp; προώθηση θεματικού τουρισμού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4" name="Logo Perif55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Επισήμανση πιθανών ενδοπεριφερειακών διαφοροποιήσεων &amp; επιδράσεων στο πλαίσιο των περιφερειακών προτεραιοτήτων ανάπτυξη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2a3d7a"/>
                </a:solidFill>
                <a:latin typeface="Times New Roman"/>
              </a:rPr>
              <a:t>Στόχος για την νέα προγραμματική περίοδο είναι: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2a3d7a"/>
                </a:solidFill>
                <a:latin typeface="Times New Roman"/>
              </a:rPr>
              <a:t>Αύξηση πληθυσμού της Περιφέρειας και των Νομών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2a3d7a"/>
                </a:solidFill>
                <a:latin typeface="Times New Roman"/>
              </a:rPr>
              <a:t>Σύγκλιση της Περιφέρειας με τον μέσο όρο της χώρας και προσέγγιση των Νομών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6" name="Logo Perif55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Αναγκαίες θεσμικές &amp; οργανωτικές προσαρμογέ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2a3d7a"/>
                </a:solidFill>
                <a:latin typeface="Times New Roman"/>
              </a:rPr>
              <a:t>Η νέα προγραμματική περίοδος προϋποθέτει θεσμικές &amp; οργανωτικές προσαρμογές, οι οποίες θα συμβάλλουν στην αποτελεσματική προώθηση των περιφερειακών προτεραιοτήτων ανάπτυξης , στο πλαίσιο της αποκέντρωσης &amp; της επιτάχυνσης των απαιτούμενων παρεμβάσεων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8" name="Logo Perif55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 u="sng">
                <a:solidFill>
                  <a:srgbClr val="2a3d7a"/>
                </a:solidFill>
                <a:uFillTx/>
                <a:latin typeface="Times New Roman"/>
              </a:rPr>
              <a:t>ΣΤΡΑΤΗΓΙΚΟ ΣΧΕΔΙΟ ΑΝΑΠΤΥΞΗΣ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 u="sng">
                <a:solidFill>
                  <a:srgbClr val="2a3d7a"/>
                </a:solidFill>
                <a:uFillTx/>
                <a:latin typeface="Times New Roman"/>
              </a:rPr>
              <a:t>ΠΕΡΙΦΕΡΕΙΑΣ ΗΠΕΙΡΟ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 u="sng">
                <a:solidFill>
                  <a:srgbClr val="2a3d7a"/>
                </a:solidFill>
                <a:uFillTx/>
                <a:latin typeface="Times New Roman"/>
              </a:rPr>
              <a:t>2007-2013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>
                <a:solidFill>
                  <a:srgbClr val="2a3d7a"/>
                </a:solidFill>
                <a:latin typeface="Times New Roman"/>
              </a:rPr>
              <a:t>Περιφερειακό Συμβούλιο Ηπείρου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>
                <a:solidFill>
                  <a:srgbClr val="2a3d7a"/>
                </a:solidFill>
                <a:latin typeface="Times New Roman"/>
              </a:rPr>
              <a:t>                  </a:t>
            </a:r>
            <a:r>
              <a:rPr b="1" i="1" lang="el-GR" sz="1400" spc="-1" strike="noStrike">
                <a:solidFill>
                  <a:srgbClr val="2a3d7a"/>
                </a:solidFill>
                <a:latin typeface="Times New Roman"/>
              </a:rPr>
              <a:t>7/6/2005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0" name="Logo Perif55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 u="sng">
                <a:solidFill>
                  <a:srgbClr val="fac164"/>
                </a:solidFill>
                <a:uFillTx/>
                <a:latin typeface="Times New Roman"/>
              </a:rPr>
              <a:t>Προκαταρκτικές κατευθύνσεις της ΕΕ για στρατηγικούς στόχους-άξονες ανάπτυξη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1. Ενίσχυση της ανταγωνιστικότητα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2. Βελτίωση προσπελασιμότητας &amp; υπηρεσιών οικονομικού ενδιαφέροντο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3. Αναβάθμιση &amp; προστασία περιβάλλοντο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4. Ανάπτυξη ανθρώπινου δυναμικού &amp; προώθηση της απασχόληση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5. Βελτίωση της διοικητικής ικανότητας της δημόσιας διοίκηση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6. Ενίσχυση της διασυνοριακής-διακρατικής-διαπεριφερειακής συνεργασία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2" name="Logo Perif55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 u="sng">
                <a:solidFill>
                  <a:srgbClr val="fac164"/>
                </a:solidFill>
                <a:uFillTx/>
                <a:latin typeface="Times New Roman"/>
              </a:rPr>
              <a:t>Νέα Προγραμματική διαδικασί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2a3d7a"/>
                </a:solidFill>
                <a:latin typeface="Times New Roman"/>
              </a:rPr>
              <a:t>Κατευθύνσεις Εθνικής Στρατηγικής Ανάπτυξης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2a3d7a"/>
                </a:solidFill>
                <a:latin typeface="Times New Roman"/>
              </a:rPr>
              <a:t>Στρατηγικές κατευθύνσεις για την οικονομική-κοινωνική-περιφερειακή συνοχή σε επίπεδο ΕΕ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2a3d7a"/>
                </a:solidFill>
                <a:latin typeface="Times New Roman"/>
              </a:rPr>
              <a:t>Εθνικό Στρατηγικό Σχέδιο Ανάπτυξη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2a3d7a"/>
                </a:solidFill>
                <a:latin typeface="Times New Roman"/>
              </a:rPr>
              <a:t>Επιχειρησιακά Προγράμματ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4" name="Logo Perif55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 u="sng">
                <a:solidFill>
                  <a:srgbClr val="fac164"/>
                </a:solidFill>
                <a:uFillTx/>
                <a:latin typeface="Times New Roman"/>
              </a:rPr>
              <a:t>Στρατηγικό Σχέδιο Ανάπτυξης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 u="sng">
                <a:solidFill>
                  <a:srgbClr val="fac164"/>
                </a:solidFill>
                <a:uFillTx/>
                <a:latin typeface="Times New Roman"/>
              </a:rPr>
              <a:t>Περιφέρειας Ηπείρου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2a3d7a"/>
                </a:solidFill>
                <a:latin typeface="Times New Roman"/>
              </a:rPr>
              <a:t>Κείμενο όπου διατυπώνονται βασικά ζητήματα που μπορούν να οδηγήσουν στην διαμόρφωση βασικών αναπτυξιακών προτεραιοτήτων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6" name="Logo Perif55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Δομή Στρατηγικού Σχεδίου Ανάπτυξης Περιφέρειας Ηπείρο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Θέση της Περιφέρειας στο ευρωπαϊκό &amp; διεθνές περιβάλλον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Αποτίμηση αποτελεσμάτων παρεμβάσεων τρέχουσας &amp; προηγούμενων προγραμματικών περιόδων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Αναφορά δυνατών σημείων, αδυναμιών, ευκαιριών &amp; κινδύνων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Βασικές προτεραιότητες ανάπτυξη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Πιθανές ενδοπεριφερειακές διαφοροποιήσεις &amp; επιδράσεις στο πλαίσιο των περιφερειακών προτεραιοτήτων ανάπτυξη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Αναγκαίες θεσμικές &amp; οργανωτικές προσαρμογέ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8" name="Logo Perif55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 u="sng">
                <a:solidFill>
                  <a:srgbClr val="fac164"/>
                </a:solidFill>
                <a:uFillTx/>
                <a:latin typeface="Times New Roman"/>
              </a:rPr>
              <a:t>Θέση της Περιφέρειας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 u="sng">
                <a:solidFill>
                  <a:srgbClr val="fac164"/>
                </a:solidFill>
                <a:uFillTx/>
                <a:latin typeface="Times New Roman"/>
              </a:rPr>
              <a:t>στο ευρωπαϊκό &amp; διεθνές περιβάλλον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2a3d7a"/>
                </a:solidFill>
                <a:latin typeface="Times New Roman"/>
              </a:rPr>
              <a:t>περιφερειακή &amp; απομακρυσμένη περιοχή της Ελλάδας, γεωγραφική θέση με στρατηγικό πλεονέκτημα ανάπτυξης, εξαιρετικά συγκριτικά πλεονεκτήματα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2a3d7a"/>
                </a:solidFill>
                <a:latin typeface="Times New Roman"/>
              </a:rPr>
              <a:t>περιφερειακή περιοχή της ΕΕ, κομβική θέση, αδύναμη με βάση τους περιφερειακούς δείκτε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2a3d7a"/>
                </a:solidFill>
                <a:latin typeface="Times New Roman"/>
              </a:rPr>
              <a:t>Στόχος: επιτάχυνση της αναπτυξιακής πορείας, με την αξιοποίηση της νέας προγραμματικής περιόδο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0" name="Logo Perif55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Αποτίμηση αποτελεσμάτων παρεμβάσεων τρέχουσας &amp; προηγούμενων προγραμματικών περιόδων (1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Α) 1986-2000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 algn="ctr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χρηματοδότηση έργων από Διαρθρωτικά Ταμεία &amp; Εθνική συγχρηματοδότηση (εκτίμηση 1,9 δις €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 algn="ctr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Θετικές αναπτυξιακές επιπτώσεις στα αναπτυξιακά χαρακτηριστικά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 algn="ctr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Μη επιτυχής προσανατολισμός των Ταμείων (εισοδηματική ενίσχυση του πρωτογενή τομέα – μέτρα εκσυγχρονισμού &amp; αναδιάρθρωσης της γεωργικής δραστηριότητας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 algn="ctr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Προσανατολισμός πόρων σε μικρής κλίμακας έργα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 algn="ctr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Απουσία ολοκληρωμένου σχεδιασμού &amp; συνέργειας επιχειρησιακών προγραμμάτων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2" name="Logo Perif55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Αποτίμηση αποτελεσμάτων παρεμβάσεων τρέχουσας &amp; προηγούμενων προγραμματικών περιόδων (2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Β) 2000-2006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Υπερδιπλάσιοι πόροι, προσανατολισμένοι σε δράσεις άμεσα αναπτυξιακές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Περισσότερο επενδύσεις σε υποδομές, λιγότερο σε ανθρώπινους πόρους &amp; παραγωγικούς τομεί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Προσπάθεια διασφάλισης επιπέδου υποδομών, προαπαιτούμενο για αύξηση παραγωγικότητας &amp; κινητοποίηση ιδιωτικού κεφαλαίου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Μη δυνατότητα εκτίμησης επίτευξης στόχων σήμερα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4" name="Logo Perif55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06:35:02Z</dcterms:created>
  <dc:creator>evipapan</dc:creator>
  <dc:description/>
  <dc:language>en-US</dc:language>
  <cp:lastModifiedBy>evipapan</cp:lastModifiedBy>
  <dcterms:modified xsi:type="dcterms:W3CDTF">2005-06-06T09:42:09Z</dcterms:modified>
  <cp:revision>146</cp:revision>
  <dc:subject/>
  <dc:title>Παρουσίαση του PowerPoint</dc:title>
</cp:coreProperties>
</file>