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760920" y="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UB-Front"/>
              </a:rPr>
              <a:t>Click to move the slide</a:t>
            </a: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40752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8F22-ECD7-4EB5-BC6F-5B125E23516A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Στην παρουσίαση αυτή θα σας αναφέρουμε τα έργα που προτάθηκαν, από τους Τελικούς Δικαιούχους του Προγράμματος, για να ενταχθούν στο ΠΕΠ Ηπείρο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την πρόσκληση 102/2004 του Μέτρου 4.1 που εκ παραδρομής δεν είχε αναφερθεί στην προηγούμενη συνεδρίαση Προτάθηκε για ένταξη το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την πρόσκληση 113/2005 του Μέτρου 4.10 Προτάθηκαν για ένταξη τα εξής έργα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την πρόσκληση 119/2005 του Μέτρου 4.11 Προτάθηκαν για ένταξη τα εξής έργα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την πρόσκληση 120/2005 του Μέτρου 4.11 Προτάθηκαν για ένταξη τα εξής έργα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ι τέλος στην πρόσκληση 123/2005 του Μέτρου 4.13 Προτάθηκαν για ένταξη τα εξής έργα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την πρόσκληση 112/2005 του Μέτρου 1.1 Προτάθηκαν για ένταξη τα εξής έργα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την πρόσκληση 110/2005 του Μέτρου 1.3 Προτάθηκαν για ένταξη τα εξής έργα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ι στην πρόσκληση 114/2005 του Μέτρου 1.3 Προτάθηκε για ένταξη το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την πρόσκληση 121/2005 του Μέτρου 2.1 Προτάθηκαν για ένταξη τα εξής έργα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την πρόσκληση 87/2004 και 128/2005 του Μέτρου 2.2 Προτάθηκαν για ένταξη τα εξής έργα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την πρόσκληση 123/2005 του Μέτρου 2.4 Προτάθηκαν για ένταξη τα εξής έργα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τις πρόσκλησης 104/2004 και 125/2005 του Μέτρου 3.1 Προτάθηκαν για ένταξη τα εξής έργα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D746-BA34-4EF5-8A57-F8974938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60199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5480640"/>
            <a:ext cx="60199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BCA5-610C-4243-B18E-A26B4957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440" y="472428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548064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313440" y="548064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57DC-1DF4-4C25-B786-D6F4B5B0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19382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264040" y="4724280"/>
            <a:ext cx="19382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299840" y="4724280"/>
            <a:ext cx="19382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5480640"/>
            <a:ext cx="19382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264040" y="5480640"/>
            <a:ext cx="19382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299840" y="5480640"/>
            <a:ext cx="19382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135E-D6AF-4525-950C-F518AD96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7E7C-AB6E-42C2-9C1B-8F2CD22D9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472428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EAF2-2A18-45FD-A9A4-E234CC31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B89D-A3D2-4A0A-A418-B7E02EAB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29376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13440" y="4724280"/>
            <a:ext cx="29376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2DC7-CA40-454E-B84B-103B3822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AE88-E146-41FD-B502-59988180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3501720"/>
            <a:ext cx="8305920" cy="55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ACB9-2293-4CB0-BC65-05DD223E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313440" y="4724280"/>
            <a:ext cx="29376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548064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B16D-57EF-4F6C-BED2-815AE9C4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472428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9941-21AF-438F-8125-BCEF3DFD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29376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313440" y="472428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13440" y="548064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91FD-67CF-48AD-A91C-AFE1E0EC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13440" y="472428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5480640"/>
            <a:ext cx="60199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73A9-AC24-4718-BDE6-E4D1DA50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60199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5480640"/>
            <a:ext cx="60199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5D82-7804-4F94-B2C1-0F2C981F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440" y="472428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548064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313440" y="548064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8D73-85FD-46A4-8543-A5315D31E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19382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264040" y="4724280"/>
            <a:ext cx="19382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99840" y="4724280"/>
            <a:ext cx="19382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5480640"/>
            <a:ext cx="19382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264040" y="5480640"/>
            <a:ext cx="19382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299840" y="5480640"/>
            <a:ext cx="19382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23A8-89A1-40B6-B0FD-434E7D0EA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902A-2624-40FD-85E5-0E55D0EE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29376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313440" y="4724280"/>
            <a:ext cx="29376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3F5E-6B35-4E25-AD20-E8021B5F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F9CA-D302-4C0D-AABD-B1C858C7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3501720"/>
            <a:ext cx="8305920" cy="55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4A7C-0645-4DD1-B2EB-6A83512E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313440" y="4724280"/>
            <a:ext cx="29376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548064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A974-A17F-4648-8169-E2E5E1E6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29376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313440" y="472428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313440" y="548064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1423-CAA0-41A1-BCB4-2A8F2B87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313440" y="472428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5480640"/>
            <a:ext cx="60199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CF73-5E87-4D99-8784-980EAE56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317520"/>
            <a:ext cx="7848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UB-Front"/>
              </a:rPr>
              <a:t>Click to edit the title text format</a:t>
            </a:r>
            <a:endParaRPr b="1" lang="en-US" sz="44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cc"/>
                </a:solidFill>
                <a:latin typeface="UB-Fron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cc"/>
                </a:solidFill>
                <a:latin typeface="UB-Fron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cc"/>
                </a:solidFill>
                <a:latin typeface="UB-Fron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cc"/>
                </a:solidFill>
                <a:latin typeface="UB-Fron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cc"/>
                </a:solidFill>
                <a:latin typeface="UB-Fron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A5D4-D71C-4A78-8544-8C4310A4636F}" type="slidenum">
              <a:rPr b="0" lang="el-GR" sz="1400" spc="-1" strike="noStrike">
                <a:solidFill>
                  <a:srgbClr val="0000cc"/>
                </a:solidFill>
                <a:latin typeface="UB-Fron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UB-Front"/>
              </a:rPr>
              <a:t>Click to edit the title text format</a:t>
            </a: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cc"/>
                </a:solidFill>
                <a:latin typeface="UB-Fron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cc"/>
                </a:solidFill>
                <a:latin typeface="UB-Fron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cc"/>
                </a:solidFill>
                <a:latin typeface="UB-Fron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cc"/>
                </a:solidFill>
                <a:latin typeface="UB-Fron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cc"/>
                </a:solidFill>
                <a:latin typeface="UB-Fron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5FE8-D996-4490-8320-0185B3D5C0A2}" type="slidenum">
              <a:rPr b="0" lang="el-GR" sz="1400" spc="-1" strike="noStrike">
                <a:solidFill>
                  <a:srgbClr val="0000cc"/>
                </a:solidFill>
                <a:latin typeface="UB-Fron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04560" y="5029200"/>
            <a:ext cx="628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ΠΡΟΤΕΙΝΟΜΕΝΑ ΕΡΓΑ ΓΙΑ ΕΝΤΑΞΗ ΣΤΟ ΠΕΠ ΗΠΕΙΡ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6600"/>
                </a:solidFill>
                <a:uFillTx/>
                <a:latin typeface="UB-Front"/>
              </a:rPr>
              <a:t>ΜΕΤΡΟ: 4.1 "Διαχείριση των υδατικών πόρων - Έγγειες Βελτιώσεις" - Πρόσκληση: 102/2004</a:t>
            </a:r>
            <a:endParaRPr b="1" lang="en-US" sz="2800" spc="-1" strike="noStrike">
              <a:solidFill>
                <a:srgbClr val="336600"/>
              </a:solidFill>
              <a:latin typeface="UB-Front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4360" y="1773360"/>
          <a:ext cx="7848360" cy="2376360"/>
        </p:xfrm>
        <a:graphic>
          <a:graphicData uri="http://schemas.openxmlformats.org/drawingml/2006/table">
            <a:tbl>
              <a:tblPr/>
              <a:tblGrid>
                <a:gridCol w="4201920"/>
                <a:gridCol w="2000520"/>
                <a:gridCol w="1645920"/>
              </a:tblGrid>
              <a:tr h="66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ΤΙΤΛΟΣ ΕΡΓΟ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ΦΟΡΕΑ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Π/Υ (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71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ΒΑΣΙΚΕΣ ΙΣΟΠΕΔΩΣΕΙΣ ΚΑΙ ΣΥΜΠΛΗΡΩΜΑΤΙΚΑ ΕΡΓΑ ΣΤΟ ΑΓΡΟΚΤΗΜΑ ΣΤΕΦΑΝΗΣ ΑΡΔΕΥΤΙΚΟΥ ΕΡΓΟΥ ΛΑΜΑΡΗΣ ΝΟΜΟΥ ΠΡΕΒΕΖ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Ν.Α. ΠΡΕΒΕΖ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0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6600"/>
                </a:solidFill>
                <a:uFillTx/>
                <a:latin typeface="UB-Front"/>
              </a:rPr>
              <a:t>ΜΕΤΡΟ: 4.10 "Υποδομές μεταφορών στην ύπαιθρο" - Πρόσκληση: 113/2005</a:t>
            </a:r>
            <a:endParaRPr b="1" lang="en-US" sz="2800" spc="-1" strike="noStrike">
              <a:solidFill>
                <a:srgbClr val="336600"/>
              </a:solidFill>
              <a:latin typeface="UB-Fron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5800" y="1557360"/>
          <a:ext cx="7848720" cy="4416480"/>
        </p:xfrm>
        <a:graphic>
          <a:graphicData uri="http://schemas.openxmlformats.org/drawingml/2006/table">
            <a:tbl>
              <a:tblPr/>
              <a:tblGrid>
                <a:gridCol w="4202280"/>
                <a:gridCol w="2000160"/>
                <a:gridCol w="1646280"/>
              </a:tblGrid>
              <a:tr h="38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UB-Front"/>
                          <a:ea typeface="Arial"/>
                        </a:rPr>
                        <a:t>ΤΙΤΛΟΣ ΕΡΓΟ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UB-Front"/>
                          <a:ea typeface="Arial"/>
                        </a:rPr>
                        <a:t>ΦΟΡΕΑ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UB-Front"/>
                          <a:ea typeface="Arial"/>
                        </a:rPr>
                        <a:t>Π/Υ (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5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ΒΕΛΤΙΩΣΗ -ΑΣΦΑΛΤΟΣΤΡΩΣΗ ΔΡΟΜΟΥ ΠΗΓΗ-ΝΕΥΡΟΠΟΛΗ-ΤΕΤΡΑΚΩΜΟ(TMHMA ΝΕΥΡΟΠΟΛΗ - ΑΡΙΑ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Ν.Α. ΑΡΤ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75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η ΕΠΑΡΧΙΑΚΗ ΟΔΟΣ (ΕΙΣΟΔΟΣ ΠΑΡΓΑ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Ν.Α. ΠΡΕΒΕΖ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00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ΒΕΛΤΙΩΣΗ ΟΔΟΥ ΓΥΜΝΟΤΟΠΟΥ - ΔΡΥΟΦΥΤΟΥ Ν. ΠΡΕΒΕΖ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Ν.Α. ΠΡΕΒΕΖ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0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ΒΕΛΤΙΩΣΗ ΟΔΟΥ ΑΣΣΟΥ - ΠΟΛΥΣΤΑΦΥΛΟ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Ν.Α. ΠΡΕΒΕΖ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0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ΒΕΛΤΙΩΣΗ - ΑΣΦΑΛΤΟΣΤΡΩΣΗ ΔΡΟΜΟΥ ΖΩΤΙΚΟ - ΟΡΙΑ ΝΟΜΟΥ ΣΟΥΛ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Ν.Α. ΙΩΑΝΝΙΝΩ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40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ΒΕΛΤΙΩΣΗ 4ης ΕΠ. ΟΔΟΥ ΑΡΤΑΣ - ΡΟΔΑΥΓΗΣ - ΓΕΦΥΡΑ ΠΛΑΚΑΣ,ΤΜΗΜΑ ΡΟΔΑΥΓΗ ΣΟΥΜΕΣΙ (Β΄ΚΛΑΔΟΣ ΚΑΚΟΛΑΓΚΑΔΟ ΣΟΥΜΕΣ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Ν.Α. ΑΡΤ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97.62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6600"/>
                </a:solidFill>
                <a:uFillTx/>
                <a:latin typeface="UB-Front"/>
              </a:rPr>
              <a:t>ΜΕΤΡΟ: 4.10 "Υποδομές μεταφορών στην ύπαιθρο" - Πρόσκληση: 113/2005</a:t>
            </a:r>
            <a:endParaRPr b="1" lang="en-US" sz="2800" spc="-1" strike="noStrike">
              <a:solidFill>
                <a:srgbClr val="336600"/>
              </a:solidFill>
              <a:latin typeface="UB-Front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85800" y="1557360"/>
          <a:ext cx="7848720" cy="4392360"/>
        </p:xfrm>
        <a:graphic>
          <a:graphicData uri="http://schemas.openxmlformats.org/drawingml/2006/table">
            <a:tbl>
              <a:tblPr/>
              <a:tblGrid>
                <a:gridCol w="4202280"/>
                <a:gridCol w="2000160"/>
                <a:gridCol w="164628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ΤΙΤΛΟΣ ΕΡΓΟ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ΦΟΡΕΑ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Π/Υ (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ΒΕΛΤΙΩΣΗ - ΑΣΦΑΛΤΟΣΤΡΩΣΗ ΔΡΟΜΟΥ ΑΡΤΑΣ - ΚΟΜΜΕΝΟΥ (1η ΕΠΑΡΧΙΑΚΗ ΟΔΟΣ) ΥΠΟΤΜΗΜΑ 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Ν.Α. ΑΡΤ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23.6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ΒΕΛΤΙΩΣΗ - ΑΣΦΑΛΤΟΣΤΡΩΣΗ ΟΔΟΥ ΔΟΛΙΑΝΗ ΜΑΚΡΙΝ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Ν.Α. ΑΡΤ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00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ΒΕΛΤΙΩΣΗ ΕΠΑΡΧΙΑΚΟΥ ΔΡΟΜΟΥ ΑΡ. 9 ΑΠΟ ΜΟΡΦΑΤΙ ΕΩΣ ΚΑΡΒΟΥΝΑΡΙ Ν. ΘΕΣΠΡΩΤΙ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Ν.Α. ΘΕΣΠΡΩΤΙ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93.167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ΒΕΛΤΙΩΣΗ ΟΔΟΥ ΣΚΙΑΔΑ - ΠΟΛΥΣΤΑΦΥΛΟΥ Ν. ΠΡΕΒΕΖ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Ν.Α. ΠΡΕΒΕΖ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00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ΒΕΛΤΙΩΣΗ ΔΡΟΜΟΥ ΑΠO ΓΛΥΚΗ - ΟΡΙΑ ΟΙΚ. ΠΟΤΑΜΙΑΣ ΣΤΟΝ ΔΗΜΟ ΑΧΕΡΟΝΤ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Ν.Α. ΘΕΣΠΡΩΤΙ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7.3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ΑΝΑΚΑΤΑΣΚΕΥΗ - ΒΕΛΤΙΩΣΗ 14ης ΕΠ. ΟΔΟΥ ΑΠΟ Δ.Δ. ΖΙΤΣΑΣ ΕΩΣ ΠΑΛΙΑ Ε.Ο. ΙΩΑΝΝΙΝΩΝ - ΗΓΟΥΜΕΝΙΤΣΑΣ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Ν.Α. ΑΡΤ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0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6600"/>
                </a:solidFill>
                <a:uFillTx/>
                <a:latin typeface="UB-Front"/>
              </a:rPr>
              <a:t>ΜΕΤΡΟ: 4.11 "Ενίσχυση των κοινωνικών Υποδομών Πρόνοιας και Εκπαίδευσης στην Ύπαιθρο" - Πρόσκληση: 119/2005</a:t>
            </a:r>
            <a:endParaRPr b="1" lang="en-US" sz="2800" spc="-1" strike="noStrike">
              <a:solidFill>
                <a:srgbClr val="336600"/>
              </a:solidFill>
              <a:latin typeface="UB-Front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85800" y="1700280"/>
          <a:ext cx="7848720" cy="4254480"/>
        </p:xfrm>
        <a:graphic>
          <a:graphicData uri="http://schemas.openxmlformats.org/drawingml/2006/table">
            <a:tbl>
              <a:tblPr/>
              <a:tblGrid>
                <a:gridCol w="4202280"/>
                <a:gridCol w="2000160"/>
                <a:gridCol w="1646280"/>
              </a:tblGrid>
              <a:tr h="60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ΤΙΤΛΟΣ ΕΡΓΟ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ΦΟΡΕΑ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Π/Υ (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ΚΑΤΑΣΚΕΥΗ ΒΡΕΦΟΝΗΠΙΑΚΟΥ ΣΤΑΘΜΟ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ΔΗΜΟΣ ΚΟΜΠΟΤΙΟ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9.97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ΑΝΕΓΕΡΣΗ ΚΑΙ ΕΞΟΠΛΙΣΜΟΣ ΚΡΑΤΙΚΟΥ ΠΑΙΔΙΚΟΥ ΣΤΑΘΜΟΥ ΔΗΜΟΥ ΖΑΛΟΓΓΟ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ΔΗΜΟΣ ΖΑΛΟΓΓΟ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0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ΠΑΙΔΙΚΟΣ ΣΤΑΘΜΟΣ Δ.Δ. ΜΕΤΑΜΟΡΦΩΣΗΣ ΔΗΜΟΥ ΕΚΑΛΗ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ΔΗΜΟΣ ΕΚΑΛΗ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0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ΚΑΤΑΣΚΕΥΗ ΠΑΙΔΙΚΟΥ ΣΤΑΘΜΟΥ ΣΤΟ Δ.Δ. ΠΕΤΑ ΤΟΥ ΔΗΜΟΥ ΠΕΤ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ΔΗΜΟΣ ΠΕΤ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ΚΑΤΑΣΚΕΥΗ ΠΑΙΔΙΚΟΥ ΣΤΑΘΜΟΥ ΣΤΟ ΔΗΜΟ ΞΗΡΟΒΟΥΝΙΟ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ΔΗΜΟΣ ΞΗΡΟΒΟΥΝΙΟ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4.703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ΔΗΜΙΟΥΡΓΙΑ ΝΕΑΣ ΔΟΜΗΣ ΒΡΕΦΟΝΗΠΙΑΚΟΥ ΣΤΑΘΜΟΥ ΑΠΌ ΤΟΝ ΔΗΜΟ ΕΓΝΑΤΙ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ΔΗΜΟΣ ΕΓΝΑΤΙ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6600"/>
                </a:solidFill>
                <a:uFillTx/>
                <a:latin typeface="UB-Front"/>
              </a:rPr>
              <a:t>ΜΕΤΡΟ: 4.11 "Ενίσχυση των κοινωνικών Υποδομών Πρόνοιας και Εκπαίδευσης στην Ύπαιθρο" - Πρόσκληση: 120/2005</a:t>
            </a:r>
            <a:endParaRPr b="1" lang="en-US" sz="2800" spc="-1" strike="noStrike">
              <a:solidFill>
                <a:srgbClr val="336600"/>
              </a:solidFill>
              <a:latin typeface="UB-Front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4360" y="1700280"/>
          <a:ext cx="7848360" cy="4605120"/>
        </p:xfrm>
        <a:graphic>
          <a:graphicData uri="http://schemas.openxmlformats.org/drawingml/2006/table">
            <a:tbl>
              <a:tblPr/>
              <a:tblGrid>
                <a:gridCol w="4822560"/>
                <a:gridCol w="1800000"/>
                <a:gridCol w="12258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ΤΙΤΛΟΣ ΕΡΓΟ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ΦΟΡΕΑ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Π/Υ (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ΑΝΕΓΕΡΣΗ 6/ΘΕΣΙΟΥ ΔΗΜΟΤΙΚΟΥ ΣΧΟΛΕΙΟΥ ΜΕΤΑΞΥ Δ. Δ. ΜΠΑΦΡΑΣ ΚΑΙ ΝΕΟΚΑΙΣΑΡΕΙ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Ν.Α. ΙΩΑΝΝΙΝΩ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ΑΝΕΓΕΡΣΗ 6/ΘΕΣΙΟΥ ΔΗΜΟΤΙΚΟΥ ΣΧΟΛΕΙΟΥ ΠΑΝΤΟΚΡΑΤΟΡΑ ΠΡΕΒΕΖ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Ν.Α. ΠΡΕΒΕΖ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8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ΑΝΕΓΕΡΣΗ ΝΗΠΙΑΓΩΓΕΙΟΥ ΠΑΡΓ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Ν.Α. ΠΡΕΒΕΖ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ΠΡΟΣΘΗΚΗ ΔΥΟ ΑΙΘΟΥΣΩΝ ΣΤΟ ΔΗΜΟΤΙΚΟ ΣΧΟΛΕΙΟ ΑΓ. ΠΑΡΑΣΚΕΥΗ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Ν.Α. ΑΡΤ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.7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ΚΑΤΑΣΚΕΥΗ ΔΗΜΟΤΙΚΟΥ ΣΧΟΛΕΙΟΥ ΓΡΑΜΜΕΝΙΤΣ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Ν.Α. ΑΡΤ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862.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ΔΗΜΟΤΙΚΟ ΣΧΟΛΕΙΟ ΠΕΔΙΝΗ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Ν.Α. ΙΩΑΝΝΙΝΩ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ΑΝΕΓΕΡΣΗ 12/ΘΕΣΙΟΥ ΔΗΜΟΤΙΚΟΥ ΣΧΟΛΕΙΟΥ ΕΛΕΟΥΣ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Ν.Α. ΙΩΑΝΝΙΝΩ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ΚΑΤΑΣΚΕΥΗ ΑΙΘΟΥΣΑΣ ΠΟΛΛΑΠΛΩΝ ΧΡΗΣΕΩΝ ΣΤΟ ΓΥΜΝΑΣΙΟ - ΛΥΚΕΙΟ ΚΟΜΠΟΤΙΟ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Ν.Α. ΑΡΤ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ΚΑΤΑΣΚΕΥΗ ΣΧΟΛΙΚΟΥ ΚΕΝΤΡΟΥ ΠΑΡΑΜΥΘΙ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Ν.Α. ΘΕΣΠΡΩΤΙ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4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6600"/>
                </a:solidFill>
                <a:uFillTx/>
                <a:latin typeface="UB-Front"/>
              </a:rPr>
              <a:t>ΜΕΤΡΟ: 4.13 "Ολοκληρωμένες παρεμβάσεις μικρής κλίμακας σε τοπικές ζώνες του αγροτικού χώρου" - Πρόσκληση: 123/2005</a:t>
            </a:r>
            <a:endParaRPr b="1" lang="en-US" sz="2800" spc="-1" strike="noStrike">
              <a:solidFill>
                <a:srgbClr val="336600"/>
              </a:solidFill>
              <a:latin typeface="UB-Front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85800" y="1905120"/>
          <a:ext cx="7848360" cy="4038120"/>
        </p:xfrm>
        <a:graphic>
          <a:graphicData uri="http://schemas.openxmlformats.org/drawingml/2006/table">
            <a:tbl>
              <a:tblPr/>
              <a:tblGrid>
                <a:gridCol w="4202280"/>
                <a:gridCol w="2000160"/>
                <a:gridCol w="1645920"/>
              </a:tblGrid>
              <a:tr h="46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ΤΙΤΛΟΣ ΕΡΓΟ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ΦΟΡΕΑ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Π/Υ (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6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ΕΠΙΧΟΡΗΓΗΣΗ ΕΠΙΧΕΙΡΗΣΕΩΝ ΓΙΑ ΤΗ ΔΗΜΙΟΥΡΓΙΑ ΝΕΩΝ ΘΕΣΕΩΝ ΕΡΓΑΣΙΑΣ ΣΤΟ ΠΛΑΙΣΙΟ ΤΟΥ ΜΕΤΡΟΥ 4.13 ΣΤΗΝ ΠΕΡΙΦΕΡΕΙΑ ΗΠΕΙΡΟ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Ο.Α.Ε.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7.064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ΕΠΙΧΟΡΗΓΗΣΗ ΝΕΩΝ ΕΛΕΥΘΕΡΩΝ ΕΠΑΓΓΕΛΜΑΤΙΩΝ ΣΤΟ ΠΛΑΙΣΙΟ ΤΟΥ ΜΕΤΡΟΥ 4.13 ΣΤΗΝ ΠΕΡΙΦΕΡΕΙΑ ΗΠΕΙΡΟ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Ο.Α.Ε.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2.68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ΠΡΟΓΡΑΜΜΑ STAGE ΑΠΟΚΤΗΣΗΣ ΕΡΓΑΣΙΑΚΗΣ ΕΜΠΕΙΡΙΑΣ ΑΝΕΡΓΩΝ ,  ΣΤΟ ΠΛΑΙΣΙΟ ΤΟΥ ΜΕΤΡΟΥ 4.13 ΣΤΗΝ ΠΕΡΙΦΕΡΕΙΑ ΗΠΕΙΡΟ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Ο.Α.Ε.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.506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4560" y="5029200"/>
            <a:ext cx="628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ΠΡΟΤΕΙΝΟΜΕΝΑ ΕΡΓΑ ΓΙΑ ΕΝΤΑΞΗ ΣΤΟ ΠΕΠ ΗΠΕΙΡ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20760"/>
            <a:ext cx="784872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6600"/>
                </a:solidFill>
                <a:uFillTx/>
                <a:latin typeface="UB-Front"/>
              </a:rPr>
              <a:t>ΜΕΤΡΟ: 1.1 "Υποδομές Μεταφορών" Πρόσκληση: 112/2005</a:t>
            </a:r>
            <a:r>
              <a:rPr b="1" lang="en-US" sz="4400" spc="-1" strike="noStrike">
                <a:solidFill>
                  <a:srgbClr val="336600"/>
                </a:solidFill>
                <a:latin typeface="UB-Front"/>
              </a:rPr>
              <a:t> </a:t>
            </a:r>
            <a:endParaRPr b="1" lang="en-US" sz="4400" spc="-1" strike="noStrike">
              <a:solidFill>
                <a:srgbClr val="336600"/>
              </a:solidFill>
              <a:latin typeface="UB-Front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4360" y="1557360"/>
          <a:ext cx="7848360" cy="4411800"/>
        </p:xfrm>
        <a:graphic>
          <a:graphicData uri="http://schemas.openxmlformats.org/drawingml/2006/table">
            <a:tbl>
              <a:tblPr/>
              <a:tblGrid>
                <a:gridCol w="5325840"/>
                <a:gridCol w="1368360"/>
                <a:gridCol w="11541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ΤΙΤΛΟΣ ΕΡΓΟ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ΦΟΡΕΑ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Π/Υ (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ΚΑΤΑΣΚΕΥΗ ΙΣΟΠΕΔΟΥ ΚΟΜΒΟΥ ΣΤΟ Δ.Δ. ΚΛΗΜΑΤΙΑ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Δ.Δ.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ΚΑΤΑΣΚΕΥΗ ΚΟΜΒΟΥ ΚΑΝΑΛΙΟΥ, ΝΟΤΙΑ ΕΙΣΟΔΟΣ ΟΙΚΙΣΜΟΥ, ΚΟΜΒΟΥ ΔΗΜΑΡΧΕΙΟΥ, ΚΟΜΒΟΥ ΚΑΜΑΡΙΝΑΣ, ΚΟΜΒΟΥ ΑΘΛΗΤΙΚΟΥ ΚΕΝΤΡΟΥ ΕΠΙ ΤΗΣ Ε.Ο. ΕΝΤΟΣ ΟΙΚΙΣΜΟΥ ΑΡΧΑΓΓΕΛΟΥ ΚΑΙ ΚΑΝΑΛΙΟΥ ΔΗΜΟΥ ΖΑΛΟΓΓΟ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Δ.Δ.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5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ΚΟΜΒΟΙ ΔΡΟΜΟΥ ΦΙΛΙΠΠΙΑΔΑΣ ΠΡΕΒΕΖ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Δ.Δ.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ΚΑΤΑΣΚΕΥΗ ΚΟΜΒΟΥ Δ.Δ. ΜΑΥΡΟΥΔΙΟΥ ΤΟΥ Δ. ΗΓΟΥΜΕΝΙΤΣΑ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Δ.Δ.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ΣΥΝΔΕΤΗΡΙΑ ΟΔΟΣ ΜΕΤΑΞΥ ΤΗΣ Ε.Ο. ΙΩΑΝΝΙΝΩΝ ΑΡΤΗΣ (6ο ΧΛΜ) ΜΕ ΤΗΝ Ε.Ο. ΙΩΑΝΝΙΝΩΝ ΔΩΔΩΝΗΣ (ΛΑΤΟΜΕΙΑ ΠΕΔΙΝΗ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Ν.Α. ΙΩΑΝΝΙΝΩ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ΗΛΕΚΤΡΟΦΩΤΙΣΜΟΣ ΚΑΙ ΣΗΜΑΤΟΔΟΤΗΣΗ ΣΤΗΝ Ε.Ο. ΦΙΛΙΠΠΙΑΔΑΣ - ΠΡΕΒΕΖΑΣ (ΤΜΗΜΑ Δ. ΛΟΥΡΟΥ Ν. ΠΡΕΒΕΖΑ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Δ.Δ.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6600"/>
                </a:solidFill>
                <a:uFillTx/>
                <a:latin typeface="UB-Front"/>
              </a:rPr>
              <a:t>ΜΕΤΡΟ: 1.3 "Ανάπτυξη και προώθηση της καινοτομίας" - Πρόσκληση: 110/2005</a:t>
            </a:r>
            <a:endParaRPr b="1" lang="en-US" sz="2800" spc="-1" strike="noStrike">
              <a:solidFill>
                <a:srgbClr val="336600"/>
              </a:solidFill>
              <a:latin typeface="UB-Front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4360" y="1484280"/>
          <a:ext cx="7848360" cy="4765680"/>
        </p:xfrm>
        <a:graphic>
          <a:graphicData uri="http://schemas.openxmlformats.org/drawingml/2006/table">
            <a:tbl>
              <a:tblPr/>
              <a:tblGrid>
                <a:gridCol w="5182920"/>
                <a:gridCol w="1584360"/>
                <a:gridCol w="10810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ΤΙΤΛΟΣ ΕΡΓΟ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ΦΟΡΕΑ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Π/Υ (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ΚΑΤΑΓΡΑΦΗ ΨΗΦΙΟΠΟΙΗΣΗ ΚΑΙ ΕΠΙΣΤΗΜΟΝΙΚΗ ΤΕΚΜΗΡΙΩΣΗ ΤΩΝ ΠΕΤΡΙΝΩΝ ΓΕΦΥΡΙΩΝ ΤΗΣ ΗΠΕΙΡΟ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ΠΑΝΕΠΙΣΤΗΜΙΟ ΙΩΑΝΝΙΝΩ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ΣΥΛΛΟΓΗ - ΨΗΦΙΟΠΟΙΗΣΗ ΚΑΙ ΕΠΙΣΤΗΜΟΝΙΚΗ ΤΕΚΜΗΡΙΩΣΗ ΤΗΣ ΒΙΟΠΟΙΚΙΛΟΤΗΤΑΣ ΤΗΣ ΗΠΕΙΡΟ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ΠΑΝΕΠΙΣΤΗΜΙΟ ΙΩΑΝΝΙΝΩ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ΨΗΦΙΟΠΟΙΗΣΗ ΤΩΝ ΕΠΙΓΡΑΦΩΝ ΤΩΝ ΧΡΙΣΤΙΑΝΙΚΩΝ ΚΑΙ ΚΟΣΜΙΚΩΝ ΜΝΗΜΕΙΩΝ ΤΗΣ ΗΠΕΙΡΟΥ (4ος - 17ος ΑΙΩΝΑ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ΠΑΝΕΠΙΣΤΗΜΙΟ ΙΩΑΝΝΙΝΩ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ΜΟΝΤΕΛΑ ΧΩΡΟΤΑΞΙΚΗΣ, ΚΟΙΝΩΝΙΚΗΣ ΚΑΙ ΟΙΚΟΝΟΜΙΚΗΣ ΟΡΓΑΝΩΣΗΣ ΣΤΟ ΝΟΜΟ ΘΕΣΠΡΩΤΙΑΣ: ΨΗΦΙΟΠΟΙΗΣΗ, ΤΕΚΜΗΡΙΩΣΗ ΚΑΙ ΕΚΠΑΙΔΕΥΤΙΚΕΣ ΕΦΑΡΜΟΓΕ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ΚΕΝΤΡΟ ΙΣΤΟΡΙΚΩΝ ΜΕΛΕΤΩΝ ΘΕΣΠΡΩΤΙ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ΣΥΛΛΟΓΗ, ΨΗΦΙΟΠΟΙΗΣΗ, ΤΕΚΜΗΡΙΩΣΗ ΥΛΙΚΟΥ ΠΟΛΙΤΙΣΤΙΚΟΥ, ΤΟΥΡΙΣΤΙΚΟΥ, ΠΕΡΙΒΑΛΛΟΝΤΙΚΟΥ ΚΑΙ ΟΙΚΟΝΟΜΙΚΟΥ ΕΝΔΙΑΦΕΡΟΝΤΟΣ ΤΟΥ ΝΟΜΟΥ ΑΡΤΑ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Ν.Α. ΑΡΤ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ΑΠΤΥΞΗ ΨΗΦΙΑΚΟΥ ΑΡΧΕΙΟΥ ΤΗΣ ΠΟΛΙΤΙΣΤΙΚΗΣ ΚΛΗΡΟΝΟΜΙΑΣ ΤΗΣ ΘΕΣΠΡΩΤΙ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Ν.Α. ΘΕΣΠΡΩΤΙ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.1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ΑΠΤΥΞΗ ΨΗΦΙΑΚΟΥ ΑΡΧΕΙΟΥ ΥΛΙΚΟΥ ΓΙΑ ΤΟΝ ΤΟΥΡΙΣΜΟ ΚΑΙ ΤΟ ΠΕΡΙΒΑΛΛΟΝ ΤΗΣ ΘΕΣΠΡΩΤΙ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Ν.Α. ΘΕΣΠΡΩΤΙ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.1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6600"/>
                </a:solidFill>
                <a:uFillTx/>
                <a:latin typeface="UB-Front"/>
              </a:rPr>
              <a:t>ΜΕΤΡΟ: 1.3 "Ανάπτυξη και προώθηση της καινοτομίας" - Πρόσκληση: 110/2005</a:t>
            </a:r>
            <a:endParaRPr b="1" lang="en-US" sz="2800" spc="-1" strike="noStrike">
              <a:solidFill>
                <a:srgbClr val="336600"/>
              </a:solidFill>
              <a:latin typeface="UB-Front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55640" y="1557360"/>
          <a:ext cx="7848720" cy="4375080"/>
        </p:xfrm>
        <a:graphic>
          <a:graphicData uri="http://schemas.openxmlformats.org/drawingml/2006/table">
            <a:tbl>
              <a:tblPr/>
              <a:tblGrid>
                <a:gridCol w="5111640"/>
                <a:gridCol w="1441440"/>
                <a:gridCol w="1295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ΤΙΤΛΟΣ ΕΡΓΟ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ΦΟΡΕΑ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Π/Υ (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ΝΟΜΟΣ ΙΩΑΝΝΙΝΩΝ: ΑΝΑΔΕΙΞΗ ΤΩΝ ΔΥΝΑΤΟΤΗΤΩΝ ΣΥΜΒΟΛΗΣ ΣΤΗΝ ΤΟΥΡΙΣΤΙΚΗ ΑΝΑΠΤΥΞΗ ΜΕ ΤΗΝ ΑΞΙΟΠΟΙΗΣΗ ΤΟΥ ΠΟΛΙΤΙΣΜΙΚΟΥ ΑΠΟΘΕΜΑΤΟΣ ΣΕ ΣΥΝΔΥΑΣΜΟ ΜΕ ΤΙΣ ΦΥΣΙΚΕΣ ΟΜΟΡΦΙΕΣ ΤΗΣ ΠΕΡΙΟΧΗ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Ν.Α. ΙΩΑΝΝΙΝΩ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ΝΟΜΟΣ ΙΩΑΝΝΙΝΩΝ: Η ΑΡΓΥΡΟΧΡΥΣΟΧΟΪΑ - Η ΥΦΑΝΤΙΚΗ - ΟΙ ΜΑΣΤΟΡΟΙ ΤΗΣ ΠΕΤΡΑΣ ΕΚΦΡΑΣΕΙΣ ΤΕΧΝΗΣ ΣΤΗΝ ΥΠΗΡΕΣΙΑ ΤΗΣ ΤΟΥΡΙΣΤΙΚΗΣ ΑΝΑΠΤΥΞΗ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Ν.Α. ΙΩΑΝΝΙΝΩ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ΑΝΑΔΕΙΞΗ ΠΟΛΙΤΙΣΤΙΚΩΝ ΚΑΙ ΤΟΥΡΙΣΤΙΚΩΝ ΠΟΡΩΝ ΣΤΟΥΣ ΠΑΡΑΔΟΣΙΑΚΟΥΣ ΟΙΚΙΣΜΟΥΣ ΤΟΥ ΝΟΜΟΥ ΘΕΣΠΡΩΤΙ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Τ.Ε.Ι. ΗΠΕΙΡΟ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8.7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ΥΛΛΟΓΗ ΚΑΤΗΓΟΡΙΟΠΟΙΗΣΗ ΚΑΙ ΨΗΦΙΟΠΟΙΗΣΗ ΤΗΣ ΜΟΥΣΙΚΗΣ ΠΑΡΑΔΟΣΗΣ ΖΑΓΟΡΙΟ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Τ.Ε.Ι. ΗΠΕΙΡΟ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.0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ΥΛΛΟΓΗ - ΨΗΦΙΟΠΟΙΗΣΗ - ΤΕΚΜΗΡΙΩΣΗ ΘΕΜΑΤΙΚΩΝ ΣΥΛΛΟΓΩΝ ΤΟΥ ΑΡΧΑΙΟΛΟΓΙΚΟΥ ΜΟΥΣΕΙΟΥ ΙΩΑΝΝΙΝΩΝ ΚΑΙ ΣΗΜΑΝΤΙΚΩΝ ΑΡΧΑΙΟΛΟΓΙΚΩΝ ΧΩΡΩΝ ΤΗΣ ΗΠΕΙΡΟ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ΙΒ' ΕΦΟΡΕΙ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7848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l-GR" sz="2800" spc="-1" strike="noStrike" u="sng">
                <a:solidFill>
                  <a:srgbClr val="336600"/>
                </a:solidFill>
                <a:uFillTx/>
                <a:latin typeface="UB-Front"/>
              </a:rPr>
              <a:t>ΜΕΤΡΟ: 1.3 "Ανάπτυξη και προώθηση της καινοτομίας" - Πρόσκληση: 110/2005 </a:t>
            </a:r>
            <a:r>
              <a:rPr b="1" lang="en-US" sz="2800" spc="-1" strike="noStrike" u="sng">
                <a:solidFill>
                  <a:srgbClr val="336600"/>
                </a:solidFill>
                <a:uFillTx/>
                <a:latin typeface="Times New Roman"/>
              </a:rPr>
              <a:t>&amp;</a:t>
            </a:r>
            <a:r>
              <a:rPr b="1" lang="el-GR" sz="2800" spc="-1" strike="noStrike" u="sng">
                <a:solidFill>
                  <a:srgbClr val="336600"/>
                </a:solidFill>
                <a:uFillTx/>
                <a:latin typeface="UB-Front"/>
              </a:rPr>
              <a:t> 114/2005</a:t>
            </a:r>
            <a:endParaRPr b="1" lang="en-US" sz="2800" spc="-1" strike="noStrike">
              <a:solidFill>
                <a:srgbClr val="336600"/>
              </a:solidFill>
              <a:latin typeface="UB-Front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4360" y="1557360"/>
          <a:ext cx="7848360" cy="4708440"/>
        </p:xfrm>
        <a:graphic>
          <a:graphicData uri="http://schemas.openxmlformats.org/drawingml/2006/table">
            <a:tbl>
              <a:tblPr/>
              <a:tblGrid>
                <a:gridCol w="4201920"/>
                <a:gridCol w="2349720"/>
                <a:gridCol w="12967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ΤΙΤΛΟΣ ΕΡΓΟ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ΦΟΡΕΑ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Π/Υ (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ΥΛΛΟΓΗ - ΨΗΦΙΟΠΟΙΗΣΗ – ΤΕΚΜΗΡΙΩΣΗ ΠΟΛΙΤΙΣΤΙΚΩΝ ΘΕΜΑΤΙΚΩΝ ΣΥΛΛΟΓΩΝ ΤΗΣ ΕΥΡΥΤΕΡΗΣ ΠΕΡΙΟΧΗΣ ΤΗΣ ΠΡΕΒΕΖΑΣ, ΤΟΥ ΑΜΒΡΑΚΙΚΟΥ ΚΑΙ ΤΗΣ ΗΠΕΙΡΟ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ΑΡΧΑΙΟΛΟΓΙΚΟ ΙΝΣΤΙΤΟΥΤΟ ΗΠΕΙΡΩΤΙΚΩΝ ΣΠΟΥΔΩ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ΨΗΦΙΟΠΟΙΗΣΗ ΥΛΙΚΟΥ ΠΝΕΥΜΑΤΙΚΟΥ ΚΕΝΤΡΟΥ «ΤΣΑΚΑΛΩΦ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ΠΝΕΥΜΑΤΙΚΟ ΚΕΝΤΡΟ - ΠΑΝΗΠΕΙΡΩΤΙΚΟΣ ΜΟΥΣΙΚΟΣ ΣΥΛΛΟΓΟΣ «ΤΣΑΚΑΛΩΦ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ΨΗΦΙΟΠΟΙΗΣΗ, ΤΕΚΜΗΡΙΩΣΗ ΠΟΛΙΤΙΣΜΙΚΟΥ ΚΕΦΑΛΑΙΟΥ ΝΟΜΟΥ ΠΡΕΒΕΖΑΣ ΚΑΙ ΠΡΟΒΟΛΗ ΤΟΥ ΜΕΣΩ ΔΙΑΔΡΑΣΤΙΚΗΣ ΔΙΚΤΥΑΚΗΣ ΠΥΛΗ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Ν.Α. ΠΡΕΒΕΖ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ΚΑΤΑΓΡΑΦΗ, ΨΗΦΙΟΠΟΙΗΣΗ ΚΑΙ ΠΡΟΒΟΛΗ ΥΠΑΡΧΟΝΤΟΣ ΥΛΙΚΟΥ ΓΙΑ ΤΗΝ ΑΠΟΤΕΛΕΣΜΑΤΙΚΗ ΔΙΑΧΕΙΡΙΣΗ ΚΑΙ ΑΝΑΔΕΙΞΗ ΤΟΥ ΤΟΥΡΙΣΤΙΚΟΥ ΠΡΟΪΟΝΤΟΣ ΤΟΥ ΝΟΜΟΥ ΠΡΕΒΕΖ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Ν.Α. ΠΡΕΒΕΖ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ΔΙΚΤΥΟ ΣΕΙΣΜΟΓΡΑΦΙΚΩΝ ΚΑΙ ΜΕΤΕΩΡΟΛΟΓΙΚΩΝ ΣΤΑΘΜΩ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ΠΕΡΙΦΕΡΕΙΑ ΗΠΕΊΡΟ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6600"/>
                </a:solidFill>
                <a:uFillTx/>
                <a:latin typeface="UB-Front"/>
              </a:rPr>
              <a:t>ΜΕΤΡΟ: 2.1 "Αστικές υποδομές - Περιβάλλον" - Πρόσκληση: 121/2005</a:t>
            </a:r>
            <a:endParaRPr b="1" lang="en-US" sz="2800" spc="-1" strike="noStrike">
              <a:solidFill>
                <a:srgbClr val="336600"/>
              </a:solidFill>
              <a:latin typeface="UB-Front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1557360"/>
          <a:ext cx="7848720" cy="4386240"/>
        </p:xfrm>
        <a:graphic>
          <a:graphicData uri="http://schemas.openxmlformats.org/drawingml/2006/table">
            <a:tbl>
              <a:tblPr/>
              <a:tblGrid>
                <a:gridCol w="4965840"/>
                <a:gridCol w="1584360"/>
                <a:gridCol w="1298520"/>
              </a:tblGrid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ΤΙΤΛΟΣ ΕΡΓΟ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ΦΟΡΕΑ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Π/Υ (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ΔΙΑΜΟΡΦΩΣΗ ΤΑΦΡΟΥ ΑΓ. ΑΝΔΡΕ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ΔΗΜΟΣ ΠΡΕΒΕΖ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24.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ΑΝΑΠΛΑΣΗ ΠΕΖΟΔΡΟΜΩΝ ΚΕΝΤΡΟΥ ΗΓΟΥΜΕΝΙΤΣ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ΔΗΜΟΣ ΗΓΟΥΜΕΝΙΤΣ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4.9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ΠΕΖΟΔΡΟΜΗΣΗ ΔΗΜΟΤΙΚΩΝ ΟΔΩΝ ΣΤΟ ΚΕΝΤΡΟ ΠΟΛΗΣ ΑΡΤΑ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ΔΗΜΟΣ ΑΡΤΑΙΩ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ΒΕΛΤΙΩΣΗ - ΔΙΑΜΟΡΦΩΣΗ ΚΑΙ ΑΝΑΠΛΑΣΗ ΟΔΩΝ ΙΣΤΟΡΙΚΟΥ ΚΕΝΤΡΟΥ ΠΟΛΗΣ ΙΩΑΝΝΙΝΩΝ : ΑΝΕΞΑΡΤΗΣΙΑΣ - ΤΣΙΡΙΓΩΤΗ - ΚΑΝΙΓΓΟ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ΔΗΜΟΣ ΙΩΑΝΝΙΤΩ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l-GR" sz="2800" spc="-1" strike="noStrike" u="sng">
                <a:solidFill>
                  <a:srgbClr val="336600"/>
                </a:solidFill>
                <a:uFillTx/>
                <a:latin typeface="UB-Front"/>
              </a:rPr>
              <a:t>ΜΕΤΡΟ: 2.2 "Υποδομές Υγείας - Πρόνοιας - Εκπαίδευσης" - Πρόσκληση: 87/2004 </a:t>
            </a:r>
            <a:r>
              <a:rPr b="1" lang="el-GR" sz="2800" spc="-1" strike="noStrike" u="sng">
                <a:solidFill>
                  <a:srgbClr val="336600"/>
                </a:solidFill>
                <a:uFillTx/>
                <a:latin typeface="Times New Roman"/>
              </a:rPr>
              <a:t>&amp;</a:t>
            </a:r>
            <a:r>
              <a:rPr b="1" lang="el-GR" sz="2800" spc="-1" strike="noStrike" u="sng">
                <a:solidFill>
                  <a:srgbClr val="336600"/>
                </a:solidFill>
                <a:uFillTx/>
                <a:latin typeface="UB-Front"/>
              </a:rPr>
              <a:t> 128/2005</a:t>
            </a:r>
            <a:endParaRPr b="1" lang="en-US" sz="2800" spc="-1" strike="noStrike">
              <a:solidFill>
                <a:srgbClr val="336600"/>
              </a:solidFill>
              <a:latin typeface="UB-Front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85800" y="1557360"/>
          <a:ext cx="7848720" cy="4386240"/>
        </p:xfrm>
        <a:graphic>
          <a:graphicData uri="http://schemas.openxmlformats.org/drawingml/2006/table">
            <a:tbl>
              <a:tblPr/>
              <a:tblGrid>
                <a:gridCol w="4894200"/>
                <a:gridCol w="1871640"/>
                <a:gridCol w="1082880"/>
              </a:tblGrid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UB-Front"/>
                          <a:ea typeface="Arial"/>
                        </a:rPr>
                        <a:t>ΤΙΤΛΟΣ ΕΡΓΟ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UB-Front"/>
                          <a:ea typeface="Arial"/>
                        </a:rPr>
                        <a:t>ΦΟΡΕΑ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UB-Front"/>
                          <a:ea typeface="Arial"/>
                        </a:rPr>
                        <a:t>Π/Υ (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4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ΔΙΑΡΡΥΘΜΙΣΕΙΣ - ΒΕΛΤΙΩΣΕΙΣ - ΠΡΟΜΗΘΕΙΕΣ ΕΞΟΠΛΙΣΜΩΝ ΥΠΑΡΧΟΥΣΩΝ ΚΤΙΡΙΑΚΩΝ ΕΓΚΑΤΑΣΤΑΣΕΩΝ ΤΟΥ ΚΑΑΚΥ ΑΜΕΑ ΑΡΤ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Πε.Σ.Υ.Π. ΗΠΕΙΡΟ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9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ΚΑΤΑΣΚΕΥΗ ΝΕΑΣ ΠΤΕΡΥΓΑΣ Β' ΦΟΙΤΗΤΙΚΗΣ ΕΣΤΙΑΣ ΠΑΝΕΠΙΣΤΗΜΙΟΥ ΙΩΑΝΝΙΝΩ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ΠΑΝΕΠΙΣΤΗΜΙΟ ΙΩΑΝΝΙΝΩ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2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ΕΞΟΠΛΙΣΜΟΣ ΑΚΑΔΗΜΙΑΣ ΕΜΠΟΡΙΚΟΥ ΝΑΥΤΙΚΟ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ΥΠΟΥΡΓΕΙΟ ΕΜΠΟΡΙΚΗΣ ΝΑΥΤΙΛΙ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6600"/>
                </a:solidFill>
                <a:uFillTx/>
                <a:latin typeface="UB-Front"/>
              </a:rPr>
              <a:t>ΜΕΤΡΟ: 2.4 "Ολοκληρωμένες παρεμβάσεις αστικής ανάπτυξης σε τοπικές ζώνες μικρής κλίμακας - ΕΚΤ" - Πρόσκληση: 123/2005</a:t>
            </a:r>
            <a:endParaRPr b="1" lang="en-US" sz="2800" spc="-1" strike="noStrike">
              <a:solidFill>
                <a:srgbClr val="336600"/>
              </a:solidFill>
              <a:latin typeface="UB-Front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5800" y="1905120"/>
          <a:ext cx="7848720" cy="4038480"/>
        </p:xfrm>
        <a:graphic>
          <a:graphicData uri="http://schemas.openxmlformats.org/drawingml/2006/table">
            <a:tbl>
              <a:tblPr/>
              <a:tblGrid>
                <a:gridCol w="4202280"/>
                <a:gridCol w="2000160"/>
                <a:gridCol w="1646280"/>
              </a:tblGrid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UB-Front"/>
                          <a:ea typeface="Arial"/>
                        </a:rPr>
                        <a:t>ΤΙΤΛΟΣ ΕΡΓΟ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UB-Front"/>
                          <a:ea typeface="Arial"/>
                        </a:rPr>
                        <a:t>ΦΟΡΕΑ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UB-Front"/>
                          <a:ea typeface="Arial"/>
                        </a:rPr>
                        <a:t>Π/Υ (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65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ΠΙΧΟΡΗΓΗΣΗ ΕΠΙΧΕΙΡΗΣΕΩΝ ΓΙΑ ΤΗ ΔΗΜΙΟΥΡΓΙΑ ΝΕΩΝ ΘΕΣΕΩΝ ΕΡΓΑΣΙΑΣ ΣΤΟ ΠΛΑΙΣΙΟ ΤΟΥ ΜΕΤΡΟΥ 2.4 ΣΤΗΝ ΠΕΡΙΦΕΡΕΙΑ ΗΠΕΙΡΟ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Ο.Α.Ε.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1.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ΠΙΧΟΡΗΓΗΣΗ ΝΕΩΝ ΕΛΕΥΘΕΡΩΝ ΕΠΑΓΓΕΛΜΑΤΙΩΝ ΣΤΟ ΠΛΑΙΣΙΟ ΤΟΥ ΜΕΤΡΟΥ  2.4  ΣΤΗΝ ΠΕΡΙΦΕΡΕΙΑ ΗΠΕΙΡΟ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Ο.Α.Ε.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4.9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5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ΠΡΟΓΡΑΜΜΑ STAGE ΑΠΟΚΤΗΣΗΣ ΕΡΓΑΣΙΑΚΗΣ ΕΜΠΕΙΡΙΑΣ ΑΝΕΡΓΩΝ ,  ΣΤΟ ΠΛΑΙΣΙΟ ΤΟΥ ΜΕΤΡΟΥ  2.4 ΣΤΗΝ ΠΕΡΙΦΕΡΕΙΑ ΗΠΕΙΡΟ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Ο.Α.Ε.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.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6600"/>
                </a:solidFill>
                <a:uFillTx/>
                <a:latin typeface="UB-Front"/>
              </a:rPr>
              <a:t>ΜΕΤΡΟ: 3.1 "Προστασία και ανάδειξη του φυσικού περιβάλλοντος" - Πρόσκληση: 104/2004 </a:t>
            </a:r>
            <a:r>
              <a:rPr b="1" lang="en-US" sz="2800" spc="-1" strike="noStrike" u="sng">
                <a:solidFill>
                  <a:srgbClr val="336600"/>
                </a:solidFill>
                <a:uFillTx/>
                <a:latin typeface="Times New Roman"/>
              </a:rPr>
              <a:t>&amp;</a:t>
            </a:r>
            <a:r>
              <a:rPr b="1" lang="en-US" sz="2800" spc="-1" strike="noStrike" u="sng">
                <a:solidFill>
                  <a:srgbClr val="336600"/>
                </a:solidFill>
                <a:uFillTx/>
                <a:latin typeface="UB-Front"/>
              </a:rPr>
              <a:t> 125/2005</a:t>
            </a:r>
            <a:endParaRPr b="1" lang="en-US" sz="2800" spc="-1" strike="noStrike">
              <a:solidFill>
                <a:srgbClr val="336600"/>
              </a:solidFill>
              <a:latin typeface="UB-Front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55640" y="1700280"/>
          <a:ext cx="7848720" cy="4105080"/>
        </p:xfrm>
        <a:graphic>
          <a:graphicData uri="http://schemas.openxmlformats.org/drawingml/2006/table">
            <a:tbl>
              <a:tblPr/>
              <a:tblGrid>
                <a:gridCol w="4321080"/>
                <a:gridCol w="2303640"/>
                <a:gridCol w="12240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UB-Front"/>
                          <a:ea typeface="Arial"/>
                        </a:rPr>
                        <a:t>ΤΙΤΛΟΣ ΕΡΓΟ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UB-Front"/>
                          <a:ea typeface="Arial"/>
                        </a:rPr>
                        <a:t>ΦΟΡΕΑ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UB-Front"/>
                          <a:ea typeface="Arial"/>
                        </a:rPr>
                        <a:t>Π/Υ (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ΕΡΓΑΣΙΕΣ ΔΙΕΥΘΕΤΗΣΗΣ ΧΥΤΑ ΗΓΟΥΜΕΝΙΤΣ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ΔΗΜΟΣ ΗΓΟΥΜΕΝΙΤΣ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8.344,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ΒΕΛΤΙΩΤΙΚΕΣ ΠΑΡΕΜΒΑΣΕΙΣ ΧΥΤΑ 3ης ΔΙΑΧΕΙΡΙΣΤΙΚΗΣ ΕΝΟΤΗΤΑΣ ΠΕΡΙΦΕΡΕΙΑΣ ΗΠΕΙΡΟ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ΥΝΔΕΣΜΟΣ ΔΙΑΧΕΙΡΙΣΗΣ ΑΠΟΡΡΙΜΜΑΤΩΝ ΠΕΔΙΝΗΣ ΚΑΙ ΗΜΙΟΡΕΙΝΗΣ ΠΕΡΙΟΧΗΣ ΝΟΜΟΥ ΑΡΤΑ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492.57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ΚΑΤΑΣΚΕΥΗ ΑΠΟΧΕΤΕΥΣΗΣ ΑΚΑΘΑΡΤΩΝ ΥΔΑΤΩΝ ΔΗΜΟΥ ΑΝΑΤΟΛΗ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ΔΗΜΟΣ ΑΝΑΤΟΛΗ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00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ΑΠΟΧΕΤΕΥΣΗ ΑΚΑΘΑΡΤΩΝ ΠΕΡΙΟΧΗΣ ΕΠΕΚΤΑΣΗΣ Ρ.Σ. ΑΝΑΤΟΛΗΣ ΙΩΑΝΝΙΝΩΝ ΜΕ ΑΠΟΡΡΟΗ ΣΤΗΝ ΟΔΟ Γ΄ ΣΕΠΤΕΜΒΡΙΟ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ΔΗΜΟΣ ΑΝΑΤΟΛΗ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00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ΕΠΕΚΤΑΣΗ ΑΝΑΒΑΘΜΙΣΗ ΚΑΙ ΕΚΣΥΓΧΡΟΝΙΣΜΟΣ ΣΥΣΤΗΜΑΤΩΝ ΑΠΟΧΕΤΕΥΣΗΣ ΠΟΛΗΣ ΙΩΑΝΝΙΝΩΝ ΜΕ ΕΜΦΑΣΗ ΣΤΗΝ ΠΑΡΑΛΙΜΝΙΑ ΖΩΝ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Δ.Ε.Υ.Α. ΙΩΑΝΝΙΝΩ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10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4T11:39:22Z</dcterms:created>
  <dc:creator>nikobalt</dc:creator>
  <dc:description/>
  <dc:language>en-US</dc:language>
  <cp:lastModifiedBy>evipapan</cp:lastModifiedBy>
  <dcterms:modified xsi:type="dcterms:W3CDTF">2005-06-06T10:09:25Z</dcterms:modified>
  <cp:revision>257</cp:revision>
  <dc:subject/>
  <dc:title>Παρουσίαση του PowerPoint</dc:title>
</cp:coreProperties>
</file>