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835-C82C-48E6-9D48-67B3C22B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567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4130640"/>
            <a:ext cx="7567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491-73DA-444E-AD85-A17952C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413064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0480" y="413064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4D8-FACB-4967-BF34-57FB5AC4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01080" y="198108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9960" y="198108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413064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01080" y="413064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9960" y="413064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06B-0D0C-4016-89CE-3A5F1C12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9809-C66A-4622-870F-D590B14F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1981080"/>
            <a:ext cx="756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63B1-883E-483C-91B4-E87F79E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567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845-708E-41B4-B6C5-893083C4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A307-7626-4A9C-8784-685EFCB5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65A5-5B79-431B-A7D8-52590644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76448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81BE-4785-47D4-9B4E-FE971F4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413064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4A25-DB45-42A7-8B11-715C46C2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1981080"/>
            <a:ext cx="756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4A4-CBD3-4BFE-BBDB-D8050CF3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0480" y="413064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7A66-176E-475A-B454-E645D152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560" y="4130640"/>
            <a:ext cx="7567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7815-A963-4F55-9028-5045061C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567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560" y="4130640"/>
            <a:ext cx="7567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0945-475D-4240-9C97-40964B9E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560" y="413064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0480" y="413064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96D3-FD26-40DC-BB7E-0B44A057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01080" y="198108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9960" y="198108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560" y="413064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01080" y="413064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9960" y="4130640"/>
            <a:ext cx="243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1426-ABB8-4177-9F63-B7D427FE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567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ED1-2AAB-4017-8F43-212A1D0F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C2F-424E-4887-B87D-36E8FBCC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05D-92BC-43A4-9237-72E21BB5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76448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879-EADB-496F-BA64-458AE3E3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413064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E7A-9DFF-418A-85CC-82926BB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0480" y="413064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743-E499-4F50-96AF-C488DEF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0480" y="1981080"/>
            <a:ext cx="369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4130640"/>
            <a:ext cx="7567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B61-FCC7-444C-B353-9F10150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%20artwork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06440" y="163440"/>
            <a:ext cx="6529320" cy="652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1981080"/>
            <a:ext cx="7567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9E14-0BA8-44C0-BFE5-D6058F16638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0013-2266-4504-B8E8-920E8BBB097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0" y="170820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432400" y="1706400"/>
            <a:ext cx="1428840" cy="3435480"/>
            <a:chOff x="5432400" y="1706400"/>
            <a:chExt cx="1428840" cy="34354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432400" y="1706400"/>
              <a:ext cx="1428840" cy="34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5432400" y="1706400"/>
              <a:ext cx="1428840" cy="343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00480" y="4070520"/>
            <a:ext cx="3011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CA16-EB12-40D2-B5A0-68DE46FABFF7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914400" y="495360"/>
          <a:ext cx="6858000" cy="53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95360"/>
                    <a:ext cx="685800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B70-D4BD-4653-A98A-3DDBF4E5550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8680" y="685800"/>
            <a:ext cx="7845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Οι δημιουργούμενες νέες θέσεις εργασίας από </a:t>
            </a:r>
            <a:br>
              <a:rPr sz="2800"/>
            </a:br>
            <a:r>
              <a:rPr b="1" lang="el-GR" sz="2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τις δράσεις προώθησης στην απασχόληση μέσω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του</a:t>
            </a:r>
            <a:r>
              <a:rPr b="1" lang="el-GR" sz="4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 Ο.Α.Ε.Δ </a:t>
            </a:r>
            <a:br>
              <a:rPr sz="4800"/>
            </a:br>
            <a:br>
              <a:rPr sz="4800"/>
            </a:br>
            <a:r>
              <a:rPr b="1" lang="el-GR" sz="4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(ΝΘΕ) </a:t>
            </a:r>
            <a:r>
              <a:rPr b="1" lang="el-GR" sz="4800" spc="-1" strike="noStrike">
                <a:solidFill>
                  <a:srgbClr val="ff9966"/>
                </a:solidFill>
                <a:latin typeface="Arial Narrow"/>
              </a:rPr>
              <a:t>-</a:t>
            </a:r>
            <a:r>
              <a:rPr b="1" lang="el-GR" sz="4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 (ΝΕΕ) – (</a:t>
            </a:r>
            <a:r>
              <a:rPr b="1" lang="en-US" sz="4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STAGE</a:t>
            </a:r>
            <a:r>
              <a:rPr b="1" lang="el-GR" sz="4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)</a:t>
            </a:r>
            <a:r>
              <a:rPr b="1" lang="el-GR" sz="4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2D7-615A-432E-8327-68DDA881B7C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96760" y="609480"/>
          <a:ext cx="7348680" cy="517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6760" y="609480"/>
                    <a:ext cx="734868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ED6-9382-4A3B-8456-F27D0066D8EE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28480" y="685800"/>
          <a:ext cx="8087040" cy="495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685800"/>
                    <a:ext cx="808704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B9C-D017-4B4D-8AAF-28ACD0036E5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0" y="170820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432400" y="1706400"/>
            <a:ext cx="1428840" cy="3435480"/>
            <a:chOff x="5432400" y="1706400"/>
            <a:chExt cx="1428840" cy="343548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5432400" y="1706400"/>
              <a:ext cx="1428840" cy="34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432400" y="1706400"/>
              <a:ext cx="1428840" cy="343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00480" y="4070520"/>
            <a:ext cx="3011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3AA4-B202-4542-9D05-5D4AFA5FE897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028880" y="609480"/>
          <a:ext cx="7086600" cy="249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609480"/>
                    <a:ext cx="7086600" cy="24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676520" y="3276720"/>
          <a:ext cx="5933880" cy="2420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276720"/>
                    <a:ext cx="593388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FA2-16ED-461D-AF94-B9D32D202971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80880" y="1600200"/>
          <a:ext cx="8382240" cy="310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838224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166-6E45-429A-82C7-9C9FD89919F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A9E-91B0-46B3-8F4E-8FD88A7CDA1A}" type="slidenum">
              <a:t>17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36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ΙΔΙΚΗ ΥΠΗΡΕΣΙΑ ΔΙΑΧΕΙΡΙΣ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ΠΕΠ ΗΠΕΙΡΟ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 Narrow"/>
              </a:rPr>
              <a:t>ΠΕΡΙΦΕΡΕΙΑΚΟ ΕΠΙΧΕΙΡΗΣΙΑΚΟ ΠΡΟΓΡΑΜΜΑ ΗΠΕΙΡΟΥ 2000 - 2006</a:t>
            </a:r>
            <a:endParaRPr b="1" lang="en-US" sz="2000" spc="-1" strike="noStrike">
              <a:solidFill>
                <a:srgbClr val="ff9966"/>
              </a:solidFill>
              <a:latin typeface="Arial Narrow"/>
            </a:endParaRPr>
          </a:p>
        </p:txBody>
      </p:sp>
      <p:pic>
        <p:nvPicPr>
          <p:cNvPr id="92" name="Greek%20Flag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1420920" cy="898560"/>
          </a:xfrm>
          <a:prstGeom prst="rect">
            <a:avLst/>
          </a:prstGeom>
          <a:ln w="0">
            <a:noFill/>
          </a:ln>
        </p:spPr>
      </p:pic>
      <p:pic>
        <p:nvPicPr>
          <p:cNvPr id="93" name="eok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328760" cy="898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562720" y="6095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ΥΡΩΠΑΪΚΟ ΚΟΙΝΩΝΙΚΟ ΤΑΜ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93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5029200"/>
          <a:ext cx="210492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029200"/>
                    <a:ext cx="2104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486080" y="1371600"/>
            <a:ext cx="6172200" cy="32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ΑΣΧΟΛΗΣΗ ΣΤΑ ΜΕΤΡΑ  ΤΟ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υρωπαϊκού Κοινωνικού Ταμείου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ΕΚΤ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Ο ΠΛΑΙΣΙΟ ΤΟΥ ΠΕΠ ΗΠΕΙΡΟΥ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EBAA-6CFD-4863-8B51-90FA4175BA3B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64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9966"/>
                </a:solidFill>
                <a:latin typeface="Arial Narrow"/>
              </a:rPr>
              <a:t>ΤΟ ΕΚΤ ΣΤΟ ΠΕΠ ΗΠΕΙΡΟΥ</a:t>
            </a: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67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319040" y="1371600"/>
          <a:ext cx="6505920" cy="16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9040" y="1371600"/>
                    <a:ext cx="65059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319040" y="3657600"/>
          <a:ext cx="6505920" cy="2009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9040" y="3657600"/>
                    <a:ext cx="65059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902-0C8A-4186-B9CF-8A0D5C71659C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9966"/>
                </a:solidFill>
                <a:latin typeface="Arial Narrow"/>
              </a:rPr>
              <a:t>ΤΟ ΕΚΤ ΣΤΟ ΠΕΠ ΗΠΕΙΡΟΥ</a:t>
            </a: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ΟΛΙΚΟΣ ΠΡΟΥΠΟΛΟΓΙΣΜ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43.867.078 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ΟΣΟΣΤΟ ΔΗΜΟΣΙΑΣ ΔΑΠΑΝΗΣ ΤΟΥ ΠΕΠ ΗΠΕΙΡ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6,8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64A-1703-427C-84F1-7EF3A71DA7FD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κύριες κατηγορ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ράξεων</a:t>
            </a:r>
            <a:endParaRPr b="1" lang="en-US" sz="32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44792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ομές Κοινωνικών Υπηρεσιών ( «Βοήθεια Στο Σπίτι», Κέντρα Δημιουργικής Απασχόλησης Παιδιών (ΚΔΑΠ) ΚΔΑΠ ΜΕΑ,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09480" y="293364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άρτι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4290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ράσεις Κατάρτισης, Συμβουλευτικών Υπηρεσιών και Προώθησης στην απασχόληση στα πλαίσια Ολοκληρωμένων Παρεμβάσε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A21-9602-4F05-83C1-8422FA9A179F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64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ΟΣΤΟΛΗ ΤΟΥ ΕΚΤ</a:t>
            </a:r>
            <a:endParaRPr b="1" lang="en-US" sz="32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66680" y="16765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Η συμβολή στην ανάπτυξη της απασχόληση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χάρη στην προώθηση της απασχολησιμότητα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του επιχειρηματικού πνεύματο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της ικανότητας προσαρμογή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και της ισότητας των ευκαιριώ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καθώς και επένδυση στους ανθρώπινους πόρου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D00-AEFC-42AF-ACAE-B8CA8444D49A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64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ΜΕΣΗ</a:t>
            </a:r>
            <a:endParaRPr b="1" lang="en-US" sz="32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066680" y="16765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σμετρώντα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 νέες θέσεις απασχόλησης που μπορούν να υπολογιστούν επακριβώς κατά την υλοποίηση των επιμέρους δράσεω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πως οι απασχολούμενοι στις Δομές Κοινωνικών Υπηρεσιών (προγράμματα Βοήθεια στο Σπίτι, Κέντρα Δημιουργικής Απασχόλησης Παιδιών, Παιδικοί Σταθμοί κ.λ.π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οι νέες θέσεις απασχόλησης που προκύπτουν από τις δράσεις προώθησης στην απασχόληση μέσω του Ο.Α.Ε.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8C6-0916-47AF-9686-8BB68FA2E4B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64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ΜΜΕΣΗ</a:t>
            </a:r>
            <a:endParaRPr b="1" lang="en-US" sz="32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066680" y="167652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φορά την απασχόληση που δημιουργείται έμμεσα από την υλοποίηση των επιμέρους δράσεων, όπως οι γυναίκες που διευκολύνονται, μέσω της λειτουργίας των  Δομών Κοινωνικών Υπηρεσιών, να βρούν εργασία , οι καταρτισθέντες άνεργοι που λόγω της κατάρτισης εξασφαλίζουν μία θέση εργασίας καθώς και η απασχόληση που εκτιμάται ότι δημιουργείται από την υλοποίηση δράσεων όπως η Συμβουλευτική-Δημοσιότητα – Δικτύωση αλλά δεν μπορεί με ακρίβεια να υπολογιστε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426-89B1-49F0-BC0E-499C98283F2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8680" y="990360"/>
            <a:ext cx="7845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9966"/>
                </a:solidFill>
                <a:latin typeface="Arial Narrow"/>
                <a:ea typeface="Times New Roman"/>
              </a:rPr>
              <a:t>Οι δημιουργούμενες νέες θέσεις εργασίας από την λειτουργία των </a:t>
            </a:r>
            <a:br>
              <a:rPr sz="4800"/>
            </a:br>
            <a:br>
              <a:rPr sz="4800"/>
            </a:br>
            <a:r>
              <a:rPr b="1" lang="el-GR" sz="4800" spc="-1" strike="noStrike" u="sng">
                <a:solidFill>
                  <a:srgbClr val="ff9966"/>
                </a:solidFill>
                <a:uFillTx/>
                <a:latin typeface="Arial Narrow"/>
                <a:ea typeface="Times New Roman"/>
              </a:rPr>
              <a:t>προγραμμάτων  Δομών </a:t>
            </a:r>
            <a:br>
              <a:rPr sz="4800"/>
            </a:br>
            <a:br>
              <a:rPr sz="4800"/>
            </a:br>
            <a:r>
              <a:rPr b="1" lang="el-GR" sz="4800" spc="-1" strike="noStrike" u="sng">
                <a:solidFill>
                  <a:srgbClr val="ff9966"/>
                </a:solidFill>
                <a:uFillTx/>
                <a:latin typeface="Arial Narrow"/>
                <a:ea typeface="Times New Roman"/>
              </a:rPr>
              <a:t>Κοινωνικών Υπηρεσιών</a:t>
            </a:r>
            <a:r>
              <a:rPr b="1" lang="el-GR" sz="4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9966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BC9-3B23-486C-876E-C6E3DB8A9782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ipapan</cp:lastModifiedBy>
  <dcterms:modified xsi:type="dcterms:W3CDTF">2005-06-06T10:18:10Z</dcterms:modified>
  <cp:revision>78</cp:revision>
  <dc:subject/>
  <dc:title>Παρουσίαση του PowerPoint</dc:title>
</cp:coreProperties>
</file>