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82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62000" y="-360"/>
            <a:ext cx="28782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76240" y="779040"/>
            <a:ext cx="4889520" cy="366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885960" y="4681440"/>
            <a:ext cx="48686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38840"/>
            <a:ext cx="28782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762000" y="9438840"/>
            <a:ext cx="28782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D8D9-0059-4CC0-83C1-AAFC68992325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76240" y="77940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5960" y="4681440"/>
            <a:ext cx="48686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Οι παραπάνω στόχοι θα υλοποιηθούν  με τις ακόλουθες κατηγορίες παρεμβάσεων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1. Κοινωνικές υποδομές και υπηρεσίε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 και ειδικότερα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Αναβάθμιση υποδομών και εξοπλισμών για τη βελτίωση της ποιότητας της εκπαίδευσης και της έρευνας στην Τριτοβάθμια εκπαίδευσ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Ενίσχυση και Δημιουργία Υποδομών    πρωτοβάθμιας και δευτεροβάθμιας εκπαίδευση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Εργαστήρια και βιβλιοθήκες των σχολείω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Υποδομές σχολείων εκπαίδευσης ενηλίκων, σχολείων γονέων και σχολείων Β/ευκαιρία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76240" y="77940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85960" y="4681440"/>
            <a:ext cx="48686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με κατηγορίες παρεμβάσεων στην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2. Υγεία και κοινωνική αλληλεγγύ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που αφορού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Συμπλήρωση και  εκσυγχρονισμό  υποδομών  νέων  νοσοκομείων,  ειδικών μονάδων και εξειδικευμένος εξοπλισμός αυτώ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Υποδομές δομών κοινωνικής φροντίδα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Ενίσχυση δομών πρωτοβάθμιας υγεία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76240" y="77940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885960" y="4681440"/>
            <a:ext cx="48686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200" spc="-1" strike="noStrike" u="sng">
                <a:solidFill>
                  <a:srgbClr val="000000"/>
                </a:solidFill>
                <a:uFillTx/>
                <a:latin typeface="Times New Roman"/>
              </a:rPr>
              <a:t> </a:t>
            </a:r>
            <a:r>
              <a:rPr b="0" i="1" lang="el-GR" sz="1200" spc="-1" strike="noStrike" u="sng">
                <a:solidFill>
                  <a:srgbClr val="000000"/>
                </a:solidFill>
                <a:uFillTx/>
                <a:latin typeface="Times New Roman"/>
              </a:rPr>
              <a:t>3. Με Παρεμβάσεις περιβάλλοντος τοπικής κλίμακας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     και ειδικότερα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Έργα διαχείρισης στερεών και επικινδύνων αποβλήτων – Έργα διαχείρισης υγρών αποβλήτω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ποκατάσταση μολυσμένης γης (ΧΑΔΑ κλπ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Ορθολογική διαχείριση υδατικών πόρων- Διαχείριση και διανομή νερού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Διαχείριση φυσικού περιβάλλοντος – Κατάρτιση και εφαρμογή σχεδίων ολοκληρωμένης διαχείρισης προστατευόμενων περιοχών και οικοσυστημάτων- Περιοχέ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φαρμογή σχεδίων και μέτρων για την διατήρηση της κατάστασης του περιβάλλοντος  και την πρόληψη κινδύνω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Δράσεις στο δομημένο περιβάλλον – Χωροταξία – Πολεοδομί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76240" y="77940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5960" y="4681440"/>
            <a:ext cx="48686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4. Με Παρεμβάσεις πολιτισμού  που θα αφορού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Την Προστασία και ανάδειξη της πολιτιστικής κληρονομιάς  και την  ανάπτυξη πολιτιστικών υποδομών και υπηρεσιών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Την Ανάπτυξη σύγχρονου πολιτισμού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Την Ενοποίηση αρχαιολογικών χώρων –Δημιουργία πολιτιστικών διαδρομώ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76240" y="77940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85960" y="4681440"/>
            <a:ext cx="48686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5. Με Παρεμβάσεις τουριστικής ανάπτυξης περιοχώ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Όπω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αναπλάσεις τουριστικών περιοχώ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προστασία και ανάπτυξη φυσικού περιβάλλοντος με σκοπό την τουριστική αξιοποίησ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υποδομές τουρισμού με σκοπό την βελτίωση των παρεχόμενων  υπηρεσιών σε θέσεις - περιοχές τουριστικού ενδιαφέροντο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76240" y="78120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367920" y="4519440"/>
            <a:ext cx="6048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900" spc="-1" strike="noStrike" u="sng">
                <a:solidFill>
                  <a:srgbClr val="000000"/>
                </a:solidFill>
                <a:uFillTx/>
                <a:latin typeface="Times New Roman"/>
              </a:rPr>
              <a:t>Με Ολοκληρωμένες παρεμβάσεις  αστικής και αγροτικής αναγέννησης. Οι παρεμβάσεις αυτές μπορεί να αποτελέσουν μέρος του άξονα 3 για την  ποιότητας ζωής ή  έναν ξεχωριστό άξονα. Αυτό θα αποφασιστεί με βάση τις οδηγίες του ΥΠΟΙΟ μέχρι την ημερομηνία υποβολής του προγράμματος στις 15/Σεπτεμβρίο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</a:rPr>
              <a:t>ΤΑ ΟΛΟΚΛΗΡΩΜΕΝΑ ΠΡΟΓΡΑΜΜΑΤΑ ΑΣΤΙΚΗΣ ΚΑΙ ΑΓΡΟΤΙΚΗΣ ΑΝΑΓΕΝΝΗΣΗΣ θα αφορούν </a:t>
            </a: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Περιοχές που έχουν την δυνατότητα να  δημιουργήσουν ένα πρότυπο πολυαπασχόλησης και διασύνδεσης των διαφόρων τομέων μεταξύ τους, σε συνδυασμό με παρεμβάσεις βελτίωσης της ποιότητας ζωής και της επιχειρηματικότητας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Στο πλαίσιο αυτό, θα πρέπει να εκπονηθούν 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</a:rPr>
              <a:t>καινοτομικά Ολοκληρωμένα Προγράμματα ,</a:t>
            </a: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Τα οποία θα πρέπει να εστιάζονται στις ακόλουθες 2 προτεραιότητες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 • </a:t>
            </a: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ανάπτυξη γεωγραφικά μειονεκτικών περιοχών (ορεινών, γεωργικών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ανάπτυξη αστικών περιοχών με συγκεκριμένα χαρακτηριστικά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 u="sng">
                <a:solidFill>
                  <a:srgbClr val="000000"/>
                </a:solidFill>
                <a:uFillTx/>
                <a:latin typeface="Times New Roman"/>
              </a:rPr>
              <a:t>Για την επίτευξη των στόχων των ολοκληρωμένων παρεμβάσεων  θα υλοποιηθούν έργα δημόσιου και ιδιωτικού χαρακτήρα, με έμφαση σε καινοτόμα έργα και δράσεις που θα ενσωματώνουν την περιβαλλοντική διάσταση, όπως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Δράσεις που αφορούν τη βελτίωση της ποιότητας ζωής των κατοίκων (προσβασιμότητα , πρόνοια, περιβάλλον, υποδομές πρόσβασης ΑΜΕΑ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Δράσεις που συμβάλλουν στην ανάπτυξη εναλλακτικών μορφών τουρισμού (υποδομές πολιτισμού – τουρισμού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Δημιουργία και ενίσχυση νέων μορφών και υπηρεσιών σε τοπικό επίπεδο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Λειτουργία εργαστηρίων καινοτομικής παραγωγή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Υπηρεσίες προς Μ.Μ.Ε., όπως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Παροχή συμβουλών για τεχνολογικές εφαρμογέ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Μεταφορά ερευνητικών αποτελεσμάτων προς επιχειρήσει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Διαχείριση χώρων παραγωγής-περιβαλλοντική συμμόρφωσ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Κατάρτιση εργατικού δυναμικού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Υιοθέτηση προτύπων διαχείρισης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Χρησιμοποίηση Εφαρμογών Τεχνολογίας Πληροφοριών (ΕΤΠ)– Ηλεκτρονικό εμπόριο-Δημιουργία ηλεκτρονικών αγορών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Περιβαλλοντικές δράσεις (χρήση εναλλακτικών πηγών ενέργειας, βιοκλιματικός σχεδιασμός, εξοικονόμηση ενέργειας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Χρήση της ΕΤΠ στην παραγωγική διαδικασία στα ζητήματα περιβάλλοντος και στη Διοίκησ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76240" y="77940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5960" y="4681440"/>
            <a:ext cx="48686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Οι παρεμβάσεις του άξονα 3 θα αφορούν το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Πληθυσμό των  αστικών και αγροτικών περιοχών, δηλ το σύνολο της Περιφέρεια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Οι βασικοί δείκτες με τους οποίους θα μετρηθεί η επίτευξη των στόχων του Άξονα, είνα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Αίθουσες διδασκαλίας ανά βαθμίδα εκπαίδευσ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Σχέδια διαχείρισης προστατευόμενων περιοχών και παρεμβάσε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Ανάπλαση και αναβάθμιση φυσικού περιβάλλοντο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Αναπλάσεις δομημένου περιβάλλοντο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Προστατευόμενα μνημεία ή αρχαιολογικοί  χώρο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Υποδομές πολιτισμού που δημιουργήθηκαν ή αναβαθμίστηκα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Παρεμβάσεις σε τουριστικές περιοχέ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Αριθμός σχεδίων ολοκληρωμένων προγραμμάτων αστικής και αγροτικής ανάπτυξ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76240" y="77940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85960" y="4681440"/>
            <a:ext cx="48686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Για την περίπτωση όπου οι ολοκληρωμένες παρεμβάσεις αποτελέσουν ξεχωριστό άξονα τότε το χρηματοδοτικό σχήμα του άξονα 3 διαμορφώνεται ως εξή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76240" y="77940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85960" y="4681440"/>
            <a:ext cx="48686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Το χρηματοδοτικό σχήμα του άξονα </a:t>
            </a: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Ολοκληρωμένα προγράμματα αστικής &amp; αγροτικής αναγέννησης 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διαμορφώνεται ως εξή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76240" y="77940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85960" y="4681440"/>
            <a:ext cx="48686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Ο Άξονας προτεραιότητας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1200" spc="-1" strike="noStrike" u="sng">
                <a:solidFill>
                  <a:srgbClr val="3333cc"/>
                </a:solidFill>
                <a:uFillTx/>
                <a:latin typeface="Times New Roman"/>
              </a:rPr>
              <a:t>Ψηφιακή σύγκλιση &amp; επιχειρηματικότητα</a:t>
            </a:r>
            <a:r>
              <a:rPr b="1" i="1" lang="el-GR" sz="12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περιλαμβάνει  κατηγορίες παρεμβάσεων  που  αναμένεται να βελτιώσουν την περιφερειακή ανταγωνιστικότητα, μέσω προώθησης της ψηφιακής σύγκλισης και  βελτίωσης της παραγωγικότητας των επιχειρήσεων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ια την επίτευξη του στόχου απαιτείται πέραν της  κλασσικής μεθόδου υποστήριξης της επιχειρηματικής πρωτοβουλίας  μέσω επενδυτικών κινήτρων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η υιοθέτηση και αξιοποίηση των Εφαρμογών Τεχνολογίας Πληροφοριώ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ΤΠ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από τις επιχειρήσεις 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σε συνδυασμό με την ανάπτυξη και εισαγωγή  επιχειρηματικών καινοτομιών στη παραγωγική διαδικασία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76240" y="77940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5960" y="4681440"/>
            <a:ext cx="48686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Ο   Άξονας </a:t>
            </a: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προτεραιότητας 4: Τεχνική υποστήριξη εφαρμογής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αφορά στην υλοποίηση παρεμβάσεων για την υποστήριξη της αποτελεσματικής εφαρμογής του Επιχειρησιακού Προγράμματος , μέσω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Υποστήριξης  τελικών δικαιούχω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Εκπόνησης μελετώ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Δημοσιότητα του Προγράμματο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Οι παρεμβάσεις του άξονα θα υποστηρίζουν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τους Τελικούς Δικαιούχους του προγράμματος, και τις Υπηρεσίες της Περιφέρεια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Οι βασικοί δείκτες μέσω των οποίων θα μετρηθεί η επίτευξη των στόχων του Άξονα, είναι  ενδεικτικ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Μελέτες – Εμπειρογνωμοσύνε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Ενέργειες Ενημέρωσ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Εκθέσεις Αξιολόγησ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Ενέργειες  Τεχνικής Υποστήριξ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Ενέργειες δημοσιότητα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76240" y="77940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85960" y="4681440"/>
            <a:ext cx="48686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Times New Roman"/>
              </a:rPr>
              <a:t>Χρηματοδότηση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Times New Roman"/>
              </a:rPr>
              <a:t>Συνολικό κόστος 6.240.000 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Times New Roman"/>
              </a:rPr>
              <a:t>Συνολική δημόσια δαπάνη   6.24</a:t>
            </a:r>
            <a:r>
              <a:rPr b="1" i="1" lang="fr-FR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l-GR" sz="1200" spc="-1" strike="noStrike">
                <a:solidFill>
                  <a:srgbClr val="000000"/>
                </a:solidFill>
                <a:latin typeface="Times New Roman"/>
              </a:rPr>
              <a:t>.000 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Times New Roman"/>
              </a:rPr>
              <a:t>Εθνική συμμετοχή  940.000 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Times New Roman"/>
              </a:rPr>
              <a:t>Κοινοτική συμμετοχή ΕΤΠΑ   5.300.000 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76240" y="77940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85960" y="4681440"/>
            <a:ext cx="48686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Οι σχεδιαζόμενες παρεμβάσεις παρουσιάζουν συνέργεια και συμπληρωματικότητα με τις παρεμβάσεις των τομεακών επιχειρησιακών προγραμμάτω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ΕΠ «Ενίσχυση της προσπελασιμότητας» στο οποίο θα περιληφθούν τα μεγάλα έργα μεταφορώ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ΕΠ «Περιβάλλον και Αειφόρος Ανάπτυξη» για παρεμβάσεις στο περιβάλλο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ΕΠ «Επιχειρηματικότητα και Ανταγωνιστικότητα» για την ανάπτυξη της επιχειρηματικότητας σε όλους τους τομείς της Περιφερειακής οικονομίας –καινοτομία έρευνα - ανάπτυξ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ΕΠ «Ψηφιακή Σύγκλιση» για προώθηση της ΚτΠ και εισαγωγή των Εφαρμογών Τεχνολογίας Πληροφοριών _ΤΠ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ΕΠ «Ανθρώπινοι πόροι» Για όλες τις επενδύσεις στο ανθρώπινο δυναμικ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</a:rPr>
              <a:t>ΕΠ «Χωρική συνεργασία» για προγράμματα διασυνοριακής συνεργασία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76240" y="77940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5960" y="4681440"/>
            <a:ext cx="48686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Σημαντικοί  προσδιοριστικοί παράγοντες επιτυχίας  στην προσπάθεια αυτή αναδεικνύοντα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η ύπαρξη μιας δημόσιας διοίκησης ευέλικτης , αποτελεσματικής,  δεκτικής στη χρήση και αξιοποίηση από την εισαγωγή τω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φαρμογών Τεχνολογίας Πληροφοριώ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ΤΠΕ 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η αξιοποίηση του αξιόλογου ερευνητικού και επιστημονικού δυναμικού της Περιφέρεια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μέσω συνεργασιών της επιχειρηματικής κοινότητας με τα Ινστιτούτα και τα Εκπαιδευτικά Ιδρύματα  της Περιφέρεια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ια την ανάπτυξη νέων  ή βελτίωση προϊόντων και υπηρεσιών σε τομείς προτεραιότητας για την Ήπειρο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76240" y="77940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85960" y="4681440"/>
            <a:ext cx="48686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 u="sng">
                <a:solidFill>
                  <a:srgbClr val="000000"/>
                </a:solidFill>
                <a:uFillTx/>
                <a:latin typeface="Times New Roman"/>
              </a:rPr>
              <a:t>Οι γενικοί στόχοι του Άξονα  2 εξειδικεύονται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 </a:t>
            </a:r>
            <a:r>
              <a:rPr b="1" lang="el-G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με τις ακόλουθες κατηγορίες παρεμβάσεων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l-GR" sz="1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ον</a:t>
            </a:r>
            <a:r>
              <a:rPr b="1" lang="el-G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Βελτίωση της περιφερειακής ανταγωνιστικότητας με αξιοποίηση των  Εφαρμογών Τεχνολογίας Πληροφοριών - ΤΠΕ 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Η κατηγορία αυτή  αναλύεται ειδικότερα σε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Εισαγωγή, χρήση και αξιοποίηση των ΤΠΕ, από επιχειρήσεις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Σε Ανάπτυξη εφαρμογών και δημιουργία υπηρεσιών μέσω αξιοποίησης των ΤΠΕ σε τομείς προτεραιότητας για την Ήπειρο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Σε Ψηφιακός  εκσυγχρονισμός  της Περιφερειακής Δημόσιας Διοίκηση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76240" y="77940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85960" y="4681440"/>
            <a:ext cx="48686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i="1" lang="el-GR" sz="1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η</a:t>
            </a: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κατηγορία παρεμβάσεων είναι  η: Ενίσχυση της καινοτομικής ικανότητας της Περιφέρειας για την ανάπτυξη νέων  ή βελτιωμένων προϊόντων και υπηρεσιών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Που εξειδικεύεται σ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Δημιουργία και ανάπτυξη  περιφερειακών πόλων καινοτομίας σε τομείς προτεραιότητας για   την Ήπειρο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Ενίσχυση των υποδομών Ε&amp;Τ  σε τομείς προτεραιότητας για τη  περιφερειακή οικονομία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όπως ερευνητικά και Εκπαιδευτικά ιδρύματ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Ενίσχυση ΜΜΕ για την ανάπτυξη ή βελτίωση προϊόντων και υπηρεσιών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Ανάπτυξη δικτύων για τη μεταφορά τεχνογνωσίας και τη διερεύνηση των τεχνολογικών προοπτικών σε επιλεγμένους κλάδους της περιφερειακής οικονομία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76240" y="77940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5960" y="4681440"/>
            <a:ext cx="48686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Times New Roman"/>
              </a:rPr>
              <a:t>3η κατηγορία παρεμβάσεων είναι  η: Προώθηση της επιχειρηματικότητας  και η  Βελτίωση του επιχειρηματικού περιβάλλοντος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(επιχειρηματικότητα –ενισχύσει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Αναλυτικότερα περιλαμβάνεται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Η Ενίσχυση συλλογικών ή κλαδικών φορέων για την ανάπτυξη δράσεων επιχειρηματικής εξωστρέφειας για επιλεγμένους κλάδους  της περιφερειακής οικονομίας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όπως</a:t>
            </a:r>
            <a:r>
              <a:rPr b="0" lang="el-G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δράσεις προώθησης προϊόντων και  εξαγωγές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Η Δημιουργία ή βελτίωση οργανωμένων χώρων επιχειρηματικών δραστηριοτήτων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 ΒΙΠΕ, ΒΙΟΠΑ, κλ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Η Ενίσχυση επιχειρηματικών σχεδίων  στους τομείς των υπηρεσιών, του εμπορίου και της μεταποίησης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- γενικά επενδύσεις των ΜΜ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Η Ενίσχυση μηχανισμών ή κέντρων παροχής ολοκληρωμένων υπηρεσιών υποστήριξης στις ΜΜΕ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όπως δομές που θα παρέχουν υπηρεσίες σε επιχειρήσει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76240" y="77940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85960" y="4681440"/>
            <a:ext cx="48686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Times New Roman"/>
              </a:rPr>
              <a:t>Οι παρεμβάσεις του 2</a:t>
            </a:r>
            <a:r>
              <a:rPr b="1" i="1" lang="el-GR" sz="1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ου</a:t>
            </a: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άξονα προτεραιότητας απευθύνονται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ΣΤο σύνολο του πληθυσμού της Περιφέρειας Ηπείρο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Times New Roman"/>
              </a:rPr>
              <a:t>Οι βασικοί δείκτες μέσω των οποίων θα μετρηθούν οι στόχοι του άξονα είνα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Τα Νέα επενδυτικά σχέδια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Νέες δράσεις καινοτομίας και σύνδεση της έρευνας με την παραγωγ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νίσχυση δομών έρευνας – καινοτομία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πιχειρησιακά σχέδια που εκπονήθηκαν από φορείς της Δημόσιας Διοίκησ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νάπτυξη νέων προϊόντων και υπηρεσιώ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76240" y="77940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85960" y="4681440"/>
            <a:ext cx="48686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Η αειφόρος ανάπτυξη και η ποιότητα ζωής αποτελεί κεντρική συνιστώσα της περιφερειακής στρατηγικής ανάπτυξης και τον 3ο άξονα προτεραιότητα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Στόχος του άξονα είναι ο προσανατολισμός των αναπτυξιακών παρεμβάσεων σε ένα μοντέλο ανάπτυξης το οποίο εγγυάται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οικονομική βιωσιμότητα, κοινωνική δικαιοσύνη και περιβαλλοντική προστασία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Ειδικότεροι στόχοι αποτελούν η προστασία του περιβάλλοντος, η  βελτίωση της ποιότητας ζωής των κατοίκων , η αξιοποίηση των συγκριτικών πλεονεκτημάτων της  περιοχής και η  συνέχιση της εφαρμογής ολοκληρωμένων παρεμβάσεων για την αστική και αγροτική αναγέννησ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Για την επίτευξη των στόχων αυτών θα υλοποιηθούν παρεμβάσει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Περιβαλλοντικής προστασίας και πρόληψης κινδύνων 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Ανάπτυξης πολιτιστικών υποδομών και  παρεμβάσεις τουριστικής ανάπτυξης τόσο στους ήδη ανεπτυγμένους τουριστικούς προορισμούς της Ηπείρου, όσο και στους αναπτυσσόμενους ή δυνητικούς προορισμούς εναλλακτικού τουρισμού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Βελτίωσης των υποδομών εκπαίδευσης όλων των βαθμίδων, των βασικών υποδομών υγείας και κοινωνικής φροντίδα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Τέλος θα υλοποιηθούν όλες οι δράσεις των ολοκληρωμένων προγραμμάτων ανάπτυξης όπως αυτά θα εγκριθούν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2F6-6C57-4B89-8086-42061411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443-61D4-490A-A9DF-602529C4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A563-1C19-46BB-84C6-C847A999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7E4-62A5-48A6-AFDF-0F0C1F05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0432-2E59-4E67-8F9B-B8DB644E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98A6-D45B-455C-84CD-CE4530E9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26DE-2B48-411A-BF46-91713687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2844-1A36-42A3-8052-EFF7D92C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6DEC-1F40-4CB9-829A-37A87D52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77DE-BE03-4D46-A88D-1EF5CD26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4C29-4674-4F1C-BCC9-56F38729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43F-FC40-42DF-888E-8E0757B2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1B7F-7DDD-4D9A-9C7F-8B3FFAD9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9C6E-9340-4782-8497-41F5F7DD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1839-10B4-4FA7-910F-EA443DC7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DECF-B0AE-45C1-9A1A-2DF37319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D180-9841-49B9-805A-B1B0FD8C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468-E2F6-4827-B4BA-D93D96E1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981-1B06-43FA-AA49-B935DB57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885-AACC-4CB0-9C6B-C9BAB762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0F76-4771-44A8-B50C-1C9C05D3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23A1-4C3A-46CF-9921-45338C70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923-D572-404D-8676-CBF4BEED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C7C2-8AD4-4043-B328-4F8FD830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A74C-29D6-464E-8D36-9D1C3F0A9EB8}" type="slidenum"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CB39-85B9-401A-B633-86D694AE9001}" type="slidenum">
              <a:rPr b="0" lang="el-GR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118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2a3d7a"/>
                </a:solidFill>
                <a:uFillTx/>
                <a:latin typeface="Times New Roman"/>
              </a:rPr>
              <a:t>ΑΝΑΠΤΥΞΙΑΚΟ ΠΡΟΓΡΑΜΜΑ </a:t>
            </a:r>
            <a:r>
              <a:rPr b="1" i="1" lang="el-GR" sz="3200" spc="-1" strike="noStrike" u="sng">
                <a:solidFill>
                  <a:srgbClr val="2a3d7a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 u="sng">
                <a:solidFill>
                  <a:srgbClr val="2a3d7a"/>
                </a:solidFill>
                <a:uFillTx/>
                <a:latin typeface="Times New Roman"/>
              </a:rPr>
              <a:t>ΠΕΡΙΦΕΡΕΙΑΣ ΗΠΕΙΡΟΥ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 u="sng">
                <a:solidFill>
                  <a:srgbClr val="2a3d7a"/>
                </a:solidFill>
                <a:uFillTx/>
                <a:latin typeface="Times New Roman"/>
              </a:rPr>
              <a:t>2007-201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2a3d7a"/>
                </a:solidFill>
                <a:latin typeface="Times New Roman"/>
              </a:rPr>
              <a:t>Περιφερειακό Συμβούλιο Ηπείρου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2a3d7a"/>
                </a:solidFill>
                <a:latin typeface="Times New Roman"/>
              </a:rPr>
              <a:t>                  </a:t>
            </a:r>
            <a:r>
              <a:rPr b="1" i="1" lang="fr-FR" sz="1600" spc="-1" strike="noStrike">
                <a:solidFill>
                  <a:srgbClr val="2a3d7a"/>
                </a:solidFill>
                <a:latin typeface="Times New Roman"/>
              </a:rPr>
              <a:t>1/8/2006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Logo Perif550" descr=""/>
          <p:cNvPicPr/>
          <p:nvPr/>
        </p:nvPicPr>
        <p:blipFill>
          <a:blip r:embed="rId1"/>
          <a:stretch/>
        </p:blipFill>
        <p:spPr>
          <a:xfrm>
            <a:off x="6400800" y="5181480"/>
            <a:ext cx="228600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62120" y="1052280"/>
            <a:ext cx="77724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Άξονας προτεραιότητας 3: Αειφόρος ανάπτυξη &amp; ποιότητα ζωή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2a3d7a"/>
                </a:solidFill>
                <a:uFillTx/>
                <a:latin typeface="Times New Roman"/>
              </a:rPr>
              <a:t>Κατηγορίες παρεμβάσεων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1. Κοινωνικές υποδομές και υπηρεσίες</a:t>
            </a:r>
            <a:r>
              <a:rPr b="1" i="1" lang="el-GR" sz="2400" spc="-1" strike="noStrike" u="sng">
                <a:solidFill>
                  <a:srgbClr val="2a3d7a"/>
                </a:solidFill>
                <a:uFillTx/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 </a:t>
            </a:r>
            <a:r>
              <a:rPr b="1" lang="el-GR" sz="2800" spc="-1" strike="noStrike">
                <a:solidFill>
                  <a:srgbClr val="2a3d7a"/>
                </a:solidFill>
                <a:latin typeface="Times New Roman"/>
              </a:rPr>
              <a:t> </a:t>
            </a:r>
            <a:r>
              <a:rPr b="0" lang="el-GR" sz="2800" spc="-1" strike="noStrike">
                <a:solidFill>
                  <a:srgbClr val="2a3d7a"/>
                </a:solidFill>
                <a:latin typeface="Times New Roman"/>
              </a:rPr>
              <a:t>     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Αναβάθμιση υποδομών και εξοπλισμών για τη βελτίωση της ποιότητας της εκπαίδευσης και της έρευνας ( Τριτοβάθμια εκπαίδευση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Ενίσχυση και Δημιουργία Υποδομών  πρωτοβάθμιας και δευτεροβάθμιας εκπαίδευσης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Εργαστήρια και βιβλιοθήκες των σχολείων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Υποδομές σχολείων εκπαίδευσης ενηλίκων, σχολείων γονέων και σχολείων Β/ευκαιρίας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62120" y="119700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Άξονας προτεραιότητας 3: Αειφόρος ανάπτυξη &amp; ποιότητα ζωή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2a3d7a"/>
                </a:solidFill>
                <a:uFillTx/>
                <a:latin typeface="Times New Roman"/>
              </a:rPr>
              <a:t>Κατηγορίες παρεμβάσεων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2a3d7a"/>
                </a:solidFill>
                <a:uFillTx/>
                <a:latin typeface="Times New Roman"/>
              </a:rPr>
              <a:t>2. Υγεία και κοινωνική αλληλεγγύη</a:t>
            </a:r>
            <a:r>
              <a:rPr b="1" i="1" lang="el-GR" sz="3200" spc="-1" strike="noStrike" u="sng">
                <a:solidFill>
                  <a:srgbClr val="2a3d7a"/>
                </a:solidFill>
                <a:uFillTx/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2a3d7a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Συμπλήρωση - εκσυγχρονισμός υποδομών νέων  νοσοκομείων, ειδικών μονάδων και εξειδικευμένος εξοπλισμός αυτώ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Υποδομές δομών κοινωνικής φροντίδα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Ενίσχυση δομών πρωτοβάθμιας υγεία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8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Άξονας προτεραιότητας 3: Αειφόρος ανάπτυξη &amp; ποιότητα ζωή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2a3d7a"/>
                </a:solidFill>
                <a:uFillTx/>
                <a:latin typeface="Times New Roman"/>
              </a:rPr>
              <a:t>Κατηγορίες παρεμβάσεων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2a3d7a"/>
                </a:solidFill>
                <a:latin typeface="Times New Roman"/>
              </a:rPr>
              <a:t>3. </a:t>
            </a: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Παρεμβάσεις περιβάλλοντος τοπικής κλίμακας </a:t>
            </a: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     </a:t>
            </a: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  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Έργα διαχείρισης στερεών και επικινδύνων αποβλήτων – Έργα διαχείρισης υγρών αποβλήτων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Αποκατάσταση μολυσμένης γη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Ορθολογική διαχείριση υδατικών πόρων- Διαχείριση και διανομή νερού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Διαχείριση φυσικού περιβάλλοντος – Κατάρτιση και εφαρμογή σχεδίων ολοκληρωμένης διαχείρισης προστατευόμενων περιοχών και οικοσυστημάτω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Εφαρμογή σχεδίων και μέτρων για την διατήρηση της κατάστασης του περιβάλλοντος  και την πρόληψη κινδύνων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Δράσεις στο δομημένο περιβάλλον –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Χωροταξία – Πολεοδομία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119664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Άξονας προτεραιότητας 3: Αειφόρος ανάπτυξη &amp; ποιότητα ζωή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2a3d7a"/>
                </a:solidFill>
                <a:uFillTx/>
                <a:latin typeface="Times New Roman"/>
              </a:rPr>
              <a:t>Κατηγορίες παρεμβάσεων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4. Παρεμβάσεις πολιτισμού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2a3d7a"/>
                </a:solidFill>
                <a:latin typeface="Times New Roman"/>
              </a:rPr>
              <a:t>  </a:t>
            </a:r>
            <a:r>
              <a:rPr b="0" lang="el-GR" sz="2800" spc="-1" strike="noStrike">
                <a:solidFill>
                  <a:srgbClr val="2a3d7a"/>
                </a:solidFill>
                <a:latin typeface="Times New Roman"/>
              </a:rPr>
              <a:t>     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Προστασία και ανάδειξη της πολιτιστικής κληρονομιάς - ανάπτυξη πολιτιστικών υποδομών και υπηρεσιών.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Ανάπτυξη σύγχρονου πολιτισμού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Ενοποίηση αρχαιολογικών χώρων –Δημιουργία πολιτιστικών διαδρομώ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90792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Άξονας προτεραιότητας 3: Αειφόρος ανάπτυξη &amp; ποιότητα ζωή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2a3d7a"/>
                </a:solidFill>
                <a:uFillTx/>
                <a:latin typeface="Times New Roman"/>
              </a:rPr>
              <a:t>Κατηγορίες παρεμβάσεων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5. Παρεμβάσεις τουρισμού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a3d7a"/>
                </a:solidFill>
                <a:latin typeface="Times New Roman"/>
              </a:rPr>
              <a:t>      </a:t>
            </a: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Παρεμβάσεις τουριστικής ανάπτυξης περιοχώ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Όπως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αναπλάσεις τουριστικών περιοχώ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προστασία και ανάπτυξη φυσικού περιβάλλοντος με σκοπό την τουριστική αξιοποίηση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υποδομές τουρισμού με σκοπό την βελτίωση των παρεχόμενων  υπηρεσιών σε θέσεις - περιοχές τουριστικού ενδιαφέροντο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4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5640" y="980640"/>
            <a:ext cx="7778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a3d7a"/>
                </a:solidFill>
                <a:latin typeface="Times New Roman"/>
              </a:rPr>
              <a:t>6</a:t>
            </a:r>
            <a:r>
              <a:rPr b="0" i="1" lang="en-US" sz="2800" spc="-1" strike="noStrike">
                <a:solidFill>
                  <a:srgbClr val="2a3d7a"/>
                </a:solidFill>
                <a:latin typeface="Times New Roman"/>
              </a:rPr>
              <a:t>. </a:t>
            </a:r>
            <a:r>
              <a:rPr b="1" i="1" lang="en-US" sz="2400" spc="-1" strike="noStrike">
                <a:solidFill>
                  <a:srgbClr val="2a3d7a"/>
                </a:solidFill>
                <a:latin typeface="Times New Roman"/>
              </a:rPr>
              <a:t>Ολοκληρωμένες παρεμβάσεις  αστικής και αγροτικής αναγέννησης 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  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    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Δράσεις που αφορούν τη βελτίωση της ποιότητας ζωής των κατοίκων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Δράσεις που συμβάλλουν στην ανάπτυξη εναλλακτικών μορφών τουρισμού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Δημιουργία και ενίσχυση νέων μορφών και υπηρεσιών σε τοπικό επίπεδο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Λειτουργία εργαστηρίων καινοτομικής παραγωγή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Υπηρεσίες προς Μ.Μ.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Περιβαλλοντικές δράσει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Χρήση της ΕΤΠ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6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2120" y="83628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ac164"/>
                </a:solidFill>
                <a:uFillTx/>
                <a:latin typeface="Times New Roman"/>
              </a:rPr>
              <a:t>Άξονας προτεραιότητας 3: Αειφόρος ανάπτυξη &amp; ποιότητα ζωή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2a3d7a"/>
                </a:solidFill>
                <a:uFillTx/>
                <a:latin typeface="Times New Roman"/>
              </a:rPr>
              <a:t>Ομάδες-στόχοι: 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Πληθυσμός αστικών – αγροτικών περιοχώ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2a3d7a"/>
                </a:solidFill>
                <a:uFillTx/>
                <a:latin typeface="Times New Roman"/>
              </a:rPr>
              <a:t>Ποσοτικοποίηση στόχων: </a:t>
            </a:r>
            <a:r>
              <a:rPr b="1" i="1" lang="en-US" sz="2400" spc="-1" strike="noStrike">
                <a:solidFill>
                  <a:srgbClr val="2a3d7a"/>
                </a:solidFill>
                <a:latin typeface="Times New Roman"/>
              </a:rPr>
              <a:t>βασικοί δείκτε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Αίθουσες διδασκαλίας ανά βαθμίδα εκπαίδευση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Σχέδια διαχείρισης προστατευόμενων περιοχών και παρεμβάσεω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Ανάπλαση και αναβάθμιση φυσικού περιβάλλοντο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Αναπλάσεις δομημένου περιβάλλοντο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Προστατευόμενα μνημεία ή αρχαιολογικοί  χώρο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Υποδομές πολιτισμού που δημιουργήθηκαν ή αναβαθμίστηκα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Παρεμβάσεις σε τουριστικές περιοχέ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Αριθμός σχεδίων ολοκληρωμένων προγραμμάτων αστικής και αγροτικής ανάπτυξη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Άξονας προτεραιότητας 3: Αειφόρος ανάπτυξη &amp; ποιότητα ζωή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2a3d7a"/>
                </a:solidFill>
                <a:uFillTx/>
                <a:latin typeface="Times New Roman"/>
              </a:rPr>
              <a:t>Χρηματοδότηση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Συνολικό κόστος    167.000.000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Συνολική δημόσια δαπάνη   159.00</a:t>
            </a:r>
            <a:r>
              <a:rPr b="1" lang="fr-FR" sz="2400" spc="-1" strike="noStrike">
                <a:solidFill>
                  <a:srgbClr val="2a3d7a"/>
                </a:solidFill>
                <a:latin typeface="Times New Roman"/>
              </a:rPr>
              <a:t>0</a:t>
            </a: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.000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Εθνική συμμετοχή  23.8</a:t>
            </a:r>
            <a:r>
              <a:rPr b="1" lang="fr-FR" sz="2400" spc="-1" strike="noStrike">
                <a:solidFill>
                  <a:srgbClr val="2a3d7a"/>
                </a:solidFill>
                <a:latin typeface="Times New Roman"/>
              </a:rPr>
              <a:t>50</a:t>
            </a: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.000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Κοινοτική συμμετοχή ΕΤΠΑ   135.150.000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a3d7a"/>
                </a:solidFill>
                <a:latin typeface="Times New Roman"/>
              </a:rPr>
              <a:t>Ιδιωτική συμμετοχή</a:t>
            </a: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  8.000.000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Άξονας προτεραιότητας 3: Αειφόρος ανάπτυξη &amp; ποιότητα ζωή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2a3d7a"/>
                </a:solidFill>
                <a:uFillTx/>
                <a:latin typeface="Times New Roman"/>
              </a:rPr>
              <a:t>Χρηματοδότηση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Συνολικό κόστος    124.000.000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Συνολική δημόσια δαπάνη   124.00</a:t>
            </a:r>
            <a:r>
              <a:rPr b="1" lang="fr-FR" sz="2400" spc="-1" strike="noStrike">
                <a:solidFill>
                  <a:srgbClr val="2a3d7a"/>
                </a:solidFill>
                <a:latin typeface="Times New Roman"/>
              </a:rPr>
              <a:t>0</a:t>
            </a: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.000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Εθνική συμμετοχή  18.600.000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Κοινοτική συμμετοχή ΕΤΠΑ   105.400.000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Άξονας προτεραιότητας : Ολοκληρωμένα προγράμματα αστικής &amp; αγροτικής αναγέννηση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2a3d7a"/>
                </a:solidFill>
                <a:uFillTx/>
                <a:latin typeface="Times New Roman"/>
              </a:rPr>
              <a:t>Χρηματοδότηση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Συνολικό κόστος    43.000.000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Συνολική δημόσια δαπάνη   35.00</a:t>
            </a:r>
            <a:r>
              <a:rPr b="1" lang="fr-FR" sz="2400" spc="-1" strike="noStrike">
                <a:solidFill>
                  <a:srgbClr val="2a3d7a"/>
                </a:solidFill>
                <a:latin typeface="Times New Roman"/>
              </a:rPr>
              <a:t>0</a:t>
            </a: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.000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Εθνική συμμετοχή  5.2</a:t>
            </a:r>
            <a:r>
              <a:rPr b="1" lang="fr-FR" sz="2400" spc="-1" strike="noStrike">
                <a:solidFill>
                  <a:srgbClr val="2a3d7a"/>
                </a:solidFill>
                <a:latin typeface="Times New Roman"/>
              </a:rPr>
              <a:t>50</a:t>
            </a: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.000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Κοινοτική συμμετοχή ΕΤΠΑ   29.750.000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a3d7a"/>
                </a:solidFill>
                <a:latin typeface="Times New Roman"/>
              </a:rPr>
              <a:t>Ιδιωτική συμμετοχή</a:t>
            </a: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  8.000.000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Άξονας προτεραιότητας </a:t>
            </a:r>
            <a:r>
              <a:rPr b="1" i="1" lang="fr-FR" sz="2400" spc="-1" strike="noStrike" u="sng">
                <a:solidFill>
                  <a:srgbClr val="fac164"/>
                </a:solidFill>
                <a:uFillTx/>
                <a:latin typeface="Times New Roman"/>
              </a:rPr>
              <a:t>2</a:t>
            </a: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: </a:t>
            </a:r>
            <a:r>
              <a:rPr b="1" i="1" lang="fr-FR" sz="2400" spc="-1" strike="noStrike" u="sng">
                <a:solidFill>
                  <a:srgbClr val="fac164"/>
                </a:solidFill>
                <a:uFillTx/>
                <a:latin typeface="Times New Roman"/>
              </a:rPr>
              <a:t>Ψηφιακή σύγκλιση &amp; επιχειρηματικότητα</a:t>
            </a: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2a3d7a"/>
                </a:solidFill>
                <a:uFillTx/>
                <a:latin typeface="Times New Roman"/>
              </a:rPr>
              <a:t>Συνοπτική περιγραφή-στόχοι:</a:t>
            </a: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Βελτίωση της περιφερειακής ανταγωνιστικότητας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Προώθησης της ψηφιακής σύγκλιση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Βελτίωσης της παραγωγικότητας των επιχειρήσεων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Άξονας προτεραιότητας 4: Τεχνική υποστήριξη εφαρμογή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2a3d7a"/>
                </a:solidFill>
                <a:uFillTx/>
                <a:latin typeface="Times New Roman"/>
              </a:rPr>
              <a:t>Κατηγορίες παρεμβάσεω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Υποστήριξη τελικών δικαιούχω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Εκπόνηση μελετών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Δημοσιότητα του Προγράμματο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2a3d7a"/>
                </a:solidFill>
                <a:uFillTx/>
                <a:latin typeface="Times New Roman"/>
              </a:rPr>
              <a:t>Ποσοτικοποίηση στόχω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Μελέτες – Εμπειρογνωμοσύνε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Ενέργειες Ενημέρωση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Εκθέσεις Αξιολόγηση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Ενέργειες  Τεχνικής Υποστήριξη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Ενέργειες Δημοσιότητα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Άξονας προτεραιότητας 4: Τεχνική υποστήριξη εφαρμογή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2a3d7a"/>
                </a:solidFill>
                <a:uFillTx/>
                <a:latin typeface="Times New Roman"/>
              </a:rPr>
              <a:t>Χρηματοδότηση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Συνολικό κόστος 6.240.000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Συνολική δημόσια δαπάνη   6.24</a:t>
            </a:r>
            <a:r>
              <a:rPr b="1" lang="fr-FR" sz="2400" spc="-1" strike="noStrike">
                <a:solidFill>
                  <a:srgbClr val="2a3d7a"/>
                </a:solidFill>
                <a:latin typeface="Times New Roman"/>
              </a:rPr>
              <a:t>0</a:t>
            </a: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.000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Εθνική συμμετοχή  940.000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Κοινοτική συμμετοχή ΕΤΠΑ   5.300.000</a:t>
            </a: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8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62120" y="105264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 u="sng">
                <a:solidFill>
                  <a:srgbClr val="fac164"/>
                </a:solidFill>
                <a:uFillTx/>
                <a:latin typeface="Times New Roman"/>
              </a:rPr>
              <a:t>Τομεακά επιχειρησιακά προγράμματ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2a3d7a"/>
                </a:solidFill>
                <a:latin typeface="Times New Roman"/>
              </a:rPr>
              <a:t>ΕΠ «Ενίσχυση της προσπελασιμότητας»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2a3d7a"/>
                </a:solidFill>
                <a:latin typeface="Times New Roman"/>
              </a:rPr>
              <a:t>ΕΠ «Περιβάλλον και Αειφόρος Ανάπτυξη»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2a3d7a"/>
                </a:solidFill>
                <a:latin typeface="Times New Roman"/>
              </a:rPr>
              <a:t>ΕΠ «Επιχειρηματικότητα και Ανταγωνιστικότητα»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2a3d7a"/>
                </a:solidFill>
                <a:latin typeface="Times New Roman"/>
              </a:rPr>
              <a:t>ΕΠ «Ψηφιακή Σύγκλιση»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2a3d7a"/>
                </a:solidFill>
                <a:latin typeface="Times New Roman"/>
              </a:rPr>
              <a:t>ΕΠ «Ανθρώπινοι πόροι»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2a3d7a"/>
                </a:solidFill>
                <a:latin typeface="Times New Roman"/>
              </a:rPr>
              <a:t>ΕΠ «Χωρική συνεργασία»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0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118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2a3d7a"/>
                </a:solidFill>
                <a:uFillTx/>
                <a:latin typeface="Times New Roman"/>
              </a:rPr>
              <a:t>ΑΝΑΠΤΥΞΙΑΚΟ ΠΡΟΓΡΑΜΜΑ </a:t>
            </a:r>
            <a:r>
              <a:rPr b="1" i="1" lang="el-GR" sz="3200" spc="-1" strike="noStrike" u="sng">
                <a:solidFill>
                  <a:srgbClr val="2a3d7a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 u="sng">
                <a:solidFill>
                  <a:srgbClr val="2a3d7a"/>
                </a:solidFill>
                <a:uFillTx/>
                <a:latin typeface="Times New Roman"/>
              </a:rPr>
              <a:t>ΠΕΡΙΦΕΡΕΙΑΣ ΗΠΕΙΡΟΥ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 u="sng">
                <a:solidFill>
                  <a:srgbClr val="2a3d7a"/>
                </a:solidFill>
                <a:uFillTx/>
                <a:latin typeface="Times New Roman"/>
              </a:rPr>
              <a:t>2007-201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2a3d7a"/>
                </a:solidFill>
                <a:latin typeface="Times New Roman"/>
              </a:rPr>
              <a:t>Περιφερειακό Συμβούλιο Ηπείρου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2a3d7a"/>
                </a:solidFill>
                <a:latin typeface="Times New Roman"/>
              </a:rPr>
              <a:t>                  </a:t>
            </a:r>
            <a:r>
              <a:rPr b="1" i="1" lang="fr-FR" sz="1600" spc="-1" strike="noStrike">
                <a:solidFill>
                  <a:srgbClr val="2a3d7a"/>
                </a:solidFill>
                <a:latin typeface="Times New Roman"/>
              </a:rPr>
              <a:t>1/8/2006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2" name="Logo Perif550" descr=""/>
          <p:cNvPicPr/>
          <p:nvPr/>
        </p:nvPicPr>
        <p:blipFill>
          <a:blip r:embed="rId1"/>
          <a:stretch/>
        </p:blipFill>
        <p:spPr>
          <a:xfrm>
            <a:off x="6400800" y="5181480"/>
            <a:ext cx="228600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Άξονας προτεραιότητας </a:t>
            </a:r>
            <a:r>
              <a:rPr b="1" i="1" lang="fr-FR" sz="2400" spc="-1" strike="noStrike" u="sng">
                <a:solidFill>
                  <a:srgbClr val="fac164"/>
                </a:solidFill>
                <a:uFillTx/>
                <a:latin typeface="Times New Roman"/>
              </a:rPr>
              <a:t>2</a:t>
            </a: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: </a:t>
            </a:r>
            <a:r>
              <a:rPr b="1" i="1" lang="fr-FR" sz="2400" spc="-1" strike="noStrike" u="sng">
                <a:solidFill>
                  <a:srgbClr val="fac164"/>
                </a:solidFill>
                <a:uFillTx/>
                <a:latin typeface="Times New Roman"/>
              </a:rPr>
              <a:t>Ψηφιακή σύγκλιση &amp;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επιχειρηματικότητ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2a3d7a"/>
                </a:solidFill>
                <a:uFillTx/>
                <a:latin typeface="Times New Roman"/>
              </a:rPr>
              <a:t>Σημαντικοί παράγοντες επιτυχίας:</a:t>
            </a: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Ευέλικτη Δημόσια Διοίκηση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Αξιοποίηση του αξιόλογου ερευνητικού και επιστημονικού δυναμικού της Περιφέρεια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Ανάπτυξη συνεργασιών επιχειρήσεων με Ινστιτούτα και Ιδρύματ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Ανάπτυξη νέων προϊόντων και υπηρεσιών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2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2120" y="980640"/>
            <a:ext cx="777240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Άξονας προτεραιότητας </a:t>
            </a:r>
            <a:r>
              <a:rPr b="1" i="1" lang="fr-FR" sz="2400" spc="-1" strike="noStrike" u="sng">
                <a:solidFill>
                  <a:srgbClr val="fac164"/>
                </a:solidFill>
                <a:uFillTx/>
                <a:latin typeface="Times New Roman"/>
              </a:rPr>
              <a:t>2</a:t>
            </a: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: </a:t>
            </a:r>
            <a:r>
              <a:rPr b="1" i="1" lang="fr-FR" sz="2400" spc="-1" strike="noStrike" u="sng">
                <a:solidFill>
                  <a:srgbClr val="fac164"/>
                </a:solidFill>
                <a:uFillTx/>
                <a:latin typeface="Times New Roman"/>
              </a:rPr>
              <a:t>Ψηφιακή σύγκλιση &amp; επιχειρηματικότητ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72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2a3d7a"/>
                </a:solidFill>
                <a:uFillTx/>
                <a:latin typeface="Times New Roman"/>
              </a:rPr>
              <a:t>Κατηγορίες παρεμβάσεων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72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1. Βελτίωση της περιφερειακής  ανταγωνιστικότητας μέσω  αξιοποίησης των ΤΠΕ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38240" indent="-5011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Εισαγωγή, χρήση και αξιοποίηση των ΤΠΕ από επιχειρήσει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38240" indent="-5011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Ανάπτυξη εφαρμογών και δημιουργία υπηρεσιών μέσω αξιοποίησης των ΤΠΕ σε τομείς προτεραιότητας για την Ήπειρο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38240" indent="-5011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Ψηφιακός  εκσυγχρονισμός  της Περιφερειακής Δημόσιας Διοίκηση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72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72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727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727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2120" y="836640"/>
            <a:ext cx="7772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Άξονας προτεραιότητας </a:t>
            </a:r>
            <a:r>
              <a:rPr b="1" i="1" lang="fr-FR" sz="2400" spc="-1" strike="noStrike" u="sng">
                <a:solidFill>
                  <a:srgbClr val="fac164"/>
                </a:solidFill>
                <a:uFillTx/>
                <a:latin typeface="Times New Roman"/>
              </a:rPr>
              <a:t>2</a:t>
            </a: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: </a:t>
            </a:r>
            <a:r>
              <a:rPr b="1" i="1" lang="fr-FR" sz="2400" spc="-1" strike="noStrike" u="sng">
                <a:solidFill>
                  <a:srgbClr val="fac164"/>
                </a:solidFill>
                <a:uFillTx/>
                <a:latin typeface="Times New Roman"/>
              </a:rPr>
              <a:t>Ψηφιακή σύγκλιση &amp; επιχειρηματικότητ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2a3d7a"/>
                </a:solidFill>
                <a:uFillTx/>
                <a:latin typeface="Times New Roman"/>
              </a:rPr>
              <a:t>Κατηγορίες παρεμβάσεων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2. Ενίσχυση της καινοτομικής ικανότητας της Περιφέρειας για την ανάπτυξη νέων  ή βελτιωμένων προϊόντων και υπηρεσιών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Δημιουργία – ανάπτυξη  περιφερειακών πόλων καινοτομίας σε τομείς προτεραιότητας για   την Ήπειρο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Ενίσχυση των υποδομών Ε&amp;Τ  σε τομείς προτεραιότητας για τη  περιφερειακή οικονομί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Ενίσχυση ΜΜΕ για την ανάπτυξη ή βελτίωση προϊόντων και υπηρεσιώ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Ανάπτυξη δικτύων για τη μεταφορά τεχνογνωσίας και τη διερεύνηση των τεχνολογικών προοπτικών σε επιλεγμένους κλάδους της περιφερειακή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         </a:t>
            </a: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οικονομίας</a:t>
            </a:r>
            <a:r>
              <a:rPr b="0" lang="el-GR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90792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Άξονας προτεραιότητας </a:t>
            </a:r>
            <a:r>
              <a:rPr b="1" i="1" lang="fr-FR" sz="2400" spc="-1" strike="noStrike" u="sng">
                <a:solidFill>
                  <a:srgbClr val="fac164"/>
                </a:solidFill>
                <a:uFillTx/>
                <a:latin typeface="Times New Roman"/>
              </a:rPr>
              <a:t>2</a:t>
            </a: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: </a:t>
            </a:r>
            <a:r>
              <a:rPr b="1" i="1" lang="fr-FR" sz="2400" spc="-1" strike="noStrike" u="sng">
                <a:solidFill>
                  <a:srgbClr val="fac164"/>
                </a:solidFill>
                <a:uFillTx/>
                <a:latin typeface="Times New Roman"/>
              </a:rPr>
              <a:t>Ψηφιακή σύγκλιση &amp; επιχειρηματικότητα</a:t>
            </a: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2a3d7a"/>
                </a:solidFill>
                <a:uFillTx/>
                <a:latin typeface="Times New Roman"/>
              </a:rPr>
              <a:t>Κατηγορίες παρεμβάσεων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3. Προώθηση της επιχειρηματικότητας – Βελτίωση του επιχειρηματικού περιβάλλοντο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Ενίσχυση συλλογικών ή κλαδικών φορέων για την ανάπτυξη δράσεων επιχειρηματικής εξωστρέφειας για επιλεγμένους κλάδους  της περιφερειακής οικονομία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Δημιουργία ή βελτίωση οργανωμένων χώρων επιχειρηματικών δραστηριοτήτων (ΒΙΠΕ, ΒΙΟΠΑ, υποδομές διαμετακόμισης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Ενίσχυση επιχειρηματικών σχεδίων  στους τομείς των υπηρεσιών, του εμπορίου και της μεταποίηση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Ενίσχυση μηχανισμών ή κέντρων παροχής ολοκληρωμένων υπηρεσιών υποστήριξης στι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        </a:t>
            </a: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ΜΜ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8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2120" y="764640"/>
            <a:ext cx="7772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Άξονας προτεραιότητας </a:t>
            </a:r>
            <a:r>
              <a:rPr b="1" i="1" lang="fr-FR" sz="2400" spc="-1" strike="noStrike" u="sng">
                <a:solidFill>
                  <a:srgbClr val="fac164"/>
                </a:solidFill>
                <a:uFillTx/>
                <a:latin typeface="Times New Roman"/>
              </a:rPr>
              <a:t>2</a:t>
            </a: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: </a:t>
            </a:r>
            <a:r>
              <a:rPr b="1" i="1" lang="fr-FR" sz="2400" spc="-1" strike="noStrike" u="sng">
                <a:solidFill>
                  <a:srgbClr val="fac164"/>
                </a:solidFill>
                <a:uFillTx/>
                <a:latin typeface="Times New Roman"/>
              </a:rPr>
              <a:t>Ψηφιακή σύγκλιση &amp; επιχειρηματικότητ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2a3d7a"/>
                </a:solidFill>
                <a:uFillTx/>
                <a:latin typeface="Times New Roman"/>
              </a:rPr>
              <a:t>Ομάδες-στόχοι: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Το σύνολο του πληθυσμού της Περιφέρειας Ηπείρο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2a3d7a"/>
                </a:solidFill>
                <a:uFillTx/>
                <a:latin typeface="Times New Roman"/>
              </a:rPr>
              <a:t>Ποσοτικοποίηση στόχων: </a:t>
            </a:r>
            <a:r>
              <a:rPr b="1" i="1" lang="el-GR" sz="2400" spc="-1" strike="noStrike">
                <a:solidFill>
                  <a:srgbClr val="2a3d7a"/>
                </a:solidFill>
                <a:latin typeface="Times New Roman"/>
              </a:rPr>
              <a:t>βασικοί δείκτε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Νέα επενδυτικά σχέδια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Νέες δράσεις καινοτομίας και σύνδεση της έρευνας με την παραγωγή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Ενίσχυση δομών έρευνας – καινοτομία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Επιχειρησιακά σχέδια που εκπονήθηκαν από φορείς της Δημόσιας Διοίκηση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a3d7a"/>
                </a:solidFill>
                <a:latin typeface="Times New Roman"/>
              </a:rPr>
              <a:t>Ανάπτυξη νέων προϊόντων και υπηρεσιώ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Άξονας προτεραιότητας </a:t>
            </a:r>
            <a:r>
              <a:rPr b="1" i="1" lang="fr-FR" sz="2400" spc="-1" strike="noStrike" u="sng">
                <a:solidFill>
                  <a:srgbClr val="fac164"/>
                </a:solidFill>
                <a:uFillTx/>
                <a:latin typeface="Times New Roman"/>
              </a:rPr>
              <a:t>2</a:t>
            </a:r>
            <a:r>
              <a:rPr b="1" i="1" lang="el-GR" sz="2400" spc="-1" strike="noStrike" u="sng">
                <a:solidFill>
                  <a:srgbClr val="fac164"/>
                </a:solidFill>
                <a:uFillTx/>
                <a:latin typeface="Times New Roman"/>
              </a:rPr>
              <a:t>: </a:t>
            </a:r>
            <a:r>
              <a:rPr b="1" i="1" lang="fr-FR" sz="2400" spc="-1" strike="noStrike" u="sng">
                <a:solidFill>
                  <a:srgbClr val="fac164"/>
                </a:solidFill>
                <a:uFillTx/>
                <a:latin typeface="Times New Roman"/>
              </a:rPr>
              <a:t>Ψηφιακή σύγκλιση &amp; επιχειρηματικότητ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2a3d7a"/>
                </a:solidFill>
                <a:uFillTx/>
                <a:latin typeface="Times New Roman"/>
              </a:rPr>
              <a:t>Χρηματοδότηση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Συνολικό κόστος    </a:t>
            </a:r>
            <a:r>
              <a:rPr b="1" lang="fr-FR" sz="2400" spc="-1" strike="noStrike">
                <a:solidFill>
                  <a:srgbClr val="2a3d7a"/>
                </a:solidFill>
                <a:latin typeface="Times New Roman"/>
              </a:rPr>
              <a:t>92</a:t>
            </a: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.</a:t>
            </a:r>
            <a:r>
              <a:rPr b="1" lang="fr-FR" sz="2400" spc="-1" strike="noStrike">
                <a:solidFill>
                  <a:srgbClr val="2a3d7a"/>
                </a:solidFill>
                <a:latin typeface="Times New Roman"/>
              </a:rPr>
              <a:t>350</a:t>
            </a: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.000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Συνολική δημόσια δαπάνη   </a:t>
            </a:r>
            <a:r>
              <a:rPr b="1" lang="fr-FR" sz="2400" spc="-1" strike="noStrike">
                <a:solidFill>
                  <a:srgbClr val="2a3d7a"/>
                </a:solidFill>
                <a:latin typeface="Times New Roman"/>
              </a:rPr>
              <a:t>62.350</a:t>
            </a: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.000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Εθνική συμμετοχή  </a:t>
            </a:r>
            <a:r>
              <a:rPr b="1" lang="fr-FR" sz="2400" spc="-1" strike="noStrike">
                <a:solidFill>
                  <a:srgbClr val="2a3d7a"/>
                </a:solidFill>
                <a:latin typeface="Times New Roman"/>
              </a:rPr>
              <a:t>9.350</a:t>
            </a: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.000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Κοινοτική συμμετοχή ΕΤΠΑ   </a:t>
            </a:r>
            <a:r>
              <a:rPr b="1" lang="fr-FR" sz="2400" spc="-1" strike="noStrike">
                <a:solidFill>
                  <a:srgbClr val="2a3d7a"/>
                </a:solidFill>
                <a:latin typeface="Times New Roman"/>
              </a:rPr>
              <a:t>53.00</a:t>
            </a: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0.000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a3d7a"/>
                </a:solidFill>
                <a:latin typeface="Times New Roman"/>
              </a:rPr>
              <a:t>Ιδιωτική συμμετοχή</a:t>
            </a:r>
            <a:r>
              <a:rPr b="1" lang="el-GR" sz="2400" spc="-1" strike="noStrike">
                <a:solidFill>
                  <a:srgbClr val="2a3d7a"/>
                </a:solidFill>
                <a:latin typeface="Times New Roman"/>
              </a:rPr>
              <a:t>  30.000.000 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ac164"/>
                </a:solidFill>
                <a:uFillTx/>
                <a:latin typeface="Times New Roman"/>
              </a:rPr>
              <a:t>Άξονας προτεραιότητας 3: Αειφόρος ανάπτυξη &amp; ποιότητα ζωή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2a3d7a"/>
                </a:solidFill>
                <a:uFillTx/>
                <a:latin typeface="Times New Roman"/>
              </a:rPr>
              <a:t>Συνοπτική περιγραφή-στόχοι:</a:t>
            </a:r>
            <a:r>
              <a:rPr b="1" i="1" lang="en-US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Ο προσανατολισμός των αναπτυξιακών παρεμβάσεων σε ένα μοντέλο ανάπτυξης το οποίο εγγυάται οικονομική βιωσιμότητα, κοινωνική δικαιοσύνη και περιβαλλοντική προστασία. 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Ειδικότεροι στόχοι του συγκεκριμένου άξονα αποτελούν η προστασία του περιβάλλοντος, η  βελτίωση της ποιότητας ζωής των κατοίκων , η αξιοποίηση των συγκριτικών πλεονεκτημάτων της  περιοχής και η  συνέχιση της εφαρμογής ολοκληρωμένων παρεμβάσεων για την αστική και αγροτική αναγέννηση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Logo Perif55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06:35:02Z</dcterms:created>
  <dc:creator>evipapan</dc:creator>
  <dc:description/>
  <dc:language>en-US</dc:language>
  <cp:lastModifiedBy>PAPANIKOLAOU EYH</cp:lastModifiedBy>
  <dcterms:modified xsi:type="dcterms:W3CDTF">2007-03-26T11:13:12Z</dcterms:modified>
  <cp:revision>245</cp:revision>
  <dc:subject/>
  <dc:title>Παρουσίαση του PowerPoint</dc:title>
</cp:coreProperties>
</file>