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DFBE-5C2F-4219-82CD-76E447F5EAE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6240" y="779400"/>
            <a:ext cx="4889520" cy="3667320"/>
          </a:xfrm>
          <a:prstGeom prst="rect">
            <a:avLst/>
          </a:prstGeom>
          <a:ln w="0">
            <a:noFill/>
          </a:ln>
        </p:spPr>
      </p:sp>
      <p:sp>
        <p:nvSpPr>
          <p:cNvPr id="15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a:t>
            </a:r>
            <a:r>
              <a:rPr b="1" lang="el-GR" sz="1200" spc="-1" strike="noStrike">
                <a:solidFill>
                  <a:srgbClr val="000000"/>
                </a:solidFill>
                <a:latin typeface="Times New Roman"/>
              </a:rPr>
              <a:t> ενότητα 3 </a:t>
            </a:r>
            <a:r>
              <a:rPr b="0" lang="el-GR" sz="1200" spc="-1" strike="noStrike">
                <a:solidFill>
                  <a:srgbClr val="000000"/>
                </a:solidFill>
                <a:latin typeface="Times New Roman"/>
              </a:rPr>
              <a:t>εξειδικεύονται οι Άξονες Προτεραιότητας του Επιχειρησιακού Προγράμματος της Περιφέρειας και περιγράφεται με ποιο τρόπο θα επιτευχθούν οι στόχοι της στρατηγικής της για την νέα προγραμματική περίοδ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Άξονες προτεραιότητας  είναι θεματικοί και είναι οι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1:</a:t>
            </a:r>
            <a:r>
              <a:rPr b="0" lang="el-GR" sz="1200" spc="-1" strike="noStrike">
                <a:solidFill>
                  <a:srgbClr val="000000"/>
                </a:solidFill>
                <a:latin typeface="Times New Roman"/>
              </a:rPr>
              <a:t> Υποδομές και υπηρεσίες προσπελασιμ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2:</a:t>
            </a:r>
            <a:r>
              <a:rPr b="0" lang="el-GR" sz="1200" spc="-1" strike="noStrike">
                <a:solidFill>
                  <a:srgbClr val="000000"/>
                </a:solidFill>
                <a:latin typeface="Times New Roman"/>
              </a:rPr>
              <a:t> Ψηφιακή σύγκλιση και επιχειρηματικότη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3:</a:t>
            </a:r>
            <a:r>
              <a:rPr b="0" lang="el-GR" sz="1200" spc="-1" strike="noStrike">
                <a:solidFill>
                  <a:srgbClr val="000000"/>
                </a:solidFill>
                <a:latin typeface="Times New Roman"/>
              </a:rPr>
              <a:t> Αειφόρος ανάπτυξη και ποιότητα ζω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4:</a:t>
            </a:r>
            <a:r>
              <a:rPr b="0" lang="el-GR" sz="1200" spc="-1" strike="noStrike">
                <a:solidFill>
                  <a:srgbClr val="000000"/>
                </a:solidFill>
                <a:latin typeface="Times New Roman"/>
              </a:rPr>
              <a:t> Τεχνική υποστήριξη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a:t>
            </a:r>
            <a:r>
              <a:rPr b="1" lang="el-GR" sz="1200" spc="-1" strike="noStrike">
                <a:solidFill>
                  <a:srgbClr val="000000"/>
                </a:solidFill>
                <a:latin typeface="Times New Roman"/>
              </a:rPr>
              <a:t> ενότητα 4 </a:t>
            </a:r>
            <a:r>
              <a:rPr b="0" lang="el-GR" sz="1200" spc="-1" strike="noStrike">
                <a:solidFill>
                  <a:srgbClr val="000000"/>
                </a:solidFill>
                <a:latin typeface="Times New Roman"/>
              </a:rPr>
              <a:t>περιλαμβάνει τις διατάξεις εφαρμογής, που θα διαμορφωθούν απο το ΥπΟιΟ</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76240" y="779400"/>
            <a:ext cx="4889520" cy="3667320"/>
          </a:xfrm>
          <a:prstGeom prst="rect">
            <a:avLst/>
          </a:prstGeom>
          <a:ln w="0">
            <a:noFill/>
          </a:ln>
        </p:spPr>
      </p:sp>
      <p:sp>
        <p:nvSpPr>
          <p:cNvPr id="15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1" lang="el-GR" sz="1200" spc="-1" strike="noStrike">
                <a:solidFill>
                  <a:srgbClr val="000000"/>
                </a:solidFill>
                <a:latin typeface="Times New Roman"/>
              </a:rPr>
              <a:t>ενότητα 5 </a:t>
            </a:r>
            <a:r>
              <a:rPr b="0" lang="el-GR" sz="1200" spc="-1" strike="noStrike">
                <a:solidFill>
                  <a:srgbClr val="000000"/>
                </a:solidFill>
                <a:latin typeface="Times New Roman"/>
              </a:rPr>
              <a:t>συμπεριλαμβάνονται οι ενδεικτικοί χρηματοδοτικοί πίνακες του Προγράμματος με βάση τα υποδείγματα του σχεδίου του Εφαρμοστικού Κανονισμο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τανομή της κοινοτικής συνδρομής μέσω του ΕΤΠΑ για την περίοδο 2007-2013 στο ΠΕΠ Ηπείρου είναι 265.000.000 €, τα οποία κατανέμονται ανά Άξονα ως εξ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1:</a:t>
            </a:r>
            <a:r>
              <a:rPr b="0" lang="el-GR" sz="1200" spc="-1" strike="noStrike">
                <a:solidFill>
                  <a:srgbClr val="000000"/>
                </a:solidFill>
                <a:latin typeface="Times New Roman"/>
              </a:rPr>
              <a:t> 71.550.000 €, ποσοστό συμμετοχής στο Πρόγραμμα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2:</a:t>
            </a:r>
            <a:r>
              <a:rPr b="0" lang="el-GR" sz="1200" spc="-1" strike="noStrike">
                <a:solidFill>
                  <a:srgbClr val="000000"/>
                </a:solidFill>
                <a:latin typeface="Times New Roman"/>
              </a:rPr>
              <a:t> 53.000.000 €, ποσοστό συμμετοχής στο Πρόγραμμα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3:</a:t>
            </a:r>
            <a:r>
              <a:rPr b="0" lang="el-GR" sz="1200" spc="-1" strike="noStrike">
                <a:solidFill>
                  <a:srgbClr val="000000"/>
                </a:solidFill>
                <a:latin typeface="Times New Roman"/>
              </a:rPr>
              <a:t> 105.400.000 €, ποσοστό συμμετοχής στο Πρόγραμμα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4:</a:t>
            </a:r>
            <a:r>
              <a:rPr b="0" lang="el-GR" sz="1200" spc="-1" strike="noStrike">
                <a:solidFill>
                  <a:srgbClr val="000000"/>
                </a:solidFill>
                <a:latin typeface="Times New Roman"/>
              </a:rPr>
              <a:t> 5.300.000 €, ποσοστό συμμετοχής στο Πρόγραμμα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76240" y="779400"/>
            <a:ext cx="4889520" cy="3667320"/>
          </a:xfrm>
          <a:prstGeom prst="rect">
            <a:avLst/>
          </a:prstGeom>
          <a:ln w="0">
            <a:noFill/>
          </a:ln>
        </p:spPr>
      </p:sp>
      <p:sp>
        <p:nvSpPr>
          <p:cNvPr id="15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Προτεραιότητας 1: Υποδομές και υπηρεσίες προσπελασιμ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όχο του 1ου Άξονα προτεραιότητας αποτελεί η βελτίωση της προσπελασιμότητας των υποδομών και υπηρεσιών στην Περιφέρεια που συνδέονται τόσο με την ενίσχυση της ανταγωνιστικότητας της όσο και με την βελτίωση ζωής των κατοίκ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έσω των παρεμβάσεων του Άξονα, που επικεντρώνονται κυρίως στην ολοκλήρωση των συστημάτων συγκοινωνίας και μεταφορών, στην ενίσχυση των συστημάτων τηλεπικοινωνιών με πρόσβαση σε ευρυζωνικά δίκτυα καθώς και στην ανάπτυξη ενεργειακών υποδομών. θα ενισχυθούν οι υποδομές και οι υπηρεσίες προσπελασιμ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 θα βελτιωθεί και θα ολοκληρωθεί το εθνικό και επαρχιακό οδικό δίκτυο με προτεραιότητα στις συνδέσεις με τα διευρωαπικά δίκτυα, θα συμπληρωθεί και θα βελτιωθεί η σύνδεση των παραμεθόριων περιοχών, θα αναπτυχθεί και θα βελτιωθεί το δίκτυο για την προσπελασιμότητα των ορεινών περιοχών καθώς επίσης θα βελτιωθούν και θα συμπληρωθούν οι σημαντικές αστικές μ,εταφορές. Επίσης θα ενισχυθούν τα συστήματα τηλεπικοινωνιών και η  πρόσβαση σε ευρυζωνικά δίκτυα καθώς και θα αναπτυχθούν ενεργειακές υποδομές.</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76240" y="779400"/>
            <a:ext cx="4889520" cy="3667320"/>
          </a:xfrm>
          <a:prstGeom prst="rect">
            <a:avLst/>
          </a:prstGeom>
          <a:ln w="0">
            <a:noFill/>
          </a:ln>
        </p:spPr>
      </p:sp>
      <p:sp>
        <p:nvSpPr>
          <p:cNvPr id="15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επίτευξη των στόχων του Άξονα θα υλοποιηθούν παρεμβάσεις ενίσχυσης των φυσικών υποδομών προσπελασιμότητας, όπως</a:t>
            </a:r>
            <a:r>
              <a:rPr b="0" lang="fr-FR" sz="1200" spc="-1" strike="noStrike">
                <a:solidFill>
                  <a:srgbClr val="000000"/>
                </a:solidFill>
                <a:latin typeface="Times New Roman"/>
              </a:rPr>
              <a:t> </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u="sng">
                <a:solidFill>
                  <a:srgbClr val="000000"/>
                </a:solidFill>
                <a:uFillTx/>
                <a:latin typeface="Times New Roman"/>
              </a:rPr>
              <a:t>1.</a:t>
            </a:r>
            <a:r>
              <a:rPr b="0" i="1" lang="el-GR" sz="1200" spc="-1" strike="noStrike" u="sng">
                <a:solidFill>
                  <a:srgbClr val="000000"/>
                </a:solidFill>
                <a:uFillTx/>
                <a:latin typeface="Times New Roman"/>
              </a:rPr>
              <a:t> Ολοκλήρωση των συστημάτων συγκοινωνίας και μεταφορών</a:t>
            </a:r>
            <a:r>
              <a:rPr b="0" i="1"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1.1 Εθνικές, περιφερειακές / τοπικές οδο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1.2.Αστικές μεταφορέ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πω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και ολοκλήρωση εθνικού οδικού δικτύου και του επαρχιακού δικτύου με προτεραιότητα στις συνδέσεις με διευρωπαϊκά Δίκτυ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υμπλήρωση και βελτίωση της σύνδεσης των παραμεθόριων περιοχών και ανάπτυξη και βελτίωση του δικτύου για την προσπελασιμότητα των ορεινών περιοχώ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και συμπλήρωση σημαντικών αστικών μεταφορών (παρακάμψεις, δακτύλιοι, υπογειοποιήσεις,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u="sng">
                <a:solidFill>
                  <a:srgbClr val="000000"/>
                </a:solidFill>
                <a:uFillTx/>
                <a:latin typeface="Times New Roman"/>
              </a:rPr>
              <a:t>2.</a:t>
            </a:r>
            <a:r>
              <a:rPr b="0" i="1" lang="el-GR" sz="1200" spc="-1" strike="noStrike" u="sng">
                <a:solidFill>
                  <a:srgbClr val="000000"/>
                </a:solidFill>
                <a:uFillTx/>
                <a:latin typeface="Times New Roman"/>
              </a:rPr>
              <a:t> Ενίσχυση των συστημάτων τηλεπικοινωνιών – πρόσβαση σε ευρυζωνικές υποδομέ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u="sng">
                <a:solidFill>
                  <a:srgbClr val="000000"/>
                </a:solidFill>
                <a:uFillTx/>
                <a:latin typeface="Times New Roman"/>
              </a:rPr>
              <a:t>3.</a:t>
            </a:r>
            <a:r>
              <a:rPr b="0" i="1" lang="el-GR" sz="1200" spc="-1" strike="noStrike" u="sng">
                <a:solidFill>
                  <a:srgbClr val="000000"/>
                </a:solidFill>
                <a:uFillTx/>
                <a:latin typeface="Times New Roman"/>
              </a:rPr>
              <a:t> Ανάπτυξη ενεργειακών υποδομ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1 Ανανεώσιμες πηγές ενέργειας (βιομάζ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2 Ανανεώσιμες πηγές ενέργειας (υδροηλεκτρική, γεωθερμική και άλλε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76240" y="779400"/>
            <a:ext cx="4889520" cy="3667320"/>
          </a:xfrm>
          <a:prstGeom prst="rect">
            <a:avLst/>
          </a:prstGeom>
          <a:ln w="0">
            <a:noFill/>
          </a:ln>
        </p:spPr>
      </p:sp>
      <p:sp>
        <p:nvSpPr>
          <p:cNvPr id="15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Οι Ομάδες – Στόχος</a:t>
            </a:r>
            <a:r>
              <a:rPr b="0" lang="el-GR" sz="1200" spc="-1" strike="noStrike">
                <a:solidFill>
                  <a:srgbClr val="000000"/>
                </a:solidFill>
                <a:latin typeface="Times New Roman"/>
              </a:rPr>
              <a:t> στους οποίους απευθύνονται οι παρεμβάσεις του άξονα είναι τ</a:t>
            </a:r>
            <a:r>
              <a:rPr b="0" lang="en-US" sz="1200" spc="-1" strike="noStrike">
                <a:solidFill>
                  <a:srgbClr val="000000"/>
                </a:solidFill>
                <a:latin typeface="Times New Roman"/>
              </a:rPr>
              <a:t>o</a:t>
            </a:r>
            <a:r>
              <a:rPr b="0" lang="el-GR" sz="1200" spc="-1" strike="noStrike">
                <a:solidFill>
                  <a:srgbClr val="000000"/>
                </a:solidFill>
                <a:latin typeface="Times New Roman"/>
              </a:rPr>
              <a:t> σύνολο του πληθυσμού της Περιφέρ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a:t>
            </a:r>
            <a:r>
              <a:rPr b="1" lang="el-GR" sz="1200" spc="-1" strike="noStrike">
                <a:solidFill>
                  <a:srgbClr val="000000"/>
                </a:solidFill>
                <a:latin typeface="Times New Roman"/>
              </a:rPr>
              <a:t>βασικοι δείκτες</a:t>
            </a:r>
            <a:r>
              <a:rPr b="0" lang="el-GR" sz="1200" spc="-1" strike="noStrike">
                <a:solidFill>
                  <a:srgbClr val="000000"/>
                </a:solidFill>
                <a:latin typeface="Times New Roman"/>
              </a:rPr>
              <a:t> μέσω των οποίων θα </a:t>
            </a:r>
            <a:r>
              <a:rPr b="1" lang="el-GR" sz="1200" spc="-1" strike="noStrike">
                <a:solidFill>
                  <a:srgbClr val="000000"/>
                </a:solidFill>
                <a:latin typeface="Times New Roman"/>
              </a:rPr>
              <a:t>μετρηθούν οι στόχοι</a:t>
            </a:r>
            <a:r>
              <a:rPr b="0" lang="el-GR" sz="1200" spc="-1" strike="noStrike">
                <a:solidFill>
                  <a:srgbClr val="000000"/>
                </a:solidFill>
                <a:latin typeface="Times New Roman"/>
              </a:rPr>
              <a:t> του Άξονα είναι οι εξή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τασκευή – βελτίωση τμημάτων εθνικής οδοποιίας &amp; περιφερειακής οδοποιία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αρεμβάσεις αστικών μεταφορ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χέδια εφαρμογής ανανεώσιμων πηγών ενέργειας που υλοποιούνται &amp; ενίσχυσης τηλεπικοινωνιακών υποδομ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76240" y="779400"/>
            <a:ext cx="4889520" cy="3667320"/>
          </a:xfrm>
          <a:prstGeom prst="rect">
            <a:avLst/>
          </a:prstGeom>
          <a:ln w="0">
            <a:noFill/>
          </a:ln>
        </p:spPr>
      </p:sp>
      <p:sp>
        <p:nvSpPr>
          <p:cNvPr id="16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a:t>
            </a:r>
            <a:r>
              <a:rPr b="1" lang="el-GR" sz="1200" spc="-1" strike="noStrike">
                <a:solidFill>
                  <a:srgbClr val="000000"/>
                </a:solidFill>
                <a:latin typeface="Times New Roman"/>
              </a:rPr>
              <a:t> Χρηματοδότηση </a:t>
            </a:r>
            <a:r>
              <a:rPr b="0" lang="el-GR" sz="1200" spc="-1" strike="noStrike">
                <a:solidFill>
                  <a:srgbClr val="000000"/>
                </a:solidFill>
                <a:latin typeface="Times New Roman"/>
              </a:rPr>
              <a:t>του Άξονα</a:t>
            </a:r>
            <a:r>
              <a:rPr b="1"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Το Συνολικό Κόστος είναι </a:t>
            </a:r>
            <a:r>
              <a:rPr b="0" lang="el-GR" sz="1200" spc="-1" strike="noStrike">
                <a:solidFill>
                  <a:srgbClr val="000000"/>
                </a:solidFill>
                <a:latin typeface="Times New Roman"/>
              </a:rPr>
              <a:t>84.</a:t>
            </a:r>
            <a:r>
              <a:rPr b="0" lang="fr-FR" sz="1200" spc="-1" strike="noStrike">
                <a:solidFill>
                  <a:srgbClr val="000000"/>
                </a:solidFill>
                <a:latin typeface="Times New Roman"/>
              </a:rPr>
              <a:t>18</a:t>
            </a:r>
            <a:r>
              <a:rPr b="0" lang="el-GR" sz="1200" spc="-1" strike="noStrike">
                <a:solidFill>
                  <a:srgbClr val="000000"/>
                </a:solidFill>
                <a:latin typeface="Times New Roman"/>
              </a:rPr>
              <a:t>0.000 € και </a:t>
            </a:r>
            <a:r>
              <a:rPr b="1" lang="el-GR" sz="1200" spc="-1" strike="noStrike">
                <a:solidFill>
                  <a:srgbClr val="000000"/>
                </a:solidFill>
                <a:latin typeface="Times New Roman"/>
              </a:rPr>
              <a:t>Η Συνολική Δημόσια Δαπάνη </a:t>
            </a:r>
            <a:r>
              <a:rPr b="0" lang="el-GR" sz="1200" spc="-1" strike="noStrike">
                <a:solidFill>
                  <a:srgbClr val="000000"/>
                </a:solidFill>
                <a:latin typeface="Times New Roman"/>
              </a:rPr>
              <a:t>84.</a:t>
            </a:r>
            <a:r>
              <a:rPr b="0" lang="fr-FR" sz="1200" spc="-1" strike="noStrike">
                <a:solidFill>
                  <a:srgbClr val="000000"/>
                </a:solidFill>
                <a:latin typeface="Times New Roman"/>
              </a:rPr>
              <a:t>18</a:t>
            </a:r>
            <a:r>
              <a:rPr b="0" lang="el-GR" sz="1200" spc="-1" strike="noStrike">
                <a:solidFill>
                  <a:srgbClr val="000000"/>
                </a:solidFill>
                <a:latin typeface="Times New Roman"/>
              </a:rPr>
              <a:t>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Εθνική Συμμετοχή </a:t>
            </a:r>
            <a:r>
              <a:rPr b="0" lang="el-GR" sz="1200" spc="-1" strike="noStrike">
                <a:solidFill>
                  <a:srgbClr val="000000"/>
                </a:solidFill>
                <a:latin typeface="Times New Roman"/>
              </a:rPr>
              <a:t>12.6</a:t>
            </a:r>
            <a:r>
              <a:rPr b="0" lang="fr-FR" sz="1200" spc="-1" strike="noStrike">
                <a:solidFill>
                  <a:srgbClr val="000000"/>
                </a:solidFill>
                <a:latin typeface="Times New Roman"/>
              </a:rPr>
              <a:t>3</a:t>
            </a:r>
            <a:r>
              <a:rPr b="0" lang="el-GR" sz="1200" spc="-1" strike="noStrike">
                <a:solidFill>
                  <a:srgbClr val="000000"/>
                </a:solidFill>
                <a:latin typeface="Times New Roman"/>
              </a:rPr>
              <a:t>0.000 € κα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Κοινοτική Συμμετοχή – ΕΤΠΑ </a:t>
            </a:r>
            <a:r>
              <a:rPr b="0" lang="el-GR" sz="1200" spc="-1" strike="noStrike">
                <a:solidFill>
                  <a:srgbClr val="000000"/>
                </a:solidFill>
                <a:latin typeface="Times New Roman"/>
              </a:rPr>
              <a:t>71.</a:t>
            </a:r>
            <a:r>
              <a:rPr b="0" lang="fr-FR" sz="1200" spc="-1" strike="noStrike">
                <a:solidFill>
                  <a:srgbClr val="000000"/>
                </a:solidFill>
                <a:latin typeface="Times New Roman"/>
              </a:rPr>
              <a:t>55</a:t>
            </a:r>
            <a:r>
              <a:rPr b="0" lang="el-GR" sz="1200" spc="-1" strike="noStrike">
                <a:solidFill>
                  <a:srgbClr val="000000"/>
                </a:solidFill>
                <a:latin typeface="Times New Roman"/>
              </a:rPr>
              <a:t>0.000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76240" y="779400"/>
            <a:ext cx="4889520" cy="3667320"/>
          </a:xfrm>
          <a:prstGeom prst="rect">
            <a:avLst/>
          </a:prstGeom>
          <a:ln w="0">
            <a:noFill/>
          </a:ln>
        </p:spPr>
      </p:sp>
      <p:sp>
        <p:nvSpPr>
          <p:cNvPr id="13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συνέχεια της δέσμης των Κανονισμών της Ευρωπαικής Επιτροπής για την μεταρρύθμιση της πολιτικής συνοχής της περιόδου 2007-2013 και στο πλαίσιο της νέας διαδικασίας του εθνικού αναπτυξιακού προγραμματισμού, οι οδηγίες του ΥπΟιΟ για την διαμόρφωση των κειμένων αποτυπώνονται: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1η Εγκύκλιο για την κατάρτιση του Εθνικού Στρατηγικού Σχεδίου Ανάπτυξης της περιόδου 2007-2013», στην οποία δίδονται α) οι γενικές κατευθύνσεις ανάπτυξης, με τις βασικές αναπτυξιακές επιλογές  και β) οι γενικές αρχές οργάνωσης της κατάρτισης του</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2η Εγκύκλιο για την κατάρτιση του Εθνικού Στρατηγικού Σχεδίου Ανάπτυξης της περιόδου 2007-2013», με την οποία προσδιορίζονται τα προς διαμόρφωση έγγραφα και ο χρονικός προγραμματισμός της εκπόνησής τους, δίδοντας παράλληλα λεπτομερέστερες οδηγίες και διευκρινήσεις για το σχεδιασμό.</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76240" y="779400"/>
            <a:ext cx="4889520" cy="3667320"/>
          </a:xfrm>
          <a:prstGeom prst="rect">
            <a:avLst/>
          </a:prstGeom>
          <a:ln w="0">
            <a:noFill/>
          </a:ln>
        </p:spPr>
      </p:sp>
      <p:sp>
        <p:nvSpPr>
          <p:cNvPr id="13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Η Διαχειριστική Αρχή ΠΕΠ Ηπείρου </a:t>
            </a:r>
            <a:r>
              <a:rPr b="0" lang="el-GR" sz="1200" spc="-1" strike="noStrike">
                <a:solidFill>
                  <a:srgbClr val="000000"/>
                </a:solidFill>
                <a:latin typeface="Times New Roman"/>
              </a:rPr>
              <a:t>, ακολουθώντας τις οδηγίες που περιέχονται στις δυο Εγκυκλίους εκπόνησε και υπέβαλλε τον Φεβρουάριο 2005 το «Στρατηγικό Σχέδιο Ανάπτυξης Περιφέρειας Ηπείρου», στο οποίο διατυπώνονται βασικά ζητήματα που μπορούν να οδηγήσουν στην διαμόρφωση βασικών αναπτυξιακών προτεραιοτήτων για την περιοχή.</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76240" y="779400"/>
            <a:ext cx="4889520" cy="3667320"/>
          </a:xfrm>
          <a:prstGeom prst="rect">
            <a:avLst/>
          </a:prstGeom>
          <a:ln w="0">
            <a:noFill/>
          </a:ln>
        </p:spPr>
      </p:sp>
      <p:sp>
        <p:nvSpPr>
          <p:cNvPr id="13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τά την ολοκλήρωση προετοιμασίας του νέου κανονιστικού πλαισίου σε επίπεδο Ευρωπαικής Ένωσης και αποκοδικωποίησης των απαιτήσεων του, το ΥπΟιΟ συνέταξε την 3</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Εγκύκλιο «για την κατάρτιση των Επιχειρησιακών Προγραμμάτων της προγραμματικής περιόδου 2007-2013», με την οποία εξειδικεύονται οι αρχές που διέπουν τη δομή και το περιεχόμενο των Επιχειρησιακών Προγραμμάτων, προκειμένου οι Ομάδες Σχεδιασμού Προγραμμάτων (ΟΣΠ) να έχουν την κατάλληλη υποστήριξη και καθοδήγηση κατά την διαδικασία εκπόνησής τους.</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76240" y="779400"/>
            <a:ext cx="4889520" cy="3667320"/>
          </a:xfrm>
          <a:prstGeom prst="rect">
            <a:avLst/>
          </a:prstGeom>
          <a:ln w="0">
            <a:noFill/>
          </a:ln>
        </p:spPr>
      </p:sp>
      <p:sp>
        <p:nvSpPr>
          <p:cNvPr id="14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λαίσιο των Οδηγιών της 3</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Εγκυκλίου, η Διαχειριστική αρχή ΠΕΠ Ηπείρου, με βάση τους στόχους και τις προτεραιότητες που καθόρισε η Ομάδα Σχεδιασμού Προγράμματος Ηπείρου, προχώρησε στην εκπόνηση του Αναπτυξιακού προγράμματος περιόδου 2007-2013, με την υποστήριξη συμβούλου εμπειρογνώμον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Αναπτυξιακό Πρόγραμμα αποτελεί «συναινετικό» κείμενο που προέκυψε από τη συνεργασία της Ομάδας Σχεδιασμού Προγράμματος και την ενσωμάτωση απόψεων τοπικών φορέων η οποία επιτεύχθηκε μέσα από δράσεις διαβούλευσης και δημοσιοποίηση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στόχοι που καλείται να καλύψει το παρόν κείμενο είναι η ανάλυση και τεκμηρίωση τάσεων και αναγκαιοτήτων οι οποίες προσδιορίζουν το γενικό αναπτυξιακό πλαίσιο που πρέπει να υιοθετήσει η Περιφέρεια Ηπείρου κατά την προγραμματική περίοδο 2007-2013, έτσι ώστε να διασφαλισθεί η συνέχεια και να προαχθεί η συμπληρωματικότητα με τις έως τώρα πραγματοποιηθείσες αναπτυξιακές παρεμβάσεις.</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76240" y="779400"/>
            <a:ext cx="4889520" cy="3667320"/>
          </a:xfrm>
          <a:prstGeom prst="rect">
            <a:avLst/>
          </a:prstGeom>
          <a:ln w="0">
            <a:noFill/>
          </a:ln>
        </p:spPr>
      </p:sp>
      <p:sp>
        <p:nvSpPr>
          <p:cNvPr id="14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άρθρωση του κειμένου, στη βάση των κατευθύνσεων της 3ης Εγκυκλίου, έχει ως εξ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Ενότητα 1:</a:t>
            </a:r>
            <a:r>
              <a:rPr b="0" lang="en-US" sz="1200" spc="-1" strike="noStrike">
                <a:solidFill>
                  <a:srgbClr val="000000"/>
                </a:solidFill>
                <a:latin typeface="Times New Roman"/>
              </a:rPr>
              <a:t>Ανάλυση της υφιστάμενης κατάστασης κατά την έναρξη της περιόδου προγραμματισμού,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Ενότητα 2: </a:t>
            </a:r>
            <a:r>
              <a:rPr b="0" lang="en-US" sz="1200" spc="-1" strike="noStrike">
                <a:solidFill>
                  <a:srgbClr val="000000"/>
                </a:solidFill>
                <a:latin typeface="Times New Roman"/>
              </a:rPr>
              <a:t>Αναπτυξιακή στρατηγική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Ενότητα 3:</a:t>
            </a:r>
            <a:r>
              <a:rPr b="0" lang="en-US" sz="1200" spc="-1" strike="noStrike">
                <a:solidFill>
                  <a:srgbClr val="000000"/>
                </a:solidFill>
                <a:latin typeface="Times New Roman"/>
              </a:rPr>
              <a:t> Άξονες Προτεραι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Ενότητα 4: </a:t>
            </a:r>
            <a:r>
              <a:rPr b="0" lang="en-US" sz="1200" spc="-1" strike="noStrike">
                <a:solidFill>
                  <a:srgbClr val="000000"/>
                </a:solidFill>
                <a:latin typeface="Times New Roman"/>
              </a:rPr>
              <a:t>Διατάξεις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Ενότητα 5: </a:t>
            </a:r>
            <a:r>
              <a:rPr b="0" lang="en-US" sz="1200" spc="-1" strike="noStrike">
                <a:solidFill>
                  <a:srgbClr val="000000"/>
                </a:solidFill>
                <a:latin typeface="Times New Roman"/>
              </a:rPr>
              <a:t>Ενδεικτικοί χρηματοδοτικοί πίνακες</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6240" y="779400"/>
            <a:ext cx="4889520" cy="3667320"/>
          </a:xfrm>
          <a:prstGeom prst="rect">
            <a:avLst/>
          </a:prstGeom>
          <a:ln w="0">
            <a:noFill/>
          </a:ln>
        </p:spPr>
      </p:sp>
      <p:sp>
        <p:nvSpPr>
          <p:cNvPr id="14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 στην </a:t>
            </a:r>
            <a:r>
              <a:rPr b="1" lang="el-GR" sz="1200" spc="-1" strike="noStrike">
                <a:solidFill>
                  <a:srgbClr val="000000"/>
                </a:solidFill>
                <a:latin typeface="Times New Roman"/>
              </a:rPr>
              <a:t>ενότητα 1</a:t>
            </a:r>
            <a:r>
              <a:rPr b="0" lang="el-GR" sz="1200" spc="-1" strike="noStrike">
                <a:solidFill>
                  <a:srgbClr val="000000"/>
                </a:solidFill>
                <a:latin typeface="Times New Roman"/>
              </a:rPr>
              <a:t> γίνεται ανάλυση της υφιστάμενης κατάστασης κατά την έναρξη της περιόδου προγραμματισμού, με ιδιαίτερη αναφορ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στα χωροαναπτυξιακά χαρακτηριστικά της περιοχής, ( δημογραφικά στοιχεία, στοιχεία απασχόλησης, στοιχεία για τις υποδομές και τα δίκτυα –το ανθρωπογενές περιβάλλον και τους φυσικούς πόρους –την εκπαίδευση –την έρευνα και καινοτομία – την αστική και ύπαιθρο χώρα - τον πολιτισμό καθώς και οικονομικά στοιχεία ανά κλάδο παραγωγικής δραστηριότητας)</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76240" y="779400"/>
            <a:ext cx="4889520" cy="3667320"/>
          </a:xfrm>
          <a:prstGeom prst="rect">
            <a:avLst/>
          </a:prstGeom>
          <a:ln w="0">
            <a:noFill/>
          </a:ln>
        </p:spPr>
      </p:sp>
      <p:sp>
        <p:nvSpPr>
          <p:cNvPr id="14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 στις αναπτυξιακές τάσεις και στους προσδιοριστικούς παράγοντες ανάπτυξης με παράλληλη αναφορά των ανισοτήτων και προβλημάτ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 τα οποία εξειδικεύονται σε ανάλυση </a:t>
            </a:r>
            <a:r>
              <a:rPr b="0" lang="en-US" sz="1200" spc="-1" strike="noStrike">
                <a:solidFill>
                  <a:srgbClr val="000000"/>
                </a:solidFill>
                <a:latin typeface="Times New Roman"/>
              </a:rPr>
              <a:t>SWOT</a:t>
            </a:r>
            <a:r>
              <a:rPr b="0" lang="el-GR" sz="1200" spc="-1" strike="noStrike">
                <a:solidFill>
                  <a:srgbClr val="000000"/>
                </a:solidFill>
                <a:latin typeface="Times New Roman"/>
              </a:rPr>
              <a:t> καθώς κα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 αποτιμώνται οι επιπτώσεις από τις έως τώρα αναπτυξιακές παρεμβάσεις στην Περιφέρει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76240" y="779400"/>
            <a:ext cx="4889520" cy="3667320"/>
          </a:xfrm>
          <a:prstGeom prst="rect">
            <a:avLst/>
          </a:prstGeom>
          <a:ln w="0">
            <a:noFill/>
          </a:ln>
        </p:spPr>
      </p:sp>
      <p:sp>
        <p:nvSpPr>
          <p:cNvPr id="14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a:t>
            </a:r>
            <a:r>
              <a:rPr b="1" lang="en-US" sz="1200" spc="-1" strike="noStrike">
                <a:solidFill>
                  <a:srgbClr val="000000"/>
                </a:solidFill>
                <a:latin typeface="Times New Roman"/>
              </a:rPr>
              <a:t> ενότητα 2 </a:t>
            </a:r>
            <a:r>
              <a:rPr b="0" lang="en-US" sz="1200" spc="-1" strike="noStrike">
                <a:solidFill>
                  <a:srgbClr val="000000"/>
                </a:solidFill>
                <a:latin typeface="Times New Roman"/>
              </a:rPr>
              <a:t>παρουσιάζεται</a:t>
            </a:r>
            <a:r>
              <a:rPr b="1" lang="en-US" sz="1200" spc="-1" strike="noStrike">
                <a:solidFill>
                  <a:srgbClr val="000000"/>
                </a:solidFill>
                <a:latin typeface="Times New Roman"/>
              </a:rPr>
              <a:t> </a:t>
            </a:r>
            <a:r>
              <a:rPr b="0" lang="en-US" sz="1200" spc="-1" strike="noStrike">
                <a:solidFill>
                  <a:srgbClr val="000000"/>
                </a:solidFill>
                <a:latin typeface="Times New Roman"/>
              </a:rPr>
              <a:t>το αναπτυξιακό όραμα της Περιφέρειας Ηπείρου, το οποίο προσδιορίζεται στο τρίπτυχο «ποιότητα – γνώση και καινοτομία – εξωστρέφεια» και καθορίζει το επιδιωκόμενο αναπτυξιακό μοντέλο της Περιφέρειας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ιδικότερα, περιγράφονται οι γενικοί αναπτυξιακοί στόχοι οι οποίοι εξειδικεύονται περαιτέρω και αντιστοιχίζονται με το ΕΣΠΑ, την Στρατηγική της Λισσαβόνας και τις κατευθυντήριες γραμμές της Πολιτικής Συνοχής, καθώς και με αυτές του Εθνικού Προγράμματος Μεταρρυθμίσεων 2005-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ενότητα αυτή γίνεται επίσης ειδική αναφορά στις διαδικασίες και τα αποτελέσματα της διαβούλευσης που ακολουθήθηκε κατά το σχεδιασμό του Επιχειρησιακού Προγράμματος για την προγραμματική περίοδο 2007-2013, καθώς και στον τρόπο που θα ενσωματωθούν στο κείμενο τα αποτελέσματα της εκ των προτέρων αξιολόγησης και της Στρατηγικής Περιβαλλοντικής Εκτίμηση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5BE9B-BACB-453D-A913-797C88906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D124-7AAD-455F-9B99-5F2B5FA50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DD179-DDF8-4946-8DF1-4AA3628CB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D2BB-BD5A-4765-A5D0-DA2452D00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17BDB-58E4-491E-A352-D8B7CCB9E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656FF-90BC-4046-92C5-FC878B34A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6CB89-410A-4158-9B5E-72560272C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1D2F9-AB61-44C6-9476-8EC985F16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DAD93-471B-4E89-AA33-DB2EB13F9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E4596-93D5-45B5-ADF6-F39C8C986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E4C20-08F8-4744-8E45-D810197C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40FE-4779-4F86-A643-47F5E339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4A9F-6E78-43A5-874A-FA8AB828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75CE0-AA04-4FD9-8697-81127762A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A6EE5-C673-49FA-BD0E-E8EBCBD27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0B33B-A47D-4F6A-BB4B-86A4C6A15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B1F38-A038-4153-B3BD-FA8A8B22A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1F5D-3B7D-4FB1-BC11-098CD61A5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5282-3A23-487B-B5F3-B5A46203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17996-226F-4B32-89DC-6E5395A4C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F14C-F240-41B4-87F6-2C87864B9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59AB-E849-4909-B653-476695D2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087C-59AD-4B75-8B31-47CA0F02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D4EB-17A0-46AC-BE45-7177ED817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737E-234C-43AE-ACA3-58B8F645D33E}"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517E-D929-4230-9909-60A8EEE0A618}"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ΑΝΑΠΤΥΞ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ΕΡΙΦΕΡΕΙΑΣ ΗΠΕΙΡΟΥ </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fr-FR" sz="1600" spc="-1" strike="noStrike">
                <a:solidFill>
                  <a:srgbClr val="2a3d7a"/>
                </a:solidFill>
                <a:latin typeface="Times New Roman"/>
              </a:rPr>
              <a:t>1/8/2006</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νότητα 2: Αναπτυξιακή στρατηγική για την περίοδο 2007-2013 (2)</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ενικοί αναπτυξιακοί στόχοι/προτεραιότητες:</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επιχειρηματικής ανταγωνιστικότητας &amp; καινοτομικής ικανότητας</a:t>
            </a:r>
            <a:endParaRPr b="0" lang="en-US" sz="2400" spc="-1" strike="noStrike">
              <a:solidFill>
                <a:srgbClr val="5b5249"/>
              </a:solidFill>
              <a:latin typeface="Times New Roman"/>
            </a:endParaRPr>
          </a:p>
          <a:p>
            <a:pPr marL="609480" indent="-60948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προσπελασιμότητας υποδομών &amp; υπηρεσιών</a:t>
            </a:r>
            <a:endParaRPr b="0" lang="en-US" sz="2400" spc="-1" strike="noStrike">
              <a:solidFill>
                <a:srgbClr val="5b5249"/>
              </a:solidFill>
              <a:latin typeface="Times New Roman"/>
            </a:endParaRPr>
          </a:p>
          <a:p>
            <a:pPr marL="609480" indent="-60948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ειφορική διαχείριση φυσικού &amp; δομημένου περιβάλλοντος/διαχείριση προστατευόμενων περιοχών</a:t>
            </a:r>
            <a:endParaRPr b="0" lang="en-US" sz="2400" spc="-1" strike="noStrike">
              <a:solidFill>
                <a:srgbClr val="5b5249"/>
              </a:solidFill>
              <a:latin typeface="Times New Roman"/>
            </a:endParaRPr>
          </a:p>
          <a:p>
            <a:pPr marL="609480" indent="-60948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ένδυση στο ανθρώπινο κεφάλαιο</a:t>
            </a:r>
            <a:endParaRPr b="0" lang="en-US" sz="2400" spc="-1" strike="noStrike">
              <a:solidFill>
                <a:srgbClr val="5b5249"/>
              </a:solidFill>
              <a:latin typeface="Times New Roman"/>
            </a:endParaRPr>
          </a:p>
          <a:p>
            <a:pPr marL="6094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νότητα 2: Αναπτυξιακή στρατηγική για την περίοδο 2007-2013 (3)</a:t>
            </a: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άδειξη τουριστικής &amp; πολιτιστικής ταυτότητα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ενδοπεριφερειακής συνοχής &amp; ισόρροπη ανάπτυξ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ώθηση ψηφιακής σύγκλισης/ εκσυγχρονισμός &amp; αναβάθμιση δημόσιας διοίκησ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ώθηση συνεργασίας &amp; δικτύων μεταξύ χωρών και περιφερειών</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9000"/>
          </a:bodyPr>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νότητα 3: Άξονες προτεραιότητας</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4525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ξειδίκευση Αξόνων προτεραιότητας</a:t>
            </a:r>
            <a:endParaRPr b="0" lang="en-US" sz="2400" spc="-1" strike="noStrike">
              <a:solidFill>
                <a:srgbClr val="5b5249"/>
              </a:solidFill>
              <a:latin typeface="Times New Roman"/>
            </a:endParaRPr>
          </a:p>
          <a:p>
            <a:pPr marL="452520" indent="-4525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ρόποι επίτευξης των αναπτυξιακών στόχων/προτεραιοτήτων</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1: Υποδομές και Υπηρεσίες προσπελασιμότητας</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2: Ψηφιακή σύγκλιση και επιχειρηματικότητα</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3: Αειφόρος ανάπτυξη και ποιότητα ζωής</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4: Τεχνική υποστήριξη εφαρμογής</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νότητα 4: Διατάξεις εφαρμογής</a:t>
            </a:r>
            <a:endParaRPr b="0" lang="en-US" sz="2400" spc="-1" strike="noStrike">
              <a:solidFill>
                <a:srgbClr val="5b5249"/>
              </a:solidFill>
              <a:latin typeface="Times New Roman"/>
            </a:endParaRPr>
          </a:p>
          <a:p>
            <a:pPr marL="452520" indent="-4525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Θα διαμορφωθούν από το ΥπΟιΟ</a:t>
            </a:r>
            <a:endParaRPr b="0" lang="en-US" sz="2400" spc="-1" strike="noStrike">
              <a:solidFill>
                <a:srgbClr val="5b5249"/>
              </a:solidFill>
              <a:latin typeface="Times New Roman"/>
            </a:endParaRPr>
          </a:p>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628640"/>
            <a:ext cx="7772400" cy="36720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νότητα 5: Ενδεικτικοί χρηματοδοτικοί πίνακες</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2" name="Logo Perif550" descr=""/>
          <p:cNvPicPr/>
          <p:nvPr/>
        </p:nvPicPr>
        <p:blipFill>
          <a:blip r:embed="rId1"/>
          <a:stretch/>
        </p:blipFill>
        <p:spPr>
          <a:xfrm>
            <a:off x="7162920" y="5486400"/>
            <a:ext cx="1752480" cy="1066680"/>
          </a:xfrm>
          <a:prstGeom prst="rect">
            <a:avLst/>
          </a:prstGeom>
          <a:ln w="0">
            <a:noFill/>
          </a:ln>
        </p:spPr>
      </p:pic>
      <p:graphicFrame>
        <p:nvGraphicFramePr>
          <p:cNvPr id="123" name=""/>
          <p:cNvGraphicFramePr/>
          <p:nvPr/>
        </p:nvGraphicFramePr>
        <p:xfrm>
          <a:off x="1547640" y="2565360"/>
          <a:ext cx="6096240" cy="3092400"/>
        </p:xfrm>
        <a:graphic>
          <a:graphicData uri="http://schemas.openxmlformats.org/drawingml/2006/table">
            <a:tbl>
              <a:tblPr/>
              <a:tblGrid>
                <a:gridCol w="2032200"/>
                <a:gridCol w="2031840"/>
                <a:gridCol w="2032200"/>
              </a:tblGrid>
              <a:tr h="1097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Κοινοτική Συνδρομή ΕΤΠΑ</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συμμετοχής στο Πρόγραμμα</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Άξονας 1</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71.55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7%</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Άξονας 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53.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Άξονας 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05.4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1%</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Άξονας 4</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5.3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65.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Άξονας προτεραιότητας 1: Υποδομές και υπηρεσίες προσπελασιμότητας (1)</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Συνοπτική περιγραφή-στόχοι:</a:t>
            </a:r>
            <a:r>
              <a:rPr b="1" i="1" lang="el-GR" sz="2400" spc="-1" strike="noStrike">
                <a:solidFill>
                  <a:srgbClr val="2a3d7a"/>
                </a:solidFill>
                <a:latin typeface="Times New Roman"/>
              </a:rPr>
              <a:t>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προσπελασιμότητας των υποδομών και των υπηρεσιών της Περιφέρειας που συνδέονται με την ενίσχυση της ανταγωνιστικότητας και της βελτίωσης ποιότητας ζωής των κατοίκων</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5"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Άξονας προτεραιότητας 1: Υποδομές και υπηρεσίες προσπελασιμότητας (2)</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ατηγορίες παρεμβάσεων:</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Ολοκλήρωση συστημάτων συγκοινωνίας και μεταφορών</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συστημάτων τηλεπικοινωνιών-πρόσβαση σε ευρυζωνικές υποδομέ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άπτυξη ενεργειακών υποδομών</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7"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86000"/>
          </a:bodyPr>
          <a:p>
            <a:pPr marL="393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Άξονας προτεραιότητας 1: Υποδομές και υπηρεσίες προσπελασιμότητας (3)</a:t>
            </a:r>
            <a:endParaRPr b="0" lang="en-US" sz="2800" spc="-1" strike="noStrike">
              <a:solidFill>
                <a:srgbClr val="5b5249"/>
              </a:solidFill>
              <a:latin typeface="Times New Roman"/>
            </a:endParaRPr>
          </a:p>
          <a:p>
            <a:pPr marL="393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393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Ομάδες-στόχοι: </a:t>
            </a:r>
            <a:r>
              <a:rPr b="1" i="1" lang="el-GR" sz="2400" spc="-1" strike="noStrike">
                <a:solidFill>
                  <a:srgbClr val="2a3d7a"/>
                </a:solidFill>
                <a:latin typeface="Times New Roman"/>
              </a:rPr>
              <a:t>σύνολο πληθυσμού Περιφέρειας</a:t>
            </a:r>
            <a:endParaRPr b="0" lang="en-US" sz="2400" spc="-1" strike="noStrike">
              <a:solidFill>
                <a:srgbClr val="5b5249"/>
              </a:solidFill>
              <a:latin typeface="Times New Roman"/>
            </a:endParaRPr>
          </a:p>
          <a:p>
            <a:pPr marL="393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393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Ποσοτικοποίηση στόχων: </a:t>
            </a:r>
            <a:r>
              <a:rPr b="1" i="1" lang="el-GR" sz="2400" spc="-1" strike="noStrike">
                <a:solidFill>
                  <a:srgbClr val="2a3d7a"/>
                </a:solidFill>
                <a:latin typeface="Times New Roman"/>
              </a:rPr>
              <a:t>βασικοί δείκτες</a:t>
            </a:r>
            <a:endParaRPr b="0" lang="en-US" sz="2400" spc="-1" strike="noStrike">
              <a:solidFill>
                <a:srgbClr val="5b5249"/>
              </a:solidFill>
              <a:latin typeface="Times New Roman"/>
            </a:endParaRPr>
          </a:p>
          <a:p>
            <a:pPr marL="393120" indent="-39312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τασκευή-βελτίωση τμημάτων εθνικής και περιφερειακής οδοποιίας</a:t>
            </a:r>
            <a:endParaRPr b="0" lang="en-US" sz="2400" spc="-1" strike="noStrike">
              <a:solidFill>
                <a:srgbClr val="5b5249"/>
              </a:solidFill>
              <a:latin typeface="Times New Roman"/>
            </a:endParaRPr>
          </a:p>
          <a:p>
            <a:pPr marL="393120" indent="-39312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αστικών μεταφορών</a:t>
            </a:r>
            <a:endParaRPr b="0" lang="en-US" sz="2400" spc="-1" strike="noStrike">
              <a:solidFill>
                <a:srgbClr val="5b5249"/>
              </a:solidFill>
              <a:latin typeface="Times New Roman"/>
            </a:endParaRPr>
          </a:p>
          <a:p>
            <a:pPr marL="393120" indent="-39312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χέδια εφαρμογής ανανεώσιμων πηγών ενέργειας και ενίσχυσης τηλεπικοινωνιακών υποδομών</a:t>
            </a:r>
            <a:endParaRPr b="0" lang="en-US" sz="2400" spc="-1" strike="noStrike">
              <a:solidFill>
                <a:srgbClr val="5b5249"/>
              </a:solidFill>
              <a:latin typeface="Times New Roman"/>
            </a:endParaRPr>
          </a:p>
          <a:p>
            <a:pPr marL="39312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393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93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93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93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9"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Άξονας προτεραιότητας 1: Υποδομές και υπηρεσίες προσπελασιμότητας (4)</a:t>
            </a:r>
            <a:endParaRPr b="0" lang="en-US" sz="28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Χρηματοδότ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ολικό κόστος    84.180.000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ολική δημόσια δαπάνη   84.180.000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ή συμμετοχή  12.630.000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οτική συμμετοχή ΕΤΠΑ   71.550.000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ΑΝΑΠΤΥΞ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ΕΡΙΦΕΡΕΙΑΣ ΗΠΕΙΡΟΥ </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fr-FR" sz="1600" spc="-1" strike="noStrike">
                <a:solidFill>
                  <a:srgbClr val="2a3d7a"/>
                </a:solidFill>
                <a:latin typeface="Times New Roman"/>
              </a:rPr>
              <a:t>1/8/2006</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33"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Κατευθύνσεις για την κατάρτιση του ΕΣΣΑ της περιόδ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έσμη Κανονισμών Ευρωπαϊκής Ένωσ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1</a:t>
            </a:r>
            <a:r>
              <a:rPr b="1" i="1" lang="fr-FR" sz="2400" spc="-1" strike="noStrike">
                <a:solidFill>
                  <a:srgbClr val="2a3d7a"/>
                </a:solidFill>
                <a:latin typeface="Times New Roman"/>
              </a:rPr>
              <a:t>η </a:t>
            </a:r>
            <a:r>
              <a:rPr b="1" i="1" lang="el-GR" sz="2400" spc="-1" strike="noStrike">
                <a:solidFill>
                  <a:srgbClr val="2a3d7a"/>
                </a:solidFill>
                <a:latin typeface="Times New Roman"/>
              </a:rPr>
              <a:t>Εγκύκλιος</a:t>
            </a:r>
            <a:r>
              <a:rPr b="1" i="1" lang="fr-FR" sz="2400" spc="-1" strike="noStrike">
                <a:solidFill>
                  <a:srgbClr val="2a3d7a"/>
                </a:solidFill>
                <a:latin typeface="Times New Roman"/>
              </a:rPr>
              <a:t> ΥπΟιΟ (Ιούνιος 2004)</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2</a:t>
            </a:r>
            <a:r>
              <a:rPr b="1" i="1" lang="el-GR" sz="2400" spc="-1" strike="noStrike" baseline="30000">
                <a:solidFill>
                  <a:srgbClr val="2a3d7a"/>
                </a:solidFill>
                <a:latin typeface="Times New Roman"/>
              </a:rPr>
              <a:t>η</a:t>
            </a:r>
            <a:r>
              <a:rPr b="1" i="1" lang="el-GR" sz="2400" spc="-1" strike="noStrike">
                <a:solidFill>
                  <a:srgbClr val="2a3d7a"/>
                </a:solidFill>
                <a:latin typeface="Times New Roman"/>
              </a:rPr>
              <a:t> Εγκύκλιος ΥπΟιΟ (Οκτώβριος 2004)</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τρατηγικό Σχέδιο Ανάπτυξη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εριφέρειας Ηπείρου</a:t>
            </a:r>
            <a:r>
              <a:rPr b="1" i="1" lang="fr-F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είμενο όπου διατυπώνονται βασικά ζητήματα που μπορούν να οδηγήσουν στην διαμόρφωση βασικών αναπτυξιακών προτεραιοτήτων</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υνέχιση διαδικασιών προγραμματισμού</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a3d7a"/>
                </a:solidFill>
                <a:latin typeface="Times New Roman"/>
              </a:rPr>
              <a:t>3η Εγκύκλιος ΥπΟιΟ </a:t>
            </a:r>
            <a:r>
              <a:rPr b="1" i="1" lang="el-GR" sz="2400" spc="-1" strike="noStrike">
                <a:solidFill>
                  <a:srgbClr val="2a3d7a"/>
                </a:solidFill>
                <a:latin typeface="Times New Roman"/>
              </a:rPr>
              <a:t>γ</a:t>
            </a:r>
            <a:r>
              <a:rPr b="1" i="1" lang="fr-FR" sz="2400" spc="-1" strike="noStrike">
                <a:solidFill>
                  <a:srgbClr val="2a3d7a"/>
                </a:solidFill>
                <a:latin typeface="Times New Roman"/>
              </a:rPr>
              <a:t>ια την κατάρτιση των Επιχειρησιακών Προγραμμάτων της </a:t>
            </a:r>
            <a:r>
              <a:rPr b="1" i="1" lang="el-GR" sz="2400" spc="-1" strike="noStrike">
                <a:solidFill>
                  <a:srgbClr val="2a3d7a"/>
                </a:solidFill>
                <a:latin typeface="Times New Roman"/>
              </a:rPr>
              <a:t>προγραμματικής περιόδου 2007-2013 (Ιούνιος 2006)</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ευθύνεται στις Ομάδες Σχεδιασμού Προγράμματο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έχει υποστήριξη και καθοδήγ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ξειδικεύει τις αρχές που διέπουν την δομή και το περιεχόμενο των Επιχειρησιακών προγραμμάτων</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Αναπτυξιακό Πρόγραμμα Περιφέρειας 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αινετικό κείμενο που εκπονήθηκε από την ΕΥΔ ΠΕΠ Ηπείρου, βάσει των Οδηγιών της 3</a:t>
            </a:r>
            <a:r>
              <a:rPr b="1" i="1" lang="el-GR" sz="2400" spc="-1" strike="noStrike" baseline="30000">
                <a:solidFill>
                  <a:srgbClr val="2a3d7a"/>
                </a:solidFill>
                <a:latin typeface="Times New Roman"/>
              </a:rPr>
              <a:t>ης</a:t>
            </a:r>
            <a:r>
              <a:rPr b="1" i="1" lang="el-GR" sz="2400" spc="-1" strike="noStrike">
                <a:solidFill>
                  <a:srgbClr val="2a3d7a"/>
                </a:solidFill>
                <a:latin typeface="Times New Roman"/>
              </a:rPr>
              <a:t> Εγκυκλίου, των στόχων και προτεραιοτήτων που τέθηκαν από την ΟΣΠ, με την ενσωμάτωση απόψεων τοπικών φορέων μετά από δράσεις διαβούλευσης &amp; δημοσιοποίη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8000"/>
          </a:bodyPr>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Αναπτυξιακό Πρόγραμμα Περιφέρειας Ηπείρου 2007-2013</a:t>
            </a:r>
            <a:endParaRPr b="0" lang="en-US" sz="2800" spc="-1" strike="noStrike">
              <a:solidFill>
                <a:srgbClr val="5b5249"/>
              </a:solidFill>
              <a:latin typeface="Times New Roman"/>
            </a:endParaRPr>
          </a:p>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1: Ανάλυση της υφιστάμενης κατάστασης κατά την έναρξη της νέας περιόδου προγραμματισμού </a:t>
            </a:r>
            <a:endParaRPr b="0" lang="en-US" sz="2400" spc="-1" strike="noStrike">
              <a:solidFill>
                <a:srgbClr val="5b5249"/>
              </a:solidFill>
              <a:latin typeface="Times New Roman"/>
            </a:endParaRPr>
          </a:p>
          <a:p>
            <a:pPr marL="447840" indent="-44784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2: Αναπτυξιακή στρατηγική για την περίοδο 2007-2013</a:t>
            </a:r>
            <a:endParaRPr b="0" lang="en-US" sz="2400" spc="-1" strike="noStrike">
              <a:solidFill>
                <a:srgbClr val="5b5249"/>
              </a:solidFill>
              <a:latin typeface="Times New Roman"/>
            </a:endParaRPr>
          </a:p>
          <a:p>
            <a:pPr marL="447840" indent="-44784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3: Άξονες προτεραιότητας</a:t>
            </a:r>
            <a:endParaRPr b="0" lang="en-US" sz="2400" spc="-1" strike="noStrike">
              <a:solidFill>
                <a:srgbClr val="5b5249"/>
              </a:solidFill>
              <a:latin typeface="Times New Roman"/>
            </a:endParaRPr>
          </a:p>
          <a:p>
            <a:pPr marL="447840" indent="-44784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4: Διατάξεις Εφαρμογής</a:t>
            </a:r>
            <a:endParaRPr b="0" lang="en-US" sz="2400" spc="-1" strike="noStrike">
              <a:solidFill>
                <a:srgbClr val="5b5249"/>
              </a:solidFill>
              <a:latin typeface="Times New Roman"/>
            </a:endParaRPr>
          </a:p>
          <a:p>
            <a:pPr marL="447840" indent="-44784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5: Ενδεικτικοί Χρηματοδοτικοί Πίνακες</a:t>
            </a:r>
            <a:endParaRPr b="0" lang="en-US" sz="2400" spc="-1" strike="noStrike">
              <a:solidFill>
                <a:srgbClr val="5b5249"/>
              </a:solidFill>
              <a:latin typeface="Times New Roman"/>
            </a:endParaRPr>
          </a:p>
          <a:p>
            <a:pPr marL="447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9000"/>
          </a:bodyPr>
          <a:p>
            <a:pPr marL="452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νότητα 1: Ανάλυση της υφιστάμενης κατάστασης κατά την έναρξη της νέας προγραμματικής περιόδου (1)</a:t>
            </a:r>
            <a:endParaRPr b="0" lang="en-US" sz="2400" spc="-1" strike="noStrike">
              <a:solidFill>
                <a:srgbClr val="5b5249"/>
              </a:solidFill>
              <a:latin typeface="Times New Roman"/>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1. Χωροαναπτυξιακά χαρακτηριστικά</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Γεωγραφικά στοιχεία</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ογραφικά στοιχεία</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πασχόληση</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Υποδομές και δίκτυα</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κπαίδευση </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Έρευνα &amp; καινοτομία</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θρωπογενές περιβάλλον και φυσικοί πόροι</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στική &amp; ύπαιθρος χώρα</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ολιτισμός</a:t>
            </a:r>
            <a:endParaRPr b="0" lang="en-US" sz="2000" spc="-1" strike="noStrike">
              <a:solidFill>
                <a:srgbClr val="5b5249"/>
              </a:solidFill>
              <a:latin typeface="Times New Roman"/>
            </a:endParaRPr>
          </a:p>
          <a:p>
            <a:pPr marL="452520" indent="-45252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κονομικά στοιχεία ανά κλάδο οικονομικής δραστηριότητας</a:t>
            </a:r>
            <a:endParaRPr b="0" lang="en-US" sz="2000" spc="-1" strike="noStrike">
              <a:solidFill>
                <a:srgbClr val="5b5249"/>
              </a:solidFill>
              <a:latin typeface="Times New Roman"/>
            </a:endParaRPr>
          </a:p>
          <a:p>
            <a:pPr marL="452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νότητα 1: Ανάλυση της υφιστάμενης κατάστασης κατά την έναρξη της νέας προγραμματικής περιόδου (2)</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2. Τάσεις &amp; προσδιοριστικοί παράγοντες ανάπτυξης / βασικές ανισότητες &amp; προβλήματα</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3. </a:t>
            </a:r>
            <a:r>
              <a:rPr b="1" i="1" lang="en-US" sz="2400" spc="-1" strike="noStrike">
                <a:solidFill>
                  <a:srgbClr val="2a3d7a"/>
                </a:solidFill>
                <a:latin typeface="Times New Roman"/>
              </a:rPr>
              <a:t>SWOT </a:t>
            </a:r>
            <a:r>
              <a:rPr b="1" i="1" lang="el-GR" sz="2400" spc="-1" strike="noStrike">
                <a:solidFill>
                  <a:srgbClr val="2a3d7a"/>
                </a:solidFill>
                <a:latin typeface="Times New Roman"/>
              </a:rPr>
              <a:t>ανάλυση</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4. Αποτίμηση επιτευγμάτων αναπτυξιακών παρεμβάσεων</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9000"/>
          </a:bodyPr>
          <a:p>
            <a:pPr marL="528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νότητα 2: Αναπτυξιακή στρατηγική για την περίοδο 2007-2013 (1)</a:t>
            </a:r>
            <a:endParaRPr b="0" lang="en-US" sz="2800" spc="-1" strike="noStrike">
              <a:solidFill>
                <a:srgbClr val="5b5249"/>
              </a:solidFill>
              <a:latin typeface="Times New Roman"/>
            </a:endParaRPr>
          </a:p>
          <a:p>
            <a:pPr marL="528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απτυξιακό όραμα </a:t>
            </a:r>
            <a:endParaRPr b="0" lang="en-US" sz="2400" spc="-1" strike="noStrike">
              <a:solidFill>
                <a:srgbClr val="5b5249"/>
              </a:solidFill>
              <a:latin typeface="Times New Roman"/>
            </a:endParaRPr>
          </a:p>
          <a:p>
            <a:pPr marL="528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ρίπτυχο «ΠΟΙΟΤΗΤΑ-ΓΝΩΣΗ/ΚΑΙΝΟΤΟΜΙΑ-ΕΞΩΣΤΡΕΦΕΙΑ»</a:t>
            </a:r>
            <a:endParaRPr b="0" lang="en-US" sz="24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ενικοί αναπτυξιακοί στόχοι</a:t>
            </a:r>
            <a:endParaRPr b="0" lang="en-US" sz="24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ιδικοί αναπτυξιακοί στόχοι</a:t>
            </a:r>
            <a:endParaRPr b="0" lang="en-US" sz="24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ορίσματα της </a:t>
            </a:r>
            <a:r>
              <a:rPr b="1" i="1" lang="en-US" sz="2400" spc="-1" strike="noStrike">
                <a:solidFill>
                  <a:srgbClr val="2a3d7a"/>
                </a:solidFill>
                <a:latin typeface="Times New Roman"/>
              </a:rPr>
              <a:t>ex ante </a:t>
            </a:r>
            <a:r>
              <a:rPr b="1" i="1" lang="el-GR" sz="2400" spc="-1" strike="noStrike">
                <a:solidFill>
                  <a:srgbClr val="2a3d7a"/>
                </a:solidFill>
                <a:latin typeface="Times New Roman"/>
              </a:rPr>
              <a:t>αξιολόγησης</a:t>
            </a:r>
            <a:endParaRPr b="0" lang="en-US" sz="24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δικασίες και αποτελέσματα διαβούλευσης</a:t>
            </a:r>
            <a:endParaRPr b="0" lang="en-US" sz="2400" spc="-1" strike="noStrike">
              <a:solidFill>
                <a:srgbClr val="5b5249"/>
              </a:solidFill>
              <a:latin typeface="Times New Roman"/>
            </a:endParaRPr>
          </a:p>
          <a:p>
            <a:pPr marL="528120" indent="-528120" algn="ctr">
              <a:lnSpc>
                <a:spcPct val="8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σωμάτωση των πορισμάτων της Στρατηγικής Περιβαλλοντικής Εκτίμησης</a:t>
            </a:r>
            <a:endParaRPr b="0" lang="en-US" sz="2400" spc="-1" strike="noStrike">
              <a:solidFill>
                <a:srgbClr val="5b5249"/>
              </a:solidFill>
              <a:latin typeface="Times New Roman"/>
            </a:endParaRPr>
          </a:p>
          <a:p>
            <a:pPr marL="528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2812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2812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28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2812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6-07-28T09:31:28Z</dcterms:modified>
  <cp:revision>203</cp:revision>
  <dc:subject/>
  <dc:title>Παρουσίαση του PowerPoint</dc:title>
</cp:coreProperties>
</file>