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move the slide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56A-3CA4-406D-AD32-40F9F8FF0A58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1A2-0BBC-495E-A5A4-5FAA1EB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04F-2D62-4032-80F3-5D41858B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CBF-BB71-40FB-B75A-5AC39645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5B2-E2F4-41E4-AE65-4FD569E7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AB33-6A30-4E49-B0CB-57D09357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118-E1A3-48EA-B081-2A219FB9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801A-075D-4E32-A38A-4AE4A2FD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C85A-2C3C-4EE6-9300-75FE1A8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04CB-B414-4B4F-AB9A-8AB18FF5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BA9-5974-4105-9684-DB3418E0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73C-7D0A-4EC1-BD9A-D6F9D95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D68-33BB-40D7-A0C3-EEFE30F9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E96E-5AED-4E3A-AD2B-06AB83C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2D15-4323-4397-8638-B2CFC5A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DF80-CCFA-47C6-8E68-6F3F6622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5EB-34E1-40F3-8772-6B640769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640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99840" y="472428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2640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299840" y="5480640"/>
            <a:ext cx="19382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6C0-A14D-4BFE-9E8A-86BB0CB7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730-A745-414D-8E4D-0C5309E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BB3-6B92-46E3-B5A2-FB3ED3B7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F84-B24D-44E0-8B7C-F32032CD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3501720"/>
            <a:ext cx="83059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1D0-C5DA-40C2-9B91-848C8834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FB8-953E-41D0-8092-0FDD026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13440" y="548064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8B9-900F-482F-B1EC-CCF2C77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3440" y="4724280"/>
            <a:ext cx="29376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5480640"/>
            <a:ext cx="60199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3B6-5417-489C-8C24-603DE01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848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78D5-310A-430C-9DE5-4F1824FEE5E5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50172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UB-Front"/>
              </a:rPr>
              <a:t>Click to edit the title text format</a:t>
            </a:r>
            <a:endParaRPr b="1" lang="en-US" sz="36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cc"/>
                </a:solidFill>
                <a:latin typeface="UB-Fron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cc"/>
                </a:solidFill>
                <a:latin typeface="UB-Fro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DDC-4D87-4A67-ABB3-B4E8D6F198E6}" type="slidenum">
              <a:rPr b="0" lang="el-GR" sz="1400" spc="-1" strike="noStrike">
                <a:solidFill>
                  <a:srgbClr val="0000cc"/>
                </a:solidFill>
                <a:latin typeface="UB-Fro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160" y="4869000"/>
            <a:ext cx="60195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ΔΡΑΣΕΙΣ ΑΣΤΙΚΗΣ ΑΝΑΠΛΑΣΗΣ ΜΕ ΠΑΡΕΜΒΑΣΕΙΣ ΣΕ ΠΡΟΣΟΨΕΙΣ ΙΔΙΩΤΙΚΩΝ ΚΤΙΡΙ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20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7664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Γενικοί όροι αποκατάστασης &amp; συντήρησης όψεων κτιρίων (2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νάπλαση όψεων σε κτίρια που παρουσιάζουν φθορές λόγω παλαιότητας, κακοτεχνιών και δυσμενών περιβαλλοντικών συνθηκ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παραίτητη προϋπόθεση έγκρισης επιχορήγησης: η ρητή δέσμευση των ιδιοκτητών για συγκεκριμένες ενέργε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358-9273-4083-87C1-7853B404398D}" type="slidenum">
              <a:t>10</a:t>
            </a:fld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0"/>
          <a:ext cx="7994160" cy="6021360"/>
        </p:xfrm>
        <a:graphic>
          <a:graphicData uri="http://schemas.openxmlformats.org/drawingml/2006/table">
            <a:tbl>
              <a:tblPr/>
              <a:tblGrid>
                <a:gridCol w="500760"/>
                <a:gridCol w="3963960"/>
                <a:gridCol w="1530360"/>
                <a:gridCol w="1999080"/>
              </a:tblGrid>
              <a:tr h="9043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Α/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ΕΠΙΔΟΤΟΥΜΕΝΕΣ ΕΡΓΑΣΙΕ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ΜΟΝΑΔΑ ΜΕΤΡΗΣ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ΜΕΓΙΣΤΗ ΕΠΙΤΡΕΠΟΜΕΝΗ ΤΙΜΗ ΕΠΙΧΟΡΗΓΗΣ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όψης στέγη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και χρωματισμός Εξωτερικών Κουφωμάτ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Χρωματισμός και Συντήρηση Εξωτ. Όψης Κτιρίο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Επισκευή Γύψινων Επιχρισμάτων και Κορωνίδ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ρίψιμο, Στίλβωση και Επισκευή Ορθρομαρμαρώσε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</a:t>
                      </a:r>
                      <a:r>
                        <a:rPr b="1" lang="en-US" sz="1200" spc="-1" strike="noStrike" baseline="30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ετακίνηση Κλιματιστικ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8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πόκρυψη Κλιματιστικ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9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Μετακίνηση Δορυφορικής Κεραία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ποξήλωση Παρανόμων Διαφημιστικών και Επαγγελματικών Πινακίδ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Αντικατάσταση Ατομικών Κεραιώ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ΔΙΑΜΕ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Φύτευση Δένδρω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Φύτευση Θάμνω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ΤΕ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105-E90A-4585-9871-0F965DAA9774}" type="slidenum">
              <a:t>11</a:t>
            </a:fld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3348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οσό επιχορήγη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Οι τιμές του πίνακα ισχύουν και για τα διατηρητέα κτίρια προσαυξημένες κατά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Το ακριβές ύψος της επιχορήγησης ανά περιοχή, θα αποφασίζεται από το Δημοτικό Συμβούλιο κάθε ΟΤΑ, εντός των ορίων του Πίνακα, δυναμένων να μειωθούν μέχρι 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3E9-E124-4A8F-8888-B0F3B9DADFB2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0184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απάνες επιχορηγούμενων εργασιώ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εραιωμένες οι εργασίες του πίνακα με δαπάνες για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εργασία &amp; εισφορές σε ασφαλιστικά ταμεία &amp; ΦΠ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ρομήθεια &amp; μεταφορά υλικ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προεργασίες, βοηθητικές, πρόσθετες ή επακόλουθες εργασίε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απομείωση &amp; φθορά υλικών και εργαλείων ή μηχανημά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γενικά έξοδα &amp; εργολαβικό όφελος κα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κάθε εργασία απαραίτητη για την ολοκλήρω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09A-B6F7-469C-A156-C0D4FBBA3CA5}" type="slidenum">
              <a:t>13</a:t>
            </a:fld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4972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ρμόδιος φορέας τήρησης διαδικασίας επιχορήγη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ΟΤΑ α βαθμού ή άλλο νομικό πρόσωπ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υνατότητα υπαγωγής: μετά την οριστική κήρυξη της περιοχής ως «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643-0FEC-4A3E-96B7-3A5FA67A8BD9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0065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Ενεργοποίηση διαδικασί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ποστολή από ΕΥΔ εγγράφου στους 4 Δήμους πρωτευουσών Νομ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οβολή πρότασης για χαρακτηρισμό περιοχής τους ως «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876-3F98-4830-BE36-A784FE9EBD5B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Ιωαννιτώ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7920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200" spc="-1" strike="noStrike">
                <a:solidFill>
                  <a:srgbClr val="003399"/>
                </a:solidFill>
                <a:latin typeface="Times New Roman"/>
              </a:rPr>
              <a:t>Το χαρακτηρισμένο παραδοσιακό τμήμα της πόλης των Ιωαννί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200" spc="-1" strike="noStrike">
                <a:solidFill>
                  <a:srgbClr val="003399"/>
                </a:solidFill>
                <a:latin typeface="Times New Roman"/>
              </a:rPr>
              <a:t>Ο άξονας εισόδου εξόδου από το πάρκο Πυρσινέλλα – Λεωφόρο Δωδώνης – οδός Αβέρωφ- Λίμν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Ο άξονας εισόδου εξόδου από το Αεροδρόμιο- οδό Γράμμου – Βορ. Ηπείρου- Βηλαρά – Βαλαωρίτου- 28ης Οκτωβρίου- Πλατεία- Μπιζανίου –ΚΑ Φεβρουαρί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A26-46D9-489C-B997-A7E5707D161D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Αρταίων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Το ιστορικό κέντρο της πόλης (οδοί Αμβρακίας – Τζαβελλά- Βασ. Πύρρου- Γρίμποβου- Βασ. Κωνσταντίνου- Αγ. Μάρκου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Οι περιοχές γύρω από την Παρηγορίτισσα, την Αγία Θεοδώρα και το Κάστ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Οι είσοδοι της πόλης (οδός Αλεξ. Ζάρρα, Ελευθ. Βενιζέλου και Κρυστάλλ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Η Περιφερειακή Οδός ως κεντρικός οδικός άξον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4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3399"/>
                </a:solidFill>
                <a:latin typeface="Times New Roman"/>
              </a:rPr>
              <a:t>Η οδός Θειακογιάννη που οδηγεί στην Ιστορική Γέφυρα της Άρ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BF1-32B2-4177-B31B-8CC58AC4D65C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Πρέβεζ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Ο παραδοσιακός τομέας πόλεως Πρέβεζ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οδού Εθνικής Αντίστασης από Κ. Καρυωτάκη έως Στρατόπεδο Σολωμο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, από συμβολή οδού Εθνικής Αντίστασης και Κύπρου έως Λ. Ειρήνη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, της Λ. Ειρήνης από συμβολή οδών Γρ. Λαμπράκη και Πολυτεχνείου έως Φόρ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Εθνικής Οδού Λ. Ιωαννίνω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λ. Βενιζέλου από Κ. Καρυωτάκη έως Μνημείο Ναύτ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Σπηλιάδου από Τάφρο έως Ανθόκηπ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Εκατέρωθεν της οδού Π. Τσαλδάρη από Μ. Μπότσαρη- Τάφρος- Σπηλιάδου- Π. Τσαλδάρη, το οποίο περιβάλλει το Κάστρο του Αγ. Ανδρέ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400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l-GR" sz="1600" spc="-1" strike="noStrike">
                <a:solidFill>
                  <a:srgbClr val="003399"/>
                </a:solidFill>
                <a:latin typeface="Times New Roman"/>
              </a:rPr>
              <a:t>Π. Ηλία- Δ. Κρόκου – Χαονίας - Νικοπόλεω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D08-C3D9-40A2-A781-9875E2D26B7A}" type="slidenum">
              <a:t>18</a:t>
            </a:fld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τάσεις ΟΤΑ : Δήμος Ηγουμενίτσα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Η Παραλιακή Οδός Εθνικής Αντιστάσεως, από το Νέο Λιμένα έως την είσοδο των Τ.Ε.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Ένθεν και ένθεν των προσόψεων των κτιρίων στους πεζόδρομους: Γρηγορίου Λαμπράκη, Ελευθερίου Βενιζέλου, 23ης Φεβρουάρι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3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3399"/>
                </a:solidFill>
                <a:latin typeface="Times New Roman"/>
              </a:rPr>
              <a:t>Τα κτίρια που έχουν πρόσοψη στην Πλατεία Δημαρχείου, ήτοι: Κρυστάλη, Ελευθερίας, Σουλίου, Κύπρου, 8ης Δεκεμβρίου έως την πλατεία Δημαρχείου (από 2 πλευρέ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00A-E987-4B5F-8713-0C1318F33651}" type="slidenum">
              <a:t>19</a:t>
            </a:fld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536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ράσεις αστικής ανάπλασης με παρεμβάσεις σε προσόψεις ιδιωτικών κτιρίων (1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Μέτρο 2.1 ΠΕΠ Ηπεί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ΡΑΣΗ «Αναβάθμιση δομημένου περιβάλλοντο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Χρηματοδότηση δράσεων αστικής ανάπλασης προσόψεων ιδιωτικών κτιρ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ξασφάλιση ιδιωτικής συμμετοχ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ΟΤΑ α βαθμού: Φορέας εφαρμογής διαδικασίας επιχορήγ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4B2-BB1E-4C7D-B6D4-1C3C62C8E2B0}" type="slidenum">
              <a:t>2</a:t>
            </a:fld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0656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ίτημα για διευκρινιστικά στοιχεία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92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ε συνέχεια των προτάσεων των Δήμ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οβολή από ΕΥΔ εγγράφου στο ΥΠΕΧΩΔΕ για παροχή διευκρινιστικών στοιχεί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Αναμονή απάντ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BFE-06F3-4F17-BA9E-FB1D7AF97009}" type="slidenum">
              <a:t>20</a:t>
            </a:fld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4797000"/>
            <a:ext cx="6019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ΔΡΑΣΕΙΣ ΑΣΤΙΚΗΣ ΑΝΑΠΛΑΣΗΣ ΜΕ ΠΑΡΕΜΒΑΣΕΙΣ ΣΕ ΠΡΟΣΟΨΕΙΣ ΙΔΙΩΤΙΚΩΝ ΚΤΙΡΙ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20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Δράσεις αστικής ανάπλασης με παρεμβάσεις σε προσόψεις ιδιωτικών κτιρίων (2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υνολικά καταρχήν διαθέσιμο ποσό: 3.000.000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Θεσμικό πλαίσιο: «ΚΥΑ 27124/1.8.200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Υπαγωγή περιοχών χαρακτηρισμένων ως «περιοχών αισθητικής αναβάθμιση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2F2-1F5E-4F20-A12A-35EFD1795CAD}" type="slidenum">
              <a:t>3</a:t>
            </a:fld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62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Ορισμός περιοχής αισθητικής αναβάθμι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που εμπίπτουν στα όρια ΟΤΑ α βαθμο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Όροι και προϋποθέ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Κήρυξη περιοχής, με Απόφαση Υπουργού ΠΕΧΩΔ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7C9-1B84-43D1-9444-8B509DB4B8CF}" type="slidenum">
              <a:t>4</a:t>
            </a:fld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62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ροϋποθέσεις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ημαντικό αστικό κέντρο ή παραδοσιακός οικισμός ή περιοχή τουριστ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Συμπληρωματικότητα και συνέργεια με άλλες δράσεις αναβάθμισης αστικού περιβάλλ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387-9E9D-4560-96A1-68A185662F89}" type="slidenum">
              <a:t>5</a:t>
            </a:fld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Κριτήρια &amp; Προϋποθέσεις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Ιστορικά κέντρα πόλ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κατά μήκος εισόδων πόλεων ή πυλών εισόδου της χώρ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ές γύρω από αρχαιολογικούς χώρ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Περιοχή που περιλαμβάνει σημαντικό αριθμό κτιρίων κηρυγμένων ως διατηρητέων και κτιρίων ιδιαιτέρου αρχιτεκτονικού ενδιαφέρ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 algn="just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Κτίρια είτε επί κεντρικών οδικών αξόνων είτε ανάμεσα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EE4-D0C0-4D0A-8C6E-8E274D114A10}" type="slidenum">
              <a:t>6</a:t>
            </a:fld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Απόφαση επιλογή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Με ευθύνη των Γ.Γ. Περιφερειών ενημερώνονται οι ΟΤΑ α’ βαθμού για το περιεχόμενο της ΚΥΑ προκειμένου να υποβάλλουν προτά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Το Περιφερειακό Συμβούλιο γνωμοδοτεί προς το ΥΠΕΧΩΔΕ για την κήρυξη των περιοχών «αισθητικής αναβάθμισης» και προαιρετικά την κατανομή των ποσ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8BD-BDA3-463E-915B-A861B32D19AE}" type="slidenum">
              <a:t>7</a:t>
            </a:fld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74200"/>
            <a:ext cx="7848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Πεδίο εφαρμογής Απόφασης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Τα ιδιωτικά κτίρια που συνορεύουν με κοινόχρηστους χώρους, συμπεριλαμβανόμενων αυτών στα οποία στεγάζονται Δημόσιες Υπηρεσίες και φορεί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ξαιρούνται τα κτίρια ιδιοκτησίας του Δημοσίου και των ΝΠΔΔ και ΝΠΙΔ του ευρύτερου δημόσιου τομ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82A-3E00-433B-9F0C-B2C510DD90E6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76640"/>
            <a:ext cx="784872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Γενικοί όροι αποκατάστασης &amp; συντήρησης όψεων κτιρίων (1)</a:t>
            </a:r>
            <a:endParaRPr b="1" lang="en-US" sz="3000" spc="-1" strike="noStrike">
              <a:solidFill>
                <a:srgbClr val="336600"/>
              </a:solidFill>
              <a:latin typeface="UB-Fron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Όψη: και η πλευρά του κτιρίου που εφάπτεται όμορων ιδιοκτησιών &amp; είναι ορατή από κοινόχρηστο χώρ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πισκευή- ανάπλαση: μόνο στην όψη του κτιρίου και τα δομικά στοιχεία αυτής που επηρεάζουν την εμφάνιση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Δικαιούχοι επιχορήγησης: οι ιδιοκτήτες ή οι επικαρπωτές των ακινήτ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Επιχορήγηση: ιδιωτικά κτίρια οιασδήποτε χρή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Γωνιακά ακίνητα: η επιχορήγηση καλύπτει την ανάπλαση- επιδιόρθωση όλων των όψεων τους προς τους δημόσιους κοινόχρηστους χώρου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7C5-4B6C-4560-900C-DAA6AD091F49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1:39:22Z</dcterms:created>
  <dc:creator>nikobalt</dc:creator>
  <dc:description/>
  <dc:language>en-US</dc:language>
  <cp:lastModifiedBy>evipapan</cp:lastModifiedBy>
  <dcterms:modified xsi:type="dcterms:W3CDTF">2007-12-18T11:31:35Z</dcterms:modified>
  <cp:revision>219</cp:revision>
  <dc:subject/>
  <dc:title>Παρουσίαση του PowerPoint</dc:title>
</cp:coreProperties>
</file>