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61440" cy="10693440"/>
          </a:xfrm>
          <a:custGeom>
            <a:avLst/>
            <a:gdLst>
              <a:gd name="textAreaLeft" fmla="*/ 360 w 7561440"/>
              <a:gd name="textAreaRight" fmla="*/ 7561080 w 7561440"/>
              <a:gd name="textAreaTop" fmla="*/ 360 h 10693440"/>
              <a:gd name="textAreaBottom" fmla="*/ 10693080 h 10693440"/>
            </a:gdLst>
            <a:ahLst/>
            <a:rect l="textAreaLeft" t="textAreaTop" r="textAreaRight" b="textAreaBottom"/>
            <a:pathLst>
              <a:path w="21600" h="30546">
                <a:moveTo>
                  <a:pt x="5" y="0"/>
                </a:moveTo>
                <a:arcTo wR="5" hR="5" stAng="16200000" swAng="-5400000"/>
                <a:lnTo>
                  <a:pt x="0" y="30541"/>
                </a:lnTo>
                <a:arcTo wR="5" hR="5" stAng="10800000" swAng="-5400000"/>
                <a:lnTo>
                  <a:pt x="21595" y="3054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270240" cy="490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1"/>
          </p:nvPr>
        </p:nvSpPr>
        <p:spPr>
          <a:xfrm>
            <a:off x="4324320" y="-360"/>
            <a:ext cx="3184560" cy="490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Img"/>
          </p:nvPr>
        </p:nvSpPr>
        <p:spPr>
          <a:xfrm>
            <a:off x="1090440" y="825120"/>
            <a:ext cx="541512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1038240" y="5121000"/>
            <a:ext cx="551808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4880"/>
            <a:ext cx="3270240" cy="490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324320" y="10154880"/>
            <a:ext cx="3184560" cy="490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0A0C0-67EF-418A-B1FD-4DEC8C18F8B0}" type="slidenum"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90440" y="825480"/>
            <a:ext cx="5418360" cy="395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90440" y="825480"/>
            <a:ext cx="5418360" cy="395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90440" y="825480"/>
            <a:ext cx="5418360" cy="395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90440" y="825480"/>
            <a:ext cx="5426280" cy="39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90440" y="825480"/>
            <a:ext cx="5426280" cy="39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90440" y="825480"/>
            <a:ext cx="543096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1037880" y="5121360"/>
            <a:ext cx="551988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966924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6560" y="4470480"/>
            <a:ext cx="966924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124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96560" y="447048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1240" y="447048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5720" y="179532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35240" y="179532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96560" y="447048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5720" y="447048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35240" y="4470480"/>
            <a:ext cx="311328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96560" y="1795320"/>
            <a:ext cx="966924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966924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47185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95320"/>
            <a:ext cx="47185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96560" y="922320"/>
            <a:ext cx="966924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795320"/>
            <a:ext cx="47185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6560" y="447048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47185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24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1240" y="447048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656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1240" y="1795320"/>
            <a:ext cx="471852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6560" y="4470480"/>
            <a:ext cx="9669240" cy="24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6388200" y="3240"/>
            <a:ext cx="7392960" cy="4849920"/>
          </a:xfrm>
          <a:custGeom>
            <a:avLst/>
            <a:gdLst>
              <a:gd name="textAreaLeft" fmla="*/ 3696480 w 7392960"/>
              <a:gd name="textAreaRight" fmla="*/ 7393320 w 7392960"/>
              <a:gd name="textAreaTop" fmla="*/ 3240 h 4849920"/>
              <a:gd name="textAreaBottom" fmla="*/ 4846320 h 4849920"/>
            </a:gdLst>
            <a:ahLst/>
            <a:rect l="textAreaLeft" t="textAreaTop" r="textAreaRight" b="textAreaBottom"/>
            <a:pathLst>
              <a:path stroke="0" w="21600" h="21600">
                <a:moveTo>
                  <a:pt x="11302" y="12"/>
                </a:moveTo>
                <a:arcTo wR="10800" hR="10800" stAng="-5240301" swAng="10509789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1" swAng="10509789"/>
              </a:path>
            </a:pathLst>
          </a:cu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7521480" y="-2253240"/>
            <a:ext cx="5118120" cy="3338280"/>
          </a:xfrm>
          <a:custGeom>
            <a:avLst/>
            <a:gdLst>
              <a:gd name="textAreaLeft" fmla="*/ 175680 w 5118120"/>
              <a:gd name="textAreaRight" fmla="*/ 2558880 w 5118120"/>
              <a:gd name="textAreaTop" fmla="*/ 360 h 3338280"/>
              <a:gd name="textAreaBottom" fmla="*/ 1669320 h 3338280"/>
            </a:gdLst>
            <a:ahLst/>
            <a:rect l="textAreaLeft" t="textAreaTop" r="textAreaRight" b="textAreaBottom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7985160" y="0"/>
            <a:ext cx="1440" cy="481500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54000" y="790560"/>
            <a:ext cx="10026720" cy="6085080"/>
          </a:xfrm>
          <a:prstGeom prst="rtTriangle">
            <a:avLst/>
          </a:prstGeom>
          <a:gradFill rotWithShape="0">
            <a:gsLst>
              <a:gs pos="0">
                <a:srgbClr val="2f4675"/>
              </a:gs>
              <a:gs pos="100000">
                <a:srgbClr val="6699ff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1783800" y="6888240"/>
            <a:ext cx="910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365040" algn="ctr">
              <a:lnSpc>
                <a:spcPct val="101000"/>
              </a:lnSpc>
              <a:tabLst>
                <a:tab algn="l" pos="0"/>
                <a:tab algn="l" pos="365040"/>
                <a:tab algn="l" pos="725400"/>
                <a:tab algn="l" pos="882720"/>
                <a:tab algn="l" pos="1797120"/>
                <a:tab algn="l" pos="2711520"/>
                <a:tab algn="l" pos="3625920"/>
                <a:tab algn="l" pos="4540320"/>
                <a:tab algn="l" pos="5454720"/>
                <a:tab algn="l" pos="6369120"/>
                <a:tab algn="l" pos="7283520"/>
                <a:tab algn="l" pos="8197920"/>
                <a:tab algn="l" pos="9112320"/>
                <a:tab algn="l" pos="1002672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Arial Unicode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6560" y="922320"/>
            <a:ext cx="96692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96560" y="1795320"/>
            <a:ext cx="966924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27200" indent="-270000">
              <a:lnSpc>
                <a:spcPct val="110000"/>
              </a:lnSpc>
              <a:spcBef>
                <a:spcPts val="550"/>
              </a:spcBef>
              <a:buSzPct val="4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SzPct val="112298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0" y="6746760"/>
            <a:ext cx="992160" cy="812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flipH="1">
            <a:off x="6388200" y="3240"/>
            <a:ext cx="7392960" cy="4849920"/>
          </a:xfrm>
          <a:custGeom>
            <a:avLst/>
            <a:gdLst>
              <a:gd name="textAreaLeft" fmla="*/ 3696480 w 7392960"/>
              <a:gd name="textAreaRight" fmla="*/ 7393320 w 7392960"/>
              <a:gd name="textAreaTop" fmla="*/ 3240 h 4849920"/>
              <a:gd name="textAreaBottom" fmla="*/ 4846320 h 4849920"/>
            </a:gdLst>
            <a:ahLst/>
            <a:rect l="textAreaLeft" t="textAreaTop" r="textAreaRight" b="textAreaBottom"/>
            <a:pathLst>
              <a:path stroke="0" w="21600" h="21600">
                <a:moveTo>
                  <a:pt x="11302" y="12"/>
                </a:moveTo>
                <a:arcTo wR="10800" hR="10800" stAng="-5240301" swAng="10509789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1" swAng="10509789"/>
              </a:path>
            </a:pathLst>
          </a:cu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7521480" y="-2253240"/>
            <a:ext cx="5118120" cy="3338280"/>
          </a:xfrm>
          <a:custGeom>
            <a:avLst/>
            <a:gdLst>
              <a:gd name="textAreaLeft" fmla="*/ 175680 w 5118120"/>
              <a:gd name="textAreaRight" fmla="*/ 2558880 w 5118120"/>
              <a:gd name="textAreaTop" fmla="*/ 360 h 3338280"/>
              <a:gd name="textAreaBottom" fmla="*/ 1669320 h 3338280"/>
            </a:gdLst>
            <a:ahLst/>
            <a:rect l="textAreaLeft" t="textAreaTop" r="textAreaRight" b="textAreaBottom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6405480" y="6940440"/>
            <a:ext cx="3654360" cy="484200"/>
          </a:xfrm>
          <a:prstGeom prst="rect">
            <a:avLst/>
          </a:prstGeom>
          <a:gradFill rotWithShape="0">
            <a:gsLst>
              <a:gs pos="0">
                <a:srgbClr val="6699ff">
                  <a:alpha val="30196"/>
                </a:srgbClr>
              </a:gs>
              <a:gs pos="50000">
                <a:srgbClr val="2f4675"/>
              </a:gs>
              <a:gs pos="100000">
                <a:srgbClr val="6699ff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54000" y="790560"/>
            <a:ext cx="10026720" cy="6085080"/>
          </a:xfrm>
          <a:prstGeom prst="rtTriangle">
            <a:avLst/>
          </a:prstGeom>
          <a:gradFill rotWithShape="0">
            <a:gsLst>
              <a:gs pos="0">
                <a:srgbClr val="2f4675"/>
              </a:gs>
              <a:gs pos="100000">
                <a:srgbClr val="6699ff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" name="" descr=""/>
          <p:cNvPicPr/>
          <p:nvPr/>
        </p:nvPicPr>
        <p:blipFill>
          <a:blip r:embed="rId10"/>
          <a:stretch/>
        </p:blipFill>
        <p:spPr>
          <a:xfrm>
            <a:off x="8628120" y="6948360"/>
            <a:ext cx="714240" cy="4762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1"/>
          <a:stretch/>
        </p:blipFill>
        <p:spPr>
          <a:xfrm>
            <a:off x="9344160" y="6948360"/>
            <a:ext cx="71424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5480" y="539640"/>
            <a:ext cx="8967960" cy="60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Unicode MS"/>
              </a:rPr>
              <a:t>Κ/Ξ ΒΙΩΣΙΜΗ ΑΝΑΠΤΥΞ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 Unicode MS"/>
              </a:rPr>
              <a:t>ΣΥΜΒΟΥΛΟΣ ΥΠΟΣΤΗΡΙΞΗΣ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825"/>
              </a:spcBef>
              <a:spcAft>
                <a:spcPts val="275"/>
              </a:spcAft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 Unicode MS"/>
              </a:rPr>
              <a:t>ΤΩΝ ΦΟΡΕΩΝ ΥΛΟΠΟΙΗΣΗΣ ΣΥΓΧΡΗΜΑΤΟΔΟΤΟΥΜΕΝΩΝ ΤΕΧΝΙΚΩΝ ΕΡΓΩΝ ΥΠΟΔΟΜΗΣ ΣΤΗΝ ΠΕΡΙΦΕΡΕΙΑ ΗΠΕΙΡΟΥ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6880" indent="-326880" algn="ctr">
              <a:lnSpc>
                <a:spcPct val="101000"/>
              </a:lnSpc>
              <a:spcBef>
                <a:spcPts val="451"/>
              </a:spcBef>
              <a:tabLst>
                <a:tab algn="l" pos="0"/>
                <a:tab algn="l" pos="326880"/>
                <a:tab algn="l" pos="774720"/>
                <a:tab algn="l" pos="1224000"/>
                <a:tab algn="l" pos="1673280"/>
                <a:tab algn="l" pos="2122560"/>
                <a:tab algn="l" pos="2571840"/>
                <a:tab algn="l" pos="3021120"/>
                <a:tab algn="l" pos="3470400"/>
                <a:tab algn="l" pos="3919680"/>
                <a:tab algn="l" pos="4368960"/>
                <a:tab algn="l" pos="4818240"/>
                <a:tab algn="l" pos="5267160"/>
                <a:tab algn="l" pos="5716440"/>
                <a:tab algn="l" pos="6165720"/>
                <a:tab algn="l" pos="6615000"/>
                <a:tab algn="l" pos="7064280"/>
                <a:tab algn="l" pos="7513560"/>
                <a:tab algn="l" pos="7962840"/>
                <a:tab algn="l" pos="8412120"/>
                <a:tab algn="l" pos="8861400"/>
                <a:tab algn="l" pos="9310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 Unicode MS"/>
              </a:rPr>
              <a:t>ΔΕΚΕΜΒΡΙΟΣ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2000" y="693360"/>
            <a:ext cx="8568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Πλαίσιο εφαρμογής του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6000" y="2123640"/>
            <a:ext cx="91486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Ο Σ.Υ. παρέχει τις υπηρεσίες του με τεκμηρίωση ως προς το </a:t>
            </a:r>
            <a:r>
              <a:rPr b="0" lang="en-GB" sz="2200" spc="-1" strike="noStrike">
                <a:solidFill>
                  <a:srgbClr val="ff9933"/>
                </a:solidFill>
                <a:latin typeface="Verdana"/>
              </a:rPr>
              <a:t>εθνικό και κοινοτικό θεσμικό και κανονιστικό πλαίσιο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που ισχύει για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1000"/>
              </a:lnSpc>
              <a:spcBef>
                <a:spcPts val="201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Τα </a:t>
            </a:r>
            <a:r>
              <a:rPr b="0" lang="en-GB" sz="2200" spc="-1" strike="noStrike">
                <a:solidFill>
                  <a:srgbClr val="ff9933"/>
                </a:solidFill>
                <a:latin typeface="Verdana"/>
              </a:rPr>
              <a:t>συστήματα διαχείρισης, παρακολούθησης και ελέγχου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των παρεμβάσεων των κοινοτικών διαρθρωτικών ταμείων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1000"/>
              </a:lnSpc>
              <a:spcBef>
                <a:spcPts val="201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1000"/>
              </a:lnSpc>
              <a:spcBef>
                <a:spcPts val="201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Τη </a:t>
            </a:r>
            <a:r>
              <a:rPr b="0" lang="en-GB" sz="2200" spc="-1" strike="noStrike">
                <a:solidFill>
                  <a:srgbClr val="ff9933"/>
                </a:solidFill>
                <a:latin typeface="Verdana"/>
              </a:rPr>
              <a:t>σύναψη δημοσίων συμβάσεων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, και ειδικότερα τις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κείμενες διατάξεις της νομοθεσίας δημοσίων έργων, εκπόνησης μελετών και παροχής συναφών υπηρεσιών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8920" y="755640"/>
            <a:ext cx="856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Η σχέση του Σ.Υ. με τους φορείς των έργων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3760" y="1874520"/>
            <a:ext cx="94917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Ο Σ.Υ. παρέχει </a:t>
            </a:r>
            <a:r>
              <a:rPr b="1" lang="en-US" sz="2200" spc="-1" strike="noStrike">
                <a:solidFill>
                  <a:srgbClr val="ff9933"/>
                </a:solidFill>
                <a:latin typeface="Arial Unicode MS"/>
              </a:rPr>
              <a:t>υποστήριξη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στους Φορείς Υλοποίησης/ Τελικούς Δικαιούχους (Φ.Υ./Τ.Δ.) σε όλα τα </a:t>
            </a:r>
            <a:r>
              <a:rPr b="1" lang="en-US" sz="2200" spc="-1" strike="noStrike">
                <a:solidFill>
                  <a:srgbClr val="ff9933"/>
                </a:solidFill>
                <a:latin typeface="Arial Unicode MS"/>
              </a:rPr>
              <a:t>στάδια του κύκλου παραγωγής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των έργων τους: πιο συγκεκριμένα </a:t>
            </a:r>
            <a:r>
              <a:rPr b="1" lang="en-US" sz="2200" spc="-1" strike="noStrike">
                <a:solidFill>
                  <a:srgbClr val="ff9933"/>
                </a:solidFill>
                <a:latin typeface="Arial Unicode MS"/>
              </a:rPr>
              <a:t>στην ένταξη των έργων, ανάθεση μελετών, εκπόνηση μελετών, δημοπράτηση κατασκευής, εκτέλεση κατασκευής, ολοκλήρωση έργου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16000"/>
              </a:lnSpc>
              <a:spcBef>
                <a:spcPts val="201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16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Οι προτάσεις και οι εισηγήσεις του Σ.Υ. υποβάλλονται στους Φ.Υ./Τ.Δ. και στην οικεία Διαχειριστική Αρχή (ΕΥΔ ΠΕΠ ΗΠΕΙΡΟΥ)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16000"/>
              </a:lnSpc>
              <a:spcBef>
                <a:spcPts val="201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16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Η επικοινωνία και συνεργασία του Σ.Υ. με τους Φ.Υ./Τ.Δ. υποστηρίζεται από την Διαχειριστική Αρχή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596880"/>
            <a:ext cx="856764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Πεδίο ευθύνης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2572920"/>
            <a:ext cx="932508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φέρει αποκλειστική ευθύνη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για το περιεχόμενο των προτάσεων και εισηγήσεων που υποβάλλει στους Φ.Υ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51000"/>
              </a:lnSpc>
              <a:spcBef>
                <a:spcPts val="550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51000"/>
              </a:lnSpc>
              <a:spcBef>
                <a:spcPts val="550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16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δεν υποκαθιστά τους Φ.Υ/Τ.Δ., ούτε ενεργεί ως αντιπρόσωπός τους έναντι αντισυμβαλλομένων ή τρίτων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14544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Μεθοδολογία του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3600" y="1447560"/>
            <a:ext cx="924084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 algn="just">
              <a:lnSpc>
                <a:spcPct val="9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εφαρμόζει αναλυτικό ετήσιο </a:t>
            </a:r>
            <a:r>
              <a:rPr b="1" lang="en-GB" sz="2200" spc="-1" strike="noStrike">
                <a:solidFill>
                  <a:srgbClr val="ff9933"/>
                </a:solidFill>
                <a:latin typeface="Arial Unicode MS"/>
              </a:rPr>
              <a:t>πρόγραμμα δράσ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όπως αυτό έχει συμφωνηθεί με την Διαχειριστική Αρχή και παραληφθεί από την Ε.Π.Π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91000"/>
              </a:lnSpc>
              <a:spcBef>
                <a:spcPts val="550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91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Το </a:t>
            </a:r>
            <a:r>
              <a:rPr b="1" lang="en-GB" sz="2200" spc="-1" strike="noStrike">
                <a:solidFill>
                  <a:srgbClr val="ff9933"/>
                </a:solidFill>
                <a:latin typeface="Arial Unicode MS"/>
              </a:rPr>
              <a:t>πρόγραμμα δράσ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εριλαμβάνει σε πινακοποιημένη μορφή όλα τα έργα αρμοδιότητ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α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του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Σ.Υ.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με στοιχεία τόσο του οικονομικού όσο και του φυσικού αντικειμένου των έργων καθώς και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με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τις δυνητικές ενέργειες-δράσεις για την ολοκληρωμένη συμβουλευτική υποστήριξη των έργων με βάση το “ορόσημό” τους (τρέχουσα φάση έργου)  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91000"/>
              </a:lnSpc>
              <a:spcBef>
                <a:spcPts val="550"/>
              </a:spcBef>
              <a:spcAft>
                <a:spcPts val="275"/>
              </a:spcAft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91000"/>
              </a:lnSpc>
              <a:spcBef>
                <a:spcPts val="550"/>
              </a:spcBef>
              <a:spcAft>
                <a:spcPts val="275"/>
              </a:spcAft>
              <a:buSzPct val="102909"/>
              <a:buBlip>
                <a:blip r:embed="rId3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Η παροχή </a:t>
            </a:r>
            <a:r>
              <a:rPr b="1" lang="en-GB" sz="2200" spc="-1" strike="noStrike">
                <a:solidFill>
                  <a:srgbClr val="ff9933"/>
                </a:solidFill>
                <a:latin typeface="Arial Unicode MS"/>
              </a:rPr>
              <a:t>ολοκληρωμένης συμβουλευτικής υποστήριξ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από τον Σ.Υ. περιλαμβάνει διακριτές δράσεις σε όλες τις κατηγορίες έργων, ανάλογα με το </a:t>
            </a:r>
            <a:r>
              <a:rPr b="1" lang="en-GB" sz="2200" spc="-1" strike="noStrike">
                <a:solidFill>
                  <a:srgbClr val="ff9933"/>
                </a:solidFill>
                <a:latin typeface="Arial Unicode MS"/>
              </a:rPr>
              <a:t>στάδιο υλοποίησ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6000" y="466200"/>
            <a:ext cx="967248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Verdana"/>
              </a:rPr>
              <a:t>Καταγραφή δράσεων </a:t>
            </a:r>
            <a:r>
              <a:rPr b="0" lang="el-GR" sz="2600" spc="-1" strike="noStrike">
                <a:solidFill>
                  <a:srgbClr val="ffcc00"/>
                </a:solidFill>
                <a:latin typeface="Verdana"/>
              </a:rPr>
              <a:t>υποστήριξης </a:t>
            </a:r>
            <a:r>
              <a:rPr b="0" lang="en-GB" sz="2600" spc="-1" strike="noStrike">
                <a:solidFill>
                  <a:srgbClr val="ffcc00"/>
                </a:solidFill>
                <a:latin typeface="Verdana"/>
              </a:rPr>
              <a:t>του Συμβούλου ανά στάδιο υλοποίησης έργου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6000" y="1403280"/>
            <a:ext cx="967248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5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1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ΈΝΤΑΞΗ ΕΡΓΩ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υνδρομή στον προσδιορισμό των έργων (project definition)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τ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ην φάση του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γενικού σχεδιασμού και της μελέτης σκοπιμότητα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Έλεγχος μελετών, εφόσον η ένταξη γίνεται μετά από την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κπόνηση της μελέτ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κτίμηση 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ρονοδι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αγράμματο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ργου (χρονικός προγραμματισμός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–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πληρότητα, αλληλουχία δραστηριοτήτων, αξιοπιστία των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προβλεπόμενων χρόνων για κάθε δραστηριότητα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χνικ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ύ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δελτί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νταξης έργου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φακέλου για ένταξη έργο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5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78920"/>
            <a:ext cx="967284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Καταγραφή δράσεων υποστήριξης του Συμβούλου ανά στάδιο υλοποίησης έργου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520" y="1258920"/>
            <a:ext cx="96728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l-GR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2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ΑΝΑΘΕΣΗ ΜΕΛΕΤΩ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Προετοιμασία και υλοποίηση της διαδικασίας δημοπράτησης και της σύννομης ανάθεσης όλων των αναγκαίων συμβάσεων μελετών και ερευνών του έργου (συνδρομή στην σύνταξη τευχών ή έλεγχος τευχών προκήρυξης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κτίμηση 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ρονοδι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αγράμματο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μελέτης (χρονικός προγραμματισμός φάσεων – σταδίων μελέτης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Νομική υποστήριξη (εφόσον απαιτηθεί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 τε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χνικ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ύ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δελτί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έργου, προσαρμογή διορθώσε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ων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(εφόσον απαιτηθεί) πριν από την προκήρυξη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ξέταση φακέλου για τον έλεγχο προέγκρισης πριν από την δημοπράτηση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6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ξέταση φακέλου για τον έλεγχο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προέγκρισης πριν από την υπογραφή της σύμβασης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178920"/>
            <a:ext cx="967284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Καταγραφή δράσεων υποστήριξης του Συμβούλου ανά στάδιο υλοποίησης έργου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258920"/>
            <a:ext cx="967284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l-GR" sz="18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3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 ΔΗΜΟΠΡΑΤΗΣΗ ΚΑΤΑΣΚΕΥ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Τεύχη δημοπράτησης και διαδικασία δημοπράτησης (έλεγχος,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υμπλήρωση, επάρκεια τευχών, επιλογή συστήματος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δημοπράτησης, κ.λ.π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ε ζ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ητήματα απαλλοτριώσεω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ην δ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ιαδικασία εξασφάλισης αδειοδοτήσεων εάν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κκρεμού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Κοστολόγηση έργου εάν χρειασθεί προσαρμογή με νέα τιμολόγια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κτίμηση χ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ρονοδι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αγράμματο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ργου (χρονικός προγραμματισμός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Νομική υποστήριξη (εφόσον απαιτηθεί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χνικ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ύ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δελτί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ργου, προσαρμογή διορθώσεων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εφόσον απαιτείται) πριν από την δημοπράτηση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ξέταση φακέλου για τον έλεγχο πριν από την δημοπράτηση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571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ξέταση φακέλου πριν από την υπογραφή της σύμβασης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78920"/>
            <a:ext cx="96710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Καταγραφή δράσεων υποστήριξης του Συμβούλου ανά στάδιο υλοποίησης έργου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220760"/>
            <a:ext cx="96710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l-GR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4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 ΕΚΤΕΛΕΣΗ ΚΑΤΑΣΚΕΥ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ε ζητήματα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απαλλοτριώσεων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και στην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ξασφάλιση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         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αδειοδοτήσεων εάν εκκρεμού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Διοίκηση έργου, ήτοι υποστήριξη στον Φ.Υ. σχετικά με την γενική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εξέλιξη της υλοποίησης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του έργου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(χρονοδιάγραμμα, ποιότητα,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οικονομικά στοιχεία, πρόοδος φυσικού αντικειμένου, έγκαιρη λήψη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μέτρων κ.λ.π.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Έλεγχος χρονοδιαγράμματος κατασκευής – τροποποίηση εφόσον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απαιτείτα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Έλεγχος επιμετρήσεων και πιστοποιήσεων εάν έχουν γίνει πρόσφατα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(επιλεξιμότητα, επάρκεια, πληρότητα, συμβατότητα σε σχέση με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εγκεκριμένες συμβατικές ποσότητες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26496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Νομική υποστήριξη (εφόσον απαιτηθεί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967104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Καταγραφή δράσεων υποστήριξης του Συμβούλου ανά στάδιο υλοποίησης έργου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6920" y="1794960"/>
            <a:ext cx="967104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l-GR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4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 ΕΚΤΕΛΕΣΗ ΚΑΤΑΣΚΕΥΗΣ (συνέχεια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για τον έλεγχο της π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ιότητα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κατασκευής (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τήρηση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ρογράμματος ποιότητας, απαιτούμενοι έλεγχοι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- δοκιμέ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πιστοποιητικά, κ.λ.π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για τον έλεγχο της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ήρηση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εριβαλλοντικών όρων και κανόνων ασφαλείας εργοταξίο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ις ε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ργασίες συναρμόδιων φορέων εφόσον υπάρχουν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ην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ροποποίηση μελέτης εάν απαιτείται και κατάρτιση φακέλου υποβολής πρότασης τροποποίησ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χνικ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ύ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δελτί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ργου, προσαρμογή διορθώσεων εφόσον γίνει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η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τροπ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π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ίηση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4024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32868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ην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μηματική παράδοση έργου εφόσον απαιτείτα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78920"/>
            <a:ext cx="96710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Καταγραφή δράσεων υποστήριξης του Συμβούλου ανά στάδιο υλοποίησης έργου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7280" y="1979280"/>
            <a:ext cx="9671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l-GR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5.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ffcc00"/>
                </a:solidFill>
                <a:latin typeface="Verdana"/>
              </a:rPr>
              <a:t> ΟΛΟΚΛΗΡΩΣΗ ΕΡΓΟ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ον έ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λεγχο επιμετρήσεων και πιστοποιήσεων, αφορά στην τελική επιμέτρηση και τελικό λογαριασμό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ποστήριξη στην π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αραλαβή έργου και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στον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έλεγχο σχεδίων “ως κατασ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κ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υάσθησαν”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Νομική υποστήριξη (εφόσον απαιτηθεί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Εξέταση τ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εχνικ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ύ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δελτί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έργου, τροποποίηση με τελικά δεδομένα έργου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93880" indent="0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893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6680"/>
                <a:tab algn="l" pos="7632720"/>
                <a:tab algn="l" pos="8082000"/>
                <a:tab algn="l" pos="8531280"/>
                <a:tab algn="l" pos="8980560"/>
                <a:tab algn="l" pos="940752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Δ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ήλωση ολοκλήρωση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360" y="395280"/>
            <a:ext cx="968544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Πρόσληψη Συμβούλου Υποστήριξης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5640" y="1332000"/>
            <a:ext cx="968508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just">
              <a:lnSpc>
                <a:spcPts val="2775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ffcc00"/>
                </a:solidFill>
                <a:uFillTx/>
                <a:latin typeface="Arial Unicode MS"/>
                <a:ea typeface="Arial Unicode MS"/>
              </a:rPr>
              <a:t>Α.</a:t>
            </a:r>
            <a:r>
              <a:rPr b="1" lang="el-GR" sz="2200" spc="-1" strike="noStrike" u="sng">
                <a:solidFill>
                  <a:srgbClr val="ffcc00"/>
                </a:solidFill>
                <a:uFillTx/>
                <a:latin typeface="Arial Unicode MS"/>
                <a:ea typeface="Arial Unicode MS"/>
              </a:rPr>
              <a:t>Α: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ΥΠ.ΟΙ.Ο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ffcc00"/>
                </a:solidFill>
                <a:uFillTx/>
                <a:latin typeface="Arial Unicode MS"/>
                <a:ea typeface="Arial Unicode MS"/>
              </a:rPr>
              <a:t>ΔΙΑΓΩΝΙΣΜΟΣ ΓΙΑ ΤΗΝ ΠΡΟΣΛΗΨΗ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: Σ.Υ. των Φορέων Υλοποίησης Συγχρηματοδοτούμενων Τεχνικών Έργων Υποδομής 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στις 13 Περιφέρειες κατά την περίοδο 2000-200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ffcc00"/>
                </a:solidFill>
                <a:uFillTx/>
                <a:latin typeface="Arial Unicode MS"/>
                <a:ea typeface="Arial Unicode MS"/>
              </a:rPr>
              <a:t>ΑΝΑΔΟΧΟΣ Σ.Υ. ΓΙΑ ΤΗΝ ΗΠΕΙΡΟ: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Κ/Ξ ΒΙΩΣΙΜΗ ΑΝΑΠΤΥΞΗ</a:t>
            </a:r>
            <a:r>
              <a:rPr b="1" lang="el-GR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Τεχνικά Γραφεία ΑΛΦΑ ΣΥΜΒΟΥΛΟΙ ΜΗΧΑΝΙΚΟΙ &amp;  ΣΥΝΘΕΣΗ ΚΑΙ ΕΡΕΥΝΑ, 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με πολύχρονη εμπειρία στην Μελέτη, Επίβλεψη, Διαχείριση Τεχνικών Έργων Υποδομή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indent="0" algn="just">
              <a:lnSpc>
                <a:spcPct val="102000"/>
              </a:lnSpc>
              <a:spcBef>
                <a:spcPts val="5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ffcc00"/>
                </a:solidFill>
                <a:uFillTx/>
                <a:latin typeface="Arial Unicode MS"/>
                <a:ea typeface="Arial Unicode MS"/>
              </a:rPr>
              <a:t>ΕΚΠΡΟΣΩΠΟΣ ΤΗΣ Κ/Ξ:</a:t>
            </a:r>
            <a:r>
              <a:rPr b="1" lang="en-GB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Δ. Αναγνωστόπουλος, Πολ. Μηχανικός Μsc, </a:t>
            </a:r>
            <a:r>
              <a:rPr b="1" lang="en-GB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με μεταπτυχιακές σπουδές στο Παρίσι στην διαχείριση συγκοινωνιακών έργων και πολύχρονη εμπειρία στην Ελλάδα και στην Ευρώπη στους τομείς διαχείρισης έργων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0360" y="720360"/>
            <a:ext cx="8567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Πρόοδος υλοποίησης του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000" y="2160360"/>
            <a:ext cx="918684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 algn="just">
              <a:lnSpc>
                <a:spcPct val="81000"/>
              </a:lnSpc>
              <a:spcBef>
                <a:spcPts val="201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06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Ο Σ.Υ. έχει συγκεντρώσει και αξιολογήσει επίκαιρα ποσοτικά και ποιοτικά </a:t>
            </a:r>
            <a:r>
              <a:rPr b="1" lang="en-US" sz="2200" spc="-1" strike="noStrike">
                <a:solidFill>
                  <a:srgbClr val="ff9933"/>
                </a:solidFill>
                <a:latin typeface="Arial Unicode MS"/>
              </a:rPr>
              <a:t>στοιχεία των ενταγμένων έργων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του Ε.Π. της προγραμματικής περιόδου 2000-0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201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06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Ο Σ.Υ. έχει συγκεντρώσει και αξιολογήσει επίκαιρα ποσοτικά και ποιοτικά </a:t>
            </a:r>
            <a:r>
              <a:rPr b="1" lang="en-US" sz="2200" spc="-1" strike="noStrike">
                <a:solidFill>
                  <a:srgbClr val="ff9933"/>
                </a:solidFill>
                <a:latin typeface="Arial Unicode MS"/>
              </a:rPr>
              <a:t>στοιχεία των μελετών του Π.Δ.Ε.,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που αφορούν σε τεχνικά έργα εν δυνάμει προς ένταξη στα προγράμματα της νέας προγραμματικής περιόδου 2007-13.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900000"/>
            <a:ext cx="85676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Πρόοδος υλοποίησης του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3520" y="1800000"/>
            <a:ext cx="918684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 algn="just">
              <a:lnSpc>
                <a:spcPct val="81000"/>
              </a:lnSpc>
              <a:spcBef>
                <a:spcPts val="224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06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Ο Σ.Υ. έχει </a:t>
            </a:r>
            <a:r>
              <a:rPr b="1" lang="en-GB" sz="2200" spc="-1" strike="noStrike">
                <a:solidFill>
                  <a:srgbClr val="ff9933"/>
                </a:solidFill>
                <a:latin typeface="Verdana"/>
              </a:rPr>
              <a:t>συντάξει-υποβάλε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i)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Έκθεση Αξιολόγησ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ου αφορά στην πρόοδο του Ε.Π.,  καθώς και στην επάρκεια των Φ.Υ./Τ.Δ. για την υλοποίηση των έργων,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η οποία έχει εγκριθεί και παραληφθεί από την Ε.Π.Π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ii)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Συνολικό Πρόγραμμα Δράσ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και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iii)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Αναλυτικό Πρόγραμμα Δράσης έτους 2007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Τα α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νωτέρω προγράμματα έχουν εξεταστεί και παραληφθεί από την Ε.Π.Π.</a:t>
            </a:r>
            <a:r>
              <a:rPr b="0" lang="en-GB" sz="19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6000"/>
              </a:lnSpc>
              <a:spcBef>
                <a:spcPts val="601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 Unicode MS"/>
              </a:rPr>
              <a:t>Σ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τα προγράμματα δράσης αποτυπώθηκε η κατάσταση των έργων και οι υπολειπόμενες εργασίες μέχρι την ολοκλήρωσή τους.</a:t>
            </a:r>
            <a:r>
              <a:rPr b="0" lang="el-GR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96840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Πρόοδος υλοποίησης του έργου του Σ.Υ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079640"/>
            <a:ext cx="9684000" cy="57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81000"/>
              </a:lnSpc>
              <a:spcBef>
                <a:spcPts val="74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έχει υποβάλει </a:t>
            </a:r>
            <a:r>
              <a:rPr b="0" lang="en-GB" sz="2200" spc="-1" strike="noStrike" u="sng">
                <a:solidFill>
                  <a:srgbClr val="ff9933"/>
                </a:solidFill>
                <a:uFillTx/>
                <a:latin typeface="Arial Unicode MS"/>
              </a:rPr>
              <a:t>Έκθεση Μεθοδολογίας &amp; Οργάνωσης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,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ου αφορά στο μεθοδολογικό πλαίσιο υλοποίησης του 'Εργου του στην Περιφέρεια Ηπείρου. Η ανάγκη διατύπωσης συγκεκριμένου μεθοδολογικού πλαισίου προκύπτει λόγω του σύνθετου αντικειμένου του Σ.Υ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 Σ.Υ. διατηρεί συνεχώς </a:t>
            </a:r>
            <a:r>
              <a:rPr b="1" lang="el-GR" sz="2200" spc="-1" strike="noStrike">
                <a:solidFill>
                  <a:srgbClr val="ff9933"/>
                </a:solidFill>
                <a:latin typeface="Arial Unicode MS"/>
              </a:rPr>
              <a:t>επικαιροποιημένα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όλα τα </a:t>
            </a:r>
            <a:r>
              <a:rPr b="1" lang="el-GR" sz="2200" spc="-1" strike="noStrike">
                <a:solidFill>
                  <a:srgbClr val="ff9933"/>
                </a:solidFill>
                <a:latin typeface="Arial Unicode MS"/>
              </a:rPr>
              <a:t>στοιχεία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που απαιτούνται για την </a:t>
            </a:r>
            <a:r>
              <a:rPr b="1" lang="el-GR" sz="2200" spc="-1" strike="noStrike">
                <a:solidFill>
                  <a:srgbClr val="ff9933"/>
                </a:solidFill>
                <a:latin typeface="Arial Unicode MS"/>
              </a:rPr>
              <a:t>παρακολούθηση της εξέλιξης των έργων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, αφού στα πλαίσια της προόδου υλοποίησης του έργου του, επικαιροποιεί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οικονομικό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και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φυσικό αντικείμεν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των έργων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χρόν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υς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υλοποίησης κ.λ.π. στην ήδη δομημένη βάση δεδομένων των έργων αρμοδιότητάς του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. Η επικαιροποίηση αυτή δίδει τις </a:t>
            </a:r>
            <a:r>
              <a:rPr b="1" lang="el-GR" sz="2200" spc="-1" strike="noStrike">
                <a:solidFill>
                  <a:srgbClr val="ff9933"/>
                </a:solidFill>
                <a:latin typeface="Arial Unicode MS"/>
              </a:rPr>
              <a:t>επόμενες ενέργειες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που θα απαιτηθούν για την ορθή παρακολούθηση και </a:t>
            </a:r>
            <a:r>
              <a:rPr b="1" lang="el-GR" sz="2200" spc="-1" strike="noStrike">
                <a:solidFill>
                  <a:srgbClr val="ff9933"/>
                </a:solidFill>
                <a:latin typeface="Arial Unicode MS"/>
              </a:rPr>
              <a:t>υποστήριξη των έργων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θ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α συντάξει ετήσια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Έκθεση Προόδο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και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 Unicode MS"/>
              </a:rPr>
              <a:t>Τελική Έκθεση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Arial Unicode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178920"/>
            <a:ext cx="968076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ffcc00"/>
                </a:solidFill>
                <a:latin typeface="Verdana"/>
              </a:rPr>
              <a:t>Βέλτιστος τ</a:t>
            </a:r>
            <a:r>
              <a:rPr b="0" lang="en-GB" sz="2800" spc="-1" strike="noStrike">
                <a:solidFill>
                  <a:srgbClr val="ffcc00"/>
                </a:solidFill>
                <a:latin typeface="Verdana"/>
              </a:rPr>
              <a:t>ρόπος υλοποίησης του έργου του Σ.Υ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9240" y="1060200"/>
            <a:ext cx="96804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παρέχει συστηματική υποστήριξη στους Φ.Υ. σύμφωνα με τις ανάγκες των Φορέων και τις οδηγίες-κατευθύνσεις της Διαχειριστικής Αρχής, κατά έργο και υποέργο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ανάλογα με το στάδιο υλοποίηση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στο πλαίσιο του εγκεκριμένου από την Ε.Π.Π. ετήσιου Αναλυτικού Προγράμματος Δράσης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Η επίτευξη του στόχου για την ουσιαστική υποστήριξη των Φορέων, προϋποθέτει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l-GR" sz="2300" spc="-1" strike="noStrike" u="sng">
                <a:solidFill>
                  <a:srgbClr val="ffff66"/>
                </a:solidFill>
                <a:uFillTx/>
                <a:latin typeface="Arial Unicode MS"/>
              </a:rPr>
              <a:t>Καλή και συνεχή συνεργασία των μελών του Συμβούλου με τα αρμόδια στελέχη των Τεχνικών Υπηρεσιών των Φορέων Υλοποίησης - διαμόρφωση συγκεκριμένων αιτημάτων των Φορέων προς τον Συντονιστή και τα εντεταλμένα στελέχη του Συμβούλου, είτε με τηλεφωνική επικοινωνία, είτε με διαμόρφωση γραπτού σχετικού αιτήματος, είτε με επιτόπου επίσκεψη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Arial Unicode MS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6920" y="-360"/>
            <a:ext cx="968076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ffcc00"/>
                </a:solidFill>
                <a:latin typeface="Verdana"/>
              </a:rPr>
              <a:t>Βέλτιστος τ</a:t>
            </a:r>
            <a:r>
              <a:rPr b="0" lang="en-GB" sz="2800" spc="-1" strike="noStrike">
                <a:solidFill>
                  <a:srgbClr val="ffcc00"/>
                </a:solidFill>
                <a:latin typeface="Verdana"/>
              </a:rPr>
              <a:t>ρόπος υλοποίησης του έργου του Σ.Υ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6920" y="755280"/>
            <a:ext cx="96807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 algn="just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lang="el-GR" sz="2400" spc="-1" strike="noStrike">
                <a:solidFill>
                  <a:srgbClr val="ff9900"/>
                </a:solidFill>
                <a:latin typeface="Verdana"/>
              </a:rPr>
              <a:t>	</a:t>
            </a:r>
            <a:r>
              <a:rPr b="1" i="1" lang="el-GR" sz="2300" spc="-1" strike="noStrike" u="sng">
                <a:solidFill>
                  <a:srgbClr val="ffff66"/>
                </a:solidFill>
                <a:uFillTx/>
                <a:latin typeface="Arial Unicode MS"/>
              </a:rPr>
              <a:t>Άμεση επικοινωνία των Φορέων </a:t>
            </a:r>
            <a:r>
              <a:rPr b="1" i="1" lang="en-GB" sz="2300" spc="-1" strike="noStrike" u="sng">
                <a:solidFill>
                  <a:srgbClr val="ffff66"/>
                </a:solidFill>
                <a:uFillTx/>
                <a:latin typeface="Arial Unicode MS"/>
              </a:rPr>
              <a:t>με τον Σύμβουλο για επείγουσες διαδικασίες που λόγω της απαίτησης για άμεση επίλυση αντιμετωπίζονται ως πρώτης προτεραιότητας θέματα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300" spc="-1" strike="noStrike">
                <a:solidFill>
                  <a:srgbClr val="ffff66"/>
                </a:solidFill>
                <a:latin typeface="Arial Unicode MS"/>
              </a:rPr>
              <a:t>	</a:t>
            </a:r>
            <a:r>
              <a:rPr b="1" i="1" lang="en-GB" sz="2300" spc="-1" strike="noStrike" u="sng">
                <a:solidFill>
                  <a:srgbClr val="ffff66"/>
                </a:solidFill>
                <a:uFillTx/>
                <a:latin typeface="Arial Unicode MS"/>
              </a:rPr>
              <a:t>Τακτικές επισκέψεις του Συμβούλου στους Φορείς Υλοποίησης</a:t>
            </a:r>
            <a:r>
              <a:rPr b="1" i="1" lang="el-GR" sz="2300" spc="-1" strike="noStrike" u="sng">
                <a:solidFill>
                  <a:srgbClr val="ffff66"/>
                </a:solidFill>
                <a:uFillTx/>
                <a:latin typeface="Arial Unicode MS"/>
              </a:rPr>
              <a:t> και επιτόπου των έργων - εκ των προτέρων ενημέρωση των Φορέων από τον Σύμβουλο για τις επικείμενες επισκέψεις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l-GR" sz="2300" spc="-1" strike="noStrike">
                <a:solidFill>
                  <a:srgbClr val="ffff66"/>
                </a:solidFill>
                <a:latin typeface="Arial Unicode MS"/>
              </a:rPr>
              <a:t>	</a:t>
            </a:r>
            <a:r>
              <a:rPr b="1" i="1" lang="el-GR" sz="2300" spc="-1" strike="noStrike">
                <a:solidFill>
                  <a:srgbClr val="ffff66"/>
                </a:solidFill>
                <a:latin typeface="Arial Unicode MS"/>
              </a:rPr>
              <a:t> </a:t>
            </a:r>
            <a:r>
              <a:rPr b="1" i="1" lang="el-GR" sz="2300" spc="-1" strike="noStrike" u="sng">
                <a:solidFill>
                  <a:srgbClr val="ffff66"/>
                </a:solidFill>
                <a:uFillTx/>
                <a:latin typeface="Arial Unicode MS"/>
              </a:rPr>
              <a:t>Ενημέρωση του εντεταλμένου στελέχους του Συμβούλου, κατά την επιτόπου επίσκεψη στον Φορέα, των στοιχείων του έργου από τον Φάκελο αυτού, για την πληρέστερη υποστήριξη επί  σχετικών αιτημάτων του Φορέα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lnSpc>
                <a:spcPct val="104000"/>
              </a:lnSpc>
              <a:spcBef>
                <a:spcPts val="550"/>
              </a:spcBef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2300" spc="-1" strike="noStrike">
                <a:solidFill>
                  <a:srgbClr val="ffff66"/>
                </a:solidFill>
                <a:latin typeface="Arial Unicode MS"/>
              </a:rPr>
              <a:t>	</a:t>
            </a:r>
            <a:r>
              <a:rPr b="1" lang="el-GR" sz="2300" spc="-1" strike="noStrike">
                <a:solidFill>
                  <a:srgbClr val="ffff66"/>
                </a:solidFill>
                <a:latin typeface="Arial Unicode MS"/>
              </a:rPr>
              <a:t>        </a:t>
            </a:r>
            <a:r>
              <a:rPr b="1" i="1" lang="en-GB" sz="2300" spc="-1" strike="noStrike" u="sng">
                <a:solidFill>
                  <a:srgbClr val="ffff66"/>
                </a:solidFill>
                <a:uFillTx/>
                <a:latin typeface="Arial Unicode MS"/>
              </a:rPr>
              <a:t>Διαβούλευση με Διαχειριστική Αρχή και Ε.Π.Π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360" y="971640"/>
            <a:ext cx="9684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1000"/>
              </a:lnSpc>
              <a:spcBef>
                <a:spcPts val="4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Διοίκηση της σύμβασης του Σ.Υ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360360" y="2519280"/>
            <a:ext cx="91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1079640" y="1979640"/>
            <a:ext cx="864072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Η παρακολούθηση της εκτέλεσης του έργου του Σ.Υ. και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ο έλεγχος/παραλαβή των παραδοτέων του, γίνεται από την </a:t>
            </a:r>
            <a:r>
              <a:rPr b="1" lang="el-GR" sz="2300" spc="-1" strike="noStrike">
                <a:solidFill>
                  <a:srgbClr val="ff9933"/>
                </a:solidFill>
                <a:latin typeface="Arial Unicode MS"/>
              </a:rPr>
              <a:t>Επιτροπή Παρακολούθησης και Παραλαβής</a:t>
            </a:r>
            <a:r>
              <a:rPr b="0" lang="el-GR" sz="2300" spc="-1" strike="noStrike">
                <a:solidFill>
                  <a:srgbClr val="ff9933"/>
                </a:solidFill>
                <a:latin typeface="Arial Unicode MS"/>
              </a:rPr>
              <a:t> </a:t>
            </a:r>
            <a:r>
              <a:rPr b="1" lang="el-GR" sz="2300" spc="-1" strike="noStrike">
                <a:solidFill>
                  <a:srgbClr val="ff9933"/>
                </a:solidFill>
                <a:latin typeface="Arial Unicode MS"/>
              </a:rPr>
              <a:t>(Ε.Π.Π.)</a:t>
            </a:r>
            <a:r>
              <a:rPr b="0" lang="el-GR" sz="2200" spc="-1" strike="noStrike">
                <a:solidFill>
                  <a:srgbClr val="ff9933"/>
                </a:solidFill>
                <a:latin typeface="Arial Unicode MS"/>
              </a:rPr>
              <a:t>,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που αποτελείται από δύο (2) μέλη της ΕΥΔ ΠΕΠ ΗΠΕΙΡΟΥ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και ένα (1) μέλος του ΥΠ.ΟΙ.Ο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1080720"/>
            <a:ext cx="8567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Σκοπός της πρόσληψης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5520" y="2015640"/>
            <a:ext cx="918684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Ο Σ.Υ. παρέχει </a:t>
            </a:r>
            <a:r>
              <a:rPr b="1" lang="en-US" sz="2300" spc="-1" strike="noStrike">
                <a:solidFill>
                  <a:srgbClr val="ff9933"/>
                </a:solidFill>
                <a:latin typeface="Arial Unicode MS"/>
              </a:rPr>
              <a:t>συστηματική τεχνική υποστήριξη</a:t>
            </a: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στους φορείς υλοποίησης συγχρηματοδοτούμενων τεχνικών έργων υποδομής, στις διαδικασίες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1000"/>
              </a:lnSpc>
              <a:buSzPct val="102909"/>
              <a:buBlip>
                <a:blip r:embed="rId1"/>
              </a:buBlip>
              <a:tabLst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προγραμματισμού / προσδιορισμού / σχεδιασμού των </a:t>
            </a: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έργων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ff9933"/>
                </a:solidFill>
                <a:latin typeface="Arial Unicode MS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1000"/>
              </a:lnSpc>
              <a:buSzPct val="102909"/>
              <a:buBlip>
                <a:blip r:embed="rId2"/>
              </a:buBlip>
              <a:tabLst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 </a:t>
            </a: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μελέτης / ωρίμανσης και δημοπράτησης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1000"/>
              </a:lnSpc>
              <a:buSzPct val="102909"/>
              <a:buBlip>
                <a:blip r:embed="rId3"/>
              </a:buBlip>
              <a:tabLst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 </a:t>
            </a:r>
            <a:r>
              <a:rPr b="0" lang="en-US" sz="2200" spc="-1" strike="noStrike">
                <a:solidFill>
                  <a:srgbClr val="ff9933"/>
                </a:solidFill>
                <a:latin typeface="Arial Unicode MS"/>
              </a:rPr>
              <a:t>παρακολούθησης / επίβλεψης και διοίκησης αυτών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1000"/>
              </a:lnSpc>
              <a:buNone/>
              <a:tabLst>
                <a:tab algn="l" pos="0"/>
                <a:tab algn="l" pos="11916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με στόχο την ενίσχυση της παραγωγής και την επιτυχή ολοκλήρωση των έργων στο πλαίσιο των υποχρεώσεων των φορέων ως Τελικών Δικαιούχων των Επιχειρησιακών Προγραμμάτων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280" y="610920"/>
            <a:ext cx="856764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Σκοπός της πρόσληψης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2000" y="1042560"/>
            <a:ext cx="8732880" cy="57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Με την τεχνική υποστήριξη, επιδιώκεται η συνδρομή στους Φ.Υ και στην Δ.Α. για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-250920" algn="just">
              <a:lnSpc>
                <a:spcPct val="91000"/>
              </a:lnSpc>
              <a:buSzPct val="102871"/>
              <a:buBlip>
                <a:blip r:embed="rId1"/>
              </a:buBlip>
              <a:tabLst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ff9933"/>
                </a:solidFill>
                <a:latin typeface="Arial Unicode MS"/>
              </a:rPr>
              <a:t>Την προώθηση του φυσικού αντικειμένο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των έργων, με την απεμπλοκή τους και την επιτάχυνση της υλοποίησής τους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-250920" algn="just">
              <a:lnSpc>
                <a:spcPct val="91000"/>
              </a:lnSpc>
              <a:buSzPct val="102909"/>
              <a:buBlip>
                <a:blip r:embed="rId2"/>
              </a:buBlip>
              <a:tabLst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Arial Unicode MS"/>
              </a:rPr>
              <a:t>Την τήρηση της νομιμότητα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κατά την υλοποίηση των έργων σε σχέση με την κείμενη νομοθεσία δημοσίων έργων, υπηρεσιών και προμηθειών και το βασικό κανονιστικό πλαίσιο του ΚΠΣ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-250920" algn="just">
              <a:lnSpc>
                <a:spcPct val="91000"/>
              </a:lnSpc>
              <a:buSzPct val="102871"/>
              <a:buBlip>
                <a:blip r:embed="rId3"/>
              </a:buBlip>
              <a:tabLst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ff9933"/>
                </a:solidFill>
                <a:latin typeface="Arial Unicode MS"/>
              </a:rPr>
              <a:t>Την προετοιμασία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για την εμπρόθεσμη υλοποίηση των παρεμβάσεων του </a:t>
            </a:r>
            <a:r>
              <a:rPr b="1" lang="en-GB" sz="2300" spc="-1" strike="noStrike">
                <a:solidFill>
                  <a:srgbClr val="ffffff"/>
                </a:solidFill>
                <a:latin typeface="Arial Unicode MS"/>
              </a:rPr>
              <a:t>ΕΣΠΑ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(με την προετοιμασία έργων, π.χ. με μελέτες)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0920" indent="0" algn="just">
              <a:lnSpc>
                <a:spcPct val="91000"/>
              </a:lnSpc>
              <a:buNone/>
              <a:tabLst>
                <a:tab algn="l" pos="0"/>
                <a:tab algn="l" pos="369720"/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1080720"/>
            <a:ext cx="85676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Αντικείμενο και διάρκεια των υπηρεσιών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5640" y="2195640"/>
            <a:ext cx="92660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5960" indent="-885960" algn="just">
              <a:lnSpc>
                <a:spcPct val="9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ι υπηρεσίες του Σ.Υ. παρέχονται σε έργα που εκτελούνται στα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γεωγραφικά όρια της Περιφέρειας Ηπείρο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και αφορούν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85960" indent="0" algn="just">
              <a:lnSpc>
                <a:spcPct val="91000"/>
              </a:lnSpc>
              <a:spcBef>
                <a:spcPts val="201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85960" indent="0" algn="just">
              <a:lnSpc>
                <a:spcPct val="91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i)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την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υποστήριξη υλοποίησης και παραλαβής</a:t>
            </a:r>
            <a:r>
              <a:rPr b="0" lang="en-GB" sz="22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των συγχρηματοδοτούμενων έργων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από τα Ε.Π. του Κ.Π.Σ. (με έμφαση στο Π.Ε.Π. ΗΠΕΙΡΟΥ), το Ταμείο Συνοχής και τις Κοινοτικές Πρωτοβουλίες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της προγραμματικής περιόδου 2000-06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και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85960" indent="0" algn="just">
              <a:lnSpc>
                <a:spcPct val="91000"/>
              </a:lnSpc>
              <a:spcBef>
                <a:spcPts val="201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85960" indent="0" algn="just">
              <a:lnSpc>
                <a:spcPct val="91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(ii)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στην τεχνική προετοιμασία των έργων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που αποτελούν δυνητικά ύλη προς συγχρηματοδότηση κατά τη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νέα προγραμματική περίοδο 2007-13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85960" indent="0" algn="just">
              <a:lnSpc>
                <a:spcPct val="91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1135080"/>
            <a:ext cx="85676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Αντικείμενο και διάρκεια των υπηρεσιών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6000" y="2700000"/>
            <a:ext cx="932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08120" indent="-63036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768240"/>
                <a:tab algn="l" pos="1035000"/>
                <a:tab algn="l" pos="1301760"/>
                <a:tab algn="l" pos="1568520"/>
                <a:tab algn="l" pos="1851120"/>
                <a:tab algn="l" pos="2101680"/>
                <a:tab algn="l" pos="2368440"/>
                <a:tab algn="l" pos="2635200"/>
                <a:tab algn="l" pos="2901960"/>
                <a:tab algn="l" pos="3168720"/>
                <a:tab algn="l" pos="3451320"/>
                <a:tab algn="l" pos="3701880"/>
                <a:tab algn="l" pos="3968640"/>
                <a:tab algn="l" pos="4235400"/>
                <a:tab algn="l" pos="4502160"/>
                <a:tab algn="l" pos="4768920"/>
                <a:tab algn="l" pos="5051520"/>
                <a:tab algn="l" pos="5302080"/>
                <a:tab algn="l" pos="5568840"/>
                <a:tab algn="l" pos="5835600"/>
                <a:tab algn="l" pos="6486480"/>
                <a:tab algn="l" pos="7210440"/>
                <a:tab algn="l" pos="7934400"/>
                <a:tab algn="l" pos="8058240"/>
                <a:tab algn="l" pos="8507520"/>
                <a:tab algn="l" pos="8956800"/>
                <a:tab algn="l" pos="9406080"/>
                <a:tab algn="l" pos="9855360"/>
                <a:tab algn="l" pos="1030932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Η διάρκεια της σύμβασης καλύπτει, στην παρούσα φάση, την περίοδο από την υπογραφή της (Ιαν. 2007)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μέχρι το Δεκ. 2008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708120"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768240"/>
                <a:tab algn="l" pos="1035000"/>
                <a:tab algn="l" pos="1301760"/>
                <a:tab algn="l" pos="1568520"/>
                <a:tab algn="l" pos="1851120"/>
                <a:tab algn="l" pos="2101680"/>
                <a:tab algn="l" pos="2368440"/>
                <a:tab algn="l" pos="2635200"/>
                <a:tab algn="l" pos="2901960"/>
                <a:tab algn="l" pos="3168720"/>
                <a:tab algn="l" pos="3451320"/>
                <a:tab algn="l" pos="3701880"/>
                <a:tab algn="l" pos="3968640"/>
                <a:tab algn="l" pos="4235400"/>
                <a:tab algn="l" pos="4502160"/>
                <a:tab algn="l" pos="4768920"/>
                <a:tab algn="l" pos="5051520"/>
                <a:tab algn="l" pos="5302080"/>
                <a:tab algn="l" pos="5568840"/>
                <a:tab algn="l" pos="5835600"/>
                <a:tab algn="l" pos="6486480"/>
                <a:tab algn="l" pos="7210440"/>
                <a:tab algn="l" pos="7934400"/>
                <a:tab algn="l" pos="8058240"/>
                <a:tab algn="l" pos="8507520"/>
                <a:tab algn="l" pos="8956800"/>
                <a:tab algn="l" pos="9406080"/>
                <a:tab algn="l" pos="9855360"/>
                <a:tab algn="l" pos="1030932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708120" indent="-63036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768240"/>
                <a:tab algn="l" pos="1035000"/>
                <a:tab algn="l" pos="1301760"/>
                <a:tab algn="l" pos="1568520"/>
                <a:tab algn="l" pos="1851120"/>
                <a:tab algn="l" pos="2101680"/>
                <a:tab algn="l" pos="2368440"/>
                <a:tab algn="l" pos="2635200"/>
                <a:tab algn="l" pos="2901960"/>
                <a:tab algn="l" pos="3168720"/>
                <a:tab algn="l" pos="3451320"/>
                <a:tab algn="l" pos="3701880"/>
                <a:tab algn="l" pos="3968640"/>
                <a:tab algn="l" pos="4235400"/>
                <a:tab algn="l" pos="4502160"/>
                <a:tab algn="l" pos="4768920"/>
                <a:tab algn="l" pos="5051520"/>
                <a:tab algn="l" pos="5302080"/>
                <a:tab algn="l" pos="5568840"/>
                <a:tab algn="l" pos="5835600"/>
                <a:tab algn="l" pos="6486480"/>
                <a:tab algn="l" pos="7210440"/>
                <a:tab algn="l" pos="7934400"/>
                <a:tab algn="l" pos="8058240"/>
                <a:tab algn="l" pos="8507520"/>
                <a:tab algn="l" pos="8956800"/>
                <a:tab algn="l" pos="9406080"/>
                <a:tab algn="l" pos="9855360"/>
                <a:tab algn="l" pos="1030932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ι υπηρεσίες του Σ.Υ. αναπτύσσονται κατά τρόπο, ώστε να αντιμετωπίζονται εγκαίρως οι ανάγκες που προκύπτουν από τη μέχρι σήμερα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υλοποίηση των τεχνικών έργων υποδομής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921960"/>
            <a:ext cx="856764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Εγκατάσταση και Ομάδες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45760" y="1954080"/>
            <a:ext cx="89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έχει εγκατασταθεί σε γραφεία του, στην πόλη των Ιωαννίνων,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έδρα της Περιφέρειας Ηπείρου</a:t>
            </a:r>
            <a:r>
              <a:rPr b="0" lang="en-GB" sz="22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που βρίσκονται στο κτιριακό συγκρότημα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“Ριζάρειος Πολιτεία” εγγύς και έναντι των γραφείων της ΕΥΔ ΠΕΠ ΗΠΕΙΡΟ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-517680" algn="just">
              <a:lnSpc>
                <a:spcPct val="101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Σ.Υ. διαθέτει μία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Μόνιμη Ομάδα Έργου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αποτελούμενη από στελέχη υψηλής εμπειρίας σε τεχνικά θέματα και σε διαχείριση έργων του δημοσίου, με πλήρη και αποκλειστική απασχόληση στο έργο του Σ.Υ., εγκαταστημένη μονίμως στα γραφεία των Ιωαννίνων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517680" indent="0" algn="just">
              <a:lnSpc>
                <a:spcPct val="101000"/>
              </a:lnSpc>
              <a:spcBef>
                <a:spcPts val="550"/>
              </a:spcBef>
              <a:buNone/>
              <a:tabLst>
                <a:tab algn="l" pos="0"/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8920" y="899640"/>
            <a:ext cx="8567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1000"/>
              </a:lnSpc>
              <a:spcBef>
                <a:spcPts val="488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Verdana"/>
              </a:rPr>
              <a:t>Εγκατάσταση και Ομάδες Έργου του Σ.Υ.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5760" y="2033640"/>
            <a:ext cx="898668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6800" indent="-496800" algn="just">
              <a:lnSpc>
                <a:spcPct val="101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Ο  Σ.Υ. διαθέτει μία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Ομάδα Τεχνικής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Υποστήριξης</a:t>
            </a:r>
            <a:r>
              <a:rPr b="0" lang="en-GB" sz="2200" spc="-1" strike="noStrike">
                <a:solidFill>
                  <a:srgbClr val="ffcc66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τελεχωμένη από στελέχη που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διαθέτουν ακαδημαϊκή και επαγγελματική εξειδίκευση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96800" indent="0" algn="just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96800" indent="0" algn="just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  σε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όλες τις κατηγορίες έργων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(σε σχέση με το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υλοποιούμενο φυσικό  αντικείμενο), και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96800" indent="0" algn="just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-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σε </a:t>
            </a:r>
            <a:r>
              <a:rPr b="0" lang="en-GB" sz="2200" spc="-1" strike="noStrike">
                <a:solidFill>
                  <a:srgbClr val="ff9933"/>
                </a:solidFill>
                <a:latin typeface="Arial Unicode MS"/>
              </a:rPr>
              <a:t>όλες τις υποστηρικτικές επιστημονικές εργασίες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96800" indent="0">
              <a:lnSpc>
                <a:spcPct val="101000"/>
              </a:lnSpc>
              <a:spcBef>
                <a:spcPts val="176"/>
              </a:spcBef>
              <a:buNone/>
              <a:tabLst>
                <a:tab algn="l" pos="0"/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96800" indent="0" algn="just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590400"/>
                <a:tab algn="l" pos="1136520"/>
                <a:tab algn="l" pos="1225440"/>
                <a:tab algn="l" pos="1390680"/>
                <a:tab algn="l" pos="1746360"/>
                <a:tab algn="l" pos="2117880"/>
                <a:tab algn="l" pos="2457360"/>
                <a:tab algn="l" pos="2813040"/>
                <a:tab algn="l" pos="3168720"/>
                <a:tab algn="l" pos="3524400"/>
                <a:tab algn="l" pos="3879720"/>
                <a:tab algn="l" pos="4235400"/>
                <a:tab algn="l" pos="4591080"/>
                <a:tab algn="l" pos="4946760"/>
                <a:tab algn="l" pos="5318280"/>
                <a:tab algn="l" pos="5657760"/>
                <a:tab algn="l" pos="6013440"/>
                <a:tab algn="l" pos="6369120"/>
                <a:tab algn="l" pos="6724800"/>
                <a:tab algn="l" pos="7080120"/>
                <a:tab algn="l" pos="7435800"/>
                <a:tab algn="l" pos="7791480"/>
                <a:tab algn="l" pos="8147160"/>
                <a:tab algn="l" pos="8518680"/>
                <a:tab algn="l" pos="8956800"/>
                <a:tab algn="l" pos="9406080"/>
                <a:tab algn="l" pos="9855360"/>
                <a:tab algn="l" pos="1030464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el-GR" sz="2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 Unicode MS"/>
              </a:rPr>
              <a:t>καλύπτοντας στο μέγιστο δυνατό βαθμό όλες τις ανάγκες στους τομείς σχεδιασμού, παραγωγής και διοίκησης των υλοποιούμενων στα Ε.Π. έργων υποδομής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Περιφέρεια Ηπείρου</cp:lastModifiedBy>
  <dcterms:modified xsi:type="dcterms:W3CDTF">2007-12-18T12:11:57Z</dcterms:modified>
  <cp:revision>36</cp:revision>
  <dc:subject/>
  <dc:title>Διαφάνεια 1</dc:title>
</cp:coreProperties>
</file>