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191B-BFAE-4990-84BC-5B7D7D63BA76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71440" y="719280"/>
            <a:ext cx="4515120" cy="33861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22520"/>
            <a:ext cx="502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Τα σημαντικότερα όργανα τα οποία προβλέπονται από τον Νόμο και τα οποία εμπλέκονται στην διαδικασία της διαχείρισης-του ελέγχου και της εφαρμογής των αναπτυξιακών παρεμβάσεων της περιόδου 2007-2013 είναι τα εξής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 u="sng">
                <a:solidFill>
                  <a:srgbClr val="000000"/>
                </a:solidFill>
                <a:uFillTx/>
                <a:latin typeface="Arial"/>
              </a:rPr>
              <a:t>Διυπουργική Επιτροπή Κοινοτικών Προγραμμάτων</a:t>
            </a: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 = συντονισμός &amp; παρακολούθηση της εφαρμογής κοινοτικών προγραμμάτων &amp; πρωτοβουλιώ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 u="sng">
                <a:solidFill>
                  <a:srgbClr val="000000"/>
                </a:solidFill>
                <a:uFillTx/>
                <a:latin typeface="Arial"/>
              </a:rPr>
              <a:t>Διαχείριση Προγραμμάτων</a:t>
            </a: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= πραγματοποιείται από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Εθνική Αρχή Συντονισμού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η οποία υποστηρίζεται από την </a:t>
            </a:r>
            <a:r>
              <a:rPr b="0" lang="el-GR" sz="1000" spc="-1" strike="noStrike" u="sng">
                <a:solidFill>
                  <a:srgbClr val="000000"/>
                </a:solidFill>
                <a:uFillTx/>
                <a:latin typeface="Arial"/>
              </a:rPr>
              <a:t>Επιτροπή Εμπειρογνωμόνω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8 Διαχειριστικές Αρχές για τα Τομεακά  Ε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Ενδιάμεσοι Φορείς Διαχείριση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Λοιπές Ειδικές Υπηρεσίες (συντονισμού ή εφαρμογής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 u="sng">
                <a:solidFill>
                  <a:srgbClr val="000000"/>
                </a:solidFill>
                <a:uFillTx/>
                <a:latin typeface="Arial"/>
              </a:rPr>
              <a:t>Παρακολούθηση Προγραμμάτων</a:t>
            </a: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= γίνεται απ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Διάσκεψη Προέδρων</a:t>
            </a: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 Επ.Πα των ΕΠ του ΕΣΠΑ, του ΠΑΑ και του ΕΠ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Επιτροπές Παρακολούθησης Ε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 u="sng">
                <a:solidFill>
                  <a:srgbClr val="000000"/>
                </a:solidFill>
                <a:uFillTx/>
                <a:latin typeface="Arial"/>
              </a:rPr>
              <a:t>Χρηματορροές</a:t>
            </a: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= πραγματοποιούνται απ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Αρχή Πιστοποίησης</a:t>
            </a: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 u="sng">
                <a:solidFill>
                  <a:srgbClr val="000000"/>
                </a:solidFill>
                <a:uFillTx/>
                <a:latin typeface="Arial"/>
              </a:rPr>
              <a:t>Έλεγχος</a:t>
            </a: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= διενεργείται απ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Αρχή Ελέγχο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Συνιστώνται </a:t>
            </a:r>
            <a:r>
              <a:rPr b="0" lang="el-GR" sz="1000" spc="-1" strike="noStrike" u="sng">
                <a:solidFill>
                  <a:srgbClr val="000000"/>
                </a:solidFill>
                <a:uFillTx/>
                <a:latin typeface="Arial"/>
              </a:rPr>
              <a:t>Ανώνυμες Εταιρείες για υποστήριξη του σχεδιασμού, των φορέων, της παρακολούθησης &amp; της εφαρμογής</a:t>
            </a: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 = και είνα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ΑΟΠ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Ψηφιακές Ενισχύσεις ΑΕ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Διοικητική Αναδιοργάνωση ΑΕ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ΜΟΔ ΑΕ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ΔΗΜΟΣ ΑΕ</a:t>
            </a: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3D90-7578-442C-98F5-4228378B0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7B9E-CAD3-4C48-B02D-6F8BB299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EF8A-A221-4BF3-855E-8BBE7480C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D7F7-8C5A-4AFF-83A9-7401088A6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D276-2C58-4E93-AB78-2F2DCE88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4D0E-015A-47CA-A7E2-7C599DB9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8D70-40C2-4D7F-AE1D-A000B497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8472-CFF3-4ADE-9EE1-E6290EA2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34A8-DCB7-4A4A-B710-EB73F687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CF97-C89E-41E5-818D-DA26CF0A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1C9B-CA21-4E6A-A1C3-DE6DDF72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4390-D85F-4D50-8469-492A0653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6234-E4EF-446E-96FA-0D93197C3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492360" y="1484280"/>
            <a:ext cx="2808360" cy="3128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Εθνική Αρχή Συντονισμο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0000" y="907920"/>
            <a:ext cx="5111640" cy="33732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Διυπουργική Επιτροπή Κοινοτικών Προγραμμάτω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 rot="10800000">
            <a:off x="6154200" y="2491920"/>
            <a:ext cx="2667240" cy="531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8 Διαχειριστικές Αρχές για τα Τομεακά  Ε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 rot="10800000">
            <a:off x="1186920" y="3788280"/>
            <a:ext cx="1800360" cy="82404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13 Ενδιάμεσες Διαχειριστικές Αρχές για τα ΠΕ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 rot="10800000">
            <a:off x="755280" y="5012280"/>
            <a:ext cx="2879640" cy="703080"/>
          </a:xfrm>
          <a:prstGeom prst="rect">
            <a:avLst/>
          </a:prstGeom>
          <a:solidFill>
            <a:srgbClr val="ccffcc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Διάσκεψη Προέδρω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Επιτροπές Παρακολούθηση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 rot="10800000">
            <a:off x="463680" y="5949000"/>
            <a:ext cx="3465360" cy="580680"/>
          </a:xfrm>
          <a:prstGeom prst="rect">
            <a:avLst/>
          </a:prstGeom>
          <a:solidFill>
            <a:srgbClr val="ff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Αρχή Πιστοποίηση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Αρχή Ελέγχο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 rot="10800000">
            <a:off x="5722920" y="5082840"/>
            <a:ext cx="3176640" cy="26499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ΑΟΠ                                                                                                 Ψηφιακές Ενισχύσεις ΑΕ                                                                                             Διοικητική Αναδιοργάνωση ΑΕ                                                                                            ΜΟΔ ΑΕ                                                                                           ΔΗΜΟΣ Α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64000" y="1844640"/>
            <a:ext cx="2303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24360" y="1844640"/>
            <a:ext cx="208908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000000"/>
                </a:solidFill>
                <a:latin typeface="Times New Roman"/>
              </a:rPr>
              <a:t>Επιτροπή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000000"/>
                </a:solidFill>
                <a:latin typeface="Times New Roman"/>
              </a:rPr>
              <a:t>Εμπειρογνωμόνω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 rot="10800000">
            <a:off x="6156360" y="4068360"/>
            <a:ext cx="2378160" cy="337320"/>
          </a:xfrm>
          <a:prstGeom prst="rect">
            <a:avLst/>
          </a:prstGeom>
          <a:solidFill>
            <a:srgbClr val="99cc00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Λοιπές Ειδικές Υπηρεσίε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195280" y="1844640"/>
            <a:ext cx="230508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95640" y="263700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 rot="10800000">
            <a:off x="3492360" y="3493800"/>
            <a:ext cx="2159280" cy="337320"/>
          </a:xfrm>
          <a:prstGeom prst="rect">
            <a:avLst/>
          </a:prstGeom>
          <a:solidFill>
            <a:srgbClr val="ff6600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Ενδιάμεσοι Φορεί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1T08:33:09Z</dcterms:created>
  <dc:creator>evipapan</dc:creator>
  <dc:description/>
  <dc:language>en-US</dc:language>
  <cp:lastModifiedBy>evipapan</cp:lastModifiedBy>
  <dcterms:modified xsi:type="dcterms:W3CDTF">2008-01-07T13:21:12Z</dcterms:modified>
  <cp:revision>4</cp:revision>
  <dc:subject/>
  <dc:title>Διαφάνεια 1</dc:title>
</cp:coreProperties>
</file>