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42E-EFC9-4FD5-BC4A-1D81DC56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63F-30A5-4E81-8CB1-A26D3CA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158-0EA0-406A-AC05-094C2CCB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A3F-93F0-4EED-8A1D-B3B37728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97F-EE5E-4F5E-8E92-11A5A7AC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F48-FD7D-4625-90D5-7EA1660B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747-FF6C-475C-92C6-6496A9A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1D1-F45E-40F0-9AB0-87DB158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B23-9FDA-4E65-830C-97F01FE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57B-A00F-4301-A3BE-495622D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D4D-9EF7-42F5-808E-20BDF36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A95-EB14-47C2-BE89-D74AED6B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01D6-DB17-4549-A66C-7DCB2AF3994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06440" y="163440"/>
            <a:ext cx="6529320" cy="652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609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ΙΔΙΚΗ ΥΠΗΡΕΣΙΑ ΔΙΑΧΕΙΡΙΣ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ΠΕΠ ΗΠΕΙΡ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ΡΙΦΕΡΕΙΑΚΟ ΕΠΙΧΕΙΡΗΣΙΑΚΟ ΠΡΟΓΡΑΜΜΑ ΗΠΕΙΡΟΥ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1420920" cy="898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328760" cy="898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095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ΥΡΩΠΑΪΚΟ ΚΟΙΝΩΝΙΚΟ ΤΑΜ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9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029200"/>
          <a:ext cx="210492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029200"/>
                    <a:ext cx="2104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486080" y="1371600"/>
            <a:ext cx="6172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ΠΤΥΞΗ ΑΝΘΡΩΠΙΝΟΥ ΔΥΝΑΜΙΚΟΥ- ΑΠΑΣΧΟΛ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4F4-6CC7-4779-9EFC-65556BF23E61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77564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Αναγκαιότητα  η </a:t>
            </a: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πανεξέταση / επαναπροσδιορισμός 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042920" y="24210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στημάτων καθορισμού και εξειδίκευσης των προγραμμάτων κατάρτισης και λοιπών δράσεω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ων θεμάτων της  εταιρικότητας, της απασχόλησης    και της κοινωνικής ενσωμάτω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41E-A68C-4353-8AC8-C33FFB9EA4D1}" type="slidenum">
              <a:t>10</a:t>
            </a:fld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1420920" cy="89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328760" cy="898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62720" y="6095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ΕΥΡΩΠΑΪΚΟ ΚΟΙΝΩΝΙΚΟ ΤΑΜΕ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193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5029200"/>
          <a:ext cx="210492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029200"/>
                    <a:ext cx="2104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86080" y="1371600"/>
            <a:ext cx="6172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ΝΑΠΤΥΞΗ ΑΝΘΡΩΠΙΝΟΥ ΔΥΝΑΜΙΚΟΥ- ΑΠΑΣΧΟΛΗΣ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7B9-79D6-4970-BD1A-56402CF6EE4F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64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ΕΚΤ ΣΤΟ ΠΕΠ ΗΠΕΙΡ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ΟΛΙΚΟΣ ΠΡΟΥΠΟΛΟΓΙΣΜ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43.867.078 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ΣΟΣΤΟ ΔΗΜΟΣΙΑΣ ΔΑΠΑΝΗΣ ΤΟΥ ΠΕΠ ΗΠΕΙΡ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6,8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AEE-55C0-402D-9032-2356A92EC791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990360"/>
            <a:ext cx="7845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δημιουργούμενες νέες θέσεις εργασίας από την λειτουργία των </a:t>
            </a:r>
            <a:br>
              <a:rPr sz="4400"/>
            </a:br>
            <a:br>
              <a:rPr sz="4400"/>
            </a:b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προγραμμάτων  Δομών </a:t>
            </a:r>
            <a:br>
              <a:rPr sz="4400"/>
            </a:br>
            <a:br>
              <a:rPr sz="4400"/>
            </a:b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Κοινωνικών Υπηρεσιών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5A0-417B-4199-A8F9-7289CED26E9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914400" y="495360"/>
          <a:ext cx="6858000" cy="53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95360"/>
                    <a:ext cx="685800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6D6-FE03-47FF-8C46-69CBDDCB2563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8680" y="685800"/>
            <a:ext cx="784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Οι δημιουργούμενες νέες θέσεις εργασίας από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τις δράσεις προώθησης στην απασχόληση μέσω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του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Ο.Α.Ε.Δ </a:t>
            </a:r>
            <a:br>
              <a:rPr sz="4400"/>
            </a:b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(ΝΘΕ)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(ΝΕΕ) –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TAGE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7A5-3E0E-4FA9-85AD-C7CEE1F70EB2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896760" y="609480"/>
          <a:ext cx="7348680" cy="517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6760" y="609480"/>
                    <a:ext cx="734868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2C8-86A7-4B7E-905F-4B522F26318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28480" y="685800"/>
          <a:ext cx="8087040" cy="495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685800"/>
                    <a:ext cx="808704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CC7-6608-45FA-A4A6-0F280B59E0E2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80880" y="1600200"/>
          <a:ext cx="8382240" cy="310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838224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2E4-3326-487F-A9D3-8889BDCB5F0C}" type="slidenum">
              <a:t>18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6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ΑΠΟΣΤΟΛΗ ΤΟΥ ΕΚ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16765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Η συμβολή στην ανάπτυξη της απασχόληση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χάρη στην προώθηση της απασχολησιμότητα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του επιχειρηματικού πνεύματο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της ικανότητας προσαρμογή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και της ισότητας των ευκαιρι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καθώς και επένδυση στους ανθρώπινους πόρου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B4D-E69C-48FF-8A05-446806D35707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Μέτρο 5.1: </a:t>
            </a:r>
            <a:br>
              <a:rPr sz="1800"/>
            </a:br>
            <a:br>
              <a:rPr sz="1800"/>
            </a:b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ΠΡΟΩΘΗΣΗ ΤΩΝ ΚΟΙΝΩΝΙΚΩΝ ΥΠΗΡΕΣΙΩΝ ΚΑΙ ΤΗΣ ΙΣΟΤΗΤΑΣ ΤΩΝ ΕΥΚΑΙΡΙΩΝ</a:t>
            </a:r>
            <a:r>
              <a:rPr b="0" lang="el-GR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167652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62 μονάδες «Βοήθεια στο σπίτι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4 Κέντρα Ημερήσιας Φροντίδας Ηλικιωμένω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8 παιδικοί ή βρεφονηπιακοί σταθμο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10 Κέντρα Δημιουργικής Απασχόλησης Παιδιώ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317 θέσεις εργασ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ο 88% των θέσεων έχει καλυφθεί από γυναίκ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06D-1896-41C6-8E2C-01E2F26C3F65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Μέτρο 5.2: </a:t>
            </a:r>
            <a:br>
              <a:rPr sz="2000"/>
            </a:br>
            <a:br>
              <a:rPr sz="2000"/>
            </a:b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ΝΑΠΤΥΞΗ ΑΝΘΡΩΠΙΝΟΥ ΔΥΝΑΜΙΚΟΥ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16765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Χρηματοδοτούνται δράσεις επαγγελματικής κατάρτιση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χουν καταρτιστεί ήδη 851 Άνεργο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αμένεται να καταρτιστούν ακόμη 660 άτο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9EA-5DBC-4A7E-938E-7C2AFF0384AF}" type="slidenum">
              <a:t>4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Μέτρο 5.3: </a:t>
            </a:r>
            <a:br>
              <a:rPr sz="2000"/>
            </a:br>
            <a:br>
              <a:rPr sz="2000"/>
            </a:b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ΤΟΠΙΚΕΣ ΠΡΩΤΟΒΟΥΛΙΕΣ ΑΠΑΣΧΟΛΗΣΗΣ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066680" y="1676520"/>
            <a:ext cx="76201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8 επιχειρησιακά σχέδια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υμβουλευτικές υπηρεσίες σε 1667 άνεργου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οώθηση στην απασχόληση 1485 ατόμω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(520 Νέες Θέσεις Εργασίας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245 Νέοι Ελεύθεροι Επαγγελματίες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72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τάρτιση 410 ατόμων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4A1-5E83-4BF0-8419-DF9F984E9463}" type="slidenum">
              <a:t>5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0000"/>
                </a:solidFill>
                <a:uFillTx/>
                <a:latin typeface="Arial"/>
              </a:rPr>
              <a:t>Στρατηγική της Λισσαβώνας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6680" y="16765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α γίνει η  Ευρωπαϊκή Ένωση, µέχρι το 201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δυναµική και ανταγωνιστική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ασισµένη στη γνώση οικονοµία του κόσµο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κανή να συνδυάζει την οικονοµική ανάπτυξ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µε περισσότερες και καλύτερες θέσεις εργασίας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µε µεγαλύτερη κοινωνική συνοχή και σεβασµό στο περιβάλλο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9A0-8BC1-49B0-ACDB-B16E0F2CF898}" type="slidenum">
              <a:t>6</a:t>
            </a:fld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Θετικά σημεία-ευκαιρίε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066680" y="1676520"/>
            <a:ext cx="762012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τάση βελτίωσης του μορφωτικού-εκπαιδευτικού επιπέδο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 ύπαρξη ανώτατων εκπαιδευτικών ιδρυμάτω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ημαντικός αριθμός δομών που προωθούν την ισότητα ευκαριών των δύο φύλω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μπειρίες από υλοποίηση προγραμμάτων και Κ.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Η συμμετοχή των τοπικών  φορέων στη διαμόρφωση των δράσεων μέσω των ολοκληρωμένων παρεμβάσεω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79F-8EBD-4AB1-BFF1-D5C03FA0800C}" type="slidenum">
              <a:t>7</a:t>
            </a:fld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Αδύνατα σημεία-κίνδυνοι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066680" y="16765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δυναμίες του μηχανισμού σχεδιασμού και προγραμματισμού των προγραμ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υψηλό  ποσοστό απασχόλησης στον πρωτογενή τομέ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ποιοτικά χαρακτηριστικά της ανεργ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ίνδυνος να αποκτήσουν οι πολιτικές απασχόλησης επιδοματικό χαρακτήρ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014-B2E6-45E6-89C3-483C6116BC5D}" type="slidenum">
              <a:t>8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612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τόχο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519360" y="5829480"/>
          <a:ext cx="210528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5829480"/>
                    <a:ext cx="2105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066680" y="16765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ια οικονομία με αυξημένες γνώσεις κα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κανότητες του ανθρώπινου δυναμικο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3A0-AF1B-48C9-990A-9803873C3894}" type="slidenum">
              <a:t>9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ipapan</cp:lastModifiedBy>
  <dcterms:modified xsi:type="dcterms:W3CDTF">2005-06-23T11:29:45Z</dcterms:modified>
  <cp:revision>101</cp:revision>
  <dc:subject/>
  <dc:title>Παρουσίαση του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91436979</vt:r8>
  </property>
  <property fmtid="{D5CDD505-2E9C-101B-9397-08002B2CF9AE}" pid="3" name="_AuthorEmail">
    <vt:lpwstr>vmilonas@mou.gr</vt:lpwstr>
  </property>
  <property fmtid="{D5CDD505-2E9C-101B-9397-08002B2CF9AE}" pid="4" name="_AuthorEmailDisplayName">
    <vt:lpwstr>ΜΥΛΩΝΑΣ ΒΑΣΙΛΗΣ</vt:lpwstr>
  </property>
  <property fmtid="{D5CDD505-2E9C-101B-9397-08002B2CF9AE}" pid="5" name="_EmailSubject">
    <vt:lpwstr>ΕΙΣΗΓΗΣΗ ΜΥΛΩΝΑΣ</vt:lpwstr>
  </property>
</Properties>
</file>