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41480" y="76212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2203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2203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33DC-9C01-489A-83EF-3B417CA54F6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41480" y="762120"/>
            <a:ext cx="4775040" cy="3581280"/>
          </a:xfrm>
          <a:prstGeom prst="rect">
            <a:avLst/>
          </a:prstGeom>
          <a:ln w="0">
            <a:noFill/>
          </a:ln>
        </p:spPr>
      </p:sp>
      <p:sp>
        <p:nvSpPr>
          <p:cNvPr id="12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ιν οι εισηγητές παρουσιάσουν τις εξειδικευμένες εισηγήσεις τους σχετικά με την Θεματική ενότητα «Βελτίωση της προσπελασιμότητας στις παρεχόμενες υπηρεσίες οικονομικού και κοινωνικού ενδιαφέροντος» στην οποία συμμετέχουμε, θα ήθελα αναφερθώ σε σημεία του Στρατηγικού Σχεδίου Ανάπτυξης της Ηπείρου τα οποία αφορούν το θέμα, αφού υπενθυμίσω και ορισμένα ουσιαστικά και διαδικαστικά στοιχεία της νέας προγραμματικής περιόδ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41480" y="762120"/>
            <a:ext cx="4775040" cy="3581280"/>
          </a:xfrm>
          <a:prstGeom prst="rect">
            <a:avLst/>
          </a:prstGeom>
          <a:ln w="0">
            <a:noFill/>
          </a:ln>
        </p:spPr>
      </p:sp>
      <p:sp>
        <p:nvSpPr>
          <p:cNvPr id="14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Κεφάλαιο του Στρατηγικού Σχεδίου όπου γίνεται η </a:t>
            </a:r>
            <a:r>
              <a:rPr b="0" lang="en-US" sz="1200" spc="-1" strike="noStrike">
                <a:solidFill>
                  <a:srgbClr val="000000"/>
                </a:solidFill>
                <a:latin typeface="Times New Roman"/>
              </a:rPr>
              <a:t>SWOT</a:t>
            </a:r>
            <a:r>
              <a:rPr b="0" lang="el-GR" sz="1200" spc="-1" strike="noStrike">
                <a:solidFill>
                  <a:srgbClr val="000000"/>
                </a:solidFill>
                <a:latin typeface="Times New Roman"/>
              </a:rPr>
              <a:t> ανάλυση, τα </a:t>
            </a:r>
            <a:r>
              <a:rPr b="1" lang="el-GR" sz="1200" spc="-1" strike="noStrike">
                <a:solidFill>
                  <a:srgbClr val="000000"/>
                </a:solidFill>
                <a:latin typeface="Times New Roman"/>
              </a:rPr>
              <a:t>Δυνατά </a:t>
            </a:r>
            <a:r>
              <a:rPr b="0" lang="el-GR" sz="1200" spc="-1" strike="noStrike">
                <a:solidFill>
                  <a:srgbClr val="000000"/>
                </a:solidFill>
                <a:latin typeface="Times New Roman"/>
              </a:rPr>
              <a:t>σημεία του Άξονα εμφανίζονται ότι είναι: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δυναμική ανάπτυξη του Πανεπιστημίου των Ιωαννίνων (ιδιαίτερα της τομείς των νέων τεχνολογιών και της κοινωνίας της πληροφορίας και του τομέα της ιατρικής) που δημιουργεί τις προϋποθέσεις ανάδειξης της πόλης των Ιωαννίνων και ευρύτερα της Περιφέρειας σε κέντρο εκπαίδευσης, καινοτομίας και υπηρεσιών με διαπεριφερειακή και υπερεθνική εμβέλεια (σε σχέση με την Αλβανία και την Δυτική Βαλκανική).</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ημαντική ανάπτυξη δικτύου κοινωνικών υποδομών (Νοσ/μεία, Κέντρα Υγείας, Δομές Κοινωνικής Μέριμνας, κλπ)</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ταδιακή ενίσχυση και ανάδειξη της Περιφέρειας σε κύριο πόλο του αποκεντρωτικού συστήματος για το σχεδιασμό, προγραμματισμό και συντονισμό της περιφερειακής ανάπτυξ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σαφής τάση βελτίωσης του μορφωτικού επιπέδου του ανθρώπινου δυναμικού και η αποκτηθείσα εμπειρία από την υλοποίηση αναπτυξιακών προγραμμάτων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41480" y="762120"/>
            <a:ext cx="4775040" cy="3581280"/>
          </a:xfrm>
          <a:prstGeom prst="rect">
            <a:avLst/>
          </a:prstGeom>
          <a:ln w="0">
            <a:noFill/>
          </a:ln>
        </p:spPr>
      </p:sp>
      <p:sp>
        <p:nvSpPr>
          <p:cNvPr id="14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ς  </a:t>
            </a:r>
            <a:r>
              <a:rPr b="1" lang="el-GR" sz="1200" spc="-1" strike="noStrike">
                <a:solidFill>
                  <a:srgbClr val="000000"/>
                </a:solidFill>
                <a:latin typeface="Times New Roman"/>
              </a:rPr>
              <a:t>Αδυναμίες</a:t>
            </a:r>
            <a:r>
              <a:rPr b="0" lang="el-GR" sz="1200" spc="-1" strike="noStrike">
                <a:solidFill>
                  <a:srgbClr val="000000"/>
                </a:solidFill>
                <a:latin typeface="Times New Roman"/>
              </a:rPr>
              <a:t> εμφανίζοντ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περιορισμένη μέχρι σήμερα διάχυση της τεχνογνωσίας και των υποδομών αξιοποίησης των νέων τεχνολογιών, της κοινωνίας της πληροφορίας και της γνώσης εκτός της πόλης των Ιωαννίνων, (όπου η έδρα του Πανεπιστημίου Ιωαννίνων) και η μεγαλύτερη συγκέντρωση επιχειρηματικότητας και καινοτομίας στον ιδιωτικό τομέ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Ο οργανωτικός συγκεντρωτισμός σε συνδυασμό με την έλλειψη ενιαίου και απλοποιημένου θεσμικού πλαισί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Οι διαχειριστικές δυσλειτουργίες λόγω έλλειψης εκπαιδευμένου προσωπικού, μη αποτελεσματικής οργάνωσης, έλλειψης συντονισμού μεταξύ των διάφορων υπηρεσ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αδυναμία της Δημόσιας Διοίκησης να ανταποκριθεί στην ορθολογική διαχείριση σύνθετων διοικητικών έργ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ελλιπής αξιοποίηση των γνώσεων και των δεξιοτήτων του ανθρώπινου δυναμικού, καθώς και η μη ύπαρξη ευνοϊκού περιβάλλοντος για την ανάληψη πρωτοβουλ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μη ολοκλήρωση της διοικητικής αποκέντρωσης και οργάνωσης των Καποδιστριακών Δήμων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41480" y="762120"/>
            <a:ext cx="4775040" cy="3581280"/>
          </a:xfrm>
          <a:prstGeom prst="rect">
            <a:avLst/>
          </a:prstGeom>
          <a:ln w="0">
            <a:noFill/>
          </a:ln>
        </p:spPr>
      </p:sp>
      <p:sp>
        <p:nvSpPr>
          <p:cNvPr id="15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ς </a:t>
            </a:r>
            <a:r>
              <a:rPr b="1" lang="el-GR" sz="1200" spc="-1" strike="noStrike">
                <a:solidFill>
                  <a:srgbClr val="000000"/>
                </a:solidFill>
                <a:latin typeface="Times New Roman"/>
              </a:rPr>
              <a:t>Ευκαιρίες</a:t>
            </a:r>
            <a:r>
              <a:rPr b="0" lang="el-GR" sz="1200" spc="-1" strike="noStrike">
                <a:solidFill>
                  <a:srgbClr val="000000"/>
                </a:solidFill>
                <a:latin typeface="Times New Roman"/>
              </a:rPr>
              <a:t> παρουσιάζοντ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θέση της Περιφέρειας ως ΄΄Δυτική Πύλη΄΄ της Ελλάδας προς την Ε.Ε, αλλά και ως ενδιάμεσος κόμβος των μεταφορικών και άλλων Διευρωπαϊκών Δικτύων της τα Βαλκάνια, τις χώρες της Ανατολικής Ευρώπης και τη Μέση Ανατολή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ανάδειξη της πόλης των Ιωαννίνων σε κέντρο εκπαίδευσης και υπηρεσιών με διαπεριφερειακή και υπερεθνική εμβέλεια (σε σχέση με την Αλβανία και την Δυτική Βαλκανική).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κατεύθυνση της Ε.Ε για την ενίσχυση του διοικητικού, προγραμματικού και αναπτυξιακού ρόλου των Περιφερειών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δημιουργία Περιφερειακού Ινστιτούτου Επιμόρφωσης του Εθνικού Κέντρου Δημόσιας Διοίκησης, στην Ήπειρο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πλήρης ανάπτυξη και αξιοποίηση των έργων της ΚτΠ , για δράσεις κυρίως ηλεκτρονικής διακυβέρνησης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41480" y="762120"/>
            <a:ext cx="4775040" cy="3581280"/>
          </a:xfrm>
          <a:prstGeom prst="rect">
            <a:avLst/>
          </a:prstGeom>
          <a:ln w="0">
            <a:noFill/>
          </a:ln>
        </p:spPr>
      </p:sp>
      <p:sp>
        <p:nvSpPr>
          <p:cNvPr id="15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a:t>
            </a:r>
            <a:r>
              <a:rPr b="1" lang="en-US" sz="1200" spc="-1" strike="noStrike">
                <a:solidFill>
                  <a:srgbClr val="000000"/>
                </a:solidFill>
                <a:latin typeface="Times New Roman"/>
              </a:rPr>
              <a:t>Κίνδυνοι</a:t>
            </a:r>
            <a:r>
              <a:rPr b="0" lang="en-US" sz="1200" spc="-1" strike="noStrike">
                <a:solidFill>
                  <a:srgbClr val="000000"/>
                </a:solidFill>
                <a:latin typeface="Times New Roman"/>
              </a:rPr>
              <a:t> εντοπίζονται στα εξή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ανάπτυξη μιας Δημόσιας Διοίκησης δύο ταχυτήτων, ως απόρροια του τεχνολογικού αναλφαβητισμού ενός μεγάλου τμήματός τ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ενδεχόμενο απώλειας πόρων, ως απόρροια της έλλειψης ευελιξίας, προσαρμοστικότητας και περιορισμένων δυνατοτήτων των Φορέων Υλοποίησ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δημιουργία ΄΄κρίσης΄΄ εμπιστοσύνης μεταξύ της Δημόσιας Διοίκησης και του πολίτη, ως αποτέλεσμα της ελλιπούς εξυπηρέτησής τ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41480" y="762120"/>
            <a:ext cx="4775040" cy="3581280"/>
          </a:xfrm>
          <a:prstGeom prst="rect">
            <a:avLst/>
          </a:prstGeom>
          <a:ln w="0">
            <a:noFill/>
          </a:ln>
        </p:spPr>
      </p:sp>
      <p:sp>
        <p:nvSpPr>
          <p:cNvPr id="15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a:t>
            </a:r>
            <a:r>
              <a:rPr b="0" lang="el-GR" sz="1000" spc="-1" strike="noStrike">
                <a:solidFill>
                  <a:srgbClr val="000000"/>
                </a:solidFill>
                <a:latin typeface="Times New Roman"/>
                <a:ea typeface="Times New Roman"/>
              </a:rPr>
              <a:t>ια να αναπτυχθεί περαιτέρω η </a:t>
            </a:r>
            <a:r>
              <a:rPr b="0" lang="el-GR" sz="1000" spc="-1" strike="noStrike">
                <a:solidFill>
                  <a:srgbClr val="000000"/>
                </a:solidFill>
                <a:latin typeface="Times New Roman"/>
              </a:rPr>
              <a:t>Ήπειρος</a:t>
            </a:r>
            <a:r>
              <a:rPr b="0" lang="el-GR" sz="1000" spc="-1" strike="noStrike">
                <a:solidFill>
                  <a:srgbClr val="000000"/>
                </a:solidFill>
                <a:latin typeface="Times New Roman"/>
                <a:ea typeface="Times New Roman"/>
              </a:rPr>
              <a:t>, θα πρέπει να αυξηθούν οι επενδύσεις σε υλικό και ανθρώπινο κεφάλαιο, να επιταχυνθεί η καινοτομία και να διευρυνθεί η χρήση των τεχνολογιών της πληροφορίας και της επικοινωνίας. </a:t>
            </a:r>
            <a:r>
              <a:rPr b="0" lang="el-GR" sz="1000" spc="-1" strike="noStrike">
                <a:solidFill>
                  <a:srgbClr val="000000"/>
                </a:solidFill>
                <a:latin typeface="Times New Roman"/>
              </a:rPr>
              <a:t>Η πολιτική της περιφερειακής ανάπτυξης υλοποιείται υπο δεδομένες συνθήκες όπου είναι αμφίβολη η έκταση της διοικητικής ικανότητας για τον σχεδιασμό και την διαχείριση της εν λόγω πολιτική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την βασική προτεραιότητα-Άξονα «βελτίωση της προσπελασιμότητας στις παρεχόμενες υπηρεσίες» επιβάλλεται:</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Η ενίσχυση των τηλεπικοινωνιών με την ταυτόχρονη πρόσβαση σε ευρυζωνικές γραμμές, που είναι σημαντική για την χρήση του διαδικτύου και την ανάπτυξη διαφόρων εφαρμογών και υπηρεσιών των τεχνολογιών της πληροφορίας και της επικοινωνίας</a:t>
            </a:r>
            <a:r>
              <a:rPr b="0" lang="el-GR" sz="1000" spc="-1" strike="noStrike">
                <a:solidFill>
                  <a:srgbClr val="000000"/>
                </a:solidFill>
                <a:latin typeface="Times New Roman"/>
              </a:rPr>
              <a:t>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Η ενίσχυση–συμπλήρωση υποδομής σε τομείς παιδείας και υγείας καθώς και διαφόρων μορφών υπηρεσιών κοινωνικής στήριξης</a:t>
            </a:r>
            <a:r>
              <a:rPr b="0" lang="en-US" sz="1000" spc="-1" strike="noStrike">
                <a:solidFill>
                  <a:srgbClr val="000000"/>
                </a:solidFill>
                <a:latin typeface="Times New Roman"/>
                <a:ea typeface="Times New Roman"/>
              </a:rPr>
              <a:t>, </a:t>
            </a:r>
            <a:r>
              <a:rPr b="0" lang="el-GR" sz="1000" spc="-1" strike="noStrike">
                <a:solidFill>
                  <a:srgbClr val="000000"/>
                </a:solidFill>
                <a:latin typeface="Times New Roman"/>
              </a:rPr>
              <a:t>που συμβάλλουν στην περιφερειακή ανάπτυξη, στην αύξηση της ελκυστικότητας και της ποιότητας ζωής στην Περιφέρεια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a:t>
            </a:r>
            <a:r>
              <a:rPr b="0" lang="el-GR" sz="1000" spc="-1" strike="noStrike">
                <a:solidFill>
                  <a:srgbClr val="000000"/>
                </a:solidFill>
                <a:latin typeface="Times New Roman"/>
                <a:ea typeface="Times New Roman"/>
              </a:rPr>
              <a:t>νίσχυση </a:t>
            </a:r>
            <a:r>
              <a:rPr b="0" lang="el-GR" sz="1000" spc="-1" strike="noStrike">
                <a:solidFill>
                  <a:srgbClr val="000000"/>
                </a:solidFill>
                <a:latin typeface="Times New Roman"/>
              </a:rPr>
              <a:t>και</a:t>
            </a:r>
            <a:r>
              <a:rPr b="0" lang="el-GR" sz="1000" spc="-1" strike="noStrike">
                <a:solidFill>
                  <a:srgbClr val="000000"/>
                </a:solidFill>
                <a:latin typeface="Times New Roman"/>
                <a:ea typeface="Times New Roman"/>
              </a:rPr>
              <a:t> </a:t>
            </a: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αβάθμιση της επιτόπου διοίκησης και με την δημιουργία νέων υπηρεσιακών μονάδων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Κατάρτιση  του προσωπικού και </a:t>
            </a: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άπτυξη αποτελεσματικών μέσων για την διαχείριση, συντονισμό παρακολούθηση και αξιολόγηση των Περιφερειακών Προγραμμάτων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Δημιουργία μόνιμων φορέων και δικτύων συνεργασίας ανάμεσα στην Περιφέρεια, τα Α.Ε.Ι. και Τ.Ε.Ι., τους επιχειρηματικούς φορείς και κοινωνικούς εταίρους, για την προώθηση της επιχειρηματικότητας και της καινοτομίας καθώς επίσης και την υλοποίηση των ιδιωτικών επενδύσεων</a:t>
            </a:r>
            <a:r>
              <a:rPr b="0" lang="el-GR" sz="1000" spc="-1" strike="noStrike">
                <a:solidFill>
                  <a:srgbClr val="000000"/>
                </a:solidFill>
                <a:latin typeface="Times New Roman"/>
              </a:rPr>
              <a:t>, με στόχο τον εκσυγχρονισμό και την διαφοροποίηση της οικονομικής διάρθρωσης της περιφέρειας</a:t>
            </a:r>
            <a:r>
              <a:rPr b="0" lang="el-GR"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νάληψη δυνατοτήτων από την Περιφέρεια για εκπόνηση και εφαρμογή μικρών ολοκληρωμένων επιχειρησιακών σχεδίων σε διάφορους τομείς</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a:solidFill>
                  <a:srgbClr val="000000"/>
                </a:solidFill>
                <a:latin typeface="Times New Roman"/>
                <a:ea typeface="Times New Roman"/>
              </a:rPr>
              <a:t>Αξιοποίηση των νέων τεχνολογιών και της κοινωνίας της πληροφορίας</a:t>
            </a:r>
            <a:r>
              <a:rPr b="0" lang="el-GR" sz="1000" spc="-1" strike="noStrike">
                <a:solidFill>
                  <a:srgbClr val="000000"/>
                </a:solidFill>
                <a:latin typeface="Times New Roman"/>
              </a:rPr>
              <a:t>, </a:t>
            </a:r>
            <a:r>
              <a:rPr b="0" lang="el-GR"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41480" y="762120"/>
            <a:ext cx="4775040" cy="3581280"/>
          </a:xfrm>
          <a:prstGeom prst="rect">
            <a:avLst/>
          </a:prstGeom>
          <a:ln w="0">
            <a:noFill/>
          </a:ln>
        </p:spPr>
      </p:sp>
      <p:sp>
        <p:nvSpPr>
          <p:cNvPr id="15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ισότητα πρόσβασης σε βασικές διευκολύνσεις, σε ζωτικές υπηρεσίες, σε αυτά που αποκαλούνται «Υπηρεσίες οικονομικού και κοινωνικού ενδιαφέροντος» για όλους – όπου και αν ζούν – αποτελεί προϋπόθεση κλειδί για την εδαφική συνοχ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όσβαση σε νέες τεχνολογίες είναι ιδιαίτερα σημαντική για τις Περιφέρειες με γεωγραφικά μειονεκτήματα επειδή οι τεχνολογίες συντείνουν στην μείωση της σημασίας της απόστασης και του χρόν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νδυνάμωση του υλικού και του ανθρώπινου κεφαλαίου , σε συνδυασμό με την βελτίωση των διευκολύνσεων θεσμικής στήριξης και υφιστάμενου διοικητικού πλαισίου είναι ιδιαίτερα σημαντική για μια Περιφέρε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ιστεύω ότι η μικρή αυτή εισαγωγή στο θέμα θα συμβάλλει, μαζί με τις εξειδικευμένες εισηγήσεις που θα ακολουθήσουν, στην συζήτηση καθώς και στην περαιτέρω ανάπτυξη των συμπερασμάτων μ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ας ευχαριστώ</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41480" y="762120"/>
            <a:ext cx="4775040" cy="3581280"/>
          </a:xfrm>
          <a:prstGeom prst="rect">
            <a:avLst/>
          </a:prstGeom>
          <a:ln w="0">
            <a:noFill/>
          </a:ln>
        </p:spPr>
      </p:sp>
      <p:sp>
        <p:nvSpPr>
          <p:cNvPr id="13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ναθεώρηση της πολιτικής για την συνοχή της Ευρωπαϊκής Ένωσης  που αφορά την περίοδο 2007-2013  αποτυπώνεται σε σχέδια Κανονισμών, σύμφωνα με τα οποία οι τρείς στόχοι προτεραιότητας των διαρθρωτικών ταμείων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ύγκλιση, (οικονομική σύγκλιση των λιγότερο αναπτυγμένων περιφερειώ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εριφερειακή ανταγωνιστικότητα και απασχόληση, (ενίσχυση της ανταγωνιστικότητας και ελκυστικότητας των περιφερειών, προβλέποντας οικονομικές και κοινωνικές αλλαγέ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υρωπαική εδαφική συνεργασία (ενδυνάμωση της συνεργασίας σε τρία επίπεδα –διακρατική,διασυνοριακή,διαπεριφερειακ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41480" y="762120"/>
            <a:ext cx="4775040" cy="3581280"/>
          </a:xfrm>
          <a:prstGeom prst="rect">
            <a:avLst/>
          </a:prstGeom>
          <a:ln w="0">
            <a:noFill/>
          </a:ln>
        </p:spPr>
      </p:sp>
      <p:sp>
        <p:nvSpPr>
          <p:cNvPr id="13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βάση τα κατευθυντήρια κείμενα της Ευρωπαικής Ένωσης (δηλαδή τα σχέδια των Κανονισμών και την 3η Έκθεση για την συνοχή) διαφαίνεται να αναδεικνύονται 6 στρατηγικοί στόχοι – άξονες ανάπτυξης  ως κατεύθυνση για την διαμόρφωση της εθνικής στρατηγικ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οί οι άξονες ανάπτυξης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ίσχυση της ανταγωνιστικότητας</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προσπελασιμότητας και των υπηρεσιών γενικού οικονομικού ενδιαφέροντο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βάθμιση και προστασία του περιβάλλοντος και πρόληψη κινδύνων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πτυξη του ανθρώπινου δυναμικού και προώθηση της απασχόλησης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διοικητικής ικανότητας της δημόσιας διοίκησης </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ίσχυση της διασυνοριακής, της διακρατικής και διαπεριφερειακής συνεργα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41480" y="762120"/>
            <a:ext cx="4775040" cy="3581280"/>
          </a:xfrm>
          <a:prstGeom prst="rect">
            <a:avLst/>
          </a:prstGeom>
          <a:ln w="0">
            <a:noFill/>
          </a:ln>
        </p:spPr>
      </p:sp>
      <p:sp>
        <p:nvSpPr>
          <p:cNvPr id="13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νέα προγραμματική διαδικασία για την διαμόρφωση των εγγράφων προγραμματισμού της περιόδου 2007-2013 περιλαμβάνει την διαδοχική διατύπωση των εξής κειμέν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ατευθύνσεις εθνικής στρατηγικής ανάπτυξης 2007-2013 (που ετοιμάζονται από το ΥπΟιΟ με βάση τις προτάσεις των φορέων ευθύνης τομεακών και περιφερειακών πολιτ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Στρατηγικές κατευθύνσεις για την οικονομική-κοινωνική-περιφερειακή συνοχή σε επίπεδο ΕΕ (που συγγράφονται σε επίπεδο Ευρωπαϊκής Επιτροπ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Εθνικό Στρατηγικό Σχέδιο Ανάπτυξης (το οποίο παρουσιάζεται από το κράτος και τυγχάνει διαπραγμάτευσης με την Ε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πιχειρησιακά Προγράμματα</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41480" y="762120"/>
            <a:ext cx="4775040" cy="3581280"/>
          </a:xfrm>
          <a:prstGeom prst="rect">
            <a:avLst/>
          </a:prstGeom>
          <a:ln w="0">
            <a:noFill/>
          </a:ln>
        </p:spPr>
      </p:sp>
      <p:sp>
        <p:nvSpPr>
          <p:cNvPr id="13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ε αυτά τα πλαίσια, εκπονήθηκε το «Στρατηγικό Σχέδιο Ανάπτυξης Περιφέρειας Ηπείρου» τον Φεβρουάριο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όκειται για ένα κείμενο στο οποίο διατυπώνονται βασικά ζητήματα που μπορούν να οδηγήσουν στην διαμόρφωση βασικών αναπτυξιακών προτεραιοτήτων</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41480" y="762120"/>
            <a:ext cx="4775040" cy="3581280"/>
          </a:xfrm>
          <a:prstGeom prst="rect">
            <a:avLst/>
          </a:prstGeom>
          <a:ln w="0">
            <a:noFill/>
          </a:ln>
        </p:spPr>
      </p:sp>
      <p:sp>
        <p:nvSpPr>
          <p:cNvPr id="13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ομή του κειμένου αυτού έχει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rPr>
              <a:t>Η</a:t>
            </a:r>
            <a:r>
              <a:rPr b="0" lang="en-US" sz="1200" spc="-1" strike="noStrike">
                <a:solidFill>
                  <a:srgbClr val="000000"/>
                </a:solidFill>
                <a:latin typeface="Times New Roman"/>
                <a:ea typeface="Times New Roman"/>
              </a:rPr>
              <a:t> θέση της Περιφέρειας Ηπείρου στο ευρωπαϊκό και διεθνές περιβάλλο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ποτίμηση των αποτελεσμάτων των παρεμβάσεων στην Περιφέρεια κατά τη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τρέχουσα και τις προηγούμενες προγραμματικές περιόδους</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rPr>
              <a:t>Τα </a:t>
            </a:r>
            <a:r>
              <a:rPr b="0" lang="en-US" sz="1200" spc="-1" strike="noStrike">
                <a:solidFill>
                  <a:srgbClr val="000000"/>
                </a:solidFill>
                <a:latin typeface="Times New Roman"/>
                <a:ea typeface="Times New Roman"/>
              </a:rPr>
              <a:t>δυνατ</a:t>
            </a:r>
            <a:r>
              <a:rPr b="0" lang="en-US" sz="1200" spc="-1" strike="noStrike">
                <a:solidFill>
                  <a:srgbClr val="000000"/>
                </a:solidFill>
                <a:latin typeface="Times New Roman"/>
              </a:rPr>
              <a:t>ά</a:t>
            </a:r>
            <a:r>
              <a:rPr b="0" lang="en-US" sz="1200" spc="-1" strike="noStrike">
                <a:solidFill>
                  <a:srgbClr val="000000"/>
                </a:solidFill>
                <a:latin typeface="Times New Roman"/>
                <a:ea typeface="Times New Roman"/>
              </a:rPr>
              <a:t> σημεί</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οι </a:t>
            </a:r>
            <a:r>
              <a:rPr b="0" lang="en-US" sz="1200" spc="-1" strike="noStrike">
                <a:solidFill>
                  <a:srgbClr val="000000"/>
                </a:solidFill>
                <a:latin typeface="Times New Roman"/>
                <a:ea typeface="Times New Roman"/>
              </a:rPr>
              <a:t>αδυναμ</a:t>
            </a:r>
            <a:r>
              <a:rPr b="0" lang="en-US" sz="1200" spc="-1" strike="noStrike">
                <a:solidFill>
                  <a:srgbClr val="000000"/>
                </a:solidFill>
                <a:latin typeface="Times New Roman"/>
              </a:rPr>
              <a:t>ίες</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οι </a:t>
            </a:r>
            <a:r>
              <a:rPr b="0" lang="en-US" sz="1200" spc="-1" strike="noStrike">
                <a:solidFill>
                  <a:srgbClr val="000000"/>
                </a:solidFill>
                <a:latin typeface="Times New Roman"/>
                <a:ea typeface="Times New Roman"/>
              </a:rPr>
              <a:t>ευκαιρ</a:t>
            </a:r>
            <a:r>
              <a:rPr b="0" lang="en-US" sz="1200" spc="-1" strike="noStrike">
                <a:solidFill>
                  <a:srgbClr val="000000"/>
                </a:solidFill>
                <a:latin typeface="Times New Roman"/>
              </a:rPr>
              <a:t>ίες</a:t>
            </a:r>
            <a:r>
              <a:rPr b="0" lang="en-US" sz="1200" spc="-1" strike="noStrike">
                <a:solidFill>
                  <a:srgbClr val="000000"/>
                </a:solidFill>
                <a:latin typeface="Times New Roman"/>
                <a:ea typeface="Times New Roman"/>
              </a:rPr>
              <a:t> και </a:t>
            </a:r>
            <a:r>
              <a:rPr b="0" lang="en-US" sz="1200" spc="-1" strike="noStrike">
                <a:solidFill>
                  <a:srgbClr val="000000"/>
                </a:solidFill>
                <a:latin typeface="Times New Roman"/>
              </a:rPr>
              <a:t>οι κίνδυνοι</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ναφορά </a:t>
            </a:r>
            <a:r>
              <a:rPr b="0" lang="en-US" sz="1200" spc="-1" strike="noStrike">
                <a:solidFill>
                  <a:srgbClr val="000000"/>
                </a:solidFill>
                <a:latin typeface="Times New Roman"/>
              </a:rPr>
              <a:t>των </a:t>
            </a:r>
            <a:r>
              <a:rPr b="0" lang="en-US" sz="1200" spc="-1" strike="noStrike">
                <a:solidFill>
                  <a:srgbClr val="000000"/>
                </a:solidFill>
                <a:latin typeface="Times New Roman"/>
                <a:ea typeface="Times New Roman"/>
              </a:rPr>
              <a:t>βασικών προτεραιοτήτων ανάπτυξης της Περιφέρειας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Times New Roman"/>
              </a:rPr>
              <a:t>Ε</a:t>
            </a:r>
            <a:r>
              <a:rPr b="0" lang="en-US" sz="1200" spc="-1" strike="noStrike">
                <a:solidFill>
                  <a:srgbClr val="000000"/>
                </a:solidFill>
                <a:latin typeface="Times New Roman"/>
                <a:ea typeface="Times New Roman"/>
              </a:rPr>
              <a:t>πισήμανση πιθανών ενδοπεριφερειακών διαφοροποιήσεων και επιδράσεων στο</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πλαίσιο των περιφερειακών προτεραιοτήτων ανάπτυξης</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 </a:t>
            </a:r>
            <a:r>
              <a:rPr b="0" lang="en-US" sz="1200" spc="-1" strike="noStrike">
                <a:solidFill>
                  <a:srgbClr val="000000"/>
                </a:solidFill>
                <a:latin typeface="Times New Roman"/>
              </a:rPr>
              <a:t>Α</a:t>
            </a:r>
            <a:r>
              <a:rPr b="0" lang="en-US" sz="1200" spc="-1" strike="noStrike">
                <a:solidFill>
                  <a:srgbClr val="000000"/>
                </a:solidFill>
                <a:latin typeface="Times New Roman"/>
                <a:ea typeface="Times New Roman"/>
              </a:rPr>
              <a:t>ναγκαίες θεσμικές και οργανωτικές προσαρμογ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41480" y="762120"/>
            <a:ext cx="4775040" cy="3581280"/>
          </a:xfrm>
          <a:prstGeom prst="rect">
            <a:avLst/>
          </a:prstGeom>
          <a:ln w="0">
            <a:noFill/>
          </a:ln>
        </p:spPr>
      </p:sp>
      <p:sp>
        <p:nvSpPr>
          <p:cNvPr id="14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σημεία του Στρατηγικού Σχεδίου στα οποία θα αναφερθώ αφορού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αποτίμηση των αποτελεσμάτων των παρεμβάσεων της τρέχουσας &amp; των προηγούμενων προγραμματικών περιόδων για την συγκεκριμένη θεματική ενότη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Σε στοιχεία απο </a:t>
            </a:r>
            <a:r>
              <a:rPr b="0" lang="el-GR" sz="1200" spc="-1" strike="noStrike">
                <a:solidFill>
                  <a:srgbClr val="000000"/>
                </a:solidFill>
                <a:latin typeface="Times New Roman"/>
              </a:rPr>
              <a:t>το κεφάλαιο όπου σημειώνονται τα δυνατά σημεία, οι αδυναμίες, οι ευκαιρίες και οι κίνδυνο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στο προτεινόμενο περιεχόμενο της βασικής προτερασιότητας-άξονα ανάπτυξης </a:t>
            </a:r>
            <a:r>
              <a:rPr b="0" lang="fr-FR" sz="1200" spc="-1" strike="noStrike">
                <a:solidFill>
                  <a:srgbClr val="000000"/>
                </a:solidFill>
                <a:latin typeface="Times New Roman"/>
              </a:rPr>
              <a:t>«</a:t>
            </a:r>
            <a:r>
              <a:rPr b="0" lang="el-GR" sz="1200" spc="-1" strike="noStrike">
                <a:solidFill>
                  <a:srgbClr val="000000"/>
                </a:solidFill>
                <a:latin typeface="Times New Roman"/>
              </a:rPr>
              <a:t>βελτίωση της προσπελασιμότητας στις παρεχόμενες υπηρεσίες οικονομικού και κοινωνικού ενδιαφέροντος»</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41480" y="762120"/>
            <a:ext cx="4775040" cy="3581280"/>
          </a:xfrm>
          <a:prstGeom prst="rect">
            <a:avLst/>
          </a:prstGeom>
          <a:ln w="0">
            <a:noFill/>
          </a:ln>
        </p:spPr>
      </p:sp>
      <p:sp>
        <p:nvSpPr>
          <p:cNvPr id="14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αποτίμηση των αποτελεσμάτων των παρεμβάσε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Στον τομέα των κοινωνικών υποδομών, η ύπαρξη και η συνεχής αναβάθμιση των υποδομών υγείας (τριτοβάθμια, δευτεροβάθμια και πρωτοβάθμια περίθαλψη) και των προνοιακών υποδομών κατέστησαν την Ήπειρο κέντρο για την ΒΔ Ελλάδ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Η εμπειρία των προηγούμενων προγραμματικών περιόδων αλλά και η διεθνής εμπειρία της αναπτυξιακής πολιτικής άλλων χωρών, έδειξε ότι η λειτουργία της δημόσιας διοίκησης είναι καθοριστική τόσο για την κατάρτιση όσο και για την υλοποίηση των αναπτυξιακών προγραμμάτων.</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Όπως και στις προηγούμενες προγραμματικές περιόδους έτσι και στην τρέχουσα, μέσω της Τεχνικής Βοήθειας χρηματοδοτήθηκαν δράσεις υποβοηθητικές στην δημόσια διοίκηση (όπως εκπόνηση μελετών, πρόσληψη τεχνικών συμβούλων, πρόσληψη συμβούλων διαχείρισης και αξιολόγησης κλπ) για την βελτιστοποίηση υλοποίησης των έργων. Η αξιοποίηση εξωτερικής τεχνικής βοήθειας, ειδικών ομάδων διαχείρισης και άλλων ευκαιριακών λύσεων, προσφέρουν πρόσκαιρες διεξόδους αλλά δεν υποκαθιστούν το διοικητικό έλλειμμα. Είναι χαρακτηριστικό ότι οι υπηρεσίες υλοποίησης των κοινοτικών προγραμμάτων δεν προσαρμόσθηκαν πλήρως στις απαιτήσεις των ΚΠΣ, δεδομένου ότι εμφανίζονται ακόμη οργανωτικές και διοικητικές αδυναμίες.</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Times New Roman"/>
              </a:rPr>
              <a:t>Μέσω δράσεων της </a:t>
            </a:r>
            <a:r>
              <a:rPr b="0" i="1" lang="el-GR" sz="1200" spc="-1" strike="noStrike">
                <a:solidFill>
                  <a:srgbClr val="000000"/>
                </a:solidFill>
                <a:latin typeface="Times New Roman"/>
                <a:ea typeface="Times New Roman"/>
              </a:rPr>
              <a:t>Κοινωνίας της Πληροφορίας</a:t>
            </a:r>
            <a:r>
              <a:rPr b="0" lang="el-GR" sz="1200" spc="-1" strike="noStrike">
                <a:solidFill>
                  <a:srgbClr val="000000"/>
                </a:solidFill>
                <a:latin typeface="Times New Roman"/>
              </a:rPr>
              <a:t> </a:t>
            </a:r>
            <a:r>
              <a:rPr b="0" lang="el-GR" sz="1200" spc="-1" strike="noStrike">
                <a:solidFill>
                  <a:srgbClr val="000000"/>
                </a:solidFill>
                <a:latin typeface="Times New Roman"/>
                <a:ea typeface="Times New Roman"/>
              </a:rPr>
              <a:t>υλοποιούνται προγράμματα αναβάθμισης των υποδομών και εκσυγχρονισμού της δημόσιας διοίκησης με την χρήση νέων τεχνολογιώ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41480" y="762120"/>
            <a:ext cx="4775040" cy="3581280"/>
          </a:xfrm>
          <a:prstGeom prst="rect">
            <a:avLst/>
          </a:prstGeom>
          <a:ln w="0">
            <a:noFill/>
          </a:ln>
        </p:spPr>
      </p:sp>
      <p:sp>
        <p:nvSpPr>
          <p:cNvPr id="14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ις παρεμβάσεις της τρέχουσας περιόδ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τριτοβάθμιας εκπαίδευσης, αντιμετωπίζονται προβλήματα έλλειψης στέγης (</a:t>
            </a:r>
            <a:r>
              <a:rPr b="0" lang="el-GR" sz="1200" spc="-1" strike="noStrike" u="sng">
                <a:solidFill>
                  <a:srgbClr val="000000"/>
                </a:solidFill>
                <a:uFillTx/>
                <a:latin typeface="Times New Roman"/>
              </a:rPr>
              <a:t>Φοιτητική Εστία Παν/μιου Ιωαννίνων),</a:t>
            </a:r>
            <a:r>
              <a:rPr b="0" lang="el-GR" sz="1200" spc="-1" strike="noStrike">
                <a:solidFill>
                  <a:srgbClr val="000000"/>
                </a:solidFill>
                <a:latin typeface="Times New Roman"/>
              </a:rPr>
              <a:t> σύγχρονου εργαστηριακού εξοπλισμού </a:t>
            </a:r>
            <a:r>
              <a:rPr b="0" lang="el-GR" sz="1200" spc="-1" strike="noStrike" u="sng">
                <a:solidFill>
                  <a:srgbClr val="000000"/>
                </a:solidFill>
                <a:uFillTx/>
                <a:latin typeface="Times New Roman"/>
              </a:rPr>
              <a:t>(Μονάδα Ιατρικής Τεχνολογίας &amp; Ευφυών πληροφοριακών συστημάτων, Κέντρο πυρηνικού μαγνητικού συντονισμού, εργαστήριο νανοτεχνολογίας)</a:t>
            </a:r>
            <a:r>
              <a:rPr b="0" lang="el-GR" sz="1200" spc="-1" strike="noStrike">
                <a:solidFill>
                  <a:srgbClr val="000000"/>
                </a:solidFill>
                <a:latin typeface="Times New Roman"/>
              </a:rPr>
              <a:t> και επιστημονικών δομών </a:t>
            </a:r>
            <a:r>
              <a:rPr b="0" lang="el-GR" sz="1200" spc="-1" strike="noStrike" u="sng">
                <a:solidFill>
                  <a:srgbClr val="000000"/>
                </a:solidFill>
                <a:uFillTx/>
                <a:latin typeface="Times New Roman"/>
              </a:rPr>
              <a:t>(Τεχνολογικό Πάρκο, Διεπιστημονικό Κέντρο)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δευτεροβάθμιας εκπαίδευσης, αντιμετωπίζονται προβλήματα έλλειψης σύγχρονων σχολείων και επαρκών αιθουσών, εργαστηριακού εξοπλισμού και βιβλιοθηκών (</a:t>
            </a:r>
            <a:r>
              <a:rPr b="0" lang="el-GR" sz="1200" spc="-1" strike="noStrike" u="sng">
                <a:solidFill>
                  <a:srgbClr val="000000"/>
                </a:solidFill>
                <a:uFillTx/>
                <a:latin typeface="Times New Roman"/>
              </a:rPr>
              <a:t>ολοκληρώθηκαν τα σχολεία Κιάφας &amp; Πλαταριά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υγείας, σύγχρονος εξοπλισμός </a:t>
            </a:r>
            <a:r>
              <a:rPr b="0" lang="el-GR" sz="1200" spc="-1" strike="noStrike" u="sng">
                <a:solidFill>
                  <a:srgbClr val="000000"/>
                </a:solidFill>
                <a:uFillTx/>
                <a:latin typeface="Times New Roman"/>
              </a:rPr>
              <a:t>(αξονικός τομογράφος, μονάδα τεχνητού νεφρού, γ-κάμερα, λιθοτρίπτη κλπ</a:t>
            </a:r>
            <a:r>
              <a:rPr b="0" lang="el-GR" sz="1200" spc="-1" strike="noStrike">
                <a:solidFill>
                  <a:srgbClr val="000000"/>
                </a:solidFill>
                <a:latin typeface="Times New Roman"/>
              </a:rPr>
              <a:t>) παρέχεται στα νοσοκομεία και αυξάνεται η δυναμικότητά τους </a:t>
            </a:r>
            <a:r>
              <a:rPr b="0" lang="el-GR" sz="1200" spc="-1" strike="noStrike" u="sng">
                <a:solidFill>
                  <a:srgbClr val="000000"/>
                </a:solidFill>
                <a:uFillTx/>
                <a:latin typeface="Times New Roman"/>
              </a:rPr>
              <a:t>(ΤΕΠ Φιλιατών, Κέντρο Φυσικής Ιατρικής &amp; Αποκατάσταση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πρόνοιας δημιουργούνται υποδομές τόσο για την παιδική ηλικία (</a:t>
            </a:r>
            <a:r>
              <a:rPr b="0" lang="el-GR" sz="1200" spc="-1" strike="noStrike" u="sng">
                <a:solidFill>
                  <a:srgbClr val="000000"/>
                </a:solidFill>
                <a:uFillTx/>
                <a:latin typeface="Times New Roman"/>
              </a:rPr>
              <a:t>παιδικοί σταθμοί</a:t>
            </a:r>
            <a:r>
              <a:rPr b="0" lang="el-GR" sz="1200" spc="-1" strike="noStrike">
                <a:solidFill>
                  <a:srgbClr val="000000"/>
                </a:solidFill>
                <a:latin typeface="Times New Roman"/>
              </a:rPr>
              <a:t>) όσο και για άτομα με ειδικές ανάγκες (</a:t>
            </a:r>
            <a:r>
              <a:rPr b="0" lang="el-GR" sz="1200" spc="-1" strike="noStrike" u="sng">
                <a:solidFill>
                  <a:srgbClr val="000000"/>
                </a:solidFill>
                <a:uFillTx/>
                <a:latin typeface="Times New Roman"/>
              </a:rPr>
              <a:t>ΕΛΕΠΑΠ, Κέντρο αποκατάστασης ΑΜΕΑ Άρτας</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E1913-66A5-4710-AF20-4AAC9089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AB57-D8FC-49E0-8AF1-51399C1F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085C-4519-4ACE-BBCB-B4455690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99B8C-28DA-4A41-88CD-86D849411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5DEA6-EDC1-4249-9421-499A3F391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E69DD-F801-49E9-9ADB-F0E3366D9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54009-62FE-4C52-9B6D-026C31E01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14FDA-F609-441B-930A-97E62E1F2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3383A-3AA0-4DBE-82F5-1FB589589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755C-A92E-4428-89B4-49107198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D145F-F9E5-42A9-B649-E72CCDA6C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4B55-85B5-48FC-B043-E1F798058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0C6A-A915-4CDA-98B8-B07B43F70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406B-8EA0-4636-8090-96335178E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D9D8E-9038-416E-BAE0-FEA92C9DE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828EE-AC52-4019-857C-93CA7838B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AD74A-FF00-465A-9127-8DB8904A2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AF21-3E32-4517-ADE0-48ADB544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9F63-7C6D-4006-B3DF-B09536BD0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45F29-1F7D-424F-9A44-97FF85C9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CAAB-A995-4B40-9C49-28E8C269F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625B-253A-4836-A412-6D5AA3B1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1FAB-C3FA-423A-9221-49046D9B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8358-A348-4597-901D-CEA8688F5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36FD-8E4D-4AB7-96CC-D5508CE55EA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4EE5-D344-4F5D-9A7B-EC48D470C88B}"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5000"/>
          </a:bodyPr>
          <a:p>
            <a:pPr marL="159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a3d7a"/>
                </a:solidFill>
                <a:uFillTx/>
                <a:latin typeface="Times New Roman"/>
              </a:rPr>
              <a:t>ΒΕΛΤΙΩΣΗ ΤΗΣ ΠΡΟΣΠΕΛΑΣΙΜΟΤΗΤΑΣ ΣΤΙΣ ΠΑΡΕΧΟΜΕΝΕΣ ΥΠΗΡΕΣΙΕΣ ΟΙΚΟΝΟΜΙΚΟΥ &amp; ΚΟΙΝΩΝΙΚΟΥ ΕΝΔΙΑΦΕΡΟΝΤΟΣ</a:t>
            </a:r>
            <a:endParaRPr b="0" lang="en-US" sz="2800" spc="-1" strike="noStrike">
              <a:solidFill>
                <a:srgbClr val="5b5249"/>
              </a:solidFill>
              <a:latin typeface="Times New Roman"/>
            </a:endParaRPr>
          </a:p>
          <a:p>
            <a:pPr marL="159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159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159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a3d7a"/>
                </a:solidFill>
                <a:latin typeface="Times New Roman"/>
              </a:rPr>
              <a:t>24/6/2005</a:t>
            </a:r>
            <a:endParaRPr b="0" lang="en-US" sz="1600" spc="-1" strike="noStrike">
              <a:solidFill>
                <a:srgbClr val="5b5249"/>
              </a:solidFill>
              <a:latin typeface="Times New Roman"/>
            </a:endParaRPr>
          </a:p>
          <a:p>
            <a:pPr marL="1598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1)</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Δυνατά σημεία</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υναμική ανάπτυξη του Πανεπιστημίου Ιωαννίν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ημαντική ανάπτυξη δικτύου κοινωνικών υποδομώ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ταδιακή ενίσχυση &amp; ανάδειξη της Περιφέρειας σε κύριο πόλο αποκεντρωτικού συστήματο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αφής τάση βελτίωσης του μορφωτικού επιπέδου του ανθρώπινου δυναμικού</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6000"/>
          </a:bodyPr>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2)</a:t>
            </a:r>
            <a:endParaRPr b="0" lang="en-US" sz="2400" spc="-1" strike="noStrike">
              <a:solidFill>
                <a:srgbClr val="5b5249"/>
              </a:solidFill>
              <a:latin typeface="Times New Roman"/>
            </a:endParaRPr>
          </a:p>
          <a:p>
            <a:pPr marL="438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99ff"/>
                </a:solidFill>
                <a:latin typeface="Times New Roman"/>
              </a:rPr>
              <a:t>Αδυναμίες </a:t>
            </a:r>
            <a:endParaRPr b="0" lang="en-US" sz="24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περιορισμένη διάχυση τεχνογνωσίας &amp; υποδομών αξιοποίησης νέων τεχνολογιών, ΚτΠ, γνώσης</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 οργανωτικός συγκεντρωτισμός &amp; η έλλειψη απλοποιημένου θεσμικού πλαισίου</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διαχειριστικές δυσλειτουργίες</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αδυναμία ανταπόκρισης της δημόσιας διοίκησης στην ορθολογική διαχείριση σύνθετων διοικητικών έργων</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ελλιπής αξιοποίηση γνώσεων &amp; δεξιοτήτων</a:t>
            </a:r>
            <a:endParaRPr b="0" lang="en-US" sz="2000" spc="-1" strike="noStrike">
              <a:solidFill>
                <a:srgbClr val="5b5249"/>
              </a:solidFill>
              <a:latin typeface="Times New Roman"/>
            </a:endParaRPr>
          </a:p>
          <a:p>
            <a:pPr marL="438840" indent="-43884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Η μη ολοκλήρωση διοικητικής αποκέντρωσης</a:t>
            </a:r>
            <a:endParaRPr b="0" lang="en-US" sz="20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3)</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Ευκαιρίες</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Θέση της Περιφέρειας ως Δυτική πύλη της Ελλάδας προς την ΕΕ, κόμβος μεταφορικών &amp; διευρωπαικών δικτύων</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δειξη Ιωαννίνων σε κέντρο εκπαίδευσης &amp; υπηρεσιών με διαπεριφερειακή και υπερεθνική εμβέλεια</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ατεύθυνση της ΕΕ για ενίσχυση διοικητικού-αναπτυξιακού-προγραμματικού ρόλου Περιφερειών</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Περιφερειακού Ινστιτούτου Επιμόρφωσης</a:t>
            </a:r>
            <a:endParaRPr b="0" lang="en-US" sz="2000" spc="-1" strike="noStrike">
              <a:solidFill>
                <a:srgbClr val="5b5249"/>
              </a:solidFill>
              <a:latin typeface="Times New Roman"/>
            </a:endParaRPr>
          </a:p>
          <a:p>
            <a:pPr marL="457200" indent="-45720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πτυξη &amp; αξιοποίηση έργων ΚτΠ</a:t>
            </a:r>
            <a:endParaRPr b="0" lang="en-US" sz="2000" spc="-1" strike="noStrike">
              <a:solidFill>
                <a:srgbClr val="5b5249"/>
              </a:solidFill>
              <a:latin typeface="Times New Roman"/>
            </a:endParaRPr>
          </a:p>
          <a:p>
            <a:pPr marL="457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φορά δυνατών σημείων, αδυναμ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υκαιριών, κινδύνων (4)</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Κίνδυνοι</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άπτυξη δημόσιας διοίκησης δύο ταχυτήτ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δεχόμενο απώλειας πόρων ως απόρροια έλλειψης ευελιξίας &amp; προσαρμοστικότητα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κρίσης εμπιστοσύνης μεταξύ δημόσιας διοίκησης &amp; πολίτη</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2000"/>
          </a:bodyPr>
          <a:p>
            <a:pPr marL="420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Βασικές προτεραιότητες ανάπτυξης (1)</a:t>
            </a:r>
            <a:endParaRPr b="0" lang="en-US" sz="2400" spc="-1" strike="noStrike">
              <a:solidFill>
                <a:srgbClr val="5b5249"/>
              </a:solidFill>
              <a:latin typeface="Times New Roman"/>
            </a:endParaRPr>
          </a:p>
          <a:p>
            <a:pPr marL="420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99ff"/>
                </a:solidFill>
                <a:uFillTx/>
                <a:latin typeface="Times New Roman"/>
              </a:rPr>
              <a:t>Βελτίωση της προσπελασιμότητας στις παρεχόμενες υπηρεσίες οικονομικού &amp; κοινωνικού ενδιαφέροντος</a:t>
            </a: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 τηλεπικοινωνιών</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συμπλήρωση υποδομής παιδείας, υγείας, πρόνοια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ίσχυση &amp; αναβάθμιση της επιτόπου διοίκηση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ατάρτιση του προσωπικού &amp; ανάπτυξη αποτελεσματικών μέσων διαχείρισης-παρακολούθησης-αξιολόγηση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ημιουργία μόνιμων φορέων &amp; δικτύων συνεργασίας</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υνατότητα εκπόνησης &amp; εφαρμογής μικρών ολοκληρωμένων επιχειρησιακών σχεδίων</a:t>
            </a:r>
            <a:endParaRPr b="0" lang="en-US" sz="2000" spc="-1" strike="noStrike">
              <a:solidFill>
                <a:srgbClr val="5b5249"/>
              </a:solidFill>
              <a:latin typeface="Times New Roman"/>
            </a:endParaRPr>
          </a:p>
          <a:p>
            <a:pPr marL="420480" indent="-420480" algn="ctr">
              <a:lnSpc>
                <a:spcPct val="9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ξιοποίηση νέων τεχνολογιών &amp; ΚτΠ</a:t>
            </a: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2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5000"/>
          </a:bodyPr>
          <a:p>
            <a:pPr marL="434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4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4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2a3d7a"/>
                </a:solidFill>
                <a:uFillTx/>
                <a:latin typeface="Times New Roman"/>
              </a:rPr>
              <a:t>ΒΕΛΤΙΩΣΗ ΤΗΣ ΠΡΟΣΠΕΛΑΣΙΜΟΤΗΤΑΣ ΣΤΙΣ ΠΑΡΕΧΟΜΕΝΕΣ ΥΠΗΡΕΣΙΕΣ ΟΙΚΟΝΟΜΙΚΟΥ &amp; ΚΟΙΝΩΝΙΚΟΥ ΕΝΔΙΑΦΕΡΟΝΤΟΣ</a:t>
            </a:r>
            <a:endParaRPr b="0" lang="en-US" sz="2800" spc="-1" strike="noStrike">
              <a:solidFill>
                <a:srgbClr val="5b5249"/>
              </a:solidFill>
              <a:latin typeface="Times New Roman"/>
            </a:endParaRPr>
          </a:p>
          <a:p>
            <a:pPr marL="43416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43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24/6/2005</a:t>
            </a:r>
            <a:endParaRPr b="0" lang="en-US" sz="1600" spc="-1" strike="noStrike">
              <a:solidFill>
                <a:srgbClr val="5b5249"/>
              </a:solidFill>
              <a:latin typeface="Times New Roman"/>
            </a:endParaRPr>
          </a:p>
          <a:p>
            <a:pPr marL="43416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3416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12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θεώρηση της πολιτικής για την συνοχή της Ευρωπαϊκής Ένω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όχοι προτεραιότητας 2007-2013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ων Διαρθρωτικών Ταμείων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γκλι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ή ανταγωνιστικότητα &amp; απασχόλ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υρωπαϊκή εδαφική συνεργασί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Προκαταρκτικές κατευθύνσεις της ΕΕ για στρατηγικούς στόχους-άξονες ανάπτυξης</a:t>
            </a: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1. Ενίσχυση της ανταγωνιστικότητα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99ff"/>
                </a:solidFill>
                <a:latin typeface="Times New Roman"/>
              </a:rPr>
              <a:t>2. Βελτίωση προσπελασιμότητας &amp; υπηρεσιών οικονομικού ενδιαφέροντο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3. Αναβάθμιση &amp; προστασία περιβάλλοντο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4. Ανάπτυξη ανθρώπινου δυναμικού &amp; προώθηση της απασχόληση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5. Βελτίωση της διοικητικής ικανότητας της δημόσιας διοίκησης</a:t>
            </a:r>
            <a:endParaRPr b="0" lang="en-US" sz="2000" spc="-1" strike="noStrike">
              <a:solidFill>
                <a:srgbClr val="5b5249"/>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6. Ενίσχυση της διασυνοριακής-διακρατικής-διαπεριφερειακής συνεργασίας</a:t>
            </a:r>
            <a:endParaRPr b="0" lang="en-US" sz="2000" spc="-1" strike="noStrike">
              <a:solidFill>
                <a:srgbClr val="5b5249"/>
              </a:solidFill>
              <a:latin typeface="Times New Roman"/>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Νέα Προγραμματική διαδικασία</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τευθύνσεις Εθνικής Στρατηγικής Ανάπτυξη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ρατηγικές κατευθύνσεις για την οικονομική-κοινωνική-περιφερειακή συνοχή σε επίπεδο ΕΕ</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ό Στρατηγικό Σχέδιο Ανάπτυξ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χειρησιακά Προγράμματ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Στρατηγικό Σχέδιο Ανάπτυξη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Περιφέρεια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είμενο όπου διατυπώνονται βασικά ζητήματα που μπορούν να οδηγήσουν στην διαμόρφωση βασικών αναπτυξιακών προτεραιοτήτων</a:t>
            </a: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Δομή Στρατηγικού Σχεδίου Ανάπτυξης Περιφέρειας Ηπείρου</a:t>
            </a:r>
            <a:endParaRPr b="0" lang="en-US" sz="24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Θέση της Περιφέρειας στο ευρωπαϊκό &amp; διεθνές περιβάλλο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ποτίμηση αποτελεσμάτων παρεμβάσεων τρέχουσας &amp; προηγούμενων προγραμματικών περιόδ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αφορά δυνατών σημείων, αδυναμιών, ευκαιριών &amp; κινδύνων</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Βασικές προτεραιότητες ανάπτυξη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ιθανές ενδοπεριφερειακές διαφοροποιήσεις &amp; επιδράσεις στο πλαίσιο των περιφερειακών προτεραιοτήτων ανάπτυξη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ναγκαίες θεσμικές &amp; οργανωτικές προσαρμογές</a:t>
            </a: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Βελτίωση προσπελασιμότητας &amp; υπηρεσιών οικονομικού ενδιαφέροντος</a:t>
            </a: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ποτίμηση αποτελεσμάτων παρεμβάσεων τρέχουσας και προηγούμενων προγραμματικών περιόδων</a:t>
            </a:r>
            <a:endParaRPr b="0" lang="en-US" sz="20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Αναφορά δυνατών σημείων, αδυναμιών, ευκαιριών και κινδύνων</a:t>
            </a:r>
            <a:endParaRPr b="0" lang="en-US" sz="2000" spc="-1" strike="noStrike">
              <a:solidFill>
                <a:srgbClr val="5b5249"/>
              </a:solidFill>
              <a:latin typeface="Times New Roman"/>
            </a:endParaRPr>
          </a:p>
          <a:p>
            <a:pPr marL="533520" indent="-533520" algn="ctr">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εριεχόμενο της βασικής προτεραιότητας</a:t>
            </a:r>
            <a:endParaRPr b="0" lang="en-US" sz="2000" spc="-1" strike="noStrike">
              <a:solidFill>
                <a:srgbClr val="5b5249"/>
              </a:solidFill>
              <a:latin typeface="Times New Roman"/>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ποτίμηση αποτελεσμάτων παρεμβάσεων τρέχουσας &amp; προηγούμενων προγραμματικών περιόδων</a:t>
            </a:r>
            <a:endParaRPr b="0" lang="en-US" sz="24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Στον τομέα των κοινωνικών υποδομών, η αναβάθμιση των υποδομών υγείας και πρόνοιας κατέστησαν την Ήπειρο κέντρο για την ΒΔ Ελλάδα</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έσω της Τεχνικής Βοήθειας χρηματοδοτήθηκαν υποβοηθητικές δράσεις στην δημόσια διοίκηση</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υπηρεσίες υλοποίησης κοινοτικών προγραμμάτων δεν προσαρμόστηκαν πλήρως στις απαιτήσεις των ΚΠΣ</a:t>
            </a:r>
            <a:endParaRPr b="0" lang="en-US" sz="2000" spc="-1" strike="noStrike">
              <a:solidFill>
                <a:srgbClr val="5b5249"/>
              </a:solidFill>
              <a:latin typeface="Times New Roman"/>
            </a:endParaRPr>
          </a:p>
          <a:p>
            <a:pPr marL="457200" indent="-457200" algn="ctr">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έσω δράσεων της ΚτΠ υλοποιούνται προγράμματα αναβάθμισης υποδομών &amp; εκσυγχρονισμού της δημόσιας διοίκησης</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ac164"/>
                </a:solidFill>
                <a:uFillTx/>
                <a:latin typeface="Times New Roman"/>
              </a:rPr>
              <a:t>Παρεμβάσεις τρέχουσας προγραμματικής περιόδου</a:t>
            </a:r>
            <a:endParaRPr b="0" lang="en-US" sz="24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Τριτοβάθμια εκπαίδευση: αντιμετωπίζονται προβλήματα έλλειψης στέγης, σύγχρονου εργαστηριακού εξοπλισμού, επιστημονικών δομών</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Δευτεροβάθμια εκπαίδευση: αντιμετωπίζονται προβλήματα έλλειψης σύγχρονων σχολείων &amp; αιθουσών, εργαστηριακού εξοπλισμού και βιβλιοθηκών</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Υγεία: σύγχρονος εξοπλισμός, αύξηση της δυναμικότητας</a:t>
            </a:r>
            <a:endParaRPr b="0" lang="en-US" sz="2000" spc="-1" strike="noStrike">
              <a:solidFill>
                <a:srgbClr val="5b5249"/>
              </a:solidFill>
              <a:latin typeface="Times New Roman"/>
            </a:endParaRPr>
          </a:p>
          <a:p>
            <a:pPr marL="457200" indent="-457200" algn="ctr">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ρόνοια: δημιουργία δομών παιδικής ηλικίας και ΑΜΕΑ</a:t>
            </a:r>
            <a:endParaRPr b="0" lang="en-US" sz="2000" spc="-1" strike="noStrike">
              <a:solidFill>
                <a:srgbClr val="5b5249"/>
              </a:solidFill>
              <a:latin typeface="Times New Roman"/>
            </a:endParaRPr>
          </a:p>
          <a:p>
            <a:pPr marL="457200"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evipapan</cp:lastModifiedBy>
  <dcterms:modified xsi:type="dcterms:W3CDTF">2005-06-23T09:46:37Z</dcterms:modified>
  <cp:revision>201</cp:revision>
  <dc:subject/>
  <dc:title>Παρουσίαση του PowerPoint</dc:title>
</cp:coreProperties>
</file>