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908-9A68-4528-B1F2-F96231A3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E28-D019-4D91-A7BA-3B13FBBD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348-208C-4B20-8D95-3923D00E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B2C-107A-488B-B261-92027B2A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4A06-4124-4734-93F2-F92616B4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8F01-72A8-4E60-8943-0BCA6B4A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10B0-2E1B-4F0C-BCCE-3F9E398F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BD86-3EAE-42E4-9758-46D024F6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95C8-4CBA-45B4-95BD-DE06115B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15FC-BB10-4042-8231-BEA1C4B9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87B6-7886-4637-9651-2226C0E0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C07-2DFC-4244-A732-305DDB62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8F73-5614-492C-B8A4-C2622D5D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2467-E114-40C1-B576-B058E577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0A6D-6806-47FB-AA2E-1CA64F03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A019-9FC6-41AC-AA50-9D39FBE1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0484-5501-4188-8806-7568C3D7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928-4AC8-4C75-8996-22BF5AA7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B1A-C82C-444D-BEE9-7B6333FA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B38-5B93-4AB7-8834-CEAC0123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094-A6E6-4FD5-A7BD-2EA5A1C1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C8E-126B-44F4-B1FC-5DFE4579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378-2B15-496E-BCCC-81E0BF13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051-2011-4D0A-9E0B-54A4DA59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B743-D9A8-47B6-91D6-E31FD49DDB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80AA-2665-480F-B313-6885F25F19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14126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5400" spc="-1" strike="noStrike">
                <a:solidFill>
                  <a:srgbClr val="000000"/>
                </a:solidFill>
                <a:latin typeface="Arial"/>
              </a:rPr>
              <a:t>ΑΝΑΠΤΥΞΗ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l-GR" sz="5400" spc="-1" strike="noStrike">
                <a:solidFill>
                  <a:srgbClr val="000000"/>
                </a:solidFill>
                <a:latin typeface="Arial"/>
              </a:rPr>
              <a:t>ΓΡΟΤΙΚΟΥ ΧΩΡΟ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280" y="3357720"/>
            <a:ext cx="8007480" cy="1519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Εισαγωγή στο θέμα ,για το Αναπτυξιακό Συνέδριο Ηπείρου  24/6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ΕΠΙΛΟΓΗ ΣΤΡΑΤΗΓΙΚΩΝ ΣΤΟΧΩΝ ΕΠΙΛΥΣΗΣ ΚΥΡΙΩΝ ΠΡΟΒΛΗΜΑΤΩΝ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αβάθμιση της ανταγωνιστικότητας των γεωργικών εκμεταλλεύσεων, Συνέχιση της στήριξης πρωτοβουλιών για ανάληψη από ειδικές κοινωνικές ομάδες αγροτικών δραστηριοτήτων  (νέοι αγρότες, γυναίκες) για ανανέωση του γεωργικού πληθυσμο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νέχιση εφαρμογής προγραμμάτων ολοκληρωμένου χαρακτήρ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ώθηση θεματικών προγραμμάτων ανάπτυξη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ατήρηση και βελτίωση του περιβάλλοντος του αγροτικού τοπίου και των φυσικών πόρων της υπαίθρο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φαρμογή ολοκληρωμένων γεωργοπεριβαλλοντικών προγραμμάτων και φιλοπεριβαλλοντικών τεχνικών παραγωγ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Υλοποίηση μικρών δημόσιων επενδύσεων που θα συμβάλλουν στην διατήρηση της αγροτικής και πολιτιστικής κληρονομιά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ΕΠΙΛΟΓΗ ΜΕΣΩΝ ΚΑΙ ΔΡΑΣΕΩΝ ΓΙΑ ΤΗΝ ΕΠΙΤΕΥΞΗ ΣΤΡΑΤΗΓΙΚΩΝ ΣΤΟΧΩΝ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πό τα συμπεράσματα της ομάδας εργασία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Στο Αναπτυξιακό Συνέδριο της  Ηπείρου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η ανάπτυξη του αγροτικού χώρο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είναι μία από τις πέντε θεματικές ενότητες που αναπτύσσονται και σηματοδοτεί την σπουδαιότητα που ο τομέας παραμένει να έχει για την Περιφέρειά μα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ΔΙΕΘΝΕΣ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ροσαρμογή των πολιτικών των κρατών μελών του οργανισμού προς την ελεύθερη αγορ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τάργηση όλων των επιδοτήσε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τοχύρωσης των προϊόντων πιστοποιημένης ποιότητα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ανακατανομή της παγκόσμιας παραγωγής, με βάση το συγκριτικό πλεονέκτημα κάθε χώρα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26720" y="32457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ΕΥΡΩΠΑΪΚΟ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αμορφώνεται κάτω από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ις διαπραγματεύσεις του ΠΟ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ην λειτουργία της νέας ενιαίας ευρωπαϊκής αγοράς των 25 κρατών μελώ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η λειτουργία των κοινών οργανώσεων αγοράς (ΚΟΑ) για κάθε γεωργικό προϊόν ή ομάδα προϊόντω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ο νομοθετικό πλαίσιο της νέας ΚΑ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ΕΥΡΩΠΑΪΚΟ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ι κίνδυνοι και απειλές που θα προκύψουν είνα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 αυξανόμενος παγκόσμιος ανταγωνισμό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αναμενόμενη, τα επόμενα χρόνια, εμφάνιση στη διεθνή αγορά, αγροτικών προϊόντων νέων παραγωγικών δυνάμ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πίεση που ασκείται για πλήρη απελευθέρωση των αγορών και κατάργηση των ενισχύσε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 πραγματοποιηθείσα διεύρυνση της Ευρωπαϊκής Ένωσης, προς χώρες με έντονο γεωργικό χαρακτή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ΕΘΝΙΚΟ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Νέες ευκαιρίε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αυξανόμενη τάση της διεθνούς αγοράς στη ζήτηση ποιοτικών και ασφαλών αγροτικών προϊόντ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απελευθέρωση της διεθνούς αγοράς και η παρεχόμενη δυνατότητα πρόσβασης Ελληνικών γεωργικών προϊόντων με συγκριτικό πλεονέκτημα σε νέες αγορέ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μεγέθυνση της εσωτερικής αγοράς της ΕΕ με την είσοδο των δέκα νέων Κρατών-Μελών της πρόσφατης διεύρυνσης,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διασφάλιση της συνέχισης της πολιτικής της ΕΕ για την ανάπτυξη της υπαίθρου κα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Η παρεχόμενη δυνατότητα συμμετοχής της Ηπείρου, στο νέο πρόγραμμα για τη Συνοχή των Περιφερειών της ΕΕ κυρίως στο στόχο «σύγκληση αλλά και στο στόχο «ευρωπαϊκή εδαφική συνεργασία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ΠΕΡΙΦΕΡΕΙΑΚΟ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υνατά σημεία της περιφέρειας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γεωργικό παραγωγικό μοντέλο του οικογενειακού τύπου γεωργικής εκμετάλλευσης προσφέρεται για την παραγωγή προϊόντων ποιότητας (βιολογικών, ολοκληρωμένης διαχείρισης παραγωγής, παραδοσιακών τοπικών προϊόντω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ιδιαίτερα σημαντικό ενδιαφέρον που εκδηλώθηκε κατά την Γ΄ Προγραμματική Περίοδο, από το γεωργικό επενδυτικό κοινό Υπαίθρου για το σύνολο των Επιχειρησιακών Προγραμμάτων (ΕΠΑΑ-ΑΥ, ΠΕΠ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Ύπαρξη αρκετών περιοχών ιδιαίτερου κάλλους και σημαντική αγροτική παράδοση λαογραφικός πλούτος και αρχιτεκτονική κληρονομιά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ποιότητα και το ευπροσάρμοστο προς τις νέες τεχνολογίες ανθρώπινο δυναμικ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ΠΕΡΙΦΕΡΕΙΑΚΟ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ιαρθρωτικές Αδυναμίες της περιοχή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 προσανατολισμός του πρωτογενή τομέα προς μη ανταγωνιστικές καλλιέργειε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ηλικιακή διάρθρωση των απασχολούμενων στον πρωτογενή τομέ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 έλλειψη των αναγκαίων εγγειοβελτιωτικών υποδομών, κυρίως στη πεδιάδα της Άρτας και της Πρέβεζα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Το μικρό μέγεθος των εκμεταλλεύσ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Το μεγάλο μέγεθος του αγροτικού πληθυσμο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c0039"/>
                </a:solidFill>
                <a:latin typeface="Arial"/>
              </a:rPr>
              <a:t>Γεωργική  πολιτική της πρώτης δεκαετίας          του 21ου αιώνα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c0039"/>
                </a:solidFill>
                <a:latin typeface="Arial"/>
              </a:rPr>
              <a:t>ΠΕΡΙΦΕΡΕΙΑΚΟ ΠΕΡΙΒΑΛΛΟΝ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ιαρθρωτικές Αδυναμίες της περιοχ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ψηλό κόστος παραγωγής προϊόν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ερχρεωμένες εκμεταλλεύ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δοπεριφερειακές ανισότητ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ανεπαρκής επαγγελματική κατάρτιση των γεωργ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απαξιωτική  αντιμετώπιση του γεωργικού επαγγέλματος, ιδιαίτερα του κτηνοτρόφου , από την τοπική κοινωνί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ιβάρυνση του φυσικού περιβάλλοντος με ρύπους γεωργικής προέλευ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0:40:20Z</dcterms:created>
  <dc:creator>elenroku</dc:creator>
  <dc:description/>
  <dc:language>en-US</dc:language>
  <cp:lastModifiedBy>elenroku</cp:lastModifiedBy>
  <dcterms:modified xsi:type="dcterms:W3CDTF">2005-06-23T13:02:38Z</dcterms:modified>
  <cp:revision>3</cp:revision>
  <dc:subject/>
  <dc:title>ΑΝΑΠΤΥΞΗ AΓΡΟΤΙΚΟΥ ΧΩΡΟ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59935728</vt:r8>
  </property>
  <property fmtid="{D5CDD505-2E9C-101B-9397-08002B2CF9AE}" pid="3" name="_AuthorEmail">
    <vt:lpwstr>erokkou@mou.gr</vt:lpwstr>
  </property>
  <property fmtid="{D5CDD505-2E9C-101B-9397-08002B2CF9AE}" pid="4" name="_AuthorEmailDisplayName">
    <vt:lpwstr>ΡΟΚΚΟΥ ΕΛΕΝΗ</vt:lpwstr>
  </property>
  <property fmtid="{D5CDD505-2E9C-101B-9397-08002B2CF9AE}" pid="5" name="_EmailSubject">
    <vt:lpwstr/>
  </property>
</Properties>
</file>