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D337-0892-4A2C-821B-2EEDE4E9D4E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έντρα υγείας αστικού τύπο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πό ΄75000 άτομα που επισκέφθηκαν το κέντρο υγείας Βύρωνα σε ένα χρόν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Ένα πολύ μικρό %  χρειάστηκε να μετακινηθεί σε κάποιο νοσ. Της Αθήνας για περαιτέρω εξετάσει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ολυδύναμα ιατρεί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α έχουν εμπιστευτεί απόλυτα οι ακρίτες του αιγαίο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Η σωστή αντιμετώπιση από τους γιατρούς στην υποδοχή  και το συνοδευτικό σημείωμα είναι το μυστικό της επιτυχούς διεκπεραίωσης  ενός περιστατικού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ηλεϊατρική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Είχα την τύχη να τοποθετήσω τα πρώτα 2 συστήματα στην Τήλο και στην Σύμη τα οποία συνδέθηκαν με την Καρδιολογική μονάδα εμφραγμάτων και το γαστροενερολογικό τμήμα του  νοσοκομείο τις Ρόδο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Για την διαφύλαξη του απορρήτου του ασθενούς τα μηχανήματα ήταν τοποθετημένα σε απομονωμένα δωμάτι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Όλα τα ιατρικά τμήματα είχαν πρόσβασ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Τα οφέλη είναι πάρα πολλά και για τις 2 πλευρές αυτά είναι μόλις ένα δείγμ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ς  φροντίσουμε όλοι μας να βοηθήσουμε το σύστημα υγείας να αντεπεξέλθε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στο δύσκολο έργο το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εν τρέχουμε στο νοσοκομείο για την παραμικρή ενόχληση που αισθανθούμ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Πάμε πρώτα στο πλησιέστερο Ιατρείο και οι γιατροί εκεί αποφασίζουν αν χρειάζεται περαιτέρω μετακίνησ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A22-71C2-4536-9BA6-F1DC6AAD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54C-DCB5-45B9-B131-456C2426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8F8-902B-433E-AFBC-A862BBED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C6C-2CBD-441A-81D0-0E53A471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BDE-FCA0-4103-857C-A0A70E3A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F2C-EFB9-486B-BA91-B389D5EA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1E8-790E-44E4-9C84-513F719A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E3B-92DB-442B-A084-0A372829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4C4-8470-40C6-809D-B20B90CB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C84-19C7-453D-86B0-3F0FAD3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D2D-9D6E-4333-A5D7-6FC69589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CC2-9E18-436B-8F64-83CBBDF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4F4-CDA7-4562-8B23-4FEDD54D0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Πρωτοβάθμια περίθαλψη</a:t>
            </a:r>
            <a:br>
              <a:rPr sz="4800"/>
            </a:b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οφέλη στον ασθενή</a:t>
            </a:r>
            <a:br>
              <a:rPr sz="4800"/>
            </a:b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και στην πολιτεί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Δημήτρης Μάτσ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Διοικητ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Γενικού Νοσοκομείου Φιλια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Πρωτοβάθμια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περίθαλψ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Κέντρα υγεί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Κέντρα υγείας αστικού τύπ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Βύρωνας Αττική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Πολυδύναμα  περιφερειακά ιατρε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Καστελόριζο, Σύμη κλ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Αγροτικά ιατρεί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Κέντρα Υγεία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990000"/>
                </a:solidFill>
                <a:latin typeface="Times New Roman"/>
              </a:rPr>
              <a:t>Άμεση πρόσβαση στον πολίτ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επείγον περιστατικ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εξετάσεις ρουτίν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συνταγογράφηση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Πολυδύναμα Ιατρεί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99"/>
                </a:solidFill>
                <a:latin typeface="Times New Roman"/>
              </a:rPr>
              <a:t>Παρέχουν υπηρεσίες εφάμιλλες τω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l-GR" sz="2800" spc="-1" strike="noStrike">
                <a:solidFill>
                  <a:srgbClr val="333399"/>
                </a:solidFill>
                <a:latin typeface="Times New Roman"/>
              </a:rPr>
              <a:t>Κέντρων Υγείας σε μικρότερη κλίμακ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99cc00"/>
                </a:solidFill>
                <a:latin typeface="Times New Roman"/>
              </a:rPr>
              <a:t>(Γενικό Ιατρό, Παιδίατρο… Αγροτικό ή και στρατιωτικό ιατρ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l-GR" sz="2800" spc="-1" strike="noStrike">
                <a:solidFill>
                  <a:srgbClr val="990000"/>
                </a:solidFill>
                <a:latin typeface="Times New Roman"/>
              </a:rPr>
              <a:t>Τηλεϊατρική νέα τεχνολογ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Άμεση επαφή του ασθενούς με τον γιατρό στο νοσοκομείο μέσ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tv. (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τάβαση ζωντανής εικόνας του ασθενούς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KG, ultrasound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econference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ταξύ γιατρ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Αγροτικά Ιατρεί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Παρακολούθηση ασθενών   (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ollow up</a:t>
            </a:r>
            <a:r>
              <a:rPr b="1" lang="el-GR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υνταγογράφησ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οφέλ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Στον πολίτη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Αμεσότητ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Μικρή μετακίν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Καμία καθυστέρησ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Ασφάλει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ωρη κάλυψ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Μικρό κόστος  μετάβασ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04800" y="1600200"/>
            <a:ext cx="448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Στην πολιτεί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Μείωση περιστατικών στα νοσοκομε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Λιγότερο προσωπικ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Ορθότερη κατανομή στα τμήμα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Καλύτερη εξυπηρέτ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Μείωση  κόστ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Κοινό</a:t>
            </a: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όφελ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τα νοσοκομεί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να προσφέρου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δευτεροβάθμι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τριτοβάθμι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Φροντίδ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8:52:51Z</dcterms:created>
  <dc:creator>manager</dc:creator>
  <dc:description/>
  <dc:language>en-US</dc:language>
  <cp:lastModifiedBy>manager</cp:lastModifiedBy>
  <dcterms:modified xsi:type="dcterms:W3CDTF">2005-06-22T14:31:43Z</dcterms:modified>
  <cp:revision>5</cp:revision>
  <dc:subject/>
  <dc:title>Πρωτοβάθμια περίθαλψη οφέλη στον ασθενή και στην πολιτεία</dc:title>
</cp:coreProperties>
</file>